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E473-D3D9-4A6D-8B4C-A35E278CF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D166-A858-4939-BB7A-5EE79CBF9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77B3-389B-413B-B487-D8F0E5072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D77A-5A2F-4E7C-9F35-01C264A6B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E87B-BAB5-4367-A487-4922B9384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033A-AA01-4D78-9394-E11E623EF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2702-A38A-45CC-A758-38FFB0C85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8284-CBDB-4756-85BC-55676923D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5B82-8CD9-49E2-87F5-AA414DBA8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F4D4-1B18-452F-816F-CF8C85B6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8456-EC95-4EF2-82DE-2D3EFC6BA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9205-3450-4E42-BF4F-49FF5700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34E608-3B1F-4F12-BC55-1C7E31C6D1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36320" y="2130120"/>
            <a:ext cx="83516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imilar Location Extension to LoST </a:t>
            </a:r>
            <a:br>
              <a:rPr sz="40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ttp://tools.ietf.org/html/draft-marshall-ecrit-similar-location-01</a:t>
            </a:r>
            <a:br>
              <a:rPr sz="40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Document Authors: </a:t>
            </a:r>
            <a:br>
              <a:rPr sz="2000"/>
            </a:b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Roger Marshall, Jeff Martin, Brian Ros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IETF81 – Quebec C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7/25/20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Version -01 is a merging of similar-00 and returned-li-00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e LoST validation mechanism currently only returns /valid, /invalid, or /unchecked qualifiers based on discrete civic address elements that are inpu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s draft extends LoST for two use cases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Calibri"/>
              </a:rPr>
              <a:t>Valid Address case:  A “complete” set of civic address elements are returned when result is valid – based on what the LoST server has provision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Calibri"/>
              </a:rPr>
              <a:t>Invalid Address case:  One or more “similar” set(s) of civic address elements are returned, based on the data that the LoST has load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Used commonly among civic location applications given a “Address not found, </a:t>
            </a:r>
            <a:r>
              <a:rPr b="0" i="1" lang="en-US" sz="2300" spc="-1" strike="noStrike">
                <a:solidFill>
                  <a:srgbClr val="000000"/>
                </a:solidFill>
                <a:latin typeface="Calibri"/>
              </a:rPr>
              <a:t>did you mean: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?”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mple ca: set of elements (rather than PIDF-LO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vides Quality Feedback Mechanis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7099200" y="2243160"/>
            <a:ext cx="1522440" cy="1458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7"/>
          <p:cNvSpPr/>
          <p:nvPr/>
        </p:nvSpPr>
        <p:spPr>
          <a:xfrm>
            <a:off x="3454560" y="4200480"/>
            <a:ext cx="3271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complete civic location set g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turned based on data the L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rver h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!– complete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8"/>
          <p:cNvSpPr/>
          <p:nvPr/>
        </p:nvSpPr>
        <p:spPr>
          <a:xfrm>
            <a:off x="8021520" y="3798720"/>
            <a:ext cx="7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Content Placeholder 2"/>
          <p:cNvSpPr/>
          <p:nvPr/>
        </p:nvSpPr>
        <p:spPr>
          <a:xfrm>
            <a:off x="434880" y="1500120"/>
            <a:ext cx="8229600" cy="22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ight Arrow 20"/>
          <p:cNvSpPr/>
          <p:nvPr/>
        </p:nvSpPr>
        <p:spPr>
          <a:xfrm>
            <a:off x="3081240" y="1969920"/>
            <a:ext cx="3098880" cy="696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beef4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Arrow 26"/>
          <p:cNvSpPr/>
          <p:nvPr/>
        </p:nvSpPr>
        <p:spPr>
          <a:xfrm rot="10800000">
            <a:off x="2955600" y="3382920"/>
            <a:ext cx="3117960" cy="74952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92d05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7"/>
          <p:cNvSpPr/>
          <p:nvPr/>
        </p:nvSpPr>
        <p:spPr>
          <a:xfrm>
            <a:off x="3222720" y="3581280"/>
            <a:ext cx="285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ndServiceResponse “vali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8"/>
          <p:cNvSpPr/>
          <p:nvPr/>
        </p:nvSpPr>
        <p:spPr>
          <a:xfrm>
            <a:off x="3534120" y="2666880"/>
            <a:ext cx="25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/ validateLocation=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2"/>
          <p:cNvSpPr/>
          <p:nvPr/>
        </p:nvSpPr>
        <p:spPr>
          <a:xfrm>
            <a:off x="3894120" y="2133720"/>
            <a:ext cx="196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ndService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3"/>
          <p:cNvSpPr/>
          <p:nvPr/>
        </p:nvSpPr>
        <p:spPr>
          <a:xfrm>
            <a:off x="285840" y="1781280"/>
            <a:ext cx="2795400" cy="38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A3&gt;Seattle&lt;/A3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RD&gt;15th&lt;/RD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STS&gt;Ave&lt;/S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OD&gt;NW&lt;/PO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HNO&gt;6000&lt;/HNO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ca:country&gt;US&lt;/ca:country&gt;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ca:A1&gt;WA&lt;/ca:A1&gt;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ca:A3&gt;SEATTLE&lt;/ca:A3&gt; &lt;ca:RD&gt;15TH&lt;/ca:RD&gt; &lt;ca:STS&gt;AVE&lt;/ca:STS&gt; &lt;ca:POD&gt;NW&lt;/ca:POD&gt; &lt;ca:HNO&gt;6000&lt;/ca:HNO&gt;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ca:PC&gt;98106&lt;/ca:PC&gt; &lt;ca:PCN&gt;SEATTLE&lt;/ca:PCN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vides Quality Feedback Mechanis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7099200" y="2243160"/>
            <a:ext cx="1522440" cy="14587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7"/>
          <p:cNvSpPr/>
          <p:nvPr/>
        </p:nvSpPr>
        <p:spPr>
          <a:xfrm>
            <a:off x="3453120" y="4200480"/>
            <a:ext cx="3364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ne (or more) simi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ivic location sets returne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 match found, did you mean”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!– similar address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!– similar address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8"/>
          <p:cNvSpPr/>
          <p:nvPr/>
        </p:nvSpPr>
        <p:spPr>
          <a:xfrm>
            <a:off x="8021520" y="3798720"/>
            <a:ext cx="7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Content Placeholder 2"/>
          <p:cNvSpPr/>
          <p:nvPr/>
        </p:nvSpPr>
        <p:spPr>
          <a:xfrm>
            <a:off x="434880" y="1500120"/>
            <a:ext cx="8229600" cy="22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ight Arrow 20"/>
          <p:cNvSpPr/>
          <p:nvPr/>
        </p:nvSpPr>
        <p:spPr>
          <a:xfrm>
            <a:off x="3081240" y="1969920"/>
            <a:ext cx="3098880" cy="696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beef4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ight Arrow 26"/>
          <p:cNvSpPr/>
          <p:nvPr/>
        </p:nvSpPr>
        <p:spPr>
          <a:xfrm rot="10800000">
            <a:off x="2955600" y="3382920"/>
            <a:ext cx="3421080" cy="74952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7"/>
          <p:cNvSpPr/>
          <p:nvPr/>
        </p:nvSpPr>
        <p:spPr>
          <a:xfrm>
            <a:off x="3328920" y="35812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ndServiceResponse “invali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8"/>
          <p:cNvSpPr/>
          <p:nvPr/>
        </p:nvSpPr>
        <p:spPr>
          <a:xfrm>
            <a:off x="3534120" y="2666880"/>
            <a:ext cx="25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/ validateLocation=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2"/>
          <p:cNvSpPr/>
          <p:nvPr/>
        </p:nvSpPr>
        <p:spPr>
          <a:xfrm>
            <a:off x="3894120" y="2133720"/>
            <a:ext cx="196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ndService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3"/>
          <p:cNvSpPr/>
          <p:nvPr/>
        </p:nvSpPr>
        <p:spPr>
          <a:xfrm>
            <a:off x="285840" y="1417680"/>
            <a:ext cx="27954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country&gt;US&lt;/country&gt; &lt;A1&gt;WA&lt;/A1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A3&gt;Seattle&lt;/A3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RD&gt;15th Ave&lt;/RD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NO&gt;6000&lt;/HNO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ca:country&gt;US&lt;/ca:country&gt; &lt;ca:A1&gt;WA&lt;/ca:A1&gt; &lt;ca:A3&gt;SEATTLE&lt;/ca:A3&gt;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ca:RD&gt;15TH&lt;/ca:RD&gt; &lt;ca:STS&gt;AVE&lt;/ca:STS&gt; &lt;ca:POD&gt;NW&lt;/ca:POD&gt;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ca:HNO&gt;6000&lt;/ca:HNO&gt; &lt;ca:PC&gt;98106&lt;/ca:PC&gt; &lt;ca:PCN&gt;SEATTLE&lt;/ca:PCN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ca:country&gt;US&lt;/ca:country&gt; &lt;ca:A1&gt;WA&lt;/ca:A1&gt; &lt;ca:A3&gt;SEATTLE&lt;/ca:A3&gt;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ca:RD&gt;15TH&lt;/ca:RD&gt; &lt;ca:STS&gt;AVE&lt;/ca:STS&gt; &lt;ca:POD&gt;NE&lt;/ca:POD&gt;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ca:HNO&gt;6000&lt;/ca:HNO&gt; &lt;ca:PC&gt;98105&lt;/ca:PC&gt; &lt;ca:PCN&gt;SEATTLE&lt;/ca:PCN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Step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258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ean up, based on NENA comments so fa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&lt;A6&gt; replaced by &lt;RD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move &lt;mapping&gt;&lt;/mapping&gt; from similar resul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examples to be provid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mber of similar locations returned not defi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x-up RelaxNG sche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ed as an ECRIT work group i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NA 08-003 specifies like functiona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09:36:10Z</dcterms:created>
  <dc:creator>Hannes Tschofenig</dc:creator>
  <dc:description/>
  <dc:language>en-US</dc:language>
  <cp:lastModifiedBy>rmarshall</cp:lastModifiedBy>
  <dcterms:modified xsi:type="dcterms:W3CDTF">2011-07-25T03:30:59Z</dcterms:modified>
  <cp:revision>37</cp:revision>
  <dc:subject/>
  <dc:title>Data Only Emergency Alerts http://tools.ietf.org/html/draft-ietf-ecrit-data-only-ea-01 </dc:title>
</cp:coreProperties>
</file>