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6DB0-7ECA-4E23-AB48-DC9C819F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6D29-DBA8-4064-9530-7E8C36A8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A7CA-FA49-42A6-AD4C-FED0BED3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384-FBB3-4B1C-B257-CD883065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65D-0309-479D-AA6A-120FBB60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83F7-7B81-4DF4-A706-55F03AD7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1858-767C-4819-8586-8EED6A44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787-8B52-4390-9299-3C592C7E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C11-58BF-4FFA-A96E-6CCF50B5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C7D-1363-42B6-BDA1-EB851825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3D7-4A2A-4334-8AF1-43143700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DD43-B17F-4F6E-8AE5-A98E5568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27E94-D65F-4AF7-A08F-BCDD34270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6320" y="2130120"/>
            <a:ext cx="8351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milar Location Extension to LoST </a:t>
            </a:r>
            <a:br>
              <a:rPr sz="40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ttp://tools.ietf.org/html/draft-marshall-ecrit-similar-location-01</a:t>
            </a:r>
            <a:br>
              <a:rPr sz="40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Document Authors: </a:t>
            </a:r>
            <a:br>
              <a:rPr sz="2000"/>
            </a:b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Roger Marshall, Jeff Martin, Brian Ro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IETF81 – Quebec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7/25/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Version -01 is a merging of similar-00 and returned-li-00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LoST validation mechanism currently only returns /valid, /invalid, or /unchecked qualifiers based on discrete civic address elements that are inpu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s draft extends LoST for two use cases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Valid Address case:  A “complete” set of civic address elements are returned when result is valid – based on what the LoST server has provision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Invalid Address case:  One or more “similar” set(s) of civic address elements are returned, based on the data that the LoST has load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Used commonly among civic location applications given a “Address not found, 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did you mean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?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mple ca: set of elements (rather than PIDF-LO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vides Quality Feedback Mechan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7099200" y="2243160"/>
            <a:ext cx="1522440" cy="1458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7"/>
          <p:cNvSpPr/>
          <p:nvPr/>
        </p:nvSpPr>
        <p:spPr>
          <a:xfrm>
            <a:off x="3454560" y="4200480"/>
            <a:ext cx="3271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omplete civic location set 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urned based on data the L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er 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– complet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8"/>
          <p:cNvSpPr/>
          <p:nvPr/>
        </p:nvSpPr>
        <p:spPr>
          <a:xfrm>
            <a:off x="8021520" y="379872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434880" y="1500120"/>
            <a:ext cx="8229600" cy="22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ight Arrow 20"/>
          <p:cNvSpPr/>
          <p:nvPr/>
        </p:nvSpPr>
        <p:spPr>
          <a:xfrm>
            <a:off x="3081240" y="1969920"/>
            <a:ext cx="3098880" cy="696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beef4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Arrow 26"/>
          <p:cNvSpPr/>
          <p:nvPr/>
        </p:nvSpPr>
        <p:spPr>
          <a:xfrm rot="10800000">
            <a:off x="2955600" y="3382920"/>
            <a:ext cx="3117960" cy="7495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92d05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7"/>
          <p:cNvSpPr/>
          <p:nvPr/>
        </p:nvSpPr>
        <p:spPr>
          <a:xfrm>
            <a:off x="3222720" y="3581280"/>
            <a:ext cx="28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dServiceResponse “vali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8"/>
          <p:cNvSpPr/>
          <p:nvPr/>
        </p:nvSpPr>
        <p:spPr>
          <a:xfrm>
            <a:off x="3534120" y="266688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/ validateLocation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3894120" y="213372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dService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3"/>
          <p:cNvSpPr/>
          <p:nvPr/>
        </p:nvSpPr>
        <p:spPr>
          <a:xfrm>
            <a:off x="285840" y="1781280"/>
            <a:ext cx="27954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3&gt;Seattle&lt;/A3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RD&gt;15th&lt;/R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STS&gt;Ave&lt;/S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OD&gt;NW&lt;/PO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HNO&gt;6000&lt;/HNO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ca:country&gt;US&lt;/ca:country&gt;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ca:A1&gt;WA&lt;/ca:A1&gt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ca:A3&gt;SEATTLE&lt;/ca:A3&gt; &lt;ca:RD&gt;15TH&lt;/ca:RD&gt; &lt;ca:STS&gt;AVE&lt;/ca:STS&gt; &lt;ca:POD&gt;NW&lt;/ca:POD&gt; &lt;ca:HNO&gt;6000&lt;/ca:HNO&gt;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ca:PC&gt;98106&lt;/ca:PC&gt; &lt;ca:PCN&gt;SEATTLE&lt;/ca:PC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vides Quality Feedback Mechan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099200" y="2243160"/>
            <a:ext cx="1522440" cy="14587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7"/>
          <p:cNvSpPr/>
          <p:nvPr/>
        </p:nvSpPr>
        <p:spPr>
          <a:xfrm>
            <a:off x="3453120" y="4200480"/>
            <a:ext cx="336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(or more) sim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vic location sets return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match found, did you mean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– similar address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– similar address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8021520" y="379872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434880" y="1500120"/>
            <a:ext cx="8229600" cy="22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ight Arrow 20"/>
          <p:cNvSpPr/>
          <p:nvPr/>
        </p:nvSpPr>
        <p:spPr>
          <a:xfrm>
            <a:off x="3081240" y="1969920"/>
            <a:ext cx="3098880" cy="696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beef4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ight Arrow 26"/>
          <p:cNvSpPr/>
          <p:nvPr/>
        </p:nvSpPr>
        <p:spPr>
          <a:xfrm rot="10800000">
            <a:off x="2955600" y="3382920"/>
            <a:ext cx="3421080" cy="74952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"/>
          <p:cNvSpPr/>
          <p:nvPr/>
        </p:nvSpPr>
        <p:spPr>
          <a:xfrm>
            <a:off x="3328920" y="35812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dServiceResponse “invali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8"/>
          <p:cNvSpPr/>
          <p:nvPr/>
        </p:nvSpPr>
        <p:spPr>
          <a:xfrm>
            <a:off x="3534120" y="266688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/ validateLocation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3894120" y="213372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dService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3"/>
          <p:cNvSpPr/>
          <p:nvPr/>
        </p:nvSpPr>
        <p:spPr>
          <a:xfrm>
            <a:off x="285840" y="1417680"/>
            <a:ext cx="27954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untry&gt;US&lt;/country&gt; &lt;A1&gt;WA&lt;/A1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3&gt;Seattle&lt;/A3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D&gt;15th Ave&lt;/RD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NO&gt;6000&lt;/HNO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a:country&gt;US&lt;/ca:country&gt; &lt;ca:A1&gt;WA&lt;/ca:A1&gt; &lt;ca:A3&gt;SEATTLE&lt;/ca:A3&gt;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ca:RD&gt;15TH&lt;/ca:RD&gt; &lt;ca:STS&gt;AVE&lt;/ca:STS&gt; &lt;ca:POD&gt;NW&lt;/ca:POD&gt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a:HNO&gt;6000&lt;/ca:HNO&gt; &lt;ca:PC&gt;98106&lt;/ca:PC&gt; &lt;ca:PCN&gt;SEATTLE&lt;/ca:PCN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a:country&gt;US&lt;/ca:country&gt; &lt;ca:A1&gt;WA&lt;/ca:A1&gt; &lt;ca:A3&gt;SEATTLE&lt;/ca:A3&gt;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ca:RD&gt;15TH&lt;/ca:RD&gt; &lt;ca:STS&gt;AVE&lt;/ca:STS&gt; &lt;ca:POD&gt;NE&lt;/ca:POD&gt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a:HNO&gt;6000&lt;/ca:HNO&gt; &lt;ca:PC&gt;98105&lt;/ca:PC&gt; &lt;ca:PCN&gt;SEATTLE&lt;/ca:PC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58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 up, based on NENA comments so f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A6&gt; replaced by &lt;R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&lt;mapping&gt;&lt;/mapping&gt; from similar resu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examples to be provi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similar locations returned not def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-up RelaxNG sch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ed as an ECRIT work group i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NA 08-003 specifies like function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9:36:10Z</dcterms:created>
  <dc:creator>Hannes Tschofenig</dc:creator>
  <dc:description/>
  <dc:language>en-US</dc:language>
  <cp:lastModifiedBy>rmarshall</cp:lastModifiedBy>
  <dcterms:modified xsi:type="dcterms:W3CDTF">2011-07-25T03:30:59Z</dcterms:modified>
  <cp:revision>37</cp:revision>
  <dc:subject/>
  <dc:title>Data Only Emergency Alerts http://tools.ietf.org/html/draft-ietf-ecrit-data-only-ea-01 </dc:title>
</cp:coreProperties>
</file>