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1  |  2011-07-22  |  Page </a:t>
            </a:r>
            <a:fld id="{78E9EF0F-B888-49F2-80D6-F83918184739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rister.Holmberg@ericsson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476080"/>
            <a:ext cx="8351640" cy="7318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PS</a:t>
            </a:r>
            <a:r>
              <a:rPr b="0" lang="en-US" sz="4800" spc="-1" strike="noStrike">
                <a:solidFill>
                  <a:srgbClr val="f08a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P Callback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8585a"/>
                </a:solidFill>
                <a:latin typeface="Arial"/>
              </a:rPr>
              <a:t>IETF#81, Quebec City, Canada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85a"/>
                </a:solidFill>
                <a:latin typeface="Arial"/>
              </a:rPr>
              <a:t>draft-holmberg-ecrit-callback-00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Christer.Holmberg@ericsson.com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08a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QUIREMENT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. Ensure that the PSAP callback call reaches the same device that made the associated emergency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. Identify that the call is a PSAP callback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Applies not only UA, but also ”home network”, in order to give special treatment (e.g. service disabling) to the PSAP callback call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8a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XPLICIT vs IMPLICIT (REQ#2)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o we need an explicit callback indicator, or is an implicit enough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draft proposes a dedicated feature tag, but there has been off-line discussions about using a GRUU (“eGRUU”)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A would use eGRUU when making emergency cal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Home registrar would identify PSAP callback based on eGRUU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</a:t>
            </a:r>
            <a:r>
              <a:rPr b="0" lang="en-US" sz="3200" spc="-1" strike="noStrike">
                <a:solidFill>
                  <a:srgbClr val="f08a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OSAL TO THE WG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7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AGREE ON REQUIREMENT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7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TART WORK ON PROTOCOL MECHANISM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8585a"/>
                </a:solidFill>
                <a:latin typeface="Arial"/>
              </a:rPr>
              <a:t>THANK YOU FOR LISTENING!</a:t>
            </a:r>
            <a:endParaRPr b="0" lang="en-US" sz="5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lmfchh</cp:lastModifiedBy>
  <dcterms:modified xsi:type="dcterms:W3CDTF">2011-07-25T02:21:22Z</dcterms:modified>
  <cp:revision>147</cp:revision>
  <dc:subject/>
  <dc:title>PSAP Callbac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7-22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1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1-07-22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