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1  |  2011-07-22  |  Page </a:t>
            </a:r>
            <a:fld id="{C037D899-406F-4B90-A5DC-77D9243DF1F1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rister.Holmberg@ericsson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2476080"/>
            <a:ext cx="8351640" cy="7318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PS</a:t>
            </a:r>
            <a:r>
              <a:rPr b="0" lang="en-US" sz="4800" spc="-1" strike="noStrike">
                <a:solidFill>
                  <a:srgbClr val="f08a00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P Callback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8585a"/>
                </a:solidFill>
                <a:latin typeface="Arial"/>
              </a:rPr>
              <a:t>IETF#81, Quebec City, Canada</a:t>
            </a: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85a"/>
                </a:solidFill>
                <a:latin typeface="Arial"/>
              </a:rPr>
              <a:t>draft-holmberg-ecrit-callback-00</a:t>
            </a: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Christer.Holmberg@ericsson.com</a:t>
            </a: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08a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QUIREMENT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. Ensure that the PSAP callback call reaches the same device that made the associated emergency call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. Identify that the call is a PSAP callback call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Applies not only UA, but also ”home network”, in order to give special treatment (e.g. service disabling) to the PSAP callback call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8a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XPLICIT vs IMPLICIT (REQ#2)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o we need an explicit callback indicator, or is an implicit enough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e draft proposes a dedicated feature tag, but there has been off-line discussions about using a GRUU (“eGRUU”)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UA would use eGRUU when making emergency cal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Home registrar would identify PSAP callback based on eGRUU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PR</a:t>
            </a:r>
            <a:r>
              <a:rPr b="0" lang="en-US" sz="3200" spc="-1" strike="noStrike">
                <a:solidFill>
                  <a:srgbClr val="f08a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POSAL TO THE WG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7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AGREE ON REQUIREMENT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7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TART WORK ON PROTOCOL MECHANISM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8585a"/>
                </a:solidFill>
                <a:latin typeface="Arial"/>
              </a:rPr>
              <a:t>THANK YOU FOR LISTENING!</a:t>
            </a:r>
            <a:endParaRPr b="0" lang="en-US" sz="5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/>
  <dc:description>Rev PA1</dc:description>
  <cp:keywords/>
  <dc:language>en-US</dc:language>
  <cp:lastModifiedBy>lmfchh</cp:lastModifiedBy>
  <dcterms:modified xsi:type="dcterms:W3CDTF">2011-07-25T02:21:22Z</dcterms:modified>
  <cp:revision>147</cp:revision>
  <dc:subject/>
  <dc:title>PSAP Callbac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07-22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1</vt:lpwstr>
  </property>
  <property fmtid="{D5CDD505-2E9C-101B-9397-08002B2CF9AE}" pid="13" name="MiddleFooterField">
    <vt:lpwstr>Public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1-07-22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1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