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E1C-E9FC-4A59-8270-303EC60A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76B-927F-4CE6-97A6-ABDB4AD7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D65-9153-4D74-A586-CB58821F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631-6496-46B0-B753-64F39999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A452-087D-4C16-A37F-9600162A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94ED-B665-44BE-9EAC-C99A20F9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1A8-7096-4234-A839-3381CF63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C74A-3175-43C3-9E5E-B5459F94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178-2C4A-42CC-A7D3-98345C49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7F9C-948F-423F-8E11-BAF2356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89CE-B803-4D95-87BD-45995E5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024-4964-4FD0-A676-52DD88D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FFD2-EF11-4EC1-A11E-4554C81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0EB8-13A4-480A-BD2C-0271743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A0A-5E11-4CE8-8C12-E29F8734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097D-A2CB-4BAA-B026-E4B1F4BA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0665-C2BE-479F-B01F-B2AD27FF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BE35-81E6-45A3-9F41-F8F22141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0925-44F2-49C9-8B3A-5EC4A040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1810-DB81-4D82-AA74-5FA6C8B9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A4E6-2D24-43CE-9475-3BE364D7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D0BD-88FD-4DEA-8FCA-781F8734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86A-B7EC-497D-88D1-2735777D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42C9-FA42-4F38-900E-BC4AC174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677E-B03D-47A5-AA8D-4420759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3410-D1C7-4A90-9E09-D4A3CC1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E1EE-8C5B-4904-BF0B-E3362D4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BD5E-08C7-472D-8A2C-A9C353B7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9489-5265-45CD-89BB-7FC8A3A4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62B7-A0FD-4DD7-8CD6-D91AA44A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3DDE-89C3-4305-B23B-E5E38487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3BF2B-BE50-42D9-9196-20665EF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7C24-671A-455A-9F7D-2F4E46AC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20F-032E-41BC-BAA4-709DA8CA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7DBC8-C080-4EA6-B920-FC583D95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C123-4E67-4F2B-9D53-C0672926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C05C-00B4-4076-95F3-0436F2CC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22D9-0B88-43BA-B4F6-AFFBF85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E132-4E85-41FB-B7D1-7D56E53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1FD3-25F4-4B2D-B44E-E1B0A5FA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15E4-50F0-48BF-B194-BE75DEB4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8C57-BAE7-4DE1-AA12-E1C36E1E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C07B-11FA-489B-A244-2439EDF7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A5AF-5346-47BE-92F7-CBDD3274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DA3-A781-4B96-8B9E-29ECFE1A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5BA3-FAC4-4D9A-9AE6-4A9701E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D10E9-1624-4CDE-AE01-E37317C7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9DC1-B7C2-44D3-93B0-9C77BC4B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0CC1A-E98F-490F-A0B6-721BC700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A9D01-046E-467B-A885-C09CDAC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2BFD-8CCA-4565-93EE-3EDECCBE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9FECB-E04F-4A97-A025-CE707022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DFAA1-222D-4376-A363-6F6D08A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C7427-895E-4B3C-9A5E-BC42250A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A36C-51CA-4668-84EE-B23A6A39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961-61A7-44C8-BC36-A53671E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3BD2-122D-40A7-84E9-03E3172A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0A51-97F3-431E-A400-7D302852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6E55-E59F-46D9-A283-9C1DD691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9BB00-EF01-49A3-BE37-004283B9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C1F94-8E2C-4AD5-B266-B29B9384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4CC2-0414-4628-BBA5-ECB714BB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D10D-C36B-43B5-BFEB-057AE84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625F8-576B-471C-95BB-68B2CB6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8F2BA-02AD-494D-9C34-5398F34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35C5-585C-44AE-909A-023C01B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DDA-1BCE-4853-9E58-C38D6FE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A205-C62A-45C9-A2CF-811C27B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AD53B-65BF-4130-BF8C-0FD3381B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E63D9-6BE9-42BB-A96A-063B24F8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8FA11-5D60-4A9A-8E0D-DA938C82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4F102-F0A2-4629-AA38-6DFD6DB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01492-C1C4-4489-A6B8-F1E45BE9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E3597-90D3-4793-B3AD-CC24C1F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2B6AF-DAA7-43CE-952F-B32F4140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B99A8-90DF-4B05-8EBD-65B5426F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0F582-84A2-4A6B-BE2D-E951902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D7A-DB29-4C60-BEB5-A6F4889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88CA2-D499-460C-8C06-DD861D7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C30C-5E0E-4FC9-A932-8770925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BB72-9C78-4D5C-B557-8E8A7F9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BA02C-92D1-476F-91BC-34347010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571C-158E-4E52-9660-DFE1E421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685-8B28-4110-972A-5B43CC0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C88-6756-48DE-A317-0D1B207D3B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3" y="1638299"/>
                  <a:pt x="818645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2C1-7CA9-4FDB-BBC6-41D5E318B90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4016-391B-4741-B7AD-A14AF69E82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F156-8869-4921-BF9E-58F97FB17DD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4CC-1928-4F63-80B6-6B0F2EDF04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98E-6FA3-4ECC-B6DA-1DF387045D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82B-3EB7-4ADA-A686-A503C7B9D7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na.org/preview/en/112events/Workshop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76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Emergency Context Resolution with Internet Technologies (ecrit)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IETF 81 – Quebec City, QC Canada</a:t>
            </a:r>
            <a:br>
              <a:rPr sz="3500"/>
            </a:b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July 25, 2011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Marc Linsn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ichard Bar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Roger Marsh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ote Wel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79480" y="121932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ny submission to the IETF intended by the Contributor for publication as all or part of an IETF Internet-Draf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RFC and any statement made within the context of an IETF activity is considered an "IETF Contribution”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uch statements include oral statements in IETF sessions, as well as written and electronic communication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t any time or place, which are addressed to: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TF plenary session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working group or portion thereof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ESG or any member thereof on behalf of the IESG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IAB or any member thereof on behalf of the IAB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any IETF mailing list, including the IETF list itself, any working group or design team list,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or any other list functioning under IETF auspices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the RFC Editor or the Internet-Drafts function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ll IETF Contributions are subject to the rules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(updated by RFC 4879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atements made outside of an IETF session, mailing list or other function, that are clearly not intended to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nput to an IETF activity, group or function, are not IETF Contributions in the context of this notice. Pleas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ul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Gill Sans MT"/>
              </a:rPr>
              <a:t>RFC 5378 and RFC 3979 for detail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A participant in any IETF activity acknowledges that written, audio and video records of meetings may b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made and may be available to the publi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tailed agenda he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ietf.org/proceedings/81/agenda/ecrit.tx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Agenda Bashing, Draft Status Update (Chai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. * Similar Location (Roger Marshal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Data Only (Brian Rosen/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min * Additional Data (Brian Rosen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Trustworthy Location Information (Bernard Aboba/Hannes Tschofenig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Unauthenticated and Unauthorized Devices (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PSAP Callback (Christer Holmberg/Hannes Tschofeni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 min. * Questions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Recent RFCs, IESG Processing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Publish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st-servicelistbounda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FC 6197 (April 2011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Editor Que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cation-hiding-req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/21/2010 - MISSREF (waiting on conveyance &amp; framework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ESG Proc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frame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10/25/2010 - IESG Evaluation::AD Follow-up (87 day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phonebcp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3/28/2011 - IESG Evaluation::AD Follow-up (87 day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ocument Status – Active WG Draf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additional-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data-only-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rough-lo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4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trustworthy-lo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unauthenticated-ac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0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-ietf-ecrit-lost-syn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1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mergency Services Coordination Workshop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us rep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W8, held in Budapest, Hungary – 13-15 April 201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ww.eena.org/preview/en/112events/Workshops.htm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52:42Z</dcterms:created>
  <dc:creator>Tschofenig Hannes</dc:creator>
  <dc:description/>
  <dc:language>en-US</dc:language>
  <cp:lastModifiedBy>rmarshall</cp:lastModifiedBy>
  <dcterms:modified xsi:type="dcterms:W3CDTF">2011-07-25T13:07:47Z</dcterms:modified>
  <cp:revision>51</cp:revision>
  <dc:subject/>
  <dc:title>Trustworthy Location Information draft-tschofenig-ecrit-trustworthy-location </dc:title>
</cp:coreProperties>
</file>