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D32-9CD6-4D8E-94A0-4850F98D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374-2ABA-4C54-9109-637326F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9C9-99AD-4126-BA68-691B8A2D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86B-2D8E-458D-973D-D89572AA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DE52-B36C-4331-8DB6-13B0582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C71-C4D0-4B82-BD51-A141A78E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4EE-6C68-4752-B7B1-904F09E4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99EA-F578-44EC-84F8-907F932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84D-D238-4F39-AA78-759C93DB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9EA-B68E-4DA1-9494-EEC979E6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B472-C669-45D0-B1E9-CDAAC33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3FD-1DB0-41E6-9DC7-FCC27FA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C157-AC9F-4707-A76D-0137EB8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F80-3B4C-44EC-8540-61EDE97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DFC-0A78-4BE4-A100-1D22AAF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FB6-1A53-41F6-A93D-57E6BD8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BFFF-D6BB-4FC2-A2ED-76C973A8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329A-1883-4B6D-B116-8C6FE77C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39B3-7C67-475B-B20F-42FF4E9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00A8-8E8C-404D-AC42-FF01E47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815B-24AE-4477-999E-42FB08C4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7354-BB49-4B06-9EDC-195AFD9E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BA4-1278-4ED2-ABCC-29FBC11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5F02-D2F4-476E-8188-E8312E39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4B46-3A65-467A-90DE-D9DB345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5B4C-42EB-4983-8FCE-0129063A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7534-AE29-4060-BE96-5CB4C60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5CED-06B0-48E8-8919-CE5DDC73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52F7-6B9C-4308-9EAE-44A074B5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E81E-F0A1-4CC4-A647-7656D2A2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6E66-476E-41D8-934B-DDD8A4B8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8654-913D-4EBB-AA45-84D01D0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36A3-6E65-40A6-9673-1530AAA5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465-0DE4-4703-B6C2-A9D2EED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A3DD-6B77-4745-9A18-E44D244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A026-C4D7-4D42-9FC8-6176FA3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1910-D805-4DFC-9493-72CE94F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DE18-98C4-4D17-B0AF-C07C392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8A6A-65CF-4D4E-98E0-0EFCF4F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DEB8-8A62-450F-85E4-77C23BF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2EB6-F1B1-4E97-A938-61A8D77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A28C-D556-42B1-9945-2D335140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C6BA-FC8A-4362-A4BE-5ADAF047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A05B-EDDC-44EA-B7DD-B2430CFC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90C-5A58-4E04-A98E-C1D846B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61F4-AE73-4777-ABDB-375E4BE8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8ACB5-146D-47D4-80A7-8F08EB7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3B0E-2AE6-46B5-91CD-A428E8D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A15C-A9EB-44DE-93C0-54AD95F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C927-6422-4EC8-98A9-FAB2206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B93C-030A-4E00-8F5D-DC87994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6A3F-F666-4D8C-930B-757B57EB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DD37-304C-4F12-B537-6F78223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96BE-64BB-4BF7-A098-4380989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DD30-3487-4DC2-9EE2-E64FCC81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386-65C5-4754-BD44-57DFBD9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35C2-0C77-4DE5-91A6-4050A722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A499B-5A9B-437C-AB18-CFF5183E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060E-E0B4-4AE4-B477-FB53E554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39069-A960-40E0-A3EB-6F91C5C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02CD-7BB0-4579-BF8B-5E40C426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8E62-008D-474C-A517-A85AB23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729E-140E-4234-A250-AB8279E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38B1-5A12-40BA-B0AE-B1A214F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021E-03B5-431B-BA1A-EEC23BF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81BC-50A6-4051-B771-ACFF3BE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CB8-3BF4-4EE6-AD84-FFBD8DB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99FB-F404-4D09-95C6-9BAD078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15E9-B9E1-4BDB-9E0D-5306DC49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C7117-EF41-4A14-AB73-1A125E9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5912-F7FF-4A6E-B6F4-AD8E54DB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B663-87D0-4CDF-8ADF-E7D279B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6408-7B44-4125-BD22-8995C65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B0335-A884-4A2B-8902-701017C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BF95-5B15-4E10-BDDE-69E0697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B6AE-1072-462A-859A-88D8D4E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19D2A-3802-4144-9D68-56C00B63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95D-C4E1-4451-83F4-90D8135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CA87-BE86-4447-8186-AC74828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BEEE-6542-4C73-8CFE-E085B58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5FD51-97FC-47CD-8690-3579934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191E-2577-4734-87C9-CDD4BBB1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01EF-A665-4341-9A40-92612D52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13F-BDA4-4DF7-971C-7881329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F5C-F0AC-4490-8A74-2ED2A21E46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2A4-093A-42FD-BB0F-5F56CD02B38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8A0-B31C-4A9B-AE44-ACAEA2F0BE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760-A8A3-4DFD-9E3C-6C3803662B9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67D0-C82B-41D1-8240-EA41B9A1AA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807E-25F7-4A9E-B1D4-25AE71FA78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D26B-080B-4D09-99D3-8B68AF91D7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na.org/preview/en/112events/Workshop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Emergency Context Resolution with Internet Technologies (ecrit)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ETF 81 – Quebec City, QC Canada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July 25, 2011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Marc Linsn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ichard Bar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oger Marsh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ote Wel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9480" y="121932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ny submission to the IETF intended by the Contributor for publication as all or part of an IETF Internet-Draf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RFC and any statement made within the context of an IETF activity is considered an "IETF Contribution”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uch statements include oral statements in IETF sessions, as well as written and electronic communication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t any time or place, which are addressed to: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TF plenary session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working group or portion thereof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SG or any member thereof on behalf of the IESG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AB or any member thereof on behalf of the IAB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mailing list, including the IETF list itself, any working group or design team list,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any other list functioning under IETF auspices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RFC Editor or the Internet-Drafts function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ll IETF Contributions are subject to the rules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(updated by RFC 4879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tements made outside of an IETF session, mailing list or other function, that are clearly not intended to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nput to an IETF activity, group or function, are not IETF Contributions in the context of this notice. Plea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ul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for detail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acknowledges that written, audio and video records of meetings may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nd may be available to the publi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tailed agenda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ietf.org/proceedings/81/agenda/ecrit.tx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genda Bashing, Draft Status Update (Chai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. * Similar Location (Roger Marshal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Data Only (Brian Rosen/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dditional Data (Brian Rosen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Trustworthy Location Information (Bernard Aboba/Hannes Tschofenig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Unauthenticated and Unauthorized Devices (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PSAP Callback (Christer Holmberg/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Questions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Recent RFCs, IESG Processing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Publish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ervicelistbound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FC 6197 (April 201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Editor Que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cation-hiding-req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/21/2010 - MISSREF (waiting on conveyance &amp; framework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SG Proc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frame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0/25/2010 - IESG Evaluation::AD Follow-up (87 day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honebc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3/28/2011 - IESG Evaluation::AD Follow-up (87 day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Active WG Draf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additional-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data-only-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rough-l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trustworthy-lo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unauthenticated-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yn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1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mergency Services Coordination Workshop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us rep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W8, held in Budapest, Hungary – 13-15 April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eena.org/preview/en/112events/Workshops.htm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52:42Z</dcterms:created>
  <dc:creator>Tschofenig Hannes</dc:creator>
  <dc:description/>
  <dc:language>en-US</dc:language>
  <cp:lastModifiedBy>rmarshall</cp:lastModifiedBy>
  <dcterms:modified xsi:type="dcterms:W3CDTF">2011-07-25T13:07:47Z</dcterms:modified>
  <cp:revision>51</cp:revision>
  <dc:subject/>
  <dc:title>Trustworthy Location Information draft-tschofenig-ecrit-trustworthy-location </dc:title>
</cp:coreProperties>
</file>