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09A-BFF1-4319-B161-F5B3C4AD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B53-EEF4-4844-9000-A0A8BAEF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618-D770-4704-811E-F2D41646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FF6-D263-4764-BF61-CA85D174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6EB-F62E-41E6-A6B9-12DC4B3D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6AF-0823-4C47-9AD4-8AB25A1F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892-86BB-4787-B4A0-01211DE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D3B-C5D0-4BF8-A03A-561A58CB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4EB-B301-45DB-9733-EAC9E494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CBB-42C7-4EA7-ACC5-535203E6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7EC-0FCA-4A65-9DCB-16BD6EB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F0D-688E-4F62-9C2B-9FAEE7B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DA19-DB2A-4AE6-BFC5-8A919C84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Civ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eneral mechanism now agr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Type registry defined in 4776 now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w elements defined including namespace in a new “extensions” reg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ould elements in this new registry have a flag indicating “SHOULD IMPLEMEN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mes-Editor-Consolidated</cp:lastModifiedBy>
  <dcterms:modified xsi:type="dcterms:W3CDTF">2011-07-25T13:23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