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D44C-6A06-464C-BAC5-E78911A0E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D548-C8DF-4C2F-ABA7-FA17F32B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419D-E904-4018-9EF8-09542307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9D93-04DD-4C8F-A3B0-2A3896C3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9A16-CAA1-45FF-87D4-25A2F09E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9457-C07B-46E4-B9D1-00A81383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15E2-7EB7-49D3-87B1-EF9F2D2C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209F-9412-49C0-A3A3-97A66755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E0C8-21AE-4457-8D1E-529620D1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F4A0-3F7D-4C9A-B3D1-1977A12F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78CB-F00D-4672-BABD-2D121420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75CE-4EA9-4CF4-AA4D-C5120247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9FB6-A906-405A-BFA3-6E65F5AFA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Civ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eneral mechanism now agr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AType registry defined in 4776 now cl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ew elements defined including namespace in a new “extensions” regis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hould elements in this new registry have a flag indicating “SHOULD IMPLEMENT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mes-Editor-Consolidated</cp:lastModifiedBy>
  <dcterms:modified xsi:type="dcterms:W3CDTF">2011-07-25T13:23:4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