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A434-CD60-4A05-93BD-5EE03725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9634-6E54-42C3-B5A3-FAEE69F0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D17E-50BA-47FF-8C35-EA3ACAF4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72A6-7342-4E66-84DB-10F03331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10DF-0A89-4CFC-AA47-5ED22644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BA2E-6C46-4CB4-BEDA-6B7A62E0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DDED-E861-4399-BD41-A8A49743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2C9E-F88F-4880-8D61-1B15AD9A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9A53-129D-45AB-BE0E-E55679AE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6608-6900-4F20-81E6-329EB7AB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E21F-3963-4425-932B-6CDF62DF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37F2-F771-477B-8C8E-65C1866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8F1E-CE1B-42D3-B70A-53EE3BA503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0494-0D68-40FB-94DE-2D5887977D64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ERP for IKEv2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draft-nir-ipsecme-erx-01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r Name in ERP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 the first deployment scenario there’s no problem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ERP server is the same that made the full authentic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t is able to map the ephemeral EMSKname to real usernam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t can pass the real user name in the AccessAccept message it sends to the VPN gatewa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VPN gateway can then make authorization decisions based on polic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ut what do we do if they ERP servers are not the sam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Questions?</a:t>
            </a: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Answers?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y ERP for IKEv2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FC 5296 and the bis document define a quick re-authentication protocol for EAP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RP requires fewer round-trips, so it’s faster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RP can be automatic – does not require user interactio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ving ERP allows a smooth transition between local networks such as 802.1x to remote access networking, such as with IKEv2. This is especially desirable in mobile devi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ever, IKEv2 (RFC 5996) is not suited for ERP, hence the need for an extension. As section 1 of RFC 5296-bis says:</a:t>
            </a:r>
            <a:br>
              <a:rPr sz="2200"/>
            </a:br>
            <a:br>
              <a:rPr sz="2200"/>
            </a:b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pecifically, the IEEE802.1x specification must be revised and RFC 5996 must be updated to carry ERP message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RP in the IKEv2 protoco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ding ERP was pretty straightforward. Here’s IKE_AUTH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first request    --&gt; IDi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A, TSi, TSr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first response   &lt;-- IDr, [CERT+], AUTH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EAP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/ --&gt; EA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repeat 1..N times |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\ &lt;-- EA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last request     --&gt; AU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last response    &lt;-- AUTH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A, TSi, TSr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RP in the IKEv2 protoco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ding ERP was pretty straightforward. Here’s IKE_AUTH with ERP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first request    --&gt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P(EAP_Initiate/Re-auth)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A, TSi, TSr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first response   &lt;-- IDr, [CERT+], AUTH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P(EAP-Finish/Re-auth)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last request     --&gt; AU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last response    &lt;-- AUTH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ourier New"/>
                <a:ea typeface="Courier New"/>
              </a:rPr>
              <a:t>SA, TSi, TSr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RP in IKEv2 Protoco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 what’s added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n “ERP supported” notification in the IKE_SA_INIT response. This replaces the Re-auth-Start message, and may contain the domain nam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RP in the first IKE_AUTH exchang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pdate RFC 5996 to allow ERP code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domain name is passed in the clear. Probably O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Open Issue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cal ER Server for IKEv2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FC 5296 specifies a method-independent re-authentication protocol applicable to two specific deployment scenario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re the peer’s home EAP server also performs re-authentication; 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re a local re-authentication server exists but is collocated with a AAA proxy within the domai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’re not convinced that there is a use case for IKE with anything but the first scenario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though remote-access IKE is a form of network attachment, it works over the Internet, not the local network, so the home attachment point is reachabl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is is very different from 802.1x or PPP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cal ER Server for IKEv2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’re looking for feedbac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there a use-case for performing IKE with a local as opposed to a home serve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Yes, I should be asking the IPSECME group, but they’re not meeting this wee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Not too big on responding to the mailing list either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f the answer is no, then the open issue in the next slide probably becomes moot as well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r Name in ERP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41768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PSec as defined in RFC 4301 defines a very granular policy related to identities. One user may be allowed to send and receive traffic matching a certain traffic selector, while another may no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ith regular EAP the user is identified by either a username or an RFC-822 formatted NAI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ith ERP the only identifier is the keyName-NAI TLV that looks like </a:t>
            </a:r>
            <a:r>
              <a:rPr b="1" lang="en-US" sz="2200" spc="-1" strike="noStrike">
                <a:solidFill>
                  <a:srgbClr val="2f2b20"/>
                </a:solidFill>
                <a:latin typeface="Courier New"/>
                <a:ea typeface="Courier New"/>
              </a:rPr>
              <a:t>09c2360fc3a4cd72@example.com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username part of this NAI is a hexadecimal representation of the EMSKname, which is an ephemeral valu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local ERP server which did not perform the original authentication cannot map this to a user name, and consequently cannot map authoriza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05:30:57Z</dcterms:created>
  <dc:creator>Yoav Nir</dc:creator>
  <dc:description/>
  <dc:language>en-US</dc:language>
  <cp:lastModifiedBy>Yoav Nir</cp:lastModifiedBy>
  <dcterms:modified xsi:type="dcterms:W3CDTF">2011-07-17T10:29:31Z</dcterms:modified>
  <cp:revision>13</cp:revision>
  <dc:subject/>
  <dc:title>ERP for IKEv2</dc:title>
</cp:coreProperties>
</file>