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AF9B-83C5-45BF-AF97-718C388E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B127-2ADA-4127-AC94-8F12A1F3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CE42-E60C-4172-9E8B-F0217FD8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B4FE-BA21-4591-8DF1-B5CCD000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B28CA-7C97-44E1-ABBF-EB490118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45FB-67B6-431A-900D-240A0CE4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083C-050B-4DA1-87B4-72044EA8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6847-4F4F-4E0F-9918-BBBABD68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B681-D232-43C3-8AF3-C05BEB25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070A-0B0D-4E24-BD0A-C625E863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3F4E-DBF1-4F70-8C33-93B03E08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8C79-0DD2-4BF0-972C-8BE3D24E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5472-BD90-47AA-B628-D6EC5519256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2BFD-924E-4777-9671-C8AB90A48747}" type="datetime">
              <a:rPr b="0" lang="en-US" sz="1200" spc="-1" strike="noStrike">
                <a:solidFill>
                  <a:srgbClr val="dfdcb7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ERP for IKEv2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draft-nir-ipsecme-erx-01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User Name in ERP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 the first deployment scenario there’s no problem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ERP server is the same that made the full authentica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t is able to map the ephemeral EMSKname to real usernam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t can pass the real user name in the AccessAccept message it sends to the VPN gateway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VPN gateway can then make authorization decisions based on policy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ut what do we do if they ERP servers are not the sam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Questions?</a:t>
            </a: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Answers?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8d8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y ERP for IKEv2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FC 5296 and the bis document define a quick re-authentication protocol for EAP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RP requires fewer round-trips, so it’s faster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RP can be automatic – does not require user interaction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aving ERP allows a smooth transition between local networks such as 802.1x to remote access networking, such as with IKEv2. This is especially desirable in mobile devic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wever, IKEv2 (RFC 5996) is not suited for ERP, hence the need for an extension. As section 1 of RFC 5296-bis says:</a:t>
            </a:r>
            <a:br>
              <a:rPr sz="2200"/>
            </a:br>
            <a:br>
              <a:rPr sz="2200"/>
            </a:b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Specifically, the IEEE802.1x specification must be revised and RFC 5996 must be updated to carry ERP message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ERP in the IKEv2 protoco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dding ERP was pretty straightforward. Here’s IKE_AUTH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first request    --&gt; IDi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SA, TSi, TSr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first response   &lt;-- IDr, [CERT+], AUTH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EAP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/ --&gt; EAP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repeat 1..N times |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\ &lt;-- EAP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last request     --&gt; AUT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last response    &lt;-- AUTH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SA, TSi, TSr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ERP in the IKEv2 protoco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dding ERP was pretty straightforward. Here’s IKE_AUTH with ERP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first request    --&gt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AP(EAP_Initiate/Re-auth)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SA, TSi, TSr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first response   &lt;-- IDr, [CERT+], AUTH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AP(EAP-Finish/Re-auth)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                   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                   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last request     --&gt; AUT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last response    &lt;-- AUTH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SA, TSi, TSr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ERP in IKEv2 Protoco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 what’s added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n “ERP supported” notification in the IKE_SA_INIT response. This replaces the Re-auth-Start message, and may contain the domain name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RP in the first IKE_AUTH exchange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pdate RFC 5996 to allow ERP code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domain name is passed in the clear. Probably OK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Open Issues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8d8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cal ER Server for IKEv2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FC 5296 specifies a method-independent re-authentication protocol applicable to two specific deployment scenario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ere the peer’s home EAP server also performs re-authentication; a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ere a local re-authentication server exists but is collocated with a AAA proxy within the domain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e’re not convinced that there is a use case for IKE with anything but the first scenario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though remote-access IKE is a form of network attachment, it works over the Internet, not the local network, so the home attachment point is reachabl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is is very different from 802.1x or PPP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cal ER Server for IKEv2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e’re looking for feedback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s there a use-case for performing IKE with a local as opposed to a home server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Yes, I should be asking the IPSECME group, but they’re not meeting this week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Not too big on responding to the mailing list either…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f the answer is no, then the open issue in the next slide probably becomes moot as well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User Name in ERP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417680"/>
            <a:ext cx="7620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PSec as defined in RFC 4301 defines a very granular policy related to identities. One user may be allowed to send and receive traffic matching a certain traffic selector, while another may no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ith regular EAP the user is identified by either a username or an RFC-822 formatted NAI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ith ERP the only identifier is the keyName-NAI TLV that looks like </a:t>
            </a:r>
            <a:r>
              <a:rPr b="1" lang="en-US" sz="2200" spc="-1" strike="noStrike">
                <a:solidFill>
                  <a:srgbClr val="2f2b20"/>
                </a:solidFill>
                <a:latin typeface="Courier New"/>
                <a:ea typeface="Courier New"/>
              </a:rPr>
              <a:t>09c2360fc3a4cd72@example.com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username part of this NAI is a hexadecimal representation of the EMSKname, which is an ephemeral valu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 local ERP server which did not perform the original authentication cannot map this to a user name, and consequently cannot map authorizatio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7T05:30:57Z</dcterms:created>
  <dc:creator>Yoav Nir</dc:creator>
  <dc:description/>
  <dc:language>en-US</dc:language>
  <cp:lastModifiedBy>Yoav Nir</cp:lastModifiedBy>
  <dcterms:modified xsi:type="dcterms:W3CDTF">2011-07-17T10:29:31Z</dcterms:modified>
  <cp:revision>13</cp:revision>
  <dc:subject/>
  <dc:title>ERP for IKEv2</dc:title>
</cp:coreProperties>
</file>