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1A1-E946-4FBF-9FFC-44072389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C52-5C00-451E-97CB-17F68E45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2E1-3432-4D07-9FA8-71931AC8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FED-22F8-44EC-AE85-CDF29236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346-E993-4FD5-A9BB-8DBCA19C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E28-0864-403C-B4EB-5070AAE4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CBC-2AD0-4887-970E-C8016EBE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7F0-ED6E-40AD-8136-94839D68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C68-BD9A-4C86-BDF5-077F49A2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765-0D84-4462-AFC6-6BB1F5E4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EE8-7F41-430D-952B-10BFFA94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837-C156-457C-A8EA-F891D6DB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E4316-44A2-4AC4-9E05-FF0E6EC86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P/AA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hokey-erp-aak-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en Z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support single CAP only 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not feasible for the home ERP/AAK server to either authenticate or authorize the 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-Identifier (as defined) not guaranteed to be unique across rea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A operation under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eter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ypos re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key hierarchy different from ER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a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just an extension to ER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5296b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7:32:36Z</dcterms:created>
  <dc:creator>Glen Zorn</dc:creator>
  <dc:description/>
  <dc:language>en-US</dc:language>
  <cp:lastModifiedBy>Glen Zorn</cp:lastModifiedBy>
  <dcterms:modified xsi:type="dcterms:W3CDTF">2011-07-27T18:02:41Z</dcterms:modified>
  <cp:revision>2</cp:revision>
  <dc:subject/>
  <dc:title/>
</cp:coreProperties>
</file>