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3C20-4CEC-4DA0-B1C4-F4FF039B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0D00-E287-4BB1-B8DC-82DBA13A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D601-286A-4061-8F7C-85D98143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6802-F112-4ADE-8339-41C2BD89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D444-C4CB-4857-8BB7-9B88A892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3384-2136-4512-B4DF-4B44EB33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0ABC-F2E2-4DF2-8BE0-EB00B8F5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FBF6-BEC1-42F9-8CC3-6E79241D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10A9-797D-47AE-BEF8-7EA1264F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C3BB-0192-41E5-A558-59730014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CC74-C18F-4664-8078-01816B71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35A5-71EA-4F59-AAF7-19CC4985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5F54D-1CB6-4470-B786-63D46C93B2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P/AA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hokey-erp-aak-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en Z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44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to support single CAP only in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 not feasible for the home ERP/AAK server to either authenticate or authorize the C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S-Identifier (as defined) not guaranteed to be unique across real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A operation under spec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meter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ypos re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key hierarchy different from ER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gai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not just an extension to ER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 5296b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7:32:36Z</dcterms:created>
  <dc:creator>Glen Zorn</dc:creator>
  <dc:description/>
  <dc:language>en-US</dc:language>
  <cp:lastModifiedBy>Glen Zorn</cp:lastModifiedBy>
  <dcterms:modified xsi:type="dcterms:W3CDTF">2011-07-27T18:02:41Z</dcterms:modified>
  <cp:revision>2</cp:revision>
  <dc:subject/>
  <dc:title/>
</cp:coreProperties>
</file>