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1693-56E4-483A-93C8-A2B9E433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2F89-1378-4CC4-A0AC-69BA741B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B13A-A9D8-4056-BF00-652676F2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EBA3-5A61-4330-B2C8-DFF4768A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D721-9643-498D-9F48-DFF9CDD2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1DBA-8D02-4BD4-ACF6-24683F51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0F6-5B3A-4E68-8D67-7F744310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2D0-2BE3-4303-A770-585A8672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4C4D-2AB6-4597-89A1-F72C29DA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DB98-0930-4D8A-9FF3-2CD5059E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2346-17FE-4485-8900-281A35E1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EC11-0F2E-4636-A156-A0DDC4AD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CD4E8E-D07F-4640-9402-CF56433EAE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F0825-4641-4E15-AB17-AD7658755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41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2011 Jonathan B. Poste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ervice Award Presentation Postpon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rcRect l="22346" t="10915" r="22720" b="37329"/>
          <a:stretch/>
        </p:blipFill>
        <p:spPr>
          <a:xfrm>
            <a:off x="2060640" y="3079800"/>
            <a:ext cx="5022720" cy="35496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246240" y="1960560"/>
            <a:ext cx="831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onoree is unable to attend IETF 81, so the award will be presented at a time and place where the person can be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15:14:16Z</dcterms:created>
  <dc:creator/>
  <dc:description/>
  <cp:keywords/>
  <dc:language>en-US</dc:language>
  <cp:lastModifiedBy>Russell Housley</cp:lastModifiedBy>
  <dcterms:modified xsi:type="dcterms:W3CDTF">2011-07-14T16:28:05Z</dcterms:modified>
  <cp:revision>24</cp:revision>
  <dc:subject/>
  <dc:title>2009 Jonathan B. Postel Service Award</dc:title>
</cp:coreProperties>
</file>