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7B2-9FE5-4E3C-BDA5-069BE03C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584-1E3D-4A14-A728-6E27EFA2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E66-02F2-4064-970E-90FD4AA6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C34-2953-432D-8BBC-DF03F83C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21D-2D80-4D88-AC75-BA44EE3C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D87-9B63-4CE8-B26E-70AADDF5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165-80EE-4490-B214-1ECE31ED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305-45D2-433C-BD67-D5F54E9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691-FF90-4EB9-82F0-754AA383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21D-2BCE-4AB4-BE7F-4844FDAB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42A-53EF-461C-BEA2-495DCA8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E93-BD45-4CDF-A95D-005BD216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4753B-6F7D-4D90-96B5-B69A547DAA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575A4-0531-4A08-A61A-AF86F015F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4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011 Jonathan B. Post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rvice Award Presentation Postpon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2346" t="10915" r="22720" b="37329"/>
          <a:stretch/>
        </p:blipFill>
        <p:spPr>
          <a:xfrm>
            <a:off x="2060640" y="3079800"/>
            <a:ext cx="5022720" cy="3549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46240" y="1960560"/>
            <a:ext cx="83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noree is unable to attend IETF 81, so the award will be presented at a time and place where the person can be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14:16Z</dcterms:created>
  <dc:creator/>
  <dc:description/>
  <cp:keywords/>
  <dc:language>en-US</dc:language>
  <cp:lastModifiedBy>Russell Housley</cp:lastModifiedBy>
  <dcterms:modified xsi:type="dcterms:W3CDTF">2011-07-14T16:28:05Z</dcterms:modified>
  <cp:revision>24</cp:revision>
  <dc:subject/>
  <dc:title>2009 Jonathan B. Postel Service Award</dc:title>
</cp:coreProperties>
</file>