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BA77-2BC8-41D4-9E8C-EBC5BD4FE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D263-9168-4DFD-BBB3-C2FE86F3A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0D52-9B6A-43A8-9847-EF5741FA8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FA4B-7416-4359-A9AE-E4A520077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7DAE-40B6-45C4-AAA2-05763AEB3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5E30-F5F6-44C0-8429-BA5B75A6B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A1B6-E8D6-4501-A195-A465D63E5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22FD-4D7B-41A6-BE03-8620AC087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D6F4-953D-4873-A1CF-62611B238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ABA1-1277-40EE-BB34-49336A9E6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FEBB-2C2E-486B-B672-C60DC1885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DC61-ADF2-4F12-AEF0-FC765876F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7A33-E27A-4528-A615-98BEAC0EF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DC4C-CF36-484F-8350-CDA119DEA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yriad Pro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30B-0368-4E72-B516-AD98C4328827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4760" y="649296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yriad Pro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Insert the appropriate information classification label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ETF #81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Quebec City, Quebec, Canada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ly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s3.mm.bing.net/images/thumbnail.aspx?q=1020010104362&amp;id=edce8d6c73151f8078cfb61214afce7b&amp;url=http%3a%2f%2fupload.wikimedia.org%2fwikipedia%2fcommons%2fthumb%2f3%2f3a%2fFlag_of_Quebec_City.svg%2f800px-Flag_of_Quebec_City.svg.png"/>
          <p:cNvPicPr/>
          <p:nvPr/>
        </p:nvPicPr>
        <p:blipFill>
          <a:blip r:embed="rId1"/>
          <a:stretch/>
        </p:blipFill>
        <p:spPr>
          <a:xfrm>
            <a:off x="4224240" y="6019920"/>
            <a:ext cx="10335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Logo"/>
          <p:cNvPicPr/>
          <p:nvPr/>
        </p:nvPicPr>
        <p:blipFill>
          <a:blip r:embed="rId2"/>
          <a:stretch/>
        </p:blipFill>
        <p:spPr>
          <a:xfrm>
            <a:off x="6134040" y="5943600"/>
            <a:ext cx="13334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ts2.mm.bing.net/images/thumbnail.aspx?q=971252700917&amp;id=2726c7016f33c0699a3ad658198e8ae2&amp;url=http%3a%2f%2fupload.wikimedia.org%2fwikipedia%2fcommons%2f0%2f0c%2fQuebec_flag.png"/>
          <p:cNvPicPr/>
          <p:nvPr/>
        </p:nvPicPr>
        <p:blipFill>
          <a:blip r:embed="rId3"/>
          <a:stretch/>
        </p:blipFill>
        <p:spPr>
          <a:xfrm>
            <a:off x="2362320" y="6019920"/>
            <a:ext cx="1066680" cy="70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ts3.mm.bing.net/images/thumbnail.aspx?q=994990431734&amp;id=9a546a4a95eaf2859a59c50088317abd&amp;url=http%3a%2f%2fblog.purentonline.com%2fwp-content%2fuploads%2f2010%2f07%2fcanada-flag.jpg"/>
          <p:cNvPicPr/>
          <p:nvPr/>
        </p:nvPicPr>
        <p:blipFill>
          <a:blip r:embed="rId4"/>
          <a:stretch/>
        </p:blipFill>
        <p:spPr>
          <a:xfrm>
            <a:off x="457200" y="6019920"/>
            <a:ext cx="103176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9880" y="5532480"/>
            <a:ext cx="50292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 me souviens -Quebec Cit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In Motion has been proud to play host to IETF #81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255A-9296-45F8-9C75-EF16B35A133A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Picture of Quebec City"/>
          <p:cNvPicPr/>
          <p:nvPr/>
        </p:nvPicPr>
        <p:blipFill>
          <a:blip r:embed="rId1"/>
          <a:stretch/>
        </p:blipFill>
        <p:spPr>
          <a:xfrm>
            <a:off x="609480" y="304920"/>
            <a:ext cx="3149640" cy="472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ts3.mm.bing.net/images/thumbnail.aspx?q=996349905710&amp;id=0942dd6c54a5defd49ae85fd6eb66762&amp;url=http%3a%2f%2fwww.htcrepairs.co.za%2fimages%2fblackberry_logo_61469.jpg"/>
          <p:cNvPicPr/>
          <p:nvPr/>
        </p:nvPicPr>
        <p:blipFill>
          <a:blip r:embed="rId2"/>
          <a:stretch/>
        </p:blipFill>
        <p:spPr>
          <a:xfrm>
            <a:off x="7264440" y="22860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earch In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5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d in 19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quartered in Waterloo, Ontario,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eading designer, manufacturer and marketer of innovative wireless solutions for the worldwide mobile communications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loo is approximately 900 kilometres from Quebec City or around a 10 ½ hour dr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7C09-C2A5-456A-9281-BAAE6C91C958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insite/groups/knowledgeoperations/images/etc/facilities/rim_4.jpg"/>
          <p:cNvPicPr/>
          <p:nvPr/>
        </p:nvPicPr>
        <p:blipFill>
          <a:blip r:embed="rId1"/>
          <a:stretch/>
        </p:blipFill>
        <p:spPr>
          <a:xfrm>
            <a:off x="6248520" y="152280"/>
            <a:ext cx="24001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IM Advance Crew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July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F2F6-B1B0-407E-8E8B-7F175220E222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TRH the Duke and Duchess of Cambridge from a Quebec event earlier in the day"/>
          <p:cNvPicPr/>
          <p:nvPr/>
        </p:nvPicPr>
        <p:blipFill>
          <a:blip r:embed="rId1"/>
          <a:stretch/>
        </p:blipFill>
        <p:spPr>
          <a:xfrm>
            <a:off x="5181480" y="304920"/>
            <a:ext cx="3670560" cy="2971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192240" y="2057400"/>
            <a:ext cx="880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In Motion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o thank their Roy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nesses, The Du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uchess of Cambridge for gracious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ing to come to Quebec City ahead of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king sure the city was ready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at does a 1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nd 18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century city like Quebec have in common with the Internet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2AF-9B5E-47E9-99B6-A795FCDF90CF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Intern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entury Communication Net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7733-693A-4DE7-A967-FF5EDA82723F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477120" y="18288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77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state Highwa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9FC-06D5-4C69-81F0-41EB00A62FA6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upload.wikimedia.org/wikipedia/commons/thumb/1/1f/Map_of_current_Interstates.svg/220px-Map_of_current_Interstates.svg.png"/>
          <p:cNvPicPr/>
          <p:nvPr/>
        </p:nvPicPr>
        <p:blipFill>
          <a:blip r:embed="rId1"/>
          <a:stretch/>
        </p:blipFill>
        <p:spPr>
          <a:xfrm>
            <a:off x="685800" y="2057400"/>
            <a:ext cx="5257800" cy="329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ts3.mm.bing.net/images/thumbnail.aspx?q=996502936562&amp;id=93ec4ac7b0e1a99c32d526b0cf374839&amp;url=http%3a%2f%2fwww.thelingenfeltercollection.com%2fwp-content%2fuploads%2f1965_Ford_Mustang-_Fastback_24.jpg"/>
          <p:cNvPicPr/>
          <p:nvPr/>
        </p:nvPicPr>
        <p:blipFill>
          <a:blip r:embed="rId2"/>
          <a:stretch/>
        </p:blipFill>
        <p:spPr>
          <a:xfrm>
            <a:off x="5699160" y="2819520"/>
            <a:ext cx="310212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1188720" y="1219320"/>
            <a:ext cx="69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ommuni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ilroad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2712-B39C-4A9E-873F-2806238F0555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87640" y="99072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ommun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upload.wikimedia.org/wikipedia/commons/thumb/8/8b/Class1rr.png/400px-Class1rr.png"/>
          <p:cNvPicPr/>
          <p:nvPr/>
        </p:nvPicPr>
        <p:blipFill>
          <a:blip r:embed="rId1"/>
          <a:stretch/>
        </p:blipFill>
        <p:spPr>
          <a:xfrm>
            <a:off x="1066680" y="1752480"/>
            <a:ext cx="4038840" cy="40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ts3.mm.bing.net/images/thumbnail.aspx?q=996726346986&amp;id=e571cf6d3b37e9bbe49f8f12311cc64f&amp;url=http%3a%2f%2fwww.railpictures.net%2fimages%2fd1%2f9%2f1%2f7%2f6917.1184032800.jpg"/>
          <p:cNvPicPr/>
          <p:nvPr/>
        </p:nvPicPr>
        <p:blipFill>
          <a:blip r:embed="rId2"/>
          <a:stretch/>
        </p:blipFill>
        <p:spPr>
          <a:xfrm>
            <a:off x="5146560" y="2362320"/>
            <a:ext cx="3578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terwa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3B9-59A4-4755-B914-09910E1EBCF0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6316920" cy="408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ile:La Recouvrance.JPG"/>
          <p:cNvPicPr/>
          <p:nvPr/>
        </p:nvPicPr>
        <p:blipFill>
          <a:blip r:embed="rId2"/>
          <a:stretch/>
        </p:blipFill>
        <p:spPr>
          <a:xfrm>
            <a:off x="6791400" y="2666880"/>
            <a:ext cx="2200320" cy="1828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731520" y="990720"/>
            <a:ext cx="69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ommuni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le of Quebec in the 18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Century Communications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F4C0-92E3-45C6-B8A6-DB2ACE75F066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641840" cy="2627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252360" y="1600200"/>
            <a:ext cx="4595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bec was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 access gate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northern i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North Amer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ever controlled Queb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ble to set th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hat traffic wa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fire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6:49:19Z</dcterms:created>
  <dc:creator>user</dc:creator>
  <dc:description/>
  <dc:language>en-US</dc:language>
  <cp:lastModifiedBy>user</cp:lastModifiedBy>
  <dcterms:modified xsi:type="dcterms:W3CDTF">2011-07-26T13:05:53Z</dcterms:modified>
  <cp:revision>27</cp:revision>
  <dc:subject/>
  <dc:title>IETF #81  Quebec City, Quebec, Canada July 2011</dc:title>
</cp:coreProperties>
</file>