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3AAC-C092-4F53-A7F5-772511868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A59E-5F68-4569-AE62-07681FE02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9AA7-271A-4CA6-B08D-8D45863F2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3978-DCE4-49DA-A53D-355A50204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B0D6-523F-4174-951D-8788BBACD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0D37-DEF3-4FD0-A016-9585A8DE9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C2EF-01F6-4674-BEA9-6023AA2D1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CF17-54B2-4FFF-923C-B6389EDD5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7B5A-7470-4F4F-B369-EFE110387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C182-6223-4084-A93F-FD8B8153F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A834-7B7D-4200-8087-C55AADEE1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B7AF-4CAF-46E5-A9BB-B93F9BE83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9755-74E3-4F76-B6BC-FF4D3369A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4926-76A0-4DDD-9809-D0A1DF6D1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3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yriad Pro C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F7CC-9393-4926-AE8B-ACEC3924FA35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04760" y="6492960"/>
            <a:ext cx="472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yriad Pro C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Insert the appropriate information classification label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ETF #81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Quebec City, Quebec, Canada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July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ts3.mm.bing.net/images/thumbnail.aspx?q=1020010104362&amp;id=edce8d6c73151f8078cfb61214afce7b&amp;url=http%3a%2f%2fupload.wikimedia.org%2fwikipedia%2fcommons%2fthumb%2f3%2f3a%2fFlag_of_Quebec_City.svg%2f800px-Flag_of_Quebec_City.svg.png"/>
          <p:cNvPicPr/>
          <p:nvPr/>
        </p:nvPicPr>
        <p:blipFill>
          <a:blip r:embed="rId1"/>
          <a:stretch/>
        </p:blipFill>
        <p:spPr>
          <a:xfrm>
            <a:off x="4224240" y="6019920"/>
            <a:ext cx="10335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Logo"/>
          <p:cNvPicPr/>
          <p:nvPr/>
        </p:nvPicPr>
        <p:blipFill>
          <a:blip r:embed="rId2"/>
          <a:stretch/>
        </p:blipFill>
        <p:spPr>
          <a:xfrm>
            <a:off x="6134040" y="5943600"/>
            <a:ext cx="133344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ts2.mm.bing.net/images/thumbnail.aspx?q=971252700917&amp;id=2726c7016f33c0699a3ad658198e8ae2&amp;url=http%3a%2f%2fupload.wikimedia.org%2fwikipedia%2fcommons%2f0%2f0c%2fQuebec_flag.png"/>
          <p:cNvPicPr/>
          <p:nvPr/>
        </p:nvPicPr>
        <p:blipFill>
          <a:blip r:embed="rId3"/>
          <a:stretch/>
        </p:blipFill>
        <p:spPr>
          <a:xfrm>
            <a:off x="2362320" y="6019920"/>
            <a:ext cx="1066680" cy="70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://ts3.mm.bing.net/images/thumbnail.aspx?q=994990431734&amp;id=9a546a4a95eaf2859a59c50088317abd&amp;url=http%3a%2f%2fblog.purentonline.com%2fwp-content%2fuploads%2f2010%2f07%2fcanada-flag.jpg"/>
          <p:cNvPicPr/>
          <p:nvPr/>
        </p:nvPicPr>
        <p:blipFill>
          <a:blip r:embed="rId4"/>
          <a:stretch/>
        </p:blipFill>
        <p:spPr>
          <a:xfrm>
            <a:off x="457200" y="6019920"/>
            <a:ext cx="103176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9880" y="5532480"/>
            <a:ext cx="50292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 me souviens -Quebec Cit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In Motion has been proud to play host to IETF #81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B924-E905-4719-B895-564556AC0534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Picture of Quebec City"/>
          <p:cNvPicPr/>
          <p:nvPr/>
        </p:nvPicPr>
        <p:blipFill>
          <a:blip r:embed="rId1"/>
          <a:stretch/>
        </p:blipFill>
        <p:spPr>
          <a:xfrm>
            <a:off x="609480" y="304920"/>
            <a:ext cx="3149640" cy="472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ttp://ts3.mm.bing.net/images/thumbnail.aspx?q=996349905710&amp;id=0942dd6c54a5defd49ae85fd6eb66762&amp;url=http%3a%2f%2fwww.htcrepairs.co.za%2fimages%2fblackberry_logo_61469.jpg"/>
          <p:cNvPicPr/>
          <p:nvPr/>
        </p:nvPicPr>
        <p:blipFill>
          <a:blip r:embed="rId2"/>
          <a:stretch/>
        </p:blipFill>
        <p:spPr>
          <a:xfrm>
            <a:off x="7264440" y="228600"/>
            <a:ext cx="172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earch In 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5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d in 198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quartered in Waterloo, Ontario,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eading designer, manufacturer and marketer of innovative wireless solutions for the worldwide mobile communications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loo is approximately 900 kilometres from Quebec City or around a 10 ½ hour dr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0B9A-B42A-4B36-9D12-018B74164FC1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insite/groups/knowledgeoperations/images/etc/facilities/rim_4.jpg"/>
          <p:cNvPicPr/>
          <p:nvPr/>
        </p:nvPicPr>
        <p:blipFill>
          <a:blip r:embed="rId1"/>
          <a:stretch/>
        </p:blipFill>
        <p:spPr>
          <a:xfrm>
            <a:off x="6248520" y="152280"/>
            <a:ext cx="24001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IM Advance Crew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July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6709-A777-4A06-8711-73246FD9355F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TRH the Duke and Duchess of Cambridge from a Quebec event earlier in the day"/>
          <p:cNvPicPr/>
          <p:nvPr/>
        </p:nvPicPr>
        <p:blipFill>
          <a:blip r:embed="rId1"/>
          <a:stretch/>
        </p:blipFill>
        <p:spPr>
          <a:xfrm>
            <a:off x="5181480" y="304920"/>
            <a:ext cx="3670560" cy="2971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192240" y="2057400"/>
            <a:ext cx="880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In Motion w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to thank their Roy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nesses, The Du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uchess of Cambridge for gracious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ing to come to Quebec City ahead of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king sure the city was ready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del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at does a 1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and 18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century city like Quebec have in common with the Internet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3382-D83D-4443-BEF3-E207D0E8BE3D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Intern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Century Communication Netwo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73B4-0407-4A8B-9130-7724F5B8791F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6477120" y="18288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477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state Highway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3ECF-B5B3-4536-AC31-EF2D7E60684A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upload.wikimedia.org/wikipedia/commons/thumb/1/1f/Map_of_current_Interstates.svg/220px-Map_of_current_Interstates.svg.png"/>
          <p:cNvPicPr/>
          <p:nvPr/>
        </p:nvPicPr>
        <p:blipFill>
          <a:blip r:embed="rId1"/>
          <a:stretch/>
        </p:blipFill>
        <p:spPr>
          <a:xfrm>
            <a:off x="685800" y="2057400"/>
            <a:ext cx="5257800" cy="329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ts3.mm.bing.net/images/thumbnail.aspx?q=996502936562&amp;id=93ec4ac7b0e1a99c32d526b0cf374839&amp;url=http%3a%2f%2fwww.thelingenfeltercollection.com%2fwp-content%2fuploads%2f1965_Ford_Mustang-_Fastback_24.jpg"/>
          <p:cNvPicPr/>
          <p:nvPr/>
        </p:nvPicPr>
        <p:blipFill>
          <a:blip r:embed="rId2"/>
          <a:stretch/>
        </p:blipFill>
        <p:spPr>
          <a:xfrm>
            <a:off x="5699160" y="2819520"/>
            <a:ext cx="310212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1188720" y="1219320"/>
            <a:ext cx="69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Communic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ilroad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50EA-E039-4D78-9633-DD461DB64A79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187640" y="99072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Communc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upload.wikimedia.org/wikipedia/commons/thumb/8/8b/Class1rr.png/400px-Class1rr.png"/>
          <p:cNvPicPr/>
          <p:nvPr/>
        </p:nvPicPr>
        <p:blipFill>
          <a:blip r:embed="rId1"/>
          <a:stretch/>
        </p:blipFill>
        <p:spPr>
          <a:xfrm>
            <a:off x="1066680" y="1752480"/>
            <a:ext cx="4038840" cy="40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ts3.mm.bing.net/images/thumbnail.aspx?q=996726346986&amp;id=e571cf6d3b37e9bbe49f8f12311cc64f&amp;url=http%3a%2f%2fwww.railpictures.net%2fimages%2fd1%2f9%2f1%2f7%2f6917.1184032800.jpg"/>
          <p:cNvPicPr/>
          <p:nvPr/>
        </p:nvPicPr>
        <p:blipFill>
          <a:blip r:embed="rId2"/>
          <a:stretch/>
        </p:blipFill>
        <p:spPr>
          <a:xfrm>
            <a:off x="5146560" y="2362320"/>
            <a:ext cx="3578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terway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566-E523-4FBF-8A75-AC052C0C372A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6316920" cy="408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File:La Recouvrance.JPG"/>
          <p:cNvPicPr/>
          <p:nvPr/>
        </p:nvPicPr>
        <p:blipFill>
          <a:blip r:embed="rId2"/>
          <a:stretch/>
        </p:blipFill>
        <p:spPr>
          <a:xfrm>
            <a:off x="6791400" y="2666880"/>
            <a:ext cx="2200320" cy="1828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731520" y="990720"/>
            <a:ext cx="69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Communic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le of Quebec in the 18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Century Communications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78168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51D5-07CE-4B10-A942-6AD169B2432F}" type="slidenum">
              <a:rPr b="0" lang="en-US" sz="1200" spc="-1" strike="noStrike">
                <a:solidFill>
                  <a:srgbClr val="898989"/>
                </a:solidFill>
                <a:latin typeface="Myriad Pro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641840" cy="2627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252360" y="1600200"/>
            <a:ext cx="4595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bec was th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ury access gate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northern int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North Ameri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ever controlled Queb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ble to set the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hat traffic wa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fire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6:49:19Z</dcterms:created>
  <dc:creator>user</dc:creator>
  <dc:description/>
  <dc:language>en-US</dc:language>
  <cp:lastModifiedBy>user</cp:lastModifiedBy>
  <dcterms:modified xsi:type="dcterms:W3CDTF">2011-07-26T13:05:53Z</dcterms:modified>
  <cp:revision>27</cp:revision>
  <dc:subject/>
  <dc:title>IETF #81  Quebec City, Quebec, Canada July 2011</dc:title>
</cp:coreProperties>
</file>