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7CC-AE94-46C1-B102-170108BC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CBE-FD98-467B-ABCE-7FF6F78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AA7-CA0B-4DF5-8E54-6B86610D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A57-2844-4996-BDA8-FDC0758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702-97E7-49FA-A668-D1DB34B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A42-FC18-45FC-A4DB-F0BF2911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3D0-AC8D-47BE-AA62-787C6E06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65C-0881-4000-AFDB-4A92589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E77-2745-420D-9FD7-E285834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924-794E-4C8C-B83C-8119729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B20-0B38-4373-9DF6-5D382B2B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856-8FC3-4D6E-9A09-5298AE5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C87-D06B-4796-9704-5FDEE35D7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0FD-2BB8-439A-A8DC-2CD811FE9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ab.org/activities/programs/privacy-program/privacy-review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morris-privacy-considerations-03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oughts from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AB Privacy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5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ETF protocols can have privacy implications . .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494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tocols allow or require information about Interne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shared (e.g., 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points or endpoint identifiers can be correlated with the people who use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tocols allow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ing of inform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ically about people           (e.g., XM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tocols allow for direc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people (e.g., S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474-CE84-426E-BBBD-F44D08A29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. . . but whether they do depends on implementation, deployment, and 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not always proxies fo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ot always between people; protecting it is not alway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ot always about people; protecting it is not alway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0FE8-2832-4085-8CD1-938310404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 the face of uncertainty,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we build threat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 THREAT MODEL describes the capabilities that an attacker is assumed to be able to deploy against a resou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elines for Writing Text on Security Consideratio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CP 72/RFC 35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6C7-0A37-4BF1-BB6A-6CC0E8DE0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owards systematic privacy threat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520" y="12189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privacy threat modeling was piecemeal (see EAP and IPv6 entries at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ab.org/activities/programs/privacy-program/privacy-reviews/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/happenstance triggers mitig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ield counterintuitiv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fforts have evolved to at least try to identify which threats can be addressed (or not) (e.g., SIP privacy in RFC 3323, 332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80600" y="5842080"/>
            <a:ext cx="835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1: How to build systematic privacy threat mode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C23E-154B-4D13-988D-40C7FB611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co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from BCP 7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urpose of a threat model is twofold.  First, we wish to identify the threats we are concerned with. Second, we wish to rule some threats explicitly out of sc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nary has shown a few of the challenges in scoping privacy threa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versity of user privacy preferences/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ing incentive structures may not support privacy features desired by certain users/commun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ms or laws may drive direction of emphas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7773-3463-4121-BB76-ACA87D6E6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co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80880" y="1447920"/>
            <a:ext cx="83822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2: How to determine the boundaries of whi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ats must/should/may be addressed in protocol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3: How to document threats that are not or can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address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484-D39B-4EC9-AC92-69E0E86AD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Join the 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morris-privacy-considerations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ing list: ietf-privacy@iet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" y="281952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1: How to build systematic privacy threat mod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2: How to determine the boundaries of whi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ats must/should/can be addressed in protocol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3: How to document threats that are not or can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ddress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DC5-4C61-4A68-869E-FC56AB0A3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20574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E29-5D5A-4690-B67E-893A5E87A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2:33:05Z</dcterms:created>
  <dc:creator>Bernard Aboba</dc:creator>
  <dc:description/>
  <dc:language>en-US</dc:language>
  <cp:lastModifiedBy>Windows User</cp:lastModifiedBy>
  <dcterms:modified xsi:type="dcterms:W3CDTF">2011-07-25T19:52:28Z</dcterms:modified>
  <cp:revision>119</cp:revision>
  <dc:subject/>
  <dc:title>The Internet Has Too Much Privacy Already!</dc:title>
</cp:coreProperties>
</file>