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90E-4AA7-4B62-A311-50E64E17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5B6-2803-4A8F-AD37-85FA21AB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BD5-D71D-41A9-8D2C-B33A26A4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510-8D09-4EC7-AF3C-64374ED4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0C4-7C4B-48D5-9E78-C6A0CD46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9BC-6480-41D2-B8DC-50D9DE63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32A-7FC8-4B45-8688-7924391B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6C8-EF05-4BF0-99D2-857E6665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932-0DA4-42BF-943D-56B8BAD6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00B-5991-4F85-B927-642FF228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872-965A-4810-922F-0F538CAB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CC1-757F-4F36-BD6E-0AEC5FEF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2EF1-14AA-4EDC-8E2C-C1428BFCEF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B382-B5D3-4B21-8F18-60C956523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ab.org/activities/programs/privacy-program/privacy-review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morris-privacy-considerations-03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oughts from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AB Privacy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ETF 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ly 25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ETF protocols can have privacy implications . .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520" y="1494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rotocols allow or require information about Interne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dpoi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be shared (e.g., 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points or endpoint identifiers can be correlated with the people who use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rotocols allow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ing of inform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cifically about people           (e.g., XM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rotocols allow for direc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tween people (e.g., S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8D26-73C0-41C9-9C8F-9A61EAA0E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. . . but whether they do depends on implementation, deployment, and 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52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dpoi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not always proxies for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not always between people; protecting it is not always desir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ed inform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not always about people; protecting it is not always desir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1E47-A413-4084-A12E-6D8CF9C69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 the face of uncertainty, 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we build threat mode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52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A THREAT MODEL describes the capabilities that an attacker is assumed to be able to deploy against a resou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idelines for Writing Text on Security Consideration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CP 72/RFC 355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F6CC-D878-44F9-AD21-7C40E7E70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owards systematic privacy threat mode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520" y="12189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ly privacy threat modeling was piecemeal (see EAP and IPv6 entries at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ab.org/activities/programs/privacy-program/privacy-reviews/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mstance/happenstance triggers mitig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ield counterintuitive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fforts have evolved to at least try to identify which threats can be addressed (or not) (e.g., SIP privacy in RFC 3323, 3325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480600" y="5842080"/>
            <a:ext cx="8358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Q1: How to build systematic privacy threat mode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62F6-5156-49FF-9B0E-F629D5572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co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52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from BCP 7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urpose of a threat model is twofold.  First, we wish to identify the threats we are concerned with. Second, we wish to rule some threats explicitly out of sco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enary has shown a few of the challenges in scoping privacy threa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versity of user privacy preferences/inter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isting incentive structures may not support privacy features desired by certain users/commun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rms or laws may drive direction of emphasi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D5AA-0866-4D78-B9D4-F10DDB6CE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co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80880" y="1447920"/>
            <a:ext cx="838224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2: How to determine the boundaries of which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reats must/should/may be addressed in protocol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3: How to document threats that are not or cann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address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6E84-FEDE-4E13-A76A-0F18F8669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304920" y="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Join the discu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morris-privacy-considerations-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ling list: ietf-privacy@iet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7200" y="281952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1: How to build systematic privacy threat mode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2: How to determine the boundaries of which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ats must/should/can be addressed in protocol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3: How to document threats that are not or cann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ddress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C809-2E73-4D80-A021-C47AA45F3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304920" y="205740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Q &amp; 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D2B2-F615-43C1-B017-EC57530D9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12:33:05Z</dcterms:created>
  <dc:creator>Bernard Aboba</dc:creator>
  <dc:description/>
  <dc:language>en-US</dc:language>
  <cp:lastModifiedBy>Windows User</cp:lastModifiedBy>
  <dcterms:modified xsi:type="dcterms:W3CDTF">2011-07-25T19:52:28Z</dcterms:modified>
  <cp:revision>119</cp:revision>
  <dc:subject/>
  <dc:title>The Internet Has Too Much Privacy Already!</dc:title>
</cp:coreProperties>
</file>