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A5F52-FDD6-4430-856E-CCC6ABF09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204D0-1CFB-4342-87D5-E8C2EBE9F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0222F-21F4-4C03-91CD-0614C4A87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C6C88-109C-458C-B687-26992A547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7019B-16A7-450A-AAA2-069528679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2D3B8-657F-4B0B-8113-AA869E2D3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82778-699A-4666-9AFC-9B1B8AE85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A54F0-D6B6-40C7-80CE-03BDA9AF2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162B8-38C9-4F6E-8966-0827595EF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9B209-F0BE-4583-8829-C977CB17B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6CA28-9F30-4BB1-A6B6-7E054605F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8DC7-BBCC-4265-B2D3-7656C585E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8ECCA-8EE0-4D29-852C-BB4DB4BF0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7C25F-51FE-49F7-A13D-EDA868128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2D2BC-888A-4212-AAE8-D0DB4B95E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B2827-FBB9-4B93-9714-F00311505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DAB65-2A97-4FA9-B0D7-AC7928D25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C28B6-6A99-4610-A88A-948BC0423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AF98-9ACF-41F0-83BD-AA83A39C1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A5471-ADDB-4BE6-88A1-3990F8E02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4AE66-C007-4A73-BCBC-46D311260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D24FB-1085-455B-BBF4-9285465B5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63EF-F042-4BAF-9E55-5CFA14CF5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B728-D8C6-45ED-84D0-C1EA524B5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1EDF-A0D4-4948-92EF-171FB6D7FD78}"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6646-AC87-4F4E-AE52-F28923576B38}"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371600" y="1600200"/>
            <a:ext cx="6464160" cy="3429000"/>
          </a:xfrm>
          <a:prstGeom prst="rect">
            <a:avLst/>
          </a:prstGeom>
          <a:ln w="0">
            <a:noFill/>
          </a:ln>
        </p:spPr>
      </p:pic>
    </p:spTree>
  </p:cSld>
  <p:transition spd="med" advTm="1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83880" y="304560"/>
            <a:ext cx="7162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84" name="PlaceHolder 2"/>
          <p:cNvSpPr>
            <a:spLocks noGrp="1"/>
          </p:cNvSpPr>
          <p:nvPr>
            <p:ph/>
          </p:nvPr>
        </p:nvSpPr>
        <p:spPr>
          <a:xfrm>
            <a:off x="492120" y="914400"/>
            <a:ext cx="8159760" cy="4495680"/>
          </a:xfrm>
          <a:prstGeom prst="rect">
            <a:avLst/>
          </a:prstGeom>
          <a:noFill/>
          <a:ln w="0">
            <a:noFill/>
          </a:ln>
        </p:spPr>
        <p:txBody>
          <a:bodyPr lIns="90360" rIns="90360" tIns="44280" bIns="44280" anchor="t">
            <a:normAutofit fontScale="86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the IETF plenary session,</a:t>
            </a:r>
            <a:br>
              <a:rPr sz="1500"/>
            </a:br>
            <a:r>
              <a:rPr b="0" lang="en-US" sz="1500" spc="-1" strike="noStrike">
                <a:solidFill>
                  <a:srgbClr val="000000"/>
                </a:solidFill>
                <a:latin typeface="Arial"/>
              </a:rPr>
              <a:t>  - any IETF working group or portion thereof,</a:t>
            </a:r>
            <a:br>
              <a:rPr sz="1500"/>
            </a:br>
            <a:r>
              <a:rPr b="0" lang="en-US" sz="1500" spc="-1" strike="noStrike">
                <a:solidFill>
                  <a:srgbClr val="000000"/>
                </a:solidFill>
                <a:latin typeface="Arial"/>
              </a:rPr>
              <a:t>  - the IESG or any member thereof on behalf of the IESG,</a:t>
            </a:r>
            <a:br>
              <a:rPr sz="1500"/>
            </a:br>
            <a:r>
              <a:rPr b="0" lang="en-US" sz="1500" spc="-1" strike="noStrike">
                <a:solidFill>
                  <a:srgbClr val="000000"/>
                </a:solidFill>
                <a:latin typeface="Arial"/>
              </a:rPr>
              <a:t>  - the IAB or any member thereof on behalf of the IAB,</a:t>
            </a:r>
            <a:br>
              <a:rPr sz="1500"/>
            </a:br>
            <a:r>
              <a:rPr b="0" lang="en-US" sz="1500" spc="-1" strike="noStrike">
                <a:solidFill>
                  <a:srgbClr val="000000"/>
                </a:solidFill>
                <a:latin typeface="Arial"/>
              </a:rPr>
              <a:t>  - any IETF mailing list, including the IETF list itself, any working group or design team list, or</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y other list functioning under IETF auspices,</a:t>
            </a:r>
            <a:br>
              <a:rPr sz="1500"/>
            </a:br>
            <a:r>
              <a:rPr b="0" lang="en-US" sz="1500" spc="-1" strike="noStrike">
                <a:solidFill>
                  <a:srgbClr val="000000"/>
                </a:solidFill>
                <a:latin typeface="Arial"/>
              </a:rPr>
              <a:t>  - the RFC Editor or the Internet-Drafts function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p:transition spd="med" advTm="2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09:09:28Z</dcterms:created>
  <dc:creator>Cindy Morgan</dc:creator>
  <dc:description/>
  <dc:language>en-US</dc:language>
  <cp:lastModifiedBy>Cindy Morgan</cp:lastModifiedBy>
  <dcterms:modified xsi:type="dcterms:W3CDTF">2009-07-28T09:41:52Z</dcterms:modified>
  <cp:revision>2</cp:revision>
  <dc:subject/>
  <dc:title>PowerPoint Presentation</dc:title>
</cp:coreProperties>
</file>