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90F890-C180-44E9-B442-3771C738C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B6D77-CF90-4701-A744-EE57E57B3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63DB51-6AA9-4733-A25B-D2C74766AE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F28D9E-E137-4B16-8C7F-7A67DD43F9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03C9E9-F661-432B-9593-87B6DB031D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5BC3E6-4279-4531-AFBB-23FE0BC5E9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EB60DC-E444-4A2E-95EA-FE875485A5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1AB527-3D9C-495F-8452-7239C28206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286472-1983-4EE5-92B8-B37C159995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AE11D-1277-4E7E-8614-CC5F522A49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0FCA9-66D1-44FE-BF99-C6F299FDD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BD408-5223-4BF4-A228-322E3A86E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A0B21-EA84-41A2-9A35-FFA01D922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D7BE6-D653-4143-BF08-4F8CD18C4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1ABA86-A200-4ECB-9CD7-AB03F86D12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FA3DBA-5766-489D-8C1B-A56922D134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78B3A1-1CC9-42A5-A2CF-27A9C21970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42B84-86BA-4F5E-AE95-EAAF80AFE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96071-498F-485B-9C38-F8ED2CD82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B9083-698C-4BF6-B070-BDCD011FD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92502-A2B2-4F29-82BF-C0920B442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6913B-060A-4FFE-83A5-522E96667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09049-6053-4767-99F2-8DB4260B6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414B0-A554-44CE-9D6D-1149466904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76E7C-62AB-48DA-B26C-8D3C64C2A5EA}"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3132D-D632-4B81-8452-69A72FE42821}"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1371600" y="1600200"/>
            <a:ext cx="6464160" cy="3429000"/>
          </a:xfrm>
          <a:prstGeom prst="rect">
            <a:avLst/>
          </a:prstGeom>
          <a:ln w="0">
            <a:noFill/>
          </a:ln>
        </p:spPr>
      </p:pic>
    </p:spTree>
  </p:cSld>
  <p:transition spd="med" advTm="15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83880" y="304560"/>
            <a:ext cx="716292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e Well</a:t>
            </a:r>
            <a:endParaRPr b="0" lang="en-US" sz="2800" spc="-1" strike="noStrike">
              <a:solidFill>
                <a:srgbClr val="000000"/>
              </a:solidFill>
              <a:latin typeface="Arial"/>
            </a:endParaRPr>
          </a:p>
        </p:txBody>
      </p:sp>
      <p:sp>
        <p:nvSpPr>
          <p:cNvPr id="84" name="PlaceHolder 2"/>
          <p:cNvSpPr>
            <a:spLocks noGrp="1"/>
          </p:cNvSpPr>
          <p:nvPr>
            <p:ph/>
          </p:nvPr>
        </p:nvSpPr>
        <p:spPr>
          <a:xfrm>
            <a:off x="492120" y="914400"/>
            <a:ext cx="8159760" cy="4495680"/>
          </a:xfrm>
          <a:prstGeom prst="rect">
            <a:avLst/>
          </a:prstGeom>
          <a:noFill/>
          <a:ln w="0">
            <a:noFill/>
          </a:ln>
        </p:spPr>
        <p:txBody>
          <a:bodyPr lIns="90360" rIns="90360" tIns="44280" bIns="44280" anchor="t">
            <a:normAutofit fontScale="86000"/>
          </a:bodyPr>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the IETF plenary session,</a:t>
            </a:r>
            <a:br>
              <a:rPr sz="1500"/>
            </a:br>
            <a:r>
              <a:rPr b="0" lang="en-US" sz="1500" spc="-1" strike="noStrike">
                <a:solidFill>
                  <a:srgbClr val="000000"/>
                </a:solidFill>
                <a:latin typeface="Arial"/>
              </a:rPr>
              <a:t>  - any IETF working group or portion thereof,</a:t>
            </a:r>
            <a:br>
              <a:rPr sz="1500"/>
            </a:br>
            <a:r>
              <a:rPr b="0" lang="en-US" sz="1500" spc="-1" strike="noStrike">
                <a:solidFill>
                  <a:srgbClr val="000000"/>
                </a:solidFill>
                <a:latin typeface="Arial"/>
              </a:rPr>
              <a:t>  - the IESG or any member thereof on behalf of the IESG,</a:t>
            </a:r>
            <a:br>
              <a:rPr sz="1500"/>
            </a:br>
            <a:r>
              <a:rPr b="0" lang="en-US" sz="1500" spc="-1" strike="noStrike">
                <a:solidFill>
                  <a:srgbClr val="000000"/>
                </a:solidFill>
                <a:latin typeface="Arial"/>
              </a:rPr>
              <a:t>  - the IAB or any member thereof on behalf of the IAB,</a:t>
            </a:r>
            <a:br>
              <a:rPr sz="1500"/>
            </a:br>
            <a:r>
              <a:rPr b="0" lang="en-US" sz="1500" spc="-1" strike="noStrike">
                <a:solidFill>
                  <a:srgbClr val="000000"/>
                </a:solidFill>
                <a:latin typeface="Arial"/>
              </a:rPr>
              <a:t>  - any IETF mailing list, including the IETF list itself, any working group or design team list, or</a:t>
            </a: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any other list functioning under IETF auspices,</a:t>
            </a:r>
            <a:br>
              <a:rPr sz="1500"/>
            </a:br>
            <a:r>
              <a:rPr b="0" lang="en-US" sz="1500" spc="-1" strike="noStrike">
                <a:solidFill>
                  <a:srgbClr val="000000"/>
                </a:solidFill>
                <a:latin typeface="Arial"/>
              </a:rPr>
              <a:t>  - the RFC Editor or the Internet-Drafts function </a:t>
            </a: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0" lang="en-US" sz="1500" spc="-1" strike="noStrike">
                <a:solidFill>
                  <a:srgbClr val="000000"/>
                </a:solidFill>
                <a:latin typeface="Arial"/>
              </a:rPr>
              <a:t>All IETF Contributions are subject to the rules of RFC 5378 and RFC 3979 (updated by RFC 4879). </a:t>
            </a: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  Please consult RFC 5378 and RFC 3979 for details. </a:t>
            </a: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participant in any IETF activity is deemed to accept all IETF rules of process, as documented in Best Current Practices RFCs and IESG Statements. </a:t>
            </a: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participant in any IETF activity acknowledges that written, audio and video records of meetings may be made and may be available to the public.</a:t>
            </a:r>
            <a:br>
              <a:rPr sz="1500"/>
            </a:br>
            <a:endParaRPr b="0" lang="en-US" sz="1500" spc="-1" strike="noStrike">
              <a:solidFill>
                <a:srgbClr val="000000"/>
              </a:solidFill>
              <a:latin typeface="Arial"/>
            </a:endParaRPr>
          </a:p>
        </p:txBody>
      </p:sp>
    </p:spTree>
  </p:cSld>
  <p:transition spd="med" advTm="25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8T09:09:28Z</dcterms:created>
  <dc:creator>Cindy Morgan</dc:creator>
  <dc:description/>
  <dc:language>en-US</dc:language>
  <cp:lastModifiedBy>Cindy Morgan</cp:lastModifiedBy>
  <dcterms:modified xsi:type="dcterms:W3CDTF">2009-07-28T09:41:52Z</dcterms:modified>
  <cp:revision>2</cp:revision>
  <dc:subject/>
  <dc:title>PowerPoint Presentation</dc:title>
</cp:coreProperties>
</file>