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441EF-5983-4721-856E-00313B7325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6EA4D-6265-4964-8194-8C0EA06DB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03CE-8C8F-4D92-A4DD-77485200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8122-3009-4F1F-B2B3-97241660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7C63-DDE8-4FE5-A3CD-DB3702E4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ABFC-3F5D-496F-9614-C07646D5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837B-D6D3-46E6-BEF4-D150E333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6876-B906-447B-A2A6-EB0585E5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C6BB-3A7D-4ACD-891A-CAFE95BE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ECB7-7145-456B-AB9C-CE650BB8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5A09-551D-4531-9B68-9525F6F6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81DA-A586-4126-8F36-0FA27240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9EC0-202C-40C8-86A1-FD70A852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BC8B-F7A7-4E28-96B4-9E8BC938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5193-08C9-4319-9C46-3144581A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DABE-E3BB-4B1C-8D32-D695B8A5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6B43-C843-4001-84FB-6405C218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A93D-EC3B-4B7E-B70A-85E231B3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5985-13CE-4628-A3A0-A3F3A792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F858-3B34-42F7-90DD-CB5F2351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6F56-28FA-4F8F-8F7F-5DD7635E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C01C-C23A-49B5-AEDF-31C1630B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70D9-F12D-42C8-A83B-8460DE9E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A2F7-F960-44B4-9132-BF1C8DF6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AE99-26DB-40F2-91FD-1EE7A6D7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C1BF-16B5-4329-BA69-3A3CAA6D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AA25-D0B1-4ABE-B67B-ECF20F5F70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Object 9"/>
          <p:cNvGraphicFramePr/>
          <p:nvPr/>
        </p:nvGraphicFramePr>
        <p:xfrm>
          <a:off x="7481880" y="33336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81880" y="33336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10"/>
          <p:cNvGraphicFramePr/>
          <p:nvPr/>
        </p:nvGraphicFramePr>
        <p:xfrm>
          <a:off x="7451640" y="292428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292428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434E-52F3-4002-AF10-7B1019437A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4118-949B-4237-87E2-A324A52460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574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Plenary Agend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8000" y="2939760"/>
            <a:ext cx="7920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st Present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stel Award Announcement Postpon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AOC Open Mi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ESG Open Mi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5:41:50Z</dcterms:created>
  <dc:creator>Harald Tveit Alvestrand</dc:creator>
  <dc:description/>
  <dc:language>en-US</dc:language>
  <cp:lastModifiedBy>Russell Housley</cp:lastModifiedBy>
  <dcterms:modified xsi:type="dcterms:W3CDTF">2011-07-26T17:17:10Z</dcterms:modified>
  <cp:revision>331</cp:revision>
  <dc:subject/>
  <dc:title>Welcome to the Plenary</dc:title>
</cp:coreProperties>
</file>