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644C93-0E84-48CE-BBCF-33C6AE75B8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68AE1-E462-4899-BB95-CA79BD53B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5E0A-83B2-4D97-8B74-0F48DF5D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7B4E-09AE-4BF1-8F5C-C0E30F7F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90AC-5C96-4848-8F63-8E3A14C6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D289-1C52-4CDC-BBBA-6728CD691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6C8F-BB0D-4882-9AA5-792250730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BEFB-D9D8-47E3-B0C5-8574B21D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D78F-83E1-4F96-8D51-1D26F48B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F995-DDBD-49AA-B860-0E0D64FF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0FB7-DDD2-4835-ACCE-D7191CE2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27BE-76F7-44BF-8DFA-3E39D046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A7BF-8D16-46A5-BEA2-BBCD0ECF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6A0A-A1C2-4BEB-B98D-1CB6738B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A305-B92B-47A3-8EDC-8A986045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110C-2CA2-4CA3-A759-C4B15AAB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94FF-1830-4BBB-93CA-D4F4C90E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1B4E-C933-430C-B4BF-C98B3FE9A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420C-F33A-4E3C-982D-8C0BC313B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8830-A742-43F0-8346-CA8459FD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D3AA-DAEE-41FE-A947-2919A1AE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301D-AABE-4ABC-8BEA-C2010F75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7ADB-D4F6-4B62-B6F6-7615828C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3EAD-7AC5-411D-B739-97B3BAA9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5E81-F567-4F7D-A90A-46C4EF54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E432-5A90-4F16-9B85-C1474ECE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560E-1063-4659-B769-9D769DEAC12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Object 9"/>
          <p:cNvGraphicFramePr/>
          <p:nvPr/>
        </p:nvGraphicFramePr>
        <p:xfrm>
          <a:off x="7481880" y="333360"/>
          <a:ext cx="136836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81880" y="333360"/>
                    <a:ext cx="13683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10"/>
          <p:cNvGraphicFramePr/>
          <p:nvPr/>
        </p:nvGraphicFramePr>
        <p:xfrm>
          <a:off x="7451640" y="2924280"/>
          <a:ext cx="136836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1640" y="2924280"/>
                    <a:ext cx="13683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B955-694F-4FA5-BE89-C6AE6B07CD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72AA-1E13-4471-8042-7D0C13933F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6080" y="574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Plenary Agenda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08000" y="2939760"/>
            <a:ext cx="792000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ost Present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stel Award Announcement Postpon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AOC Open Mic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ESG Open Mic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5:41:50Z</dcterms:created>
  <dc:creator>Harald Tveit Alvestrand</dc:creator>
  <dc:description/>
  <dc:language>en-US</dc:language>
  <cp:lastModifiedBy>Russell Housley</cp:lastModifiedBy>
  <dcterms:modified xsi:type="dcterms:W3CDTF">2011-07-26T17:17:10Z</dcterms:modified>
  <cp:revision>331</cp:revision>
  <dc:subject/>
  <dc:title>Welcome to the Plenary</dc:title>
</cp:coreProperties>
</file>