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F3B8-16D6-4A80-A349-268DF14A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75D-CDEA-402F-A8BE-C6FDBC600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5DA-619E-49AB-8D38-7728F869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2A9-44EC-4908-A12C-5EA5E3F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5D1-8CD6-465D-9ECE-0F6605AC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665-16AB-4B13-804A-D96A2B1E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37AB-EC64-4BB5-A6B4-C45C66BE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895-7597-4B0F-A0D4-E84FD635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47FF-5ACA-46CA-9ECC-BECD7A1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BFD3-1FC7-41D8-BD65-D391A4D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BE3-F732-44EB-B69F-6B9CDA7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2C8-A336-425F-AF56-172C7C1B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DEF-AC9A-4294-A22D-70DCEC6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C70-A0F4-4BA6-B3DD-F8D8464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9361-32AF-4561-95B1-59FA1EC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8A6-9ADA-43C7-AFA9-5477DB3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330-FAE0-4A07-8C25-1B725DB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F71E-70C8-4B2A-BAC8-064CB5C8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95D9-826C-4F86-B158-BDC87E81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59DC-6976-47B0-8011-0BF8ADD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95BC-0E9B-4B26-8F87-7E4C7707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58C8-E2BB-456F-B427-9A40BBFE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BE7E-845B-4D96-8CF3-4B71D47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427A-C26E-4CD1-A425-1D6A0399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C47-2462-454F-A4F8-E97A0D44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AA23-DA70-4751-9D48-E4A77DE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D05E-E8AD-4E49-91D7-C8196D1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A1F4-A276-4CFB-A2C0-908A9ED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332B-9A94-40FE-871A-02D4AE9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334D-5806-46A3-B3BA-9AC7F9D5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42C9-3806-420C-BB56-3895DB27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7BFD-4C27-4DA0-A71C-B40DD6FB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A6B-CD98-4725-98EF-80274B5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64A-D390-4BAD-9038-B4CCD9C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5D8-4DFB-4342-9C50-F79C119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FA5-99A1-4529-AD89-137987D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EC8-E9CD-4C1C-A46F-45EFC8F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7AC-88F3-4A0C-AB1B-AB05214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7F4A-81D3-4F95-830F-C2F4690125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399440" y="138240"/>
            <a:ext cx="134784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7315200" y="2890800"/>
            <a:ext cx="1347840" cy="1019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D94E-D076-49CB-91DE-C5D7299FAA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7399440" y="138240"/>
            <a:ext cx="1347840" cy="101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F7C2-C6F3-40E4-88B6-7E485695F4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ab.org/activities/programs/privacy-program/" TargetMode="External"/><Relationship Id="rId2" Type="http://schemas.openxmlformats.org/officeDocument/2006/relationships/hyperlink" Target="http://www.iab.org/activities/workshops/internet-privacy-workshop-2010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ab-privacy-workshop-00" TargetMode="External"/><Relationship Id="rId2" Type="http://schemas.openxmlformats.org/officeDocument/2006/relationships/hyperlink" Target="http://tools.ietf.org/html/draft-morris-privacy-considerations-03" TargetMode="External"/><Relationship Id="rId3" Type="http://schemas.openxmlformats.org/officeDocument/2006/relationships/hyperlink" Target="http://tools.ietf.org/html/draft-hansen-privacy-terminology-02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2850" TargetMode="External"/><Relationship Id="rId2" Type="http://schemas.openxmlformats.org/officeDocument/2006/relationships/hyperlink" Target="http://www.iab.org/" TargetMode="External"/><Relationship Id="rId3" Type="http://schemas.openxmlformats.org/officeDocument/2006/relationships/hyperlink" Target="http://www.iab.org/activities/programs/" TargetMode="External"/><Relationship Id="rId4" Type="http://schemas.openxmlformats.org/officeDocument/2006/relationships/hyperlink" Target="http://wiki.tools.ietf.org/group/iab/" TargetMode="External"/><Relationship Id="rId5" Type="http://schemas.openxmlformats.org/officeDocument/2006/relationships/hyperlink" Target="http://www.iab.org/documents/correspondence-reports-documents/" TargetMode="External"/><Relationship Id="rId6" Type="http://schemas.openxmlformats.org/officeDocument/2006/relationships/hyperlink" Target="http://www.iab.org/documents/" TargetMode="External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ab.org/" TargetMode="External"/><Relationship Id="rId2" Type="http://schemas.openxmlformats.org/officeDocument/2006/relationships/hyperlink" Target="mailto:iab@iab.org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ab.org/appeals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AB Repor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le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y 25,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Programs &amp; Initia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NA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-T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/Web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for IAB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ivacy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Alissa Co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activities/programs/privacy-progra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shop with W3C, ISOC, MI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iab.org/activities/workshops/internet-privacy-workshop-20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 (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privacy directorate (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B71F1EB-B408-496F-B71B-61F93E15F03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ivacy Program (cont’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AB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hop repor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0240" indent="-22320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ools.ietf.org/html/draft-iab-privacy-workshop-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comments to iab@iab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cy considerations for Internet Protocols: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tools.ietf.org/html/draft-morris-privacy-considerations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olo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tools.ietf.org/html/draft-hansen-privacy-terminology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comments to th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feedback into workshop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IETF 81 plenary, privacy directorate meeting, in-person conversations, and list discussion to update privacy considerations and terminology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0240" indent="-22320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 welcome at ietf-privacy@ietf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3929DD2-738B-48C3-8C17-D38091C638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nationaliza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92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Dave Tha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iab.org/activities/programs/internationalization-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Unicode 6.0 progression for any IETF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ICANN’s “Study of Issues Related to the Delegation of IDN Variant TL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discussion on what chars are legal in 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new IAB I-D on identifier comparison secur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r scope than just i18n issues but currently hosted by i18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7EEEBC0-DE44-4F50-9B7D-128664E2016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nationalization Program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(cont’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B Doc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6055: IAB Thoughts on Encodings for Internationalized Domai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ab-identifier-comparison-00: Issues in Identifier Comparison for Security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8280" indent="-27000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welcome 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18n-discuss@ietf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more security input/review for identifier comparison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8280" indent="-27000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presented in SAAG on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CF1F1EF-6195-416D-A9CB-0A36BC9AE1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 Editor Pro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AB lead: Joel Halp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gram activities are carried out by the RFC Series Oversight Committee, the RSOC, and is described a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ab.org/activities/programs/rfc-editor-progra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SOC has been meeting, and progressing on the search for an R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separate report from Fred Baker, the RSOC chair, to the community at this plenary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parately, the primary descriptive document is being revi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ols.ietf.org/html/draft-iab-rfc-editor-model-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review of this and other related program activities takes place on rfc-interest@rfc-editor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tails in the RSOC plenary 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32C0B4F-5D3D-4905-9AB9-CA66AEBD8AD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ANA Evolu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AB Lead:  Olaf Kol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ab.org/activities/programs/iana-evolution-progra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d to the NTIA NOI on 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a recommendation to the IAB on feedback to the ARIN board about ARIN 2011-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-005 is a policy proposal to assign 'special' address space in the context of RFC2860 section 4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should be allocated through IET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d re-engagement with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s Callon to serve as the IAB point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A148973-02B4-466A-9B45-52C1395C1CC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ANA Evolu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Activities (con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ing to the NTIA FNOI on 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NOI is a follow-up on an earlier NOI; the FNOI contains a SOW for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Deadline: July 2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SoW for IETF usability and best interests of the Internet at l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of policy versus mechanical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c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IANA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FNOI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720085B-52A3-4C76-AEB2-E3B56AB133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TF 81 - 23 July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ison Oversight and ITU-T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7296853-A203-4136-9CB1-B0601CF55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Oversight of IETF Liais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une 2010-SDO Coordination progra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focus on coordination with ITU-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generalize successful appro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une 2011- split into two IAB progra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aison Oversigh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s framework for all liaison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at liaison relationship health for all S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TU-T Coordin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s and maintains a respectful long-term relationship between the IETF and ITU-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Liaison Oversight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Spencer Daw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b.org/activities/programs/iab-liaison-coordination-progra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session July 22, with review of 3GPP, IEEE 802.3, W3C, ITU-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96FAA25-1B05-4640-8505-3E140F0F20B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Responsibilities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RFC 2850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IESG Appoin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Architectural Overs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 Standards Process Oversight and Appe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. RFC Series and I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 ISOC Lia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. External Lia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434E6D-D883-45DF-BFF7-B1AD27D86C5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Liaiso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B call for nominations for the 2012 ICANN nomc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B seeks to appoint an MPLS liaison manager to ITU-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B met with the W3C TA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ot Lear was appointed ITU-T liaison, replacing Patrik Falstrom (thanks, Patrik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D18450C-A730-48A8-B843-B21E607B98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Microphone Se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532EFF7-7B22-4333-A23A-77D616E8F91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bout the IA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Charter (RFC 28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ools.ietf.org/html/rfc2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ia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iab.org/activities/program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s and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iki.tools.ietf.org/group/ia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&amp;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www.iab.org/documents/correspondence-reports-documen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 (thanks to Cindy Morga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.iab.org/documen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963628-44D2-43DA-88FC-04E499BC47E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IAB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thing in this report is there… 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months of preparation to get he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ift from Olaf Kolkman, Glen, Dow Street, Willem Toorop and the NLnet Labs team.  Thank you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still more to do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report issues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iab@iab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C04023-50D8-45F8-9E32-197323416CF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ent Pos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44792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nominations: 2012 ICANN Nom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liaison manager to ITU-T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Series Editor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 IAB retreat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mart Object Workshop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on Identifier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rivacy Workshop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ment of Eliot Lear as the new IETF Liaison to ITU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Comment on “The RFC Editor Model (Version 2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to ARIN Request for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meets with the W3C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to NTIA “Request for Comments on the IANA Fun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8F74931-009B-4AAC-B753-59BB2F0B45B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Statu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as an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20: Defining the Role and Function of IETF Protocol Parameter Registry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50: Evolution of the IP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Call for Comment: Waiting f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extension-r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ll for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55120" indent="-2984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rfc-editor-model-v2 (Completes:  July 30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anycast-arch-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dns-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privacy-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smart-object-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identifier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8ED29C5-67D4-4611-9F2A-ECD3BCE8E9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s Process Oversight and Appe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appeals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ere no appe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52A0E06-2B06-4329-A25F-361BDCDE97F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B is responsible for appointment of an ISOC BoT m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t Wijnen was sel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5EE8E7-62C6-4E15-B81C-B394B1A447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GRAM REPOR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EA796F-71EC-4C6F-BA14-54B0322545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 Aboba</cp:lastModifiedBy>
  <dcterms:modified xsi:type="dcterms:W3CDTF">2011-07-26T01:57:21Z</dcterms:modified>
  <cp:revision>377</cp:revision>
  <dc:subject/>
  <dc:title>EAP WG</dc:title>
</cp:coreProperties>
</file>