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8688-E9CD-4480-BC46-381578E30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A8E0-C190-4EE2-909A-72D68538B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C60-1AAE-474C-9A44-41E86E8C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B0A-CC67-48C0-8020-01D6199F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991-BA4C-45A6-9785-6DF353E9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7F0-336F-4093-85BB-A8A56A58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3152-43CF-4967-A80B-7947FB9F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ADE1-04C1-477E-849E-AEF9DAC5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54C1-DB59-4193-A57B-F54095FD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9BA9-99A3-408E-8E48-D1F83CC8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1F79-0285-4951-A16D-01134CA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F86D-4B0D-41C1-A3D1-982D361E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7DD7-4A9F-4CC2-9226-86DB4D30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91D-BBAC-4936-9E43-C4E33697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E7F9-C07C-4746-ADD0-C4E2E6C9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A041-6FF0-4864-8ED9-1D2F19B9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4363-5D32-4C8D-BF86-651238ED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FA6F-E042-4716-8876-7CB2DE53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6F49-976A-45A8-A8DD-134CF1F8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875C-7E07-4A12-B877-D5FD5061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2B36-52EF-42CE-9DCB-2002030F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1D12B-A909-4EAD-AAAF-8B5D75E4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F537-12D1-48F3-8E2E-BBC3232F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08F7-95D8-420F-8F52-FEE3377B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D4E-BA0F-4E99-933A-2E778F37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45FAB-2AE5-4AAC-8DBB-9A97494A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680D-2931-4972-9108-7FB894A4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EBDF-30E3-4435-B5F4-0021536F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CBACB-D601-4157-8800-7571E8F4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303ED-421E-4925-A0C5-D9BD0C4E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E5A06-1CF1-4B49-82D0-7B6F552F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6694-2A90-422D-8EF3-23236976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AFA-4BD8-4D5D-889A-12FDA041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61C-1F81-4A66-BC7C-ED9B1AF1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48D-AE2C-41AE-A6E1-9B5581CC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82E-96A6-480A-A7E3-A47EE6F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CBD-237F-4032-8EB2-BA193D46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A59-20C8-4C4E-8C19-2A5FCB5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2CAE-AD52-4105-A5B3-58BBB76117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7399440" y="138240"/>
            <a:ext cx="134784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7315200" y="2890800"/>
            <a:ext cx="1347840" cy="1019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2E04-71E3-410C-84FA-DEB188BB04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7399440" y="138240"/>
            <a:ext cx="1347840" cy="1019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7EE3-6D60-4622-AAA4-E0B4BB43AD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ab.org/activities/programs/privacy-program/" TargetMode="External"/><Relationship Id="rId2" Type="http://schemas.openxmlformats.org/officeDocument/2006/relationships/hyperlink" Target="http://www.iab.org/activities/workshops/internet-privacy-workshop-2010/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ab-privacy-workshop-00" TargetMode="External"/><Relationship Id="rId2" Type="http://schemas.openxmlformats.org/officeDocument/2006/relationships/hyperlink" Target="http://tools.ietf.org/html/draft-morris-privacy-considerations-03" TargetMode="External"/><Relationship Id="rId3" Type="http://schemas.openxmlformats.org/officeDocument/2006/relationships/hyperlink" Target="http://tools.ietf.org/html/draft-hansen-privacy-terminology-02" TargetMode="Externa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2850" TargetMode="External"/><Relationship Id="rId2" Type="http://schemas.openxmlformats.org/officeDocument/2006/relationships/hyperlink" Target="http://www.iab.org/" TargetMode="External"/><Relationship Id="rId3" Type="http://schemas.openxmlformats.org/officeDocument/2006/relationships/hyperlink" Target="http://www.iab.org/activities/programs/" TargetMode="External"/><Relationship Id="rId4" Type="http://schemas.openxmlformats.org/officeDocument/2006/relationships/hyperlink" Target="http://wiki.tools.ietf.org/group/iab/" TargetMode="External"/><Relationship Id="rId5" Type="http://schemas.openxmlformats.org/officeDocument/2006/relationships/hyperlink" Target="http://www.iab.org/documents/correspondence-reports-documents/" TargetMode="External"/><Relationship Id="rId6" Type="http://schemas.openxmlformats.org/officeDocument/2006/relationships/hyperlink" Target="http://www.iab.org/documents/" TargetMode="External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ab.org/" TargetMode="External"/><Relationship Id="rId2" Type="http://schemas.openxmlformats.org/officeDocument/2006/relationships/hyperlink" Target="mailto:iab@iab.org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ab.org/appeals/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AB Repor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Ple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ly 25,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AB Programs &amp; Initia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NA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ison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-T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/Web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680" indent="-2779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 for IAB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rivacy Pro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B Lead:  Alissa Co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and Membersh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iab.org/activities/programs/privacy-progra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shop with W3C, ISOC, MIT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iab.org/activities/workshops/internet-privacy-workshop-20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nary (to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with privacy directorate (to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F79B3C7-FBD2-4541-8E59-42FE7E63A4A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rivacy Program (cont’d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AB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hop repor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50240" indent="-22320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ools.ietf.org/html/draft-iab-privacy-workshop-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comments to iab@iab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cy considerations for Internet Protocols: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tools.ietf.org/html/draft-morris-privacy-considerations-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inolog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tools.ietf.org/html/draft-hansen-privacy-terminology-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comments to th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te feedback into workshop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2642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IETF 81 plenary, privacy directorate meeting, in-person conversations, and list discussion to update privacy considerations and terminology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50240" indent="-22320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ion welcome at ietf-privacy@ietf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A187E81-C496-4C69-9C44-55EAFA60444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rnationalization Pro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92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B Lead:  Dave Tha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and Membersh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iab.org/activities/programs/internationalization-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Unicode 6.0 progression for any IETF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ICANN’s “Study of Issues Related to the Delegation of IDN Variant TL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discussion on what chars are legal in T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new IAB I-D on identifier comparison securit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6712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r scope than just i18n issues but currently hosted by i18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8609917-428C-4E6A-AF4E-A0DF39D4D11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rnationalization Program 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(cont’d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B Doc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6055: IAB Thoughts on Encodings for Internationalized Domai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ab-identifier-comparison-00: Issues in Identifier Comparison for Security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8280" indent="-27000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welcome 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18n-discuss@ietf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cit more security input/review for identifier comparison 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8280" indent="-27000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presented in SAAG on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0F9D96C-BF93-458E-9505-5FBC06D8817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FC Editor Progr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AB lead: Joel Halper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rogram activities are carried out by the RFC Series Oversight Committee, the RSOC, and is described a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ab.org/activities/programs/rfc-editor-progra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RSOC has been meeting, and progressing on the search for an R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separate report from Fred Baker, the RSOC chair, to the community at this plenary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parately, the primary descriptive document is being revis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ools.ietf.org/html/draft-iab-rfc-editor-model-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review of this and other related program activities takes place on rfc-interest@rfc-editor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details in the RSOC plenary presen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E2F950F-7983-4413-AC36-F0F3D0FE156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ANA Evolution Pro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AB Lead:  Olaf Kolk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and Membershi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ab.org/activities/programs/iana-evolution-progra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d to the NTIA NOI on I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a recommendation to the IAB on feedback to the ARIN board about ARIN 2011-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1-005 is a policy proposal to assign 'special' address space in the context of RFC2860 section 4.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 should be allocated through IET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d re-engagement with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s Callon to serve as the IAB point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05CC4BE-4564-4323-A0E6-7DBE22F28A6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ANA Evolution Pro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t Activities (cont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ing to the NTIA FNOI on 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NOI is a follow-up on an earlier NOI; the FNOI contains a SOW for 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3080" indent="-26280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Deadline: July 29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SoW for IETF usability and best interests of the Internet at la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3080" indent="-26280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ion of policy versus mechanical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53080" indent="-26280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c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53080" indent="-26280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IANA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C 62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FNOI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C30B60C-B9D2-4BAE-B4BC-D925FE8C416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TF 81 - 23 July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ison Oversight and ITU-T Coord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560FF30-F0DF-4EF5-B4A7-82F83EFEEE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AB Oversight of IETF Liais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June 2010-SDO Coordination progra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focus on coordination with ITU-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generalize successful appro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June 2011- split into two IAB progra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iaison Oversigh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s framework for all liaison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s at liaison relationship health for all S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TU-T Coordin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es and maintains a respectful long-term relationship between the IETF and ITU-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Liaison Oversight Pro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B Lead:  Spencer Dawk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ab.org/activities/programs/iab-liaison-coordination-progra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session July 22, with review of 3GPP, IEEE 802.3, W3C, ITU-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work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480ACCE-2B31-4F99-90EB-E5068EC4088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AB Responsibilities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(RFC 2850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 IESG Appoin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. Architectural Overs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. Standards Process Oversight and Appe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. RFC Series and I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 ISOC Liai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. External Liai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32F7B5E-728A-4517-BA0F-15AE5107146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rnal Liaison A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AB call for nominations for the 2012 ICANN nomc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AB seeks to appoint an MPLS liaison manager to ITU-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AB met with the W3C TA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liot Lear was appointed ITU-T liaison, replacing Patrik Falstrom (thanks, Patrik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159C7E4-2B5E-41D2-B44F-58C64BCC9CC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pen Microphone Se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9E62C16-9136-46A3-A0C3-53C8C5D97F5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bout the IAB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B Charter (RFC 28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ools.ietf.org/html/rfc2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B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iab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iab.org/activities/program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s and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wiki.tools.ietf.org/group/iab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&amp;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www.iab.org/documents/correspondence-reports-documen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s (thanks to Cindy Morga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.iab.org/documen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233704F-4699-4C9A-BEC3-1B6FA158A68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IAB Websi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iab.org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thing in this report is there… and mor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months of preparation to get he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ift from Olaf Kolkman, Glen, Dow Street, Willem Toorop and the NLnet Labs team.  Thank you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still more to do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report issues to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iab@iab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6790A28-DFA6-4188-8421-792082E55E3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80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ent Pos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1447920"/>
            <a:ext cx="8763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nominations: 2012 ICANN Nom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 liaison manager to ITU-T appoin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 Series Editor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1 IAB retreat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Smart Object Workshop 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on Identifier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Privacy Workshop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ment of Eliot Lear as the new IETF Liaison to ITU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Comment on “The RFC Editor Model (Version 2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B Response to ARIN Request for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B meets with the W3C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B Response to NTIA “Request for Comments on the IANA Fun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1964F1E-2963-4C12-9E14-4259F16A558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 Statu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as an R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C 6220: Defining the Role and Function of IETF Protocol Parameter Registry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C 6250: Evolution of the IP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Call for Comment: Waiting for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extension-r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ll for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55120" indent="-29844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rfc-editor-model-v2 (Completes:  July 30,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B Work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anycast-arch-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dns-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privacy-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smart-object-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ab-identifier-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F20DD19-23FD-4758-8331-44126D9E34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ndards Process Oversight and Appea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iab.org/appeals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were no appe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BCB8CB4-83F6-4968-B18D-6106408A4CD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AB is responsible for appointment of an ISOC BoT me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t Wijnen was selec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96360CA-7B30-4EA2-9544-B04887BB43E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GRAM REPORT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C08E4FB-F005-42DD-AF72-7632CB2873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>EAP Keying</dc:creator>
  <dc:description/>
  <dc:language>en-US</dc:language>
  <cp:lastModifiedBy>Bernard Aboba</cp:lastModifiedBy>
  <dcterms:modified xsi:type="dcterms:W3CDTF">2011-07-26T01:57:21Z</dcterms:modified>
  <cp:revision>377</cp:revision>
  <dc:subject/>
  <dc:title>EAP WG</dc:title>
</cp:coreProperties>
</file>