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B46DD9-CCC9-4248-80B1-38A9F18EE5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BCDC3-C70E-4DF4-BCF4-3107F5CE69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1C7CB-0006-4C0C-AB82-3B92B26C70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1601C-3466-42F2-BEE5-0379CA2D20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1A2F2F-58FF-44EE-B910-2C47CC3538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A5AB57-441F-4344-A586-70B046177A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38A4F0-8CC3-4874-B5E8-10B12EC248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69D3-C5BC-48A1-8FA2-59386F087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ED84-06DF-489C-B78A-046B7896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3C3C-DB24-41DD-83BB-328BA1D93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7052-6904-494A-AAB1-799CCB690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D6AF-DA40-4F62-B52E-3309B6491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9DC9-AE8E-4827-848C-D67A32F0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1F4D0-093A-4D5B-8406-15C632F9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80CF-A737-41C7-AC43-CE3B7DA7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4B86-E4F9-49FF-9C61-730DD6E1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CAF0-50E9-4BBB-AFD3-DC06DB75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EC02-1F90-4E8E-AC2B-A2836796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A347-82C4-47AA-9619-A32985F1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449C-38AF-4DAC-A76E-1F0F8291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6F34-CB51-4C8F-B8BB-DD222A93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84D5D-652B-4B21-836F-DFA729D7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E128-6999-4394-8CA2-95160095B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BCDC-DBA7-486B-9CE3-B0FE10C29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0921-2105-4637-B035-F704E5EC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3BDB-C398-4D28-888A-1151DE8D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3E49-651C-470D-8CE7-C7AD7939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7B9D-F9FD-4A38-B6EA-6B2057BA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A3D1-8539-4B25-879E-C138BB76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7A74-D218-411E-9203-7D71AF1F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53C3-051C-476D-A3AA-C40753D2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9804-B0FA-4574-A142-8C8138A33A3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Object 9"/>
          <p:cNvGraphicFramePr/>
          <p:nvPr/>
        </p:nvGraphicFramePr>
        <p:xfrm>
          <a:off x="7481880" y="333360"/>
          <a:ext cx="1368360" cy="72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81880" y="333360"/>
                    <a:ext cx="13683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ct 10"/>
          <p:cNvGraphicFramePr/>
          <p:nvPr/>
        </p:nvGraphicFramePr>
        <p:xfrm>
          <a:off x="7451640" y="2924280"/>
          <a:ext cx="1368360" cy="72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1640" y="2924280"/>
                    <a:ext cx="13683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5524-722B-40B3-A4E7-3DF185D1D8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FFC2-E15C-435B-A27E-7301E88D779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6080" y="574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800" spc="-1" strike="noStrike">
                <a:solidFill>
                  <a:srgbClr val="330066"/>
                </a:solidFill>
                <a:latin typeface="Arial"/>
              </a:rPr>
              <a:t>IETF Status at IETF 81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924000" y="3012840"/>
            <a:ext cx="33894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Arial"/>
              </a:rPr>
              <a:t>Russ Hous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Arial"/>
              </a:rPr>
              <a:t>IETF C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quebec.jpg"/>
          <p:cNvPicPr/>
          <p:nvPr/>
        </p:nvPicPr>
        <p:blipFill>
          <a:blip r:embed="rId1"/>
          <a:stretch/>
        </p:blipFill>
        <p:spPr>
          <a:xfrm>
            <a:off x="138240" y="3573360"/>
            <a:ext cx="475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AB0E-4D4F-450D-9228-FD9E45ECDC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ture meeting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4248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ETF 8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ipei, Taiw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-18 November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host: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ETF 8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aris, Fr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5-30 March 20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ain host: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TB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ETF 8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Vancouver, Canad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9 July - 3 August 20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ain host: </a:t>
            </a:r>
            <a:r>
              <a:rPr b="1" lang="en-US" sz="1700" spc="-1" strike="noStrike">
                <a:solidFill>
                  <a:srgbClr val="380a06"/>
                </a:solidFill>
                <a:latin typeface="Arial"/>
              </a:rPr>
              <a:t>Goog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4920" y="5229360"/>
            <a:ext cx="39607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lease remember that IETF meetings run until Friday at 1515.  Late scheduling changes are comm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taipei.jpg"/>
          <p:cNvPicPr/>
          <p:nvPr/>
        </p:nvPicPr>
        <p:blipFill>
          <a:blip r:embed="rId1"/>
          <a:stretch/>
        </p:blipFill>
        <p:spPr>
          <a:xfrm>
            <a:off x="4572000" y="1484280"/>
            <a:ext cx="4414680" cy="3263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TWNIC_Logo.png"/>
          <p:cNvPicPr/>
          <p:nvPr/>
        </p:nvPicPr>
        <p:blipFill>
          <a:blip r:embed="rId2"/>
          <a:stretch/>
        </p:blipFill>
        <p:spPr>
          <a:xfrm>
            <a:off x="2411280" y="2874960"/>
            <a:ext cx="165096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09E2-FB49-4B6B-BF9E-E27668E296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900" spc="-1" strike="noStrike">
                <a:solidFill>
                  <a:srgbClr val="330066"/>
                </a:solidFill>
                <a:latin typeface="Arial"/>
              </a:rPr>
              <a:t>IETF 81 Participa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5267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1057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Arial"/>
              </a:rPr>
              <a:t>133 newcom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Arial"/>
              </a:rPr>
              <a:t>IETF 78 was 1192 peo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46 countries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Arial"/>
              </a:rPr>
              <a:t>IETF 78 was 53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200" spc="-1" strike="noStrike">
                <a:solidFill>
                  <a:srgbClr val="000000"/>
                </a:solidFill>
                <a:latin typeface="Arial"/>
              </a:rPr>
              <a:t>IETF 78 was held in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aastri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2"/>
          <p:cNvGraphicFramePr/>
          <p:nvPr/>
        </p:nvGraphicFramePr>
        <p:xfrm>
          <a:off x="4800600" y="1752480"/>
          <a:ext cx="3997440" cy="427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752480"/>
                    <a:ext cx="3997440" cy="42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B41A-B5EF-45B6-A98D-911658B29D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900" spc="-1" strike="noStrike">
                <a:solidFill>
                  <a:srgbClr val="330066"/>
                </a:solidFill>
                <a:latin typeface="Arial"/>
              </a:rPr>
              <a:t>IETF Activity since </a:t>
            </a:r>
            <a:br>
              <a:rPr sz="3900"/>
            </a:br>
            <a:r>
              <a:rPr b="1" lang="nb-NO" sz="3900" spc="-1" strike="noStrike">
                <a:solidFill>
                  <a:srgbClr val="330066"/>
                </a:solidFill>
                <a:latin typeface="Arial"/>
              </a:rPr>
              <a:t>IETF 80 (Prague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86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5 New WG, 5 Closed W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Approximately 121 WGs currently char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3 New I-Ds (183 were updated, 43 more than o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% (214 New I-Ds) received in the 4 weeks before the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38 I-Ds were updated (again, some more than o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6% (529 Updated I-Ds) received in the 4 weeks before the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8 IETF Last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I-Ds approved for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149 RFCs pu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63 Standards Track and 5 B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66 Informational and 15 Experi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nb-NO" sz="2100" spc="-1" strike="noStrike">
                <a:solidFill>
                  <a:srgbClr val="330066"/>
                </a:solidFill>
                <a:latin typeface="Arial"/>
              </a:rPr>
              <a:t>hese are measures of quantity; they say nothing about quality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5069-DB78-4066-A1EE-2AF78B4AF3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68580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ANA Activity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ince IETF 80</a:t>
            </a:r>
            <a:br>
              <a:rPr sz="3600"/>
            </a:b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(actually Mar 2011-Jun 2011)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831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d 1532 IETF-related requests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76 Private Enterprise Number reque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 port number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4 TRIP ITAD Number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 media type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137 I-Ds in Last Call, 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130 I-Ds in IESG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132 I-Ds prior to becoming RFCs, 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4 of them contained actions for I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1849-7AFD-4BFF-B151-163E0790B5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ANA Activity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ince IETF 80</a:t>
            </a:r>
            <a:br>
              <a:rPr sz="3600"/>
            </a:b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(continued)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831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ANA continues to deliver! Cumulative percentage average was 95% for IETF-related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tatistics and activity reports, please s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iana.org/about/performance/ietf-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plenary report for IETF 80, please s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iaoc.ietf.org/plenary_report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d service names and port numbers regist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iana.org/assignments/service-names-port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numbers/service-names-port-numbers.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update your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ing to convert protocol registries to 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8%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122400"/>
            <a:ext cx="72072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RFC Editor Activity since IETF 80</a:t>
            </a:r>
            <a:br>
              <a:rPr sz="35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   (actually Mar 2011-Jun 2011)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600200"/>
            <a:ext cx="8435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gital signatures for RF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scussed on rfc-interest li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ubject: [rfc-i] Signing RF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9 July 2011 – Based on rfc-interest discussion, RFC Editor will be signing RFCs in same manner as I-Ds (as defined in RFC 548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lusion of FYI RFC sub-s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raft-iesg-rfc1150bis-01.txt appr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bsoletes RFC 1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ves RFC 1150 to Historic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B6E5-040F-4B52-806A-2B9E91A3E6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8000" y="122400"/>
            <a:ext cx="72072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RFC Editor Activity since IETF 80</a:t>
            </a:r>
            <a:br>
              <a:rPr sz="35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   (actually Mar 2011-Jun 2011)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3124080" y="5470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A3885-953D-4F18-9C95-3411EF95BA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6991200" y="2389320"/>
            <a:ext cx="1828800" cy="3644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4: 2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5: 3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6: 4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7: 3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: 2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9: 2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0: 3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TD: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Chart 7" descr=""/>
          <p:cNvPicPr/>
          <p:nvPr/>
        </p:nvPicPr>
        <p:blipFill>
          <a:blip r:embed="rId1"/>
          <a:stretch/>
        </p:blipFill>
        <p:spPr>
          <a:xfrm>
            <a:off x="249120" y="1841400"/>
            <a:ext cx="653580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ate IPR Disclosu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CP 79 defines the IPR ru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losures often received late in the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kay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hen person discloses as soon as they learn about the Internet-Dra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t oka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person knows but does not discl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ent example: RFC 607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cument author has patent; did not discl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losure posted after was RFC publish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people calling for formalized penal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12B9-9BCE-4E83-AC55-379308FC54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3D7F-0CAD-4239-87B5-2BAB0EEED4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anks for the Co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6" name="Picture 3" descr="MCj04240460000[1]"/>
          <p:cNvPicPr/>
          <p:nvPr/>
        </p:nvPicPr>
        <p:blipFill>
          <a:blip r:embed="rId1"/>
          <a:stretch/>
        </p:blipFill>
        <p:spPr>
          <a:xfrm>
            <a:off x="6445080" y="4118040"/>
            <a:ext cx="2664000" cy="26240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3376440"/>
            <a:ext cx="3609720" cy="34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bert Sparks 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rs Eggert   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nrik Levkowet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wyn Dav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esh Krishn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hen Farre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yan Cro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780000" y="3376440"/>
            <a:ext cx="3600360" cy="34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ro Kivin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w Stre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am Roach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ny Hans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te Resni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Edd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287280" y="1486080"/>
            <a:ext cx="8532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de sprint was very successful on Saturday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mental improvements to datatracker deploy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a version of new xml2rfc tool now available on xml.resource.or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5:41:50Z</dcterms:created>
  <dc:creator>Harald Tveit Alvestrand</dc:creator>
  <dc:description/>
  <dc:language>en-US</dc:language>
  <cp:lastModifiedBy>Russell Housley</cp:lastModifiedBy>
  <dcterms:modified xsi:type="dcterms:W3CDTF">2011-07-27T12:17:05Z</dcterms:modified>
  <cp:revision>379</cp:revision>
  <dc:subject/>
  <dc:title>Welcome to the Plenary</dc:title>
</cp:coreProperties>
</file>