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516CD-F8CA-478E-9599-AE858A5EA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E215B-A5BC-484C-877B-D7A50FB30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C2F2A-361C-4A36-BE3B-3DBD0EB37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70A8B-900C-4F80-8499-227D60261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1C1CA-CCD1-47B0-8308-93692A6A9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7094B-4A80-4EFF-9950-501B70519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0E33D-F821-4776-A373-D8C8E4D5A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8AE-6587-4E6E-A090-82218AC0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14A-21A8-4F6F-9D96-72136FB6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71D-E5AB-48DE-81AC-4F089F5C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571-B983-4613-A321-E19F7DBC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8390-AB23-415B-A55D-509CA1E0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265F-177E-4C93-9EC8-97EA983B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4465-78D4-4DEF-881A-A14A32CF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AAC2-1DBD-4288-A74A-FC03D9E9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64FD-529E-4BD9-B6B6-08FC4FFF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6469-2F7A-4D25-B9F3-97B0DB74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FC3F-0935-4396-8C99-BD48FF7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7B8-91E7-4263-99D3-EA697F28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A81C-BF16-4AB9-A7A3-4769251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F801-6FD5-427D-80C1-8D3504EB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E8B3-2919-4801-A55D-6030356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372D-F39A-40C5-B024-0A74D5D3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676E-5D52-4D94-9605-1988350B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DD9-3578-4869-AC30-31C781FA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B23-5FB2-4EC2-89A8-9747EF84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BA1-D62C-4FA8-A828-69737EA5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B8B-A5F6-41E8-B1DF-A996197D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7DE-36D5-4044-9A4B-1A05CA3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EE1-502E-43B1-A10C-D702FF7E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A6D-68BF-47FB-90F8-9FA6F69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7586-4911-432E-831A-E23A8B26FF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F54C-446F-4AAB-8BC3-64ED345D9E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B654-C594-4488-9416-087DE1767E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800" spc="-1" strike="noStrike">
                <a:solidFill>
                  <a:srgbClr val="330066"/>
                </a:solidFill>
                <a:latin typeface="Arial"/>
              </a:rPr>
              <a:t>IETF Status at IETF 81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24000" y="3012840"/>
            <a:ext cx="3389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Russ Hou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IETF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quebec.jpg"/>
          <p:cNvPicPr/>
          <p:nvPr/>
        </p:nvPicPr>
        <p:blipFill>
          <a:blip r:embed="rId1"/>
          <a:stretch/>
        </p:blipFill>
        <p:spPr>
          <a:xfrm>
            <a:off x="138240" y="3573360"/>
            <a:ext cx="475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43C5-1F43-4123-9BD5-74FAA7E7C5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e mee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24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TF 8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ipei, 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-18 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host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ETF 8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-30 March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in host: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TB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ETF 8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ncouver, Can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9 July - 3 August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in host: </a:t>
            </a:r>
            <a:r>
              <a:rPr b="1" lang="en-US" sz="1700" spc="-1" strike="noStrike">
                <a:solidFill>
                  <a:srgbClr val="380a06"/>
                </a:solidFill>
                <a:latin typeface="Arial"/>
              </a:rPr>
              <a:t>Goog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4920" y="5229360"/>
            <a:ext cx="396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ease remember that IETF meetings run until Friday at 1515.  Late scheduling changes are comm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taipei.jpg"/>
          <p:cNvPicPr/>
          <p:nvPr/>
        </p:nvPicPr>
        <p:blipFill>
          <a:blip r:embed="rId1"/>
          <a:stretch/>
        </p:blipFill>
        <p:spPr>
          <a:xfrm>
            <a:off x="4572000" y="1484280"/>
            <a:ext cx="4414680" cy="326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TWNIC_Logo.png"/>
          <p:cNvPicPr/>
          <p:nvPr/>
        </p:nvPicPr>
        <p:blipFill>
          <a:blip r:embed="rId2"/>
          <a:stretch/>
        </p:blipFill>
        <p:spPr>
          <a:xfrm>
            <a:off x="2411280" y="2874960"/>
            <a:ext cx="16509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D0A8-AB8A-4066-B1A4-7C3E608631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81 Particip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26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057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133 newc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IETF 78 was 1192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46 countri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IETF 78 was 53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000000"/>
                </a:solidFill>
                <a:latin typeface="Arial"/>
              </a:rPr>
              <a:t>IETF 78 was held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astr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4800600" y="1752480"/>
          <a:ext cx="3997440" cy="42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752480"/>
                    <a:ext cx="3997440" cy="42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E4CD-A129-4DD6-97FD-12951DAD77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Activity since </a:t>
            </a:r>
            <a:br>
              <a:rPr sz="3900"/>
            </a:b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80 (Pragu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5 New WG, 5 Closed W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pproximately 121 WGs currently char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3 New I-Ds (183 were updated, 43 more than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% (214 New I-Ds) received in the 4 weeks befor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38 I-Ds were updated (again, some more than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% (529 Updated I-Ds) received in the 4 weeks befor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IETF Last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I-Ds approved for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49 RFCs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63 Standards Track and 5 B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66 Informational and 15 Experi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nb-NO" sz="2100" spc="-1" strike="noStrike">
                <a:solidFill>
                  <a:srgbClr val="330066"/>
                </a:solidFill>
                <a:latin typeface="Arial"/>
              </a:rPr>
              <a:t>hese are measures of quantity; they say nothing about qualit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7541-3CFB-49AD-89B8-0149C223A2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68580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ANA Activity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ince IETF 80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actually Mar 2011-Jun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831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d 1532 IETF-related request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6 Private Enterprise Number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port numb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 TRIP ITAD Numb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media typ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37 I-Ds in Last Call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30 I-Ds in IESG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32 I-Ds prior to becoming RFCs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4 of them contained actions for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A53A-6B83-40D8-B3F3-763573D320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ANA Activity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ince IETF 80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31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NA continues to deliver! Cumulative percentage average was 95% for IETF-related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tistics and activity reports, please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na.org/about/performance/ietf-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lenary report for IETF 80, please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aoc.ietf.org/plenary_repor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service names and port numbers regist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na.org/assignments/service-names-port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umbers/service-names-port-numbers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update your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to convert protocol registries to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%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22400"/>
            <a:ext cx="720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FC Editor Activity since IETF 80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(actually Mar 2011-Jun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00200"/>
            <a:ext cx="8435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gital signatures for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ussed on rfc-interest 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ubject: [rfc-i] Signing RF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 July 2011 – Based on rfc-interest discussion, RFC Editor will be signing RFCs in same manner as I-Ds (as defined in RFC 54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 of FYI RFC sub-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aft-iesg-rfc1150bis-01.txt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soletes RFC 1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s RFC 1150 to Historic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9803-0C34-4636-8B6C-0422ED1E06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22400"/>
            <a:ext cx="720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FC Editor Activity since IETF 80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(actually Mar 2011-Jun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3124080" y="5470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5272-5A89-4DBF-A761-B8BFA96787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91200" y="2389320"/>
            <a:ext cx="1828800" cy="364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2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: 3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: 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: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: 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: 2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3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TD: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hart 7" descr=""/>
          <p:cNvPicPr/>
          <p:nvPr/>
        </p:nvPicPr>
        <p:blipFill>
          <a:blip r:embed="rId1"/>
          <a:stretch/>
        </p:blipFill>
        <p:spPr>
          <a:xfrm>
            <a:off x="249120" y="1841400"/>
            <a:ext cx="65358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te IPR Disclosu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CP 79 defines the IPR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losures often received late in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ka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n person discloses as soon as they learn about the Internet-D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oka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person knows but does not discl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example: RFC 607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 author has patent; did not discl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losure posted after was RFC publis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eople calling for formalized penal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A425-07A7-4A3A-82B6-0A1C749EE9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12C7-E59E-42C4-A1F2-6E92E93730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the Co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6" name="Picture 3" descr="MCj04240460000[1]"/>
          <p:cNvPicPr/>
          <p:nvPr/>
        </p:nvPicPr>
        <p:blipFill>
          <a:blip r:embed="rId1"/>
          <a:stretch/>
        </p:blipFill>
        <p:spPr>
          <a:xfrm>
            <a:off x="6445080" y="4118040"/>
            <a:ext cx="2664000" cy="2624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3376440"/>
            <a:ext cx="3609720" cy="34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ert Sparks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s Eggert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rik Levkowe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wyn Dav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esh Krishn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Farr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Cr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80000" y="3376440"/>
            <a:ext cx="360036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o Kiv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w Str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m Roa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ny Han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te Resn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Ed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87280" y="1486080"/>
            <a:ext cx="85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de sprint was very successful on Saturda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al improvements to datatracker deploy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a version of new xml2rfc tool now available on xml.resource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07-27T12:17:05Z</dcterms:modified>
  <cp:revision>379</cp:revision>
  <dc:subject/>
  <dc:title>Welcome to the Plenary</dc:title>
</cp:coreProperties>
</file>