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mcom Chair Re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07-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274-4188-4B14-B1CD-0F3379F4D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Nomcom Chair Report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07-2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729-D727-4307-982D-8CED26CD607A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Nomcom Chair Report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07-2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57C-07B4-4462-82D2-05668B86765F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Nomcom Chair Report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07-2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64C-769E-41D0-9FCE-D916B5FA3C83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Nomcom Chair Report  |  IETF81  |  2011-07-27  |  Page </a:t>
            </a:r>
            <a:fld id="{A5E39C15-3C2A-4077-BA1F-0E1F3365BF73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480" y="2478240"/>
            <a:ext cx="8351640" cy="731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Nomcom 2011-2012 Repor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Suresh Krishn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Intro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 am chairing the Nomcom this year (2011-2012 Cycle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 will be selecting one IESG member per area, half of the IAB and an IAOC memb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process is documented in RFC3777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s RFC will be your best friend for the next 5-6 month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ad it carefully several tim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mittee Selec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 had a great turnout for the volunteer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otal of 120 qualified volunteer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anks to all who volunteered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mittee officially announced on 26 July 2011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ETF 81 focus: Self organization and gathering initial feedback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Membership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452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mcom Chair: Suresh Krishna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mcom Advisor (past year chair): Tom Walsh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AB Liaison: Dave Thaler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AOC Liaison: Dave Crocker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ESG Liaison: Ralph Drom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SOC Liaison: TB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Tools Advisor: Henrik Levkowetz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Voting members: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Jaap Akkerhuis, NLnet lab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Stephen Hanna, Juniper Networ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Sheng Jiang, Huawei Technologies Co. Ltd.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Dapeng Liu, China Mobil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Rifaat Shekh-Yusef, Avay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Pascal Thubert, Cisco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Olivier Vautrin, Juniper Networ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Simo Veikkolainen, Noki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IJsbrand Wijnands, Cisco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Lianshu Zheng, Huawei Technologie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en Posit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AB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ernard Aboba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annes Tschofenig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ndrei Robachevsky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Olaf Kolkman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pencer Dawkins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oss Callon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AO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arshall Eubanks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ES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eter Saint-Andre (Applications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Jari Arkko (Internet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an Romascanu (Operations &amp; Management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Gonzalo Camarillo (RAI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tewart Bryant (Routing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ean Turner (Security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avid Harrington (Transport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ominations/becoming a nomine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lf nomination is allowed and encourag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lease nominate qualified peopl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more people we have to choose from, the better the resul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eedback is VERY importan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alk to us about any of the nomine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eedback is completely </a:t>
            </a: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eedback can be </a:t>
            </a: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ANONYMIZ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Just let us know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onymous feedback is more effective if it is specific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 shor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8585a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You can tell us ANYTHING, we can tell you NOTHING</a:t>
            </a:r>
            <a:r>
              <a:rPr b="1" lang="ja-JP" sz="2400" spc="-1" strike="noStrike">
                <a:solidFill>
                  <a:srgbClr val="58585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Suresh Krishnan</dc:creator>
  <dc:description>Rev PA1</dc:description>
  <cp:keywords/>
  <dc:language>en-US</dc:language>
  <cp:lastModifiedBy>Russell Housley</cp:lastModifiedBy>
  <dcterms:modified xsi:type="dcterms:W3CDTF">2011-07-27T17:34:44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7-2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IETF81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Suresh Krishn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Nomcom Chair Report</vt:lpwstr>
  </property>
  <property fmtid="{D5CDD505-2E9C-101B-9397-08002B2CF9AE}" pid="21" name="RightFooterField2">
    <vt:lpwstr>2011-07-2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1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0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