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60DF9E-5037-4C00-BEED-C0F5ADB63D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EAEAC4-8DE9-4D79-ADD1-1C94E3D573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19E060-0D8E-4696-A892-9517A97E51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BC142B-7E45-4FD1-B725-D233FC10EF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081D6A-2C62-4EAD-9DDF-A16F41B2E5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EF8ABA-2BA8-4005-846D-9518DD86B1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BD9DC1-5CB2-4BF1-B686-C97251A82B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49FD84-695A-40BF-A0B6-B9D5BB7CF2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E10A90-6274-417F-9D07-7D19FA64A2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40F1EF-83E6-480B-841C-11E16C4B04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109B1F-2027-47F1-A0C1-5184C4D99F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71859C-2282-471B-8481-C85F6E7CAC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45B7-3552-462B-8A57-96854DE63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6113-7566-4FE8-A9EC-D54A1155A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D3CA-FF77-4C81-9D56-B359DA0C2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CF91-024F-4C10-BBDF-5D36DA3FB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F1CF-201A-4A3B-BBC5-6A8BA1F1E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C107-04A2-4440-B864-F00EAE97C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B3B4-541F-4DB7-8440-B66918039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92CD-A3F7-451E-AC0F-935CF2E65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1C1C-ECB2-4DE1-8470-FF48929D2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13F2-D580-478D-8A35-35973126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906F-FF84-4379-B10E-B52ABEE1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ADAE-05E4-49E8-953B-6A5299E9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5A727D-4C8A-44F6-8D8B-708C645AEF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w3.org/wiki/FriendlyRegistries" TargetMode="External"/><Relationship Id="rId2" Type="http://schemas.openxmlformats.org/officeDocument/2006/relationships/hyperlink" Target="mailto:happiana@ietf.org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ft-ietf-iri-rfc4395bis-irir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ny Hansen, Ted Hardie, Larry Masi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TF 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/29/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3"/>
          <p:cNvSpPr/>
          <p:nvPr/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37D846-0F47-4521-B841-32EFC50274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5"/>
          <p:cNvSpPr/>
          <p:nvPr/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05F7ED-CF1F-4D3B-9081-A422D0CFB3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Slide Number Placeholder 5"/>
          <p:cNvSpPr/>
          <p:nvPr/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035BD5-08F7-41B9-BE4B-C91BB971BD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1 issues on Issues Trac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11 closed in trac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ft-...-02 posted yester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5"/>
          <p:cNvSpPr/>
          <p:nvPr/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DAB521-BEFF-4B87-A3FF-B7E9B2C84E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ur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cket #49 say that fragment identifiers are not scheme-speci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ed to intr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cheme definition cannot override the orverall syntax for IRIs. For example, this means that fragment identifiers (#) cannot be re-used outside the generic syntax restrictions, and in particular scheme-specific syntax cannot override the fragment identifier syntax because it is generic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A00F79-1E58-4731-93A9-B6D040AA5A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urred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cket #58 use colons at end of item titles of registration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 consis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cket #51 make uri/iri scheme registration template mand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eed: make the registration a M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CD4597-E94D-4975-811A-37FEBA0C8E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urred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9000"/>
          </a:bodyPr>
          <a:p>
            <a:pPr marL="384120" indent="-288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cket #61 remove most historic stuff (references to RFC 2717,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8600" indent="-2883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eed, introduction rewritten some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4120" indent="-288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cket #62 change the name of the registry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8600" indent="-2883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ed to IANA 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4120" indent="-288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cket #63 consistency of scheme syntax definitions for URI&lt;-&gt;IRI con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8600" indent="-2883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d based on consensus at ietf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F201C2-C224-4614-ADC9-47A04598DF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agr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cket #59 how to reduce the number of URI/IRI occur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cket #60 should we recommend using different ABNF rule names to clarify escap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26561A-E5DD-4FB3-B125-9A89554506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agreed (continu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cket #64 disallow registration of URI schemes with generic names 'uri','url'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agree -- doesn't need to be spelled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cket #65 - should we allow transition from 'historical' status to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 of scope of iri w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5"/>
          <p:cNvSpPr/>
          <p:nvPr/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FB0446-C13C-4B10-BC5D-30E44603CB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agreed (continu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ppiana Mailing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IETF/W3C design te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w3.org/wiki/FriendlyRegis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appiana@ietf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ing on generic issues with various IANA registries affecting W3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RI/IRI regis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 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 Hea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05B9DA-F083-46B8-B855-FF6AB683EF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7000"/>
          </a:bodyPr>
          <a:p>
            <a:pPr marL="418680" indent="-313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cket #48 can schemes set specific length lim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7720" indent="-314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 IRI scheme has specific length limitations, they MUST be specified in terms of Unicode codepoints and not in terms of octets (in any particular encoding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8680" indent="-313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how do the length restrictions interact with %-encod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8680" indent="-313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mmend that any length limitations are only considered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ranslation from %-encoding back to Unicode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9T15:28:48Z</dcterms:created>
  <dc:creator>Tony Hansen</dc:creator>
  <dc:description/>
  <dc:language>en-US</dc:language>
  <cp:lastModifiedBy>Chris Weber</cp:lastModifiedBy>
  <dcterms:modified xsi:type="dcterms:W3CDTF">2011-07-29T16:19:02Z</dcterms:modified>
  <cp:revision>2</cp:revision>
  <dc:subject/>
  <dc:title>PowerPoint Presentation</dc:title>
</cp:coreProperties>
</file>