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7484B-FE98-4E9D-B590-9FB18E6AA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F62DE-D2B3-40F5-8C9E-49E0D2A67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F1815-2E45-4163-AE62-BA8337996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08E25-5EE4-4DB7-A07D-918E3C707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C4C98-80B2-49A9-80EE-F12F92C25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58CA-8E07-4FD6-9A06-8285EFD17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37040-1BEB-4C80-9BF2-A6844A98B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FAADE-F9D8-424C-A3FF-2D856E29C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C0D66-E90D-4250-8A89-4BF8F6092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0CF4F-7CEE-403E-A2C3-E08485910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45D84-8450-4C09-9D61-E6AD3A326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4CAD1-A03B-4072-9AC5-18A21FC67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FCC-2ACA-47EA-9743-EA1D54F4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A0B-17DC-41CB-BC7A-005939D1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DC3-FF32-4837-9D0C-BFECFF4E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422-2ADD-407F-A30E-DEFAAC05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721-492B-47DA-8859-78A50EA6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2BD-E486-417C-B222-F3CD1423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09D-E761-40D0-A6DA-66465028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14A-6483-4883-A3CD-0EF392E2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F6B-9CFF-4112-A9B0-F75B1744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68F-9756-4664-82AF-487590B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1EC-BA14-4542-8B25-C23F323D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C4E-2C26-438F-BAD2-759A339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D88C9-C8BD-44AB-972C-27C2717CE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.org/wiki/FriendlyRegistries" TargetMode="External"/><Relationship Id="rId2" Type="http://schemas.openxmlformats.org/officeDocument/2006/relationships/hyperlink" Target="mailto:happiana@ietf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iri-rfc4395bis-irir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Hansen, Ted Hardie, Larry Mas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29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A8ACE-54BC-4A22-A6EB-03787DA3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E48D1-0FC6-41B4-828E-D4DE6977D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AF2D1-99B8-49D6-96C0-B87D22496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issues on Issues Trac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11 closed in t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...-02 posted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0C610-3553-42B5-9F33-D83EE6654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49 say that fragment identifiers are not scheme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int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me definition cannot override the orverall syntax for IRIs. For example, this means that fragment identifiers (#) cannot be re-used outside the generic syntax restrictions, and in particular scheme-specific syntax cannot override the fragment identifier syntax because it is gener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1D3DF-D4F9-40D4-A695-BD3B8F847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d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58 use colons at end of item titles of registration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51 make uri/iri scheme registration templat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: make the registration a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94E9-73A0-4379-9065-60E6DE1C4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d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84120" indent="-288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1 remove most historic stuff (references to RFC 2717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88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, introduction rewritten some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2 change the name of the registry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88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IANA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3 consistency of scheme syntax definitions for URI&lt;-&gt;IRI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88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based on consensus at ietf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0A6C-A845-43EF-A6E7-8677F87CC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g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59 how to reduce the number of URI/IRI occur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0 should we recommend using different ABNF rule names to clarify esca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3B7E6-4551-4A39-96C6-D6A7CF7FA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greed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4 disallow registration of URI schemes with generic names 'uri','url'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gree -- doesn't need to be spell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5 - should we allow transition from 'historical' status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scope of iri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0DBA4-9D37-4A85-ACE6-6FE773C0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greed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iana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IETF/W3C design 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3.org/wiki/Friendly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appiana@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 generic issues with various IANA registries affecting W3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/IRI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6681-4B52-4961-A337-3093BA37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48 can schemes set specific length lim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IRI scheme has specific length limitations, they MUST be specified in terms of Unicode codepoints and not in terms of octets (in any particular encod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how do the length restrictions interact with %-enco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 that any length limitations are only consider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lation from %-encoding back to Unicod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5:28:48Z</dcterms:created>
  <dc:creator>Tony Hansen</dc:creator>
  <dc:description/>
  <dc:language>en-US</dc:language>
  <cp:lastModifiedBy>Chris Weber</cp:lastModifiedBy>
  <dcterms:modified xsi:type="dcterms:W3CDTF">2011-07-29T16:19:02Z</dcterms:modified>
  <cp:revision>2</cp:revision>
  <dc:subject/>
  <dc:title>PowerPoint Presentation</dc:title>
</cp:coreProperties>
</file>