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E4A-BE00-4DB9-91B7-80356E5D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1F6-7889-4831-9E4B-58096C1B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F82-FAF4-4C91-B536-385733BD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4B1-6E43-4797-8512-B3D7104B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942-A1F7-4306-A780-2DADF05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ACA-61BC-4D08-A0EA-E16541E1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3C3-EC15-49A6-AE64-17BC69C6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EE4-782A-4067-BAAA-006AC3B6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8AB-C001-4364-9EBA-4749A817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D63-173C-4C3A-A087-040C207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410-0EFF-40DC-83A2-4058C77B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4AC-2D4D-43AC-8F23-EC0FF4DC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C84C-1A5B-481E-9D23-44B12AB793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Energy-Efficiency Research in the IRTF</a:t>
            </a:r>
            <a:br>
              <a:rPr sz="4400"/>
            </a:b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ar BoF tonight – 20:15 Room 21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0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Rolf Winter, Juergen Quit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ar BoF tonight – 20:15 Room 21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otential Saving (toda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ccording to the ITU-T 2 – 2.5% of all green house gas emissions is from the use of ICT 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 says ICT uses 8% of electrical power in the EU and produces about 2% of th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005 figure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elecom Italia is the second bigg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of electrical energy in Italy (&gt;2TWh -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the biggest fish to cat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2"/>
          <p:cNvSpPr/>
          <p:nvPr/>
        </p:nvSpPr>
        <p:spPr>
          <a:xfrm>
            <a:off x="0" y="5904000"/>
            <a:ext cx="51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nformation and communications technologies and climate change - Resolution 73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mpacts, European Commission DG INFSO, Sept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hart 24" descr=""/>
          <p:cNvPicPr/>
          <p:nvPr/>
        </p:nvPicPr>
        <p:blipFill>
          <a:blip r:embed="rId1"/>
          <a:stretch/>
        </p:blipFill>
        <p:spPr>
          <a:xfrm>
            <a:off x="5072040" y="3786120"/>
            <a:ext cx="49798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How much is spent on the infrastructu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816200"/>
            <a:ext cx="912492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hat falls under I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36360" y="1125360"/>
            <a:ext cx="9221760" cy="5688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8844840" y="1125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79400" y="6488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010: 4.2% of all CO2 and 10.5% of all electrical energy consumed in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ome ongoing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uidelines and Cer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ergy saving at lower la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rporate initi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Logo"/>
          <p:cNvPicPr/>
          <p:nvPr/>
        </p:nvPicPr>
        <p:blipFill>
          <a:blip r:embed="rId1"/>
          <a:stretch/>
        </p:blipFill>
        <p:spPr>
          <a:xfrm>
            <a:off x="5651640" y="1268280"/>
            <a:ext cx="1672920" cy="171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227640" y="3573360"/>
            <a:ext cx="145728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lectricity Use"/>
          <p:cNvPicPr/>
          <p:nvPr/>
        </p:nvPicPr>
        <p:blipFill>
          <a:blip r:embed="rId3"/>
          <a:stretch/>
        </p:blipFill>
        <p:spPr>
          <a:xfrm>
            <a:off x="4932360" y="4371840"/>
            <a:ext cx="35244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hat can the IRTF do 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ower layer energy efficiency is the low(er) hanging fruit, what t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ome devices stay on because the Internet (protocols) assumes that devices are always-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 it prevents other devices from saving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t some point devices will go into sleep and they need to do extra work to join the net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lp making this go faster/eas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hat can the IRTF do 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ew protocols to support application prox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ay sending packets for some time to being able to send them in bursts of packets (delay toler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trics and benchma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onitoring and control plan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lated activities in the IETF/IR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ETF EMAN – energy management (SNM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RTF DTNRG – delay tole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ETF 6LOWPAN, ROLL, CORE – constraint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nnecting Smart Objects with the Internet (WS in Prague) – see also material referenced at http://www.ietf.org/mail-archive/web/recipe/current/msg00041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Questions we should to talk about late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s there a sufficiently large group that wants to work on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s opposed to may individuals that work each on their own thing (small changes to existing protocols be it routing, management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hat should the first priorities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otocol survey of which protocols need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 things we talked about bef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7:21:14Z</dcterms:created>
  <dc:creator>winter</dc:creator>
  <dc:description/>
  <dc:language>en-US</dc:language>
  <cp:lastModifiedBy>winter</cp:lastModifiedBy>
  <dcterms:modified xsi:type="dcterms:W3CDTF">2011-07-26T14:57:40Z</dcterms:modified>
  <cp:revision>27</cp:revision>
  <dc:subject/>
  <dc:title>Energy-Efficiency Research in the IRTF</dc:title>
</cp:coreProperties>
</file>