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EF231-4CEF-47AF-8412-EE2597938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07777-C2F7-434F-9714-DDA0A0C0B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834FC-9E24-407D-8421-F164AEFDF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2CA4D-8563-4E2B-AC02-DC17826CE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2ACA2-B6DB-44C2-9D33-C5EDC8D6C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81DDC-BDEE-4FBD-929B-850C42B5A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D3A56-675C-4675-B132-09553AFB5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67A62-9F89-4B1F-B10A-A84435BCC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77C11-ECD4-4AC9-9981-F3116130D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57253-E03D-4078-8F24-68C6A5DDE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41C24-D398-497B-8B72-BD7C4C848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245B9-2152-4C7C-BF32-3F905D386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13C28-8EB2-4349-BBAF-C670A75F8C4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Energy-Efficiency Research in the IRTF</a:t>
            </a:r>
            <a:br>
              <a:rPr sz="4400"/>
            </a:br>
            <a:r>
              <a:rPr b="0" i="1" lang="de-DE" sz="3600" spc="-1" strike="noStrike">
                <a:solidFill>
                  <a:srgbClr val="000000"/>
                </a:solidFill>
                <a:latin typeface="Calibri"/>
              </a:rPr>
              <a:t>Bar BoF tonight – 20:15 Room 2103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70016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Rolf Winter, Juergen Quitte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3213000"/>
            <a:ext cx="8229600" cy="29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Bar BoF tonight – 20:15 Room 210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Potential Saving (today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According to the ITU-T 2 – 2.5% of all green house gas emissions is from the use of ICT </a:t>
            </a:r>
            <a:r>
              <a:rPr b="0" lang="de-DE" sz="2800" spc="-1" strike="noStrike" baseline="30000">
                <a:solidFill>
                  <a:srgbClr val="000000"/>
                </a:solidFill>
                <a:latin typeface="Calibri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U says ICT uses 8% of electrical power in the EU and produces about 2% of the C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2005 figures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ample: Telecom Italia is the second biggest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sumer of electrical energy in Italy (&gt;2TWh - 2010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t the biggest fish to catch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ut significa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creasing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extBox 22"/>
          <p:cNvSpPr/>
          <p:nvPr/>
        </p:nvSpPr>
        <p:spPr>
          <a:xfrm>
            <a:off x="0" y="5904000"/>
            <a:ext cx="5148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 baseline="30000">
                <a:solidFill>
                  <a:srgbClr val="000000"/>
                </a:solidFill>
                <a:latin typeface="Calibri"/>
              </a:rPr>
              <a:t>1 </a:t>
            </a:r>
            <a:r>
              <a:rPr b="0" lang="de-DE" sz="1400" spc="-1" strike="noStrike">
                <a:solidFill>
                  <a:srgbClr val="000000"/>
                </a:solidFill>
                <a:latin typeface="Calibri"/>
              </a:rPr>
              <a:t>Information and communications technologies and climate change - Resolution 73,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Calibri"/>
              </a:rPr>
              <a:t>Impacts, European Commission DG INFSO, September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Chart 24" descr=""/>
          <p:cNvPicPr/>
          <p:nvPr/>
        </p:nvPicPr>
        <p:blipFill>
          <a:blip r:embed="rId1"/>
          <a:stretch/>
        </p:blipFill>
        <p:spPr>
          <a:xfrm>
            <a:off x="5072040" y="3786120"/>
            <a:ext cx="4979880" cy="336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Calibri"/>
              </a:rPr>
              <a:t>How much is spent on the infrastructure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0" y="1816200"/>
            <a:ext cx="9124920" cy="39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What falls under ICT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-36360" y="1125360"/>
            <a:ext cx="9221760" cy="5688360"/>
          </a:xfrm>
          <a:prstGeom prst="rect">
            <a:avLst/>
          </a:prstGeom>
          <a:ln w="0">
            <a:noFill/>
          </a:ln>
        </p:spPr>
      </p:pic>
      <p:sp>
        <p:nvSpPr>
          <p:cNvPr id="53" name="TextBox 4"/>
          <p:cNvSpPr/>
          <p:nvPr/>
        </p:nvSpPr>
        <p:spPr>
          <a:xfrm>
            <a:off x="8844840" y="112536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5"/>
          <p:cNvSpPr/>
          <p:nvPr/>
        </p:nvSpPr>
        <p:spPr>
          <a:xfrm>
            <a:off x="779400" y="6488280"/>
            <a:ext cx="718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2010: 4.2% of all CO2 and 10.5% of all electrical energy consumed in the E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Some ongoing activit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Guidelines and Certific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Energy saving at lower lay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Corporate initiativ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Logo"/>
          <p:cNvPicPr/>
          <p:nvPr/>
        </p:nvPicPr>
        <p:blipFill>
          <a:blip r:embed="rId1"/>
          <a:stretch/>
        </p:blipFill>
        <p:spPr>
          <a:xfrm>
            <a:off x="5651640" y="1268280"/>
            <a:ext cx="1672920" cy="17114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" descr=""/>
          <p:cNvPicPr/>
          <p:nvPr/>
        </p:nvPicPr>
        <p:blipFill>
          <a:blip r:embed="rId2"/>
          <a:stretch/>
        </p:blipFill>
        <p:spPr>
          <a:xfrm>
            <a:off x="6227640" y="3573360"/>
            <a:ext cx="1457280" cy="7714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5" descr="Electricity Use"/>
          <p:cNvPicPr/>
          <p:nvPr/>
        </p:nvPicPr>
        <p:blipFill>
          <a:blip r:embed="rId3"/>
          <a:stretch/>
        </p:blipFill>
        <p:spPr>
          <a:xfrm>
            <a:off x="4932360" y="4371840"/>
            <a:ext cx="3524400" cy="24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What can the IRTF do and why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Lower layer energy efficiency is the low(er) hanging fruit, what then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Some devices stay on because the Internet (protocols) assumes that devices are always-o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So it prevents other devices from saving energ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At some point devices will go into sleep and they need to do extra work to join the net aga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Help making this go faster/easi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What can the IRTF do and why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New protocols to support application proxy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lay sending packets for some time to being able to send them in bursts of packets (delay toleranc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Metrics and benchmark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Monitoring and control plane iss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Related activities in the IETF/IRTF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IETF EMAN – energy management (SNMP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IRTF DTNRG – delay toler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IETF 6LOWPAN, ROLL, CORE – constraint network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connecting Smart Objects with the Internet (WS in Prague) – see also material referenced at http://www.ietf.org/mail-archive/web/recipe/current/msg00041.htm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Questions we should to talk about later toda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Is there a sufficiently large group that wants to work on th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As opposed to may individuals that work each on their own thing (small changes to existing protocols be it routing, management etc.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What should the first priorities b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Protocol survey of which protocols need atten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The things we talked about befo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19T07:21:14Z</dcterms:created>
  <dc:creator>winter</dc:creator>
  <dc:description/>
  <dc:language>en-US</dc:language>
  <cp:lastModifiedBy>winter</cp:lastModifiedBy>
  <dcterms:modified xsi:type="dcterms:W3CDTF">2011-07-26T14:57:40Z</dcterms:modified>
  <cp:revision>27</cp:revision>
  <dc:subject/>
  <dc:title>Energy-Efficiency Research in the IRTF</dc:title>
</cp:coreProperties>
</file>