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nsolas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5C71-2EB0-4F47-89B2-4A2995A7BD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6B38-44B8-49D5-8F32-261A829CAB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0E2D-5D83-44E6-A18C-CA8FCAD225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9F26-6D67-462B-9F3B-03B1F4842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79360"/>
            <a:ext cx="77724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DD28-C5D7-4544-9B02-275EBD5B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79360"/>
            <a:ext cx="37926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79360"/>
            <a:ext cx="37926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00FE-8757-4D98-8DDA-8284F6057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79360"/>
            <a:ext cx="250236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79360"/>
            <a:ext cx="250236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79360"/>
            <a:ext cx="250236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4C85-EADB-4B4B-9480-5EDF1954B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52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Consola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879360"/>
            <a:ext cx="37926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52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010C-F2B3-42CA-9968-06FB286A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3879360"/>
            <a:ext cx="37926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879360"/>
            <a:ext cx="77724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879360"/>
            <a:ext cx="77724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9360"/>
            <a:ext cx="37926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3879360"/>
            <a:ext cx="37926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879360"/>
            <a:ext cx="250236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3879360"/>
            <a:ext cx="250236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3879360"/>
            <a:ext cx="250236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8BC0-EBBD-462A-82B0-2D8A5951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DB42-E80F-48E9-9376-98CF21AB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3AE6-3045-4F78-9B79-21722299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B10D-C439-461C-B1FD-C567C08F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79360"/>
            <a:ext cx="37926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B884-682B-4E20-BF99-E5CE525A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79360"/>
            <a:ext cx="37926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C591-3054-4489-8F70-88C93C37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79360"/>
            <a:ext cx="77724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B997-05F6-47C4-8CB6-9BA89B33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nsolas"/>
              </a:rPr>
              <a:t>Click to edit the title text format</a:t>
            </a:r>
            <a:endParaRPr b="1" lang="en-US" sz="28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  <a:p>
            <a:pPr lvl="1" marL="757080" indent="-279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  <a:p>
            <a:pPr lvl="2" marL="1239840" indent="-291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  <a:p>
            <a:pPr lvl="3" marL="1617840" indent="-187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90000"/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  <a:p>
            <a:pPr lvl="4" marL="212868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  <a:p>
            <a:pPr lvl="5" marL="212868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  <a:p>
            <a:pPr lvl="6" marL="212868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00"/>
                </a:solidFill>
                <a:latin typeface="Consola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573C-33A4-4C1A-B205-19A966B1C487}" type="datetime">
              <a:rPr b="1" lang="en-US" sz="800" spc="-1" strike="noStrike">
                <a:solidFill>
                  <a:srgbClr val="000000"/>
                </a:solidFill>
                <a:latin typeface="Consolas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400" y="6552720"/>
            <a:ext cx="502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00"/>
                </a:solidFill>
                <a:latin typeface="Consola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nsolas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5200" y="655272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00"/>
                </a:solidFill>
                <a:latin typeface="Consola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A809-0E47-4BD4-8C6D-DDCE26751638}" type="slidenum">
              <a:rPr b="1" lang="en-US" sz="800" spc="-1" strike="noStrike">
                <a:solidFill>
                  <a:srgbClr val="000000"/>
                </a:solidFill>
                <a:latin typeface="Consola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907920"/>
            <a:ext cx="77724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nsolas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nsolas"/>
            </a:endParaRPr>
          </a:p>
          <a:p>
            <a:pPr lvl="1" marL="457200" indent="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nsolas"/>
            </a:endParaRPr>
          </a:p>
          <a:p>
            <a:pPr lvl="2" marL="914400" indent="33480" algn="ctr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nsolas"/>
            </a:endParaRPr>
          </a:p>
          <a:p>
            <a:pPr lvl="3" marL="1371600" indent="58680" algn="ctr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90000"/>
              <a:buFont typeface="Consola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onsolas"/>
            </a:endParaRPr>
          </a:p>
          <a:p>
            <a:pPr lvl="4" marL="1828800" indent="71280" algn="ctr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7128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7128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1920" y="2276640"/>
            <a:ext cx="8340840" cy="41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Consolas"/>
              </a:rPr>
              <a:t>Learning-Capable Communication Networks (LCCN)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GB" sz="2000" spc="-1" strike="noStrike">
                <a:solidFill>
                  <a:srgbClr val="000000"/>
                </a:solidFill>
                <a:latin typeface="Consolas"/>
              </a:rPr>
              <a:t>IETF 81 Meeting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nsolas"/>
              </a:rPr>
              <a:t>Quebec City, Canada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nsolas"/>
              </a:rPr>
              <a:t>July 28, 2011</a:t>
            </a:r>
            <a:endParaRPr b="1" lang="en-US" sz="20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26560" y="3621240"/>
            <a:ext cx="7705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olas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imitri Papadimitriou (dimitri.papadimitriou@alcatel-lucent.com)</a:t>
            </a:r>
            <a:endParaRPr b="0" lang="en-US" sz="1800" spc="-1" strike="noStrike">
              <a:solidFill>
                <a:srgbClr val="000000"/>
              </a:solidFill>
              <a:latin typeface="Consolas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outer Tavernier (wouter.tavernier@intec.ugent.be)</a:t>
            </a:r>
            <a:endParaRPr b="0" lang="en-US" sz="1800" spc="-1" strike="noStrike">
              <a:solidFill>
                <a:srgbClr val="000000"/>
              </a:solidFill>
              <a:latin typeface="Consolas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idier Colle (didier.colle@intec.ugent.be)</a:t>
            </a:r>
            <a:endParaRPr b="0" lang="en-US" sz="18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nsolas"/>
              </a:rPr>
              <a:t>(Self-adaptive) Learning-based Control</a:t>
            </a:r>
            <a:endParaRPr b="1" lang="en-US" sz="24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urrent situ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once configured, network systems follow explicitly pre-defined behavior, persistently decide and uniformly execute</a:t>
            </a:r>
            <a:endParaRPr b="0" lang="en-US" sz="20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91" name=""/>
          <p:cNvSpPr/>
          <p:nvPr/>
        </p:nvSpPr>
        <p:spPr>
          <a:xfrm>
            <a:off x="746280" y="4941720"/>
            <a:ext cx="7065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7280" indent="-287280">
              <a:lnSpc>
                <a:spcPct val="90000"/>
              </a:lnSpc>
              <a:spcBef>
                <a:spcPts val="700"/>
              </a:spcBef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1700280"/>
            <a:ext cx="79200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=&gt; </a:t>
            </a:r>
            <a:r>
              <a:rPr b="1" lang="en-US" sz="2200" spc="-1" strike="noStrike">
                <a:solidFill>
                  <a:srgbClr val="0000cc"/>
                </a:solidFill>
                <a:latin typeface="Calibri"/>
              </a:rPr>
              <a:t>Self-adaptive</a:t>
            </a:r>
            <a:r>
              <a:rPr b="0" lang="en-US" sz="22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cc"/>
                </a:solidFill>
                <a:latin typeface="Calibri"/>
              </a:rPr>
              <a:t>learning-based contr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 indent="-2700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ware of their state, activity/behavior, and environment 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 indent="-2700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pable to react and adapt to changing environment and running conditions over ti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 indent="-2700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e autonomously and when needed cooperatively (no global coordination or synchroniz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4886280"/>
            <a:ext cx="792000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Calibri"/>
              </a:rPr>
              <a:t>Role/challenges of learn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2280" indent="-253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WHAT/WHY: diagno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ternal state, own activity, and network environment over time (detect -&gt; identify -&gt; analyz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22280" indent="-253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HOW: adap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decisions and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tu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ctions automatically and time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22280" indent="-253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WHEN: determi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hen to operate autonomously and when to cooperate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727200" y="4005360"/>
            <a:ext cx="7732440" cy="792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826920" y="4076640"/>
            <a:ext cx="7561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rbel"/>
              </a:rPr>
              <a:t>Learning</a:t>
            </a: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 to avoid need to iteratively re-design systems as they should adapt to their environment and running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40360" y="3502080"/>
            <a:ext cx="395280" cy="431640"/>
          </a:xfrm>
          <a:prstGeom prst="downArrow">
            <a:avLst>
              <a:gd name="adj1" fmla="val 35741"/>
              <a:gd name="adj2" fmla="val 5674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A941-A488-4C92-A7BA-F10DF3F5827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628B7D-C5F3-42B3-B2C1-7D74F68BA86C}" type="datetime1">
              <a:rPr lang="en-US"/>
              <a:t>07/31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nsolas"/>
              </a:rPr>
              <a:t>(Self-adaptive) Learning-based Control</a:t>
            </a:r>
            <a:endParaRPr b="1" lang="en-US" sz="24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98" name=""/>
          <p:cNvSpPr/>
          <p:nvPr/>
        </p:nvSpPr>
        <p:spPr>
          <a:xfrm>
            <a:off x="611280" y="3213000"/>
            <a:ext cx="8137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7280" indent="-287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cc"/>
                </a:solidFill>
                <a:latin typeface="Calibri"/>
                <a:ea typeface="Arial"/>
              </a:rPr>
              <a:t>Guiding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4076640"/>
            <a:ext cx="792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7280" indent="-287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Calibri"/>
                <a:ea typeface="Arial"/>
              </a:rPr>
              <a:t>Modular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(no monolithic or unified framework): to ensure gradual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187280" y="4724280"/>
            <a:ext cx="7504200" cy="1584360"/>
            <a:chOff x="1187280" y="4724280"/>
            <a:chExt cx="7504200" cy="1584360"/>
          </a:xfrm>
        </p:grpSpPr>
        <p:grpSp>
          <p:nvGrpSpPr>
            <p:cNvPr id="101" name=""/>
            <p:cNvGrpSpPr/>
            <p:nvPr/>
          </p:nvGrpSpPr>
          <p:grpSpPr>
            <a:xfrm>
              <a:off x="1187280" y="4848120"/>
              <a:ext cx="5943600" cy="1460520"/>
              <a:chOff x="1187280" y="4848120"/>
              <a:chExt cx="5943600" cy="1460520"/>
            </a:xfrm>
          </p:grpSpPr>
          <p:sp>
            <p:nvSpPr>
              <p:cNvPr id="102" name=""/>
              <p:cNvSpPr/>
              <p:nvPr/>
            </p:nvSpPr>
            <p:spPr>
              <a:xfrm>
                <a:off x="1938240" y="5419440"/>
                <a:ext cx="409680" cy="317520"/>
              </a:xfrm>
              <a:prstGeom prst="hexagon">
                <a:avLst>
                  <a:gd name="adj" fmla="val 32256"/>
                  <a:gd name="vf" fmla="val 115470"/>
                </a:avLst>
              </a:prstGeom>
              <a:solidFill>
                <a:srgbClr val="ffffff"/>
              </a:solidFill>
              <a:ln w="22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r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2347560" y="5101920"/>
                <a:ext cx="339480" cy="31752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flipV="1">
                <a:off x="2347560" y="5736960"/>
                <a:ext cx="339480" cy="317520"/>
              </a:xfrm>
              <a:prstGeom prst="line">
                <a:avLst/>
              </a:prstGeom>
              <a:ln w="12600">
                <a:solidFill>
                  <a:srgbClr val="777777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1596960" y="5736960"/>
                <a:ext cx="341280" cy="31752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 flipV="1">
                <a:off x="1596960" y="5101920"/>
                <a:ext cx="341280" cy="317520"/>
              </a:xfrm>
              <a:prstGeom prst="line">
                <a:avLst/>
              </a:prstGeom>
              <a:ln w="12600">
                <a:solidFill>
                  <a:srgbClr val="777777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687400" y="4848120"/>
                <a:ext cx="409680" cy="317520"/>
              </a:xfrm>
              <a:prstGeom prst="hexagon">
                <a:avLst>
                  <a:gd name="adj" fmla="val 32256"/>
                  <a:gd name="vf" fmla="val 115470"/>
                </a:avLst>
              </a:prstGeom>
              <a:solidFill>
                <a:srgbClr val="ffffff"/>
              </a:solidFill>
              <a:ln w="22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r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687400" y="5991120"/>
                <a:ext cx="409680" cy="317520"/>
              </a:xfrm>
              <a:prstGeom prst="hexagon">
                <a:avLst>
                  <a:gd name="adj" fmla="val 32256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r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187280" y="5991120"/>
                <a:ext cx="409680" cy="317520"/>
              </a:xfrm>
              <a:prstGeom prst="hexagon">
                <a:avLst>
                  <a:gd name="adj" fmla="val 32256"/>
                  <a:gd name="vf" fmla="val 115470"/>
                </a:avLst>
              </a:prstGeom>
              <a:solidFill>
                <a:srgbClr val="ffffff"/>
              </a:solidFill>
              <a:ln w="22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r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187280" y="4848120"/>
                <a:ext cx="409680" cy="317520"/>
              </a:xfrm>
              <a:prstGeom prst="hexagon">
                <a:avLst>
                  <a:gd name="adj" fmla="val 32256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r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108400" y="5419440"/>
                <a:ext cx="409680" cy="317520"/>
              </a:xfrm>
              <a:prstGeom prst="hexagon">
                <a:avLst>
                  <a:gd name="adj" fmla="val 32256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r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5518080" y="5101920"/>
                <a:ext cx="341280" cy="317520"/>
              </a:xfrm>
              <a:prstGeom prst="line">
                <a:avLst/>
              </a:prstGeom>
              <a:ln w="12600">
                <a:solidFill>
                  <a:srgbClr val="777777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flipV="1">
                <a:off x="5518080" y="5736960"/>
                <a:ext cx="341280" cy="317520"/>
              </a:xfrm>
              <a:prstGeom prst="line">
                <a:avLst/>
              </a:prstGeom>
              <a:ln w="12600">
                <a:solidFill>
                  <a:srgbClr val="777777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4767120" y="5736960"/>
                <a:ext cx="341280" cy="317520"/>
              </a:xfrm>
              <a:prstGeom prst="line">
                <a:avLst/>
              </a:prstGeom>
              <a:ln w="12600">
                <a:solidFill>
                  <a:srgbClr val="777777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flipV="1">
                <a:off x="4767120" y="5101920"/>
                <a:ext cx="341280" cy="317520"/>
              </a:xfrm>
              <a:prstGeom prst="line">
                <a:avLst/>
              </a:prstGeom>
              <a:ln w="12600">
                <a:solidFill>
                  <a:srgbClr val="777777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859360" y="4848120"/>
                <a:ext cx="407880" cy="317520"/>
              </a:xfrm>
              <a:prstGeom prst="hexagon">
                <a:avLst>
                  <a:gd name="adj" fmla="val 3211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r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859360" y="5991120"/>
                <a:ext cx="407880" cy="317520"/>
              </a:xfrm>
              <a:prstGeom prst="hexagon">
                <a:avLst>
                  <a:gd name="adj" fmla="val 3211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r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357440" y="5991120"/>
                <a:ext cx="409680" cy="317520"/>
              </a:xfrm>
              <a:prstGeom prst="hexagon">
                <a:avLst>
                  <a:gd name="adj" fmla="val 32256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r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357440" y="4848120"/>
                <a:ext cx="409680" cy="317520"/>
              </a:xfrm>
              <a:prstGeom prst="hexagon">
                <a:avLst>
                  <a:gd name="adj" fmla="val 32256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r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789600" y="5419440"/>
                <a:ext cx="341280" cy="317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767120" y="4938480"/>
                <a:ext cx="1982880" cy="571680"/>
              </a:xfrm>
              <a:custGeom>
                <a:avLst/>
                <a:gdLst/>
                <a:ahLst/>
                <a:rect l="l" t="t" r="r" b="b"/>
                <a:pathLst>
                  <a:path w="1152" h="480">
                    <a:moveTo>
                      <a:pt x="0" y="0"/>
                    </a:moveTo>
                    <a:cubicBezTo>
                      <a:pt x="120" y="8"/>
                      <a:pt x="240" y="16"/>
                      <a:pt x="432" y="96"/>
                    </a:cubicBezTo>
                    <a:cubicBezTo>
                      <a:pt x="624" y="176"/>
                      <a:pt x="888" y="328"/>
                      <a:pt x="1152" y="480"/>
                    </a:cubicBezTo>
                  </a:path>
                </a:pathLst>
              </a:custGeom>
              <a:noFill/>
              <a:ln w="22320">
                <a:solidFill>
                  <a:srgbClr val="3333cc"/>
                </a:solidFill>
                <a:prstDash val="dash"/>
                <a:round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4767120" y="5672880"/>
                <a:ext cx="1982880" cy="444600"/>
              </a:xfrm>
              <a:custGeom>
                <a:avLst/>
                <a:gdLst/>
                <a:ahLst/>
                <a:rect l="l" t="t" r="r" b="b"/>
                <a:pathLst>
                  <a:path w="1152" h="480">
                    <a:moveTo>
                      <a:pt x="0" y="0"/>
                    </a:moveTo>
                    <a:cubicBezTo>
                      <a:pt x="120" y="8"/>
                      <a:pt x="240" y="16"/>
                      <a:pt x="432" y="96"/>
                    </a:cubicBezTo>
                    <a:cubicBezTo>
                      <a:pt x="624" y="176"/>
                      <a:pt x="888" y="328"/>
                      <a:pt x="1152" y="480"/>
                    </a:cubicBezTo>
                  </a:path>
                </a:pathLst>
              </a:custGeom>
              <a:noFill/>
              <a:ln w="22320">
                <a:solidFill>
                  <a:srgbClr val="3333cc"/>
                </a:solidFill>
                <a:round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518080" y="5572080"/>
                <a:ext cx="1231920" cy="12600"/>
              </a:xfrm>
              <a:prstGeom prst="line">
                <a:avLst/>
              </a:prstGeom>
              <a:ln w="22320">
                <a:solidFill>
                  <a:srgbClr val="3333cc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216480" y="5013000"/>
                <a:ext cx="609840" cy="412920"/>
              </a:xfrm>
              <a:custGeom>
                <a:avLst/>
                <a:gdLst/>
                <a:ahLst/>
                <a:rect l="l" t="t" r="r" b="b"/>
                <a:pathLst>
                  <a:path w="367" h="260">
                    <a:moveTo>
                      <a:pt x="0" y="0"/>
                    </a:moveTo>
                    <a:cubicBezTo>
                      <a:pt x="34" y="12"/>
                      <a:pt x="145" y="30"/>
                      <a:pt x="206" y="73"/>
                    </a:cubicBezTo>
                    <a:cubicBezTo>
                      <a:pt x="267" y="116"/>
                      <a:pt x="334" y="221"/>
                      <a:pt x="367" y="260"/>
                    </a:cubicBezTo>
                  </a:path>
                </a:pathLst>
              </a:custGeom>
              <a:noFill/>
              <a:ln w="22320">
                <a:solidFill>
                  <a:srgbClr val="3333cc"/>
                </a:solidFill>
                <a:round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199200" y="5736960"/>
                <a:ext cx="627120" cy="363600"/>
              </a:xfrm>
              <a:custGeom>
                <a:avLst/>
                <a:gdLst/>
                <a:ahLst/>
                <a:rect l="l" t="t" r="r" b="b"/>
                <a:pathLst>
                  <a:path w="395" h="229">
                    <a:moveTo>
                      <a:pt x="0" y="216"/>
                    </a:moveTo>
                    <a:cubicBezTo>
                      <a:pt x="36" y="212"/>
                      <a:pt x="151" y="229"/>
                      <a:pt x="217" y="193"/>
                    </a:cubicBezTo>
                    <a:cubicBezTo>
                      <a:pt x="283" y="157"/>
                      <a:pt x="358" y="40"/>
                      <a:pt x="395" y="0"/>
                    </a:cubicBezTo>
                  </a:path>
                </a:pathLst>
              </a:custGeom>
              <a:noFill/>
              <a:ln w="22320">
                <a:solidFill>
                  <a:srgbClr val="3333cc"/>
                </a:solidFill>
                <a:prstDash val="dash"/>
                <a:round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6567480" y="4724280"/>
              <a:ext cx="21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5050"/>
                  </a:solidFill>
                  <a:latin typeface="Trebuchet MS"/>
                </a:rPr>
                <a:t>Not central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84360" y="3571920"/>
            <a:ext cx="784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09520" indent="-2095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Calibri"/>
                <a:ea typeface="Arial"/>
              </a:rPr>
              <a:t>Local view and decision</a:t>
            </a:r>
            <a:r>
              <a:rPr b="1" lang="en-GB" sz="1800" spc="-1" strike="noStrike">
                <a:solidFill>
                  <a:srgbClr val="0000ff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(no network global view or coordination): to ensure scalability and robust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4363920"/>
            <a:ext cx="792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7280" indent="-287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Calibri"/>
                <a:ea typeface="Arial"/>
              </a:rPr>
              <a:t>Distribution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(no uniform or ubiquitous plane): to ensure organic deploy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82560" y="4962600"/>
            <a:ext cx="7489800" cy="1274760"/>
            <a:chOff x="682560" y="4962600"/>
            <a:chExt cx="7489800" cy="1274760"/>
          </a:xfrm>
        </p:grpSpPr>
        <p:sp>
          <p:nvSpPr>
            <p:cNvPr id="130" name=""/>
            <p:cNvSpPr/>
            <p:nvPr/>
          </p:nvSpPr>
          <p:spPr>
            <a:xfrm flipH="1" flipV="1">
              <a:off x="1406520" y="5182920"/>
              <a:ext cx="798480" cy="81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7360" y="60674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85720" y="513216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93720" y="6067440"/>
              <a:ext cx="82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33600" y="5153040"/>
              <a:ext cx="958680" cy="87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65200" y="5278320"/>
              <a:ext cx="0" cy="7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2433240" y="5153040"/>
              <a:ext cx="958680" cy="87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60360" y="5904000"/>
              <a:ext cx="411120" cy="314280"/>
            </a:xfrm>
            <a:prstGeom prst="hexagon">
              <a:avLst>
                <a:gd name="adj" fmla="val 32703"/>
                <a:gd name="vf" fmla="val 115470"/>
              </a:avLst>
            </a:prstGeom>
            <a:solidFill>
              <a:srgbClr val="ffffff"/>
            </a:solidFill>
            <a:ln w="22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08280" y="5403600"/>
              <a:ext cx="411120" cy="312840"/>
            </a:xfrm>
            <a:prstGeom prst="hexagon">
              <a:avLst>
                <a:gd name="adj" fmla="val 32854"/>
                <a:gd name="vf" fmla="val 115470"/>
              </a:avLst>
            </a:prstGeom>
            <a:solidFill>
              <a:srgbClr val="ffffff"/>
            </a:solidFill>
            <a:ln w="2232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r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60360" y="4965480"/>
              <a:ext cx="411120" cy="312840"/>
            </a:xfrm>
            <a:prstGeom prst="hexagon">
              <a:avLst>
                <a:gd name="adj" fmla="val 32854"/>
                <a:gd name="vf" fmla="val 115470"/>
              </a:avLst>
            </a:prstGeom>
            <a:solidFill>
              <a:srgbClr val="ffffff"/>
            </a:solidFill>
            <a:ln w="22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r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3462120" y="5153040"/>
              <a:ext cx="0" cy="7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73360" y="5132160"/>
              <a:ext cx="27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73360" y="5132160"/>
              <a:ext cx="274680" cy="2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598200" y="5716440"/>
              <a:ext cx="274680" cy="2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73360" y="606744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55840" y="5904000"/>
              <a:ext cx="411120" cy="314280"/>
            </a:xfrm>
            <a:prstGeom prst="hexagon">
              <a:avLst>
                <a:gd name="adj" fmla="val 32703"/>
                <a:gd name="vf" fmla="val 115470"/>
              </a:avLst>
            </a:prstGeom>
            <a:solidFill>
              <a:srgbClr val="ffffff"/>
            </a:solidFill>
            <a:ln w="22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r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55840" y="4965480"/>
              <a:ext cx="411120" cy="312840"/>
            </a:xfrm>
            <a:prstGeom prst="hexagon">
              <a:avLst>
                <a:gd name="adj" fmla="val 32854"/>
                <a:gd name="vf" fmla="val 115470"/>
              </a:avLst>
            </a:prstGeom>
            <a:solidFill>
              <a:srgbClr val="ffffff"/>
            </a:solidFill>
            <a:ln w="22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r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82560" y="5419800"/>
              <a:ext cx="116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rebuchet MS"/>
                </a:rPr>
                <a:t>Acc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57360" y="5419800"/>
              <a:ext cx="116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rebuchet MS"/>
                </a:rPr>
                <a:t>Ed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54080" y="50594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54080" y="49878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54080" y="51321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54080" y="52038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54080" y="52750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54080" y="59925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54080" y="59212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54080" y="60656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54080" y="61372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054080" y="62085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30560" y="5419800"/>
              <a:ext cx="116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rebuchet MS"/>
                </a:rPr>
                <a:t>C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 flipV="1">
              <a:off x="5284800" y="5182920"/>
              <a:ext cx="798480" cy="81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35280" y="60674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64000" y="513216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72000" y="6067440"/>
              <a:ext cx="82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311880" y="5153040"/>
              <a:ext cx="958680" cy="87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43480" y="5278320"/>
              <a:ext cx="0" cy="7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311520" y="5153040"/>
              <a:ext cx="958680" cy="87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38640" y="5904000"/>
              <a:ext cx="411120" cy="314280"/>
            </a:xfrm>
            <a:prstGeom prst="hexagon">
              <a:avLst>
                <a:gd name="adj" fmla="val 32703"/>
                <a:gd name="vf" fmla="val 115470"/>
              </a:avLst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586560" y="5403600"/>
              <a:ext cx="411120" cy="312840"/>
            </a:xfrm>
            <a:prstGeom prst="hexagon">
              <a:avLst>
                <a:gd name="adj" fmla="val 32854"/>
                <a:gd name="vf" fmla="val 115470"/>
              </a:avLst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r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38640" y="4965480"/>
              <a:ext cx="411120" cy="312840"/>
            </a:xfrm>
            <a:prstGeom prst="hexagon">
              <a:avLst>
                <a:gd name="adj" fmla="val 32854"/>
                <a:gd name="vf" fmla="val 115470"/>
              </a:avLst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r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7340400" y="5153040"/>
              <a:ext cx="0" cy="7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451640" y="5132160"/>
              <a:ext cx="27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51640" y="5132160"/>
              <a:ext cx="274680" cy="2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7476480" y="5716440"/>
              <a:ext cx="274680" cy="2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51640" y="606744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34120" y="5904000"/>
              <a:ext cx="411120" cy="314280"/>
            </a:xfrm>
            <a:prstGeom prst="hexagon">
              <a:avLst>
                <a:gd name="adj" fmla="val 32703"/>
                <a:gd name="vf" fmla="val 115470"/>
              </a:avLst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r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134120" y="4965480"/>
              <a:ext cx="411120" cy="312840"/>
            </a:xfrm>
            <a:prstGeom prst="hexagon">
              <a:avLst>
                <a:gd name="adj" fmla="val 32854"/>
                <a:gd name="vf" fmla="val 115470"/>
              </a:avLst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r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72000" y="5419800"/>
              <a:ext cx="116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rebuchet MS"/>
                </a:rPr>
                <a:t>Acc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35280" y="5419800"/>
              <a:ext cx="116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rebuchet MS"/>
                </a:rPr>
                <a:t>Ed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932360" y="50594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32360" y="49878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32360" y="51321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932360" y="52038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32360" y="52750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932360" y="59925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932360" y="59212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32360" y="60656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32360" y="61372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32360" y="62085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08480" y="5419800"/>
              <a:ext cx="116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rebuchet MS"/>
                </a:rPr>
                <a:t>C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95800" y="4962600"/>
              <a:ext cx="411120" cy="312480"/>
            </a:xfrm>
            <a:prstGeom prst="hexagon">
              <a:avLst>
                <a:gd name="adj" fmla="val 32892"/>
                <a:gd name="vf" fmla="val 115470"/>
              </a:avLst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95800" y="5924520"/>
              <a:ext cx="411120" cy="312840"/>
            </a:xfrm>
            <a:prstGeom prst="hexagon">
              <a:avLst>
                <a:gd name="adj" fmla="val 32854"/>
                <a:gd name="vf" fmla="val 115470"/>
              </a:avLst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87280" y="4962600"/>
              <a:ext cx="411120" cy="312480"/>
            </a:xfrm>
            <a:prstGeom prst="hexagon">
              <a:avLst>
                <a:gd name="adj" fmla="val 32892"/>
                <a:gd name="vf" fmla="val 115470"/>
              </a:avLst>
            </a:prstGeom>
            <a:solidFill>
              <a:srgbClr val="ffffff"/>
            </a:solidFill>
            <a:ln w="2232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87280" y="5924520"/>
              <a:ext cx="411120" cy="312840"/>
            </a:xfrm>
            <a:prstGeom prst="hexagon">
              <a:avLst>
                <a:gd name="adj" fmla="val 32854"/>
                <a:gd name="vf" fmla="val 115470"/>
              </a:avLst>
            </a:prstGeom>
            <a:solidFill>
              <a:srgbClr val="ffffff"/>
            </a:solidFill>
            <a:ln w="2232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755280" y="4869000"/>
            <a:ext cx="7993440" cy="2013120"/>
            <a:chOff x="755280" y="4869000"/>
            <a:chExt cx="7993440" cy="2013120"/>
          </a:xfrm>
        </p:grpSpPr>
        <p:sp>
          <p:nvSpPr>
            <p:cNvPr id="195" name=""/>
            <p:cNvSpPr/>
            <p:nvPr/>
          </p:nvSpPr>
          <p:spPr>
            <a:xfrm flipV="1">
              <a:off x="1235160" y="5072040"/>
              <a:ext cx="0" cy="81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71600" y="61358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71600" y="5008680"/>
              <a:ext cx="17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30640" y="6135840"/>
              <a:ext cx="82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262240" y="5133960"/>
              <a:ext cx="959040" cy="87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94200" y="5259600"/>
              <a:ext cx="0" cy="7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2262240" y="5133960"/>
              <a:ext cx="959040" cy="87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89360" y="5884920"/>
              <a:ext cx="411120" cy="314280"/>
            </a:xfrm>
            <a:prstGeom prst="hexagon">
              <a:avLst>
                <a:gd name="adj" fmla="val 32703"/>
                <a:gd name="vf" fmla="val 115470"/>
              </a:avLst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36920" y="5384880"/>
              <a:ext cx="411120" cy="312840"/>
            </a:xfrm>
            <a:prstGeom prst="hexagon">
              <a:avLst>
                <a:gd name="adj" fmla="val 32854"/>
                <a:gd name="vf" fmla="val 115470"/>
              </a:avLst>
            </a:prstGeom>
            <a:solidFill>
              <a:srgbClr val="ffffff"/>
            </a:solidFill>
            <a:ln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r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5400000">
              <a:off x="2987640" y="5529240"/>
              <a:ext cx="125640" cy="1712880"/>
            </a:xfrm>
            <a:custGeom>
              <a:avLst/>
              <a:gdLst>
                <a:gd name="textAreaLeft" fmla="*/ 0 w 125640"/>
                <a:gd name="textAreaRight" fmla="*/ 45360 w 125640"/>
                <a:gd name="textAreaTop" fmla="*/ 44640 h 1712880"/>
                <a:gd name="textAreaBottom" fmla="*/ 1668240 h 171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89360" y="4946760"/>
              <a:ext cx="411120" cy="312840"/>
            </a:xfrm>
            <a:prstGeom prst="hexagon">
              <a:avLst>
                <a:gd name="adj" fmla="val 32854"/>
                <a:gd name="vf" fmla="val 115470"/>
              </a:avLst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r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3291120" y="5133960"/>
              <a:ext cx="0" cy="7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5400000">
              <a:off x="1651680" y="5906160"/>
              <a:ext cx="125640" cy="959040"/>
            </a:xfrm>
            <a:custGeom>
              <a:avLst/>
              <a:gdLst>
                <a:gd name="textAreaLeft" fmla="*/ 0 w 125640"/>
                <a:gd name="textAreaRight" fmla="*/ 45360 w 125640"/>
                <a:gd name="textAreaTop" fmla="*/ 24840 h 959040"/>
                <a:gd name="textAreaBottom" fmla="*/ 934200 h 95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92440" y="5761080"/>
              <a:ext cx="34272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755280" y="613584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5640" y="500868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892440" y="5008680"/>
              <a:ext cx="411120" cy="37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427560" y="5008680"/>
              <a:ext cx="27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27560" y="5133960"/>
              <a:ext cx="274680" cy="2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3427200" y="5697720"/>
              <a:ext cx="274680" cy="2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27560" y="613584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84480" y="5884920"/>
              <a:ext cx="411120" cy="314280"/>
            </a:xfrm>
            <a:prstGeom prst="hexagon">
              <a:avLst>
                <a:gd name="adj" fmla="val 32703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r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84480" y="4946760"/>
              <a:ext cx="411120" cy="312840"/>
            </a:xfrm>
            <a:prstGeom prst="hexagon">
              <a:avLst>
                <a:gd name="adj" fmla="val 32854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r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66760" y="6423120"/>
              <a:ext cx="1163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rebuchet MS"/>
                </a:rPr>
                <a:t>Inter-doma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468520" y="6423120"/>
              <a:ext cx="1163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rebuchet MS"/>
                </a:rPr>
                <a:t>Intra-doma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30320" y="5884920"/>
              <a:ext cx="411120" cy="314280"/>
            </a:xfrm>
            <a:prstGeom prst="hexagon">
              <a:avLst>
                <a:gd name="adj" fmla="val 32703"/>
                <a:gd name="vf" fmla="val 115470"/>
              </a:avLst>
            </a:prstGeom>
            <a:solidFill>
              <a:srgbClr val="ffffff"/>
            </a:solidFill>
            <a:ln w="22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30320" y="4946760"/>
              <a:ext cx="411120" cy="312840"/>
            </a:xfrm>
            <a:prstGeom prst="hexagon">
              <a:avLst>
                <a:gd name="adj" fmla="val 32854"/>
                <a:gd name="vf" fmla="val 115470"/>
              </a:avLst>
            </a:prstGeom>
            <a:solidFill>
              <a:srgbClr val="ffffff"/>
            </a:solidFill>
            <a:ln w="22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48480" y="5326200"/>
              <a:ext cx="0" cy="7333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27640" y="5284800"/>
              <a:ext cx="0" cy="4381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807160" y="5326200"/>
              <a:ext cx="0" cy="7333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54720" y="5284800"/>
              <a:ext cx="0" cy="4381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834240" y="5284800"/>
              <a:ext cx="0" cy="7509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372200" y="4869000"/>
              <a:ext cx="3200400" cy="452520"/>
            </a:xfrm>
            <a:prstGeom prst="parallelogram">
              <a:avLst>
                <a:gd name="adj" fmla="val 101371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  <a:effectLst>
              <a:outerShdw dist="77353" dir="483752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829400" y="49453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rebuchet MS"/>
                </a:rPr>
                <a:t>Unifo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4984920" y="5911560"/>
              <a:ext cx="204840" cy="18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984920" y="6286680"/>
              <a:ext cx="68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464440" y="5786640"/>
              <a:ext cx="75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43600" y="6286680"/>
              <a:ext cx="75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491520" y="5911920"/>
              <a:ext cx="206280" cy="18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64440" y="5911920"/>
              <a:ext cx="27432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5943240" y="5911920"/>
              <a:ext cx="27468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41840" y="6035760"/>
              <a:ext cx="411120" cy="314280"/>
            </a:xfrm>
            <a:prstGeom prst="hexagon">
              <a:avLst>
                <a:gd name="adj" fmla="val 32703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121360" y="5722920"/>
              <a:ext cx="411120" cy="312840"/>
            </a:xfrm>
            <a:prstGeom prst="hexagon">
              <a:avLst>
                <a:gd name="adj" fmla="val 32854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00880" y="6035760"/>
              <a:ext cx="411120" cy="314280"/>
            </a:xfrm>
            <a:prstGeom prst="hexagon">
              <a:avLst>
                <a:gd name="adj" fmla="val 32703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r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150240" y="5722920"/>
              <a:ext cx="409320" cy="312840"/>
            </a:xfrm>
            <a:prstGeom prst="hexagon">
              <a:avLst>
                <a:gd name="adj" fmla="val 32710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629400" y="6035760"/>
              <a:ext cx="409680" cy="314280"/>
            </a:xfrm>
            <a:prstGeom prst="hexagon">
              <a:avLst>
                <a:gd name="adj" fmla="val 32589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r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70680" y="5445360"/>
              <a:ext cx="1778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5050"/>
                  </a:solidFill>
                  <a:latin typeface="Trebuchet MS"/>
                </a:rPr>
                <a:t>Not uniform not ubiquito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2340000" y="1432080"/>
            <a:ext cx="4319640" cy="1708200"/>
            <a:chOff x="2340000" y="1432080"/>
            <a:chExt cx="4319640" cy="1708200"/>
          </a:xfrm>
        </p:grpSpPr>
        <p:sp>
          <p:nvSpPr>
            <p:cNvPr id="243" name=""/>
            <p:cNvSpPr/>
            <p:nvPr/>
          </p:nvSpPr>
          <p:spPr>
            <a:xfrm>
              <a:off x="4994280" y="1432080"/>
              <a:ext cx="1484280" cy="1439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40000" y="1432080"/>
              <a:ext cx="1484280" cy="1439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75000" y="2062080"/>
              <a:ext cx="1214280" cy="22392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ou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475000" y="2511360"/>
              <a:ext cx="1214280" cy="2253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ward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29280" y="1566720"/>
              <a:ext cx="1216080" cy="225720"/>
            </a:xfrm>
            <a:prstGeom prst="rect">
              <a:avLst/>
            </a:prstGeom>
            <a:solidFill>
              <a:srgbClr val="3333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Lear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129280" y="2062080"/>
              <a:ext cx="1216080" cy="22392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ou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29280" y="2511360"/>
              <a:ext cx="1216080" cy="2253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ward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211640" y="1971720"/>
              <a:ext cx="495360" cy="314280"/>
            </a:xfrm>
            <a:custGeom>
              <a:avLst/>
              <a:gdLst>
                <a:gd name="textAreaLeft" fmla="*/ 99000 w 495360"/>
                <a:gd name="textAreaRight" fmla="*/ 396360 w 495360"/>
                <a:gd name="textAreaTop" fmla="*/ 79200 h 314280"/>
                <a:gd name="textAreaBottom" fmla="*/ 235080 h 31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55"/>
                  </a:moveTo>
                  <a:lnTo>
                    <a:pt x="12877" y="5455"/>
                  </a:lnTo>
                  <a:lnTo>
                    <a:pt x="12877" y="0"/>
                  </a:lnTo>
                  <a:lnTo>
                    <a:pt x="21600" y="10800"/>
                  </a:lnTo>
                  <a:lnTo>
                    <a:pt x="12877" y="21600"/>
                  </a:lnTo>
                  <a:lnTo>
                    <a:pt x="12877" y="16145"/>
                  </a:lnTo>
                  <a:lnTo>
                    <a:pt x="0" y="16145"/>
                  </a:lnTo>
                  <a:lnTo>
                    <a:pt x="4317" y="10800"/>
                  </a:lnTo>
                  <a:lnTo>
                    <a:pt x="0" y="5455"/>
                  </a:lnTo>
                  <a:close/>
                </a:path>
              </a:pathLst>
            </a:cu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340000" y="1521000"/>
              <a:ext cx="14842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15000" y="1836720"/>
              <a:ext cx="18446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eak coup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40000" y="2921040"/>
              <a:ext cx="14842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Tod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684360" y="981000"/>
            <a:ext cx="77724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gment network systems (e.g. routers) with </a:t>
            </a:r>
            <a:r>
              <a:rPr b="1" lang="en-US" sz="2000" spc="-1" strike="noStrike">
                <a:solidFill>
                  <a:srgbClr val="0000cc"/>
                </a:solidFill>
                <a:latin typeface="Calibri"/>
              </a:rPr>
              <a:t>learning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5C2D-050C-4B5D-B5A7-3E7396B5D8D5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0FA216-BC1D-4310-9F7E-5B1D5461EAED}" type="datetime1">
              <a:rPr lang="en-US"/>
              <a:t>07/31/26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Consolas"/>
              </a:rPr>
              <a:t>Self-X paradigms vs functionality</a:t>
            </a:r>
            <a:endParaRPr b="1" lang="en-US" sz="26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6443640" y="1103400"/>
          <a:ext cx="2185920" cy="3314520"/>
        </p:xfrm>
        <a:graphic>
          <a:graphicData uri="http://schemas.openxmlformats.org/drawingml/2006/table">
            <a:tbl>
              <a:tblPr/>
              <a:tblGrid>
                <a:gridCol w="2185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ction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f-configu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f-mainten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f-stabil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f-diagno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f-prot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f-hea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f-repa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f-optim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2411280" y="1111320"/>
          <a:ext cx="2185920" cy="2226960"/>
        </p:xfrm>
        <a:graphic>
          <a:graphicData uri="http://schemas.openxmlformats.org/drawingml/2006/table">
            <a:tbl>
              <a:tblPr/>
              <a:tblGrid>
                <a:gridCol w="218592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dig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f-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f-adap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f-organ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grpSp>
        <p:nvGrpSpPr>
          <p:cNvPr id="259" name=""/>
          <p:cNvGrpSpPr/>
          <p:nvPr/>
        </p:nvGrpSpPr>
        <p:grpSpPr>
          <a:xfrm>
            <a:off x="0" y="1106640"/>
            <a:ext cx="2592360" cy="2601720"/>
            <a:chOff x="0" y="1106640"/>
            <a:chExt cx="2592360" cy="2601720"/>
          </a:xfrm>
        </p:grpSpPr>
        <p:sp>
          <p:nvSpPr>
            <p:cNvPr id="260" name=""/>
            <p:cNvSpPr/>
            <p:nvPr/>
          </p:nvSpPr>
          <p:spPr>
            <a:xfrm>
              <a:off x="826920" y="1467000"/>
              <a:ext cx="289080" cy="1800360"/>
            </a:xfrm>
            <a:prstGeom prst="downArrow">
              <a:avLst>
                <a:gd name="adj1" fmla="val 50000"/>
                <a:gd name="adj2" fmla="val 155697"/>
              </a:avLst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0" y="3340080"/>
              <a:ext cx="19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明朝"/>
                </a:rPr>
                <a:t>scal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1547640" y="1466280"/>
              <a:ext cx="287640" cy="1800360"/>
            </a:xfrm>
            <a:prstGeom prst="downArrow">
              <a:avLst>
                <a:gd name="adj1" fmla="val 50000"/>
                <a:gd name="adj2" fmla="val 156477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4360" y="1106640"/>
              <a:ext cx="19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明朝"/>
                </a:rPr>
                <a:t>determini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395280" y="3789360"/>
            <a:ext cx="5183280" cy="2952720"/>
            <a:chOff x="395280" y="3789360"/>
            <a:chExt cx="5183280" cy="2952720"/>
          </a:xfrm>
        </p:grpSpPr>
        <p:sp>
          <p:nvSpPr>
            <p:cNvPr id="265" name=""/>
            <p:cNvSpPr/>
            <p:nvPr/>
          </p:nvSpPr>
          <p:spPr>
            <a:xfrm>
              <a:off x="466560" y="3789360"/>
              <a:ext cx="5112000" cy="295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330200" y="3960720"/>
              <a:ext cx="3313080" cy="1944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1330200" y="3960720"/>
              <a:ext cx="3313080" cy="1944720"/>
            </a:xfrm>
            <a:prstGeom prst="line">
              <a:avLst/>
            </a:prstGeom>
            <a:ln w="19080">
              <a:solidFill>
                <a:srgbClr val="00cc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11280" y="6093000"/>
              <a:ext cx="482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95280" y="6116760"/>
              <a:ext cx="180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ＭＳ 明朝"/>
                </a:rPr>
                <a:t>centralized 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195640" y="6121440"/>
              <a:ext cx="1584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ＭＳ 明朝"/>
                </a:rPr>
                <a:t>distributed 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922560" y="6121440"/>
              <a:ext cx="1656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ＭＳ 明朝"/>
                </a:rPr>
                <a:t>self-organized 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68360" y="4221000"/>
              <a:ext cx="180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ＭＳ 明朝"/>
                </a:rPr>
                <a:t>determinis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8360" y="5300640"/>
              <a:ext cx="180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ＭＳ 明朝"/>
                </a:rPr>
                <a:t>scal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6084720" y="1484280"/>
            <a:ext cx="142920" cy="2881440"/>
          </a:xfrm>
          <a:custGeom>
            <a:avLst/>
            <a:gdLst>
              <a:gd name="textAreaLeft" fmla="*/ 91440 w 142920"/>
              <a:gd name="textAreaRight" fmla="*/ 143280 w 142920"/>
              <a:gd name="textAreaTop" fmla="*/ 74880 h 2881440"/>
              <a:gd name="textAreaBottom" fmla="*/ 2806560 h 28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244"/>
                </a:lnTo>
                <a:cubicBezTo>
                  <a:pt x="10800" y="9144"/>
                  <a:pt x="5400" y="10044"/>
                  <a:pt x="0" y="10044"/>
                </a:cubicBezTo>
                <a:cubicBezTo>
                  <a:pt x="5400" y="10044"/>
                  <a:pt x="10800" y="10944"/>
                  <a:pt x="10800" y="1184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0" y="1773360"/>
            <a:ext cx="1440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0" y="2349360"/>
            <a:ext cx="1368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572000" y="292392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E8D0-2003-491D-AFFC-AEB882A1163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B92529-C196-4700-A50F-720830F43EDF}" type="datetime1">
              <a:rPr lang="en-US"/>
              <a:t>07/31/26</a:t>
            </a:fld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nsolas"/>
              </a:rPr>
              <a:t>LCCN Research Activity Positioning </a:t>
            </a:r>
            <a:endParaRPr b="1" lang="en-US" sz="24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279" name=""/>
          <p:cNvSpPr/>
          <p:nvPr/>
        </p:nvSpPr>
        <p:spPr>
          <a:xfrm>
            <a:off x="684360" y="1198440"/>
            <a:ext cx="2447640" cy="122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f-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763640" y="2565360"/>
            <a:ext cx="287280" cy="576360"/>
          </a:xfrm>
          <a:prstGeom prst="downArrow">
            <a:avLst>
              <a:gd name="adj1" fmla="val 50278"/>
              <a:gd name="adj2" fmla="val 70749"/>
            </a:avLst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4360" y="3286080"/>
            <a:ext cx="2447640" cy="1224000"/>
          </a:xfrm>
          <a:prstGeom prst="ellipse">
            <a:avLst/>
          </a:prstGeom>
          <a:solidFill>
            <a:srgbClr val="bae5ee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alibri"/>
              </a:rPr>
              <a:t>Self-adap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63640" y="4653000"/>
            <a:ext cx="287280" cy="576360"/>
          </a:xfrm>
          <a:prstGeom prst="downArrow">
            <a:avLst>
              <a:gd name="adj1" fmla="val 50278"/>
              <a:gd name="adj2" fmla="val 70749"/>
            </a:avLst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4360" y="5373720"/>
            <a:ext cx="2447640" cy="1224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f-organiz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40000" y="1125360"/>
            <a:ext cx="5508720" cy="15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elf manage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pability to operate and maintain systems and devices depending on the current system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Properti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Unified framework and global coordination (and re-evalu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Techniqu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e.g. policy-based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03640" y="3214800"/>
            <a:ext cx="5724360" cy="15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elf-adapti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ility of the system's components to adapt to changing environmental and running conditions over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Properti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Distributed, modular, and local coordination (and re-evalu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Techniqu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e.g. learn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03640" y="5235480"/>
            <a:ext cx="572436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elf-organiz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ucture and functionality at the global level emerge solely from numerous interactions among lower-level components without any external or centralized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Techniqu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e.g. biology, neuro-sc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79280" y="3213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rebuchet MS"/>
              </a:rPr>
              <a:t>LCC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F6EB-7501-44DD-9DB1-B22374EE4B03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5672CB-9123-40E8-8FF2-ED1A4A8CEFB0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nsolas"/>
              </a:rPr>
              <a:t>Activities Timeline</a:t>
            </a:r>
            <a:endParaRPr b="1" lang="en-US" sz="28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289" name=""/>
          <p:cNvSpPr/>
          <p:nvPr/>
        </p:nvSpPr>
        <p:spPr>
          <a:xfrm>
            <a:off x="757080" y="2997360"/>
            <a:ext cx="741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8000" rIns="108000" tIns="-108000" bIns="-10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52640" y="287964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95400" bIns="9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738440" y="287964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95400" bIns="9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738440" y="287964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95400" bIns="9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49600" y="287964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95400" bIns="9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2412720" y="2879640"/>
            <a:ext cx="1116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81000" bIns="81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10040" y="287964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95400" bIns="9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110040" y="287964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95400" bIns="9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10040" y="287964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95400" bIns="9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21200" y="287964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95400" bIns="9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795840" y="287964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95400" bIns="9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481640" y="287964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95400" bIns="9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332000" y="30402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IETF 7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121200" y="287640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95400" bIns="9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795840" y="287640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95400" bIns="9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81640" y="287640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95400" bIns="9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92800" y="287640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95400" bIns="9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67440" y="287640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95400" bIns="9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853240" y="287640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95400" bIns="9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853240" y="287640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95400" bIns="9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64400" y="287640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95400" bIns="9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39040" y="287640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95400" bIns="9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224840" y="287640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95400" bIns="9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24840" y="287640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95400" bIns="9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24840" y="287640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95400" bIns="9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236000" y="287640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95400" bIns="9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24360" y="30402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IETF 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63640" y="3429000"/>
            <a:ext cx="0" cy="863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84360" y="41641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First Get togethe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500720" y="3429000"/>
            <a:ext cx="0" cy="1152360"/>
          </a:xfrm>
          <a:prstGeom prst="line">
            <a:avLst/>
          </a:prstGeom>
          <a:ln w="28440">
            <a:solidFill>
              <a:srgbClr val="00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48080" y="450864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LCCN Meeting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273320" y="2495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11-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16520" y="2495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03-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492360" y="3157560"/>
            <a:ext cx="0" cy="774720"/>
          </a:xfrm>
          <a:prstGeom prst="line">
            <a:avLst/>
          </a:prstGeom>
          <a:ln w="28440">
            <a:solidFill>
              <a:srgbClr val="0000ff"/>
            </a:solidFill>
            <a:prstDash val="sysDot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760840" y="386064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rebuchet MS"/>
              </a:rPr>
              <a:t>PS do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644920" y="2495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01-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93920" y="1211400"/>
            <a:ext cx="1235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Trebuchet MS"/>
              </a:rPr>
              <a:t>First Draft charte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6516720" y="1844640"/>
            <a:ext cx="0" cy="936720"/>
          </a:xfrm>
          <a:prstGeom prst="line">
            <a:avLst/>
          </a:prstGeom>
          <a:ln w="28440">
            <a:solidFill>
              <a:srgbClr val="cc00cc"/>
            </a:solidFill>
            <a:prstDash val="sysDot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670720" y="1197000"/>
            <a:ext cx="1711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Trebuchet MS"/>
              </a:rPr>
              <a:t>Draft charter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805440" y="249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07-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386320" y="249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05-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781440" y="1844640"/>
            <a:ext cx="0" cy="936720"/>
          </a:xfrm>
          <a:prstGeom prst="line">
            <a:avLst/>
          </a:prstGeom>
          <a:ln w="28440">
            <a:solidFill>
              <a:srgbClr val="cc00cc"/>
            </a:solidFill>
            <a:prstDash val="sysDot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69080" y="3139920"/>
            <a:ext cx="0" cy="774720"/>
          </a:xfrm>
          <a:prstGeom prst="line">
            <a:avLst/>
          </a:prstGeom>
          <a:ln w="28440">
            <a:solidFill>
              <a:srgbClr val="0000ff"/>
            </a:solidFill>
            <a:prstDash val="sysDot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137200" y="384336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rebuchet MS"/>
              </a:rPr>
              <a:t>Doodle Po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659640" y="305604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IETF 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236000" y="3444840"/>
            <a:ext cx="0" cy="2144880"/>
          </a:xfrm>
          <a:prstGeom prst="line">
            <a:avLst/>
          </a:prstGeom>
          <a:ln w="28440">
            <a:solidFill>
              <a:srgbClr val="00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183360" y="55324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LCCN Me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5040" y="4924440"/>
            <a:ext cx="52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ttps://sites.google.com/site/lccngroup/meetings/pre-bof-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896920" y="5932440"/>
            <a:ext cx="512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ttps://sites.google.com/site/lccngroup/meetings/meeting-ietf-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003640" y="4508640"/>
            <a:ext cx="360360" cy="865080"/>
          </a:xfrm>
          <a:custGeom>
            <a:avLst/>
            <a:gdLst/>
            <a:ahLst/>
            <a:rect l="l" t="t" r="r" b="b"/>
            <a:pathLst>
              <a:path w="227" h="499">
                <a:moveTo>
                  <a:pt x="0" y="0"/>
                </a:moveTo>
                <a:lnTo>
                  <a:pt x="227" y="0"/>
                </a:lnTo>
                <a:lnTo>
                  <a:pt x="227" y="499"/>
                </a:lnTo>
                <a:lnTo>
                  <a:pt x="0" y="499"/>
                </a:lnTo>
              </a:path>
            </a:pathLst>
          </a:custGeom>
          <a:noFill/>
          <a:ln w="284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740720" y="5516640"/>
            <a:ext cx="360360" cy="865080"/>
          </a:xfrm>
          <a:custGeom>
            <a:avLst/>
            <a:gdLst/>
            <a:ahLst/>
            <a:rect l="l" t="t" r="r" b="b"/>
            <a:pathLst>
              <a:path w="227" h="499">
                <a:moveTo>
                  <a:pt x="0" y="0"/>
                </a:moveTo>
                <a:lnTo>
                  <a:pt x="227" y="0"/>
                </a:lnTo>
                <a:lnTo>
                  <a:pt x="227" y="499"/>
                </a:lnTo>
                <a:lnTo>
                  <a:pt x="0" y="499"/>
                </a:lnTo>
              </a:path>
            </a:pathLst>
          </a:custGeom>
          <a:noFill/>
          <a:ln w="284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29CD-0F3B-4D76-955A-F3A277AED011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E0E6C2-E2E0-4BF8-8D9D-AF58746BAC7B}" type="datetime1">
              <a:rPr lang="en-US"/>
              <a:t>07/31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nsolas"/>
              </a:rPr>
              <a:t>Research Space/Domains</a:t>
            </a:r>
            <a:endParaRPr b="1" lang="en-US" sz="28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772400" cy="523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1520" indent="-281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odle poll (25, about 50% of participants)</a:t>
            </a: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  <a:p>
            <a:pPr marL="281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  <a:p>
            <a:pPr marL="281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  <a:p>
            <a:pPr marL="281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  <a:p>
            <a:pPr marL="281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  <a:p>
            <a:pPr marL="281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  <a:p>
            <a:pPr marL="281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  <a:p>
            <a:pPr lvl="1" marL="741600" indent="-273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Outcom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several people will present state-of-the-art/challenges in these selected experimental domains during LCCN meeting @ IETF 81   </a:t>
            </a:r>
            <a:endParaRPr b="0" lang="en-US" sz="2000" spc="-1" strike="noStrike">
              <a:solidFill>
                <a:srgbClr val="000000"/>
              </a:solidFill>
              <a:latin typeface="Consolas"/>
            </a:endParaRPr>
          </a:p>
          <a:p>
            <a:pPr lvl="1" marL="741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olas"/>
            </a:endParaRPr>
          </a:p>
          <a:p>
            <a:pPr lvl="1" marL="741600" indent="-273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ntify research challenges and potentials wrt application of various learning models and techniques inside each of these domains and between domains (specialization vs generalization)</a:t>
            </a:r>
            <a:endParaRPr b="0" lang="en-US" sz="2000" spc="-1" strike="noStrike">
              <a:solidFill>
                <a:srgbClr val="000000"/>
              </a:solidFill>
              <a:latin typeface="Consolas"/>
            </a:endParaRPr>
          </a:p>
          <a:p>
            <a:pPr lvl="1" marL="741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olas"/>
            </a:endParaRPr>
          </a:p>
          <a:p>
            <a:pPr lvl="1" marL="741600" indent="-273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chitectural baseline (common principles, control model, etc.)</a:t>
            </a:r>
            <a:endParaRPr b="0" lang="en-US" sz="2000" spc="-1" strike="noStrike">
              <a:solidFill>
                <a:srgbClr val="000000"/>
              </a:solidFill>
              <a:latin typeface="Consolas"/>
            </a:endParaRPr>
          </a:p>
          <a:p>
            <a:pPr lvl="1" marL="74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olas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539640" y="1749600"/>
          <a:ext cx="8242560" cy="1823760"/>
        </p:xfrm>
        <a:graphic>
          <a:graphicData uri="http://schemas.openxmlformats.org/drawingml/2006/table">
            <a:tbl>
              <a:tblPr/>
              <a:tblGrid>
                <a:gridCol w="1320840"/>
                <a:gridCol w="1384200"/>
                <a:gridCol w="1384560"/>
                <a:gridCol w="1384200"/>
                <a:gridCol w="1384200"/>
                <a:gridCol w="1384560"/>
              </a:tblGrid>
              <a:tr h="1554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Network self-defense (incl. distributed intrusion/attack detection, distributed anomaly detection, etc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Routing (incl. traffic engineering, resiliency, stability, etc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Control of optical net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obile/Ad-Hoc/Sensor net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Other Sugges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u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0574-3EFA-466C-98B0-F21E8AE3F72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108B8C-07F0-4E8B-AD2D-976ED82ECE91}" type="datetime1">
              <a:rPr lang="en-US"/>
              <a:t>07/31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Consolas"/>
              </a:rPr>
              <a:t>LCCN Initiative</a:t>
            </a:r>
            <a:endParaRPr b="1" lang="en-US" sz="26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98984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alibri"/>
              </a:rPr>
              <a:t>One-line abstract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 learning-based control for network systems to automatically and timely adapt to network environment and running conditions over time</a:t>
            </a:r>
            <a:endParaRPr b="0" lang="en-US" sz="2000" spc="-1" strike="noStrike">
              <a:solidFill>
                <a:srgbClr val="000000"/>
              </a:solidFill>
              <a:latin typeface="Consolas"/>
            </a:endParaRPr>
          </a:p>
          <a:p>
            <a:pPr marL="287280" indent="-287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alibri"/>
              </a:rPr>
              <a:t>Descrip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&lt;https://sites.google.com/site/lccngroup/&gt;</a:t>
            </a:r>
            <a:endParaRPr b="0" lang="en-US" sz="2000" spc="-1" strike="noStrike">
              <a:solidFill>
                <a:srgbClr val="000000"/>
              </a:solidFill>
              <a:latin typeface="Consolas"/>
            </a:endParaRPr>
          </a:p>
          <a:p>
            <a:pPr marL="287280" indent="-287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alibri"/>
              </a:rPr>
              <a:t>LCCN Meet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Wednesday July 27th from 1:00 to 3:00PM (303AB)</a:t>
            </a:r>
            <a:endParaRPr b="0" lang="en-US" sz="2000" spc="-1" strike="noStrike">
              <a:solidFill>
                <a:srgbClr val="000000"/>
              </a:solidFill>
              <a:latin typeface="Consolas"/>
            </a:endParaRPr>
          </a:p>
          <a:p>
            <a:pPr marL="28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oals (of this meeting)</a:t>
            </a:r>
            <a:endParaRPr b="0" lang="en-US" sz="2000" spc="-1" strike="noStrike">
              <a:solidFill>
                <a:srgbClr val="000000"/>
              </a:solidFill>
              <a:latin typeface="Consolas"/>
            </a:endParaRPr>
          </a:p>
          <a:p>
            <a:pPr lvl="1" marL="757080" indent="-2793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dentify research challenges &amp; potentials when applying learning to i) Routing (incl. traffic engineering, resiliency, stability, etc.), ii) Network self-defense (incl. distributed intrusion/attack detection, distributed anomaly detection, etc.), iii) Mobile/ad-hoc/sensor networks. </a:t>
            </a:r>
            <a:endParaRPr b="0" lang="en-US" sz="1800" spc="-1" strike="noStrike">
              <a:solidFill>
                <a:srgbClr val="000000"/>
              </a:solidFill>
              <a:latin typeface="Consolas"/>
            </a:endParaRPr>
          </a:p>
          <a:p>
            <a:pPr lvl="1" marL="757080" indent="-2793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ess level of interest to initiate research on them</a:t>
            </a:r>
            <a:endParaRPr b="0" lang="en-US" sz="1800" spc="-1" strike="noStrike">
              <a:solidFill>
                <a:srgbClr val="000000"/>
              </a:solidFill>
              <a:latin typeface="Consolas"/>
            </a:endParaRPr>
          </a:p>
          <a:p>
            <a:pPr lvl="1" marL="757080" indent="-2793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termine if IRTF is the right place to conduct such research work </a:t>
            </a:r>
            <a:endParaRPr b="0" lang="en-US" sz="1800" spc="-1" strike="noStrike">
              <a:solidFill>
                <a:srgbClr val="000000"/>
              </a:solidFill>
              <a:latin typeface="Consolas"/>
            </a:endParaRPr>
          </a:p>
          <a:p>
            <a:pPr lvl="1" marL="757080" indent="-2793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imate readiness for opening an IRTF Research Group by IETF 82</a:t>
            </a:r>
            <a:endParaRPr b="0" lang="en-US" sz="1800" spc="-1" strike="noStrike">
              <a:solidFill>
                <a:srgbClr val="000000"/>
              </a:solidFill>
              <a:latin typeface="Consolas"/>
            </a:endParaRPr>
          </a:p>
          <a:p>
            <a:pPr marL="287280" indent="-287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alibri"/>
              </a:rPr>
              <a:t>Agend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&lt;https://sites.google.com/site/lccngroup/bof-description-and-agenda&gt;</a:t>
            </a:r>
            <a:endParaRPr b="0" lang="en-US" sz="2000" spc="-1" strike="noStrike">
              <a:solidFill>
                <a:srgbClr val="000000"/>
              </a:solidFill>
              <a:latin typeface="Consolas"/>
            </a:endParaRPr>
          </a:p>
          <a:p>
            <a:pPr marL="287280" indent="-287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alibri"/>
              </a:rPr>
              <a:t>Problem statement I-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draft-tavernier-irtf-lccn-problem-statement-01</a:t>
            </a:r>
            <a:endParaRPr b="0" lang="en-US" sz="2000" spc="-1" strike="noStrike">
              <a:solidFill>
                <a:srgbClr val="000000"/>
              </a:solidFill>
              <a:latin typeface="Consolas"/>
            </a:endParaRPr>
          </a:p>
          <a:p>
            <a:pPr marL="287280" indent="-287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ntac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&lt;http://groups.google.com/group/lccn/&gt;</a:t>
            </a:r>
            <a:endParaRPr b="0" lang="en-US" sz="2000" spc="-1" strike="noStrike">
              <a:solidFill>
                <a:srgbClr val="000000"/>
              </a:solidFill>
              <a:latin typeface="Consolas"/>
            </a:endParaRPr>
          </a:p>
          <a:p>
            <a:pPr marL="28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A1BD-12A5-4BAD-A2CB-19D649EF584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748C27-D9C5-41FC-8824-82D27D556CC8}" type="datetime1">
              <a:rPr lang="en-US"/>
              <a:t>07/31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nsolas"/>
              </a:rPr>
              <a:t>LCCN Initiative </a:t>
            </a:r>
            <a:endParaRPr b="1" lang="en-US" sz="2800" spc="-1" strike="noStrike">
              <a:solidFill>
                <a:srgbClr val="0033cc"/>
              </a:solidFill>
              <a:latin typeface="Consolas"/>
            </a:endParaRPr>
          </a:p>
        </p:txBody>
      </p:sp>
      <p:pic>
        <p:nvPicPr>
          <p:cNvPr id="346" name="Chart 5" descr=""/>
          <p:cNvPicPr/>
          <p:nvPr/>
        </p:nvPicPr>
        <p:blipFill>
          <a:blip r:embed="rId1"/>
          <a:stretch/>
        </p:blipFill>
        <p:spPr>
          <a:xfrm>
            <a:off x="450720" y="1530360"/>
            <a:ext cx="8455320" cy="51386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1909800" y="1100160"/>
            <a:ext cx="56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CCN Mailing list countries (60+ memb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ACC5-F520-4C0E-9A0E-60C1B69BD507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9DDC20-804B-46D3-94EA-ABF43E19B4A3}" type="datetime1">
              <a:rPr lang="en-US"/>
              <a:t>07/31/26</a:t>
            </a:fld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10:51:50Z</dcterms:created>
  <dc:creator>Dimitri Papadimitriou</dc:creator>
  <dc:description/>
  <dc:language>en-US</dc:language>
  <cp:lastModifiedBy>papadimitriou dimitri</cp:lastModifiedBy>
  <dcterms:modified xsi:type="dcterms:W3CDTF">2011-07-26T22:15:06Z</dcterms:modified>
  <cp:revision>99</cp:revision>
  <dc:subject/>
  <dc:title>FP7 ECODE Project</dc:title>
</cp:coreProperties>
</file>