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nsolas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AC66-5F08-4B6F-80A3-3AC5B12138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9BFB-320E-4084-BB4C-3E6E2678AF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CE3B-C38B-439E-8418-9CA9A04FC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771-3892-4AC1-ADA0-742FF4B9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79360"/>
            <a:ext cx="77724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050A-66CC-408D-8E74-87422B7E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7936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7936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4E6E-C763-4C0F-A445-E2E4BDA6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79360"/>
            <a:ext cx="250236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79360"/>
            <a:ext cx="250236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79360"/>
            <a:ext cx="250236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575F-B596-4C72-A737-1A688B89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2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87936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2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8725-B4A5-4231-AF2B-C19369FD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87936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9360"/>
            <a:ext cx="77724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879360"/>
            <a:ext cx="77724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936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87936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879360"/>
            <a:ext cx="250236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879360"/>
            <a:ext cx="250236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879360"/>
            <a:ext cx="250236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670D-ABE6-40E0-96C7-05676118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7315-9E1B-4501-8AAC-23B72884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3553-D728-4D35-89FC-5C15B13F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F89F-54BB-4557-9DE4-24AD9810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7936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7087-54C9-4C1A-B7C5-478E7E18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7936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87A0-248D-48EE-8BA2-0BEAC164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79360"/>
            <a:ext cx="77724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C09-CA30-4A82-81C3-AE95D201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nsolas"/>
              </a:rPr>
              <a:t>Click to edit the title text format</a:t>
            </a: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lvl="1" marL="757080" indent="-279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lvl="2" marL="1239840" indent="-291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lvl="3" marL="1617840" indent="-187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90000"/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lvl="4" marL="21286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lvl="5" marL="21286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lvl="6" marL="21286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Consola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2897-F96C-470C-8F79-6817AFADF1D9}" type="datetime">
              <a:rPr b="1" lang="en-US" sz="800" spc="-1" strike="noStrike">
                <a:solidFill>
                  <a:srgbClr val="000000"/>
                </a:solidFill>
                <a:latin typeface="Consolas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400" y="6552720"/>
            <a:ext cx="502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Consola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nsolas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55272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Consola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77E5-AA35-4C51-97AE-FBEF20F1E23D}" type="slidenum">
              <a:rPr b="1" lang="en-US" sz="800" spc="-1" strike="noStrike">
                <a:solidFill>
                  <a:srgbClr val="000000"/>
                </a:solidFill>
                <a:latin typeface="Consola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907920"/>
            <a:ext cx="77724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nsolas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  <a:p>
            <a:pPr lvl="1" marL="457200" indent="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  <a:p>
            <a:pPr lvl="2" marL="914400" indent="33480" algn="ctr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olas"/>
            </a:endParaRPr>
          </a:p>
          <a:p>
            <a:pPr lvl="3" marL="1371600" indent="58680" algn="ctr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90000"/>
              <a:buFont typeface="Consola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onsolas"/>
            </a:endParaRPr>
          </a:p>
          <a:p>
            <a:pPr lvl="4" marL="1828800" indent="7128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7128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7128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1920" y="2276640"/>
            <a:ext cx="8340840" cy="41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Consolas"/>
              </a:rPr>
              <a:t>Learning-Capable Communication Networks (LCCN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2000" spc="-1" strike="noStrike">
                <a:solidFill>
                  <a:srgbClr val="000000"/>
                </a:solidFill>
                <a:latin typeface="Consolas"/>
              </a:rPr>
              <a:t>IETF 81 Meeting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olas"/>
              </a:rPr>
              <a:t>Quebec City, Canada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olas"/>
              </a:rPr>
              <a:t>July 28, 2011</a:t>
            </a:r>
            <a:endParaRPr b="1" lang="en-US" sz="20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6560" y="3621240"/>
            <a:ext cx="7705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olas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mitri Papadimitriou (dimitri.papadimitriou@alcatel-lucent.com)</a:t>
            </a:r>
            <a:endParaRPr b="0" lang="en-US" sz="1800" spc="-1" strike="noStrike">
              <a:solidFill>
                <a:srgbClr val="000000"/>
              </a:solidFill>
              <a:latin typeface="Consolas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uter Tavernier (wouter.tavernier@intec.ugent.be)</a:t>
            </a:r>
            <a:endParaRPr b="0" lang="en-US" sz="1800" spc="-1" strike="noStrike">
              <a:solidFill>
                <a:srgbClr val="000000"/>
              </a:solidFill>
              <a:latin typeface="Consolas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dier Colle (didier.colle@intec.ugent.be)</a:t>
            </a:r>
            <a:endParaRPr b="0" lang="en-US" sz="18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nsolas"/>
              </a:rPr>
              <a:t>(Self-adaptive) Learning-based Control</a:t>
            </a:r>
            <a:endParaRPr b="1" lang="en-US" sz="24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urrent situ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once configured, network systems follow explicitly pre-defined behavior, persistently decide and uniformly execute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1" name=""/>
          <p:cNvSpPr/>
          <p:nvPr/>
        </p:nvSpPr>
        <p:spPr>
          <a:xfrm>
            <a:off x="746280" y="4941720"/>
            <a:ext cx="7065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Bef>
                <a:spcPts val="700"/>
              </a:spcBef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1700280"/>
            <a:ext cx="7920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1" lang="en-US" sz="2200" spc="-1" strike="noStrike">
                <a:solidFill>
                  <a:srgbClr val="0000cc"/>
                </a:solidFill>
                <a:latin typeface="Calibri"/>
              </a:rPr>
              <a:t>Self-adaptive</a:t>
            </a:r>
            <a:r>
              <a:rPr b="0" lang="en-US" sz="22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alibri"/>
              </a:rPr>
              <a:t>learning-based contr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-270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ware of their state, activity/behavior, and environment 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-270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able to react and adapt to changing environment and running conditions over t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-270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e autonomously and when needed cooperatively (no global coordination or synchron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4886280"/>
            <a:ext cx="792000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alibri"/>
              </a:rPr>
              <a:t>Role/challenges of learn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 indent="-253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WHAT/WHY: diagno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ternal state, own activity, and network environment over time (detect -&gt; identify -&gt; analyz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 indent="-253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HOW: adap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ecisions and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tu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tions automatically and time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 indent="-253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WHEN: determi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hen to operate autonomously and when to cooperate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727200" y="4005360"/>
            <a:ext cx="773244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826920" y="4076640"/>
            <a:ext cx="7561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rbel"/>
              </a:rPr>
              <a:t>Learning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to avoid need to iteratively re-design systems as they should adapt to their environment and running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3502080"/>
            <a:ext cx="395280" cy="431640"/>
          </a:xfrm>
          <a:prstGeom prst="downArrow">
            <a:avLst>
              <a:gd name="adj1" fmla="val 35741"/>
              <a:gd name="adj2" fmla="val 567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987-38DB-4B09-B3A3-1FEAB32CAC0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5F113-A757-4BCD-BB58-CE1989F84B60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nsolas"/>
              </a:rPr>
              <a:t>(Self-adaptive) Learning-based Control</a:t>
            </a:r>
            <a:endParaRPr b="1" lang="en-US" sz="24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3213000"/>
            <a:ext cx="813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cc"/>
                </a:solidFill>
                <a:latin typeface="Calibri"/>
                <a:ea typeface="Arial"/>
              </a:rPr>
              <a:t>Guiding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4076640"/>
            <a:ext cx="79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Calibri"/>
                <a:ea typeface="Arial"/>
              </a:rPr>
              <a:t>Modular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no monolithic or unified framework): to ensure gradual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187280" y="4724280"/>
            <a:ext cx="7504200" cy="1584360"/>
            <a:chOff x="1187280" y="4724280"/>
            <a:chExt cx="7504200" cy="1584360"/>
          </a:xfrm>
        </p:grpSpPr>
        <p:grpSp>
          <p:nvGrpSpPr>
            <p:cNvPr id="101" name=""/>
            <p:cNvGrpSpPr/>
            <p:nvPr/>
          </p:nvGrpSpPr>
          <p:grpSpPr>
            <a:xfrm>
              <a:off x="1187280" y="4848120"/>
              <a:ext cx="5943600" cy="1460520"/>
              <a:chOff x="1187280" y="4848120"/>
              <a:chExt cx="5943600" cy="1460520"/>
            </a:xfrm>
          </p:grpSpPr>
          <p:sp>
            <p:nvSpPr>
              <p:cNvPr id="102" name=""/>
              <p:cNvSpPr/>
              <p:nvPr/>
            </p:nvSpPr>
            <p:spPr>
              <a:xfrm>
                <a:off x="1938240" y="5419440"/>
                <a:ext cx="409680" cy="317520"/>
              </a:xfrm>
              <a:prstGeom prst="hexagon">
                <a:avLst>
                  <a:gd name="adj" fmla="val 32256"/>
                  <a:gd name="vf" fmla="val 115470"/>
                </a:avLst>
              </a:prstGeom>
              <a:solidFill>
                <a:srgbClr val="ffffff"/>
              </a:solidFill>
              <a:ln w="22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347560" y="5101920"/>
                <a:ext cx="339480" cy="31752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flipV="1">
                <a:off x="2347560" y="5736960"/>
                <a:ext cx="339480" cy="31752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1596960" y="5736960"/>
                <a:ext cx="341280" cy="31752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flipV="1">
                <a:off x="1596960" y="5101920"/>
                <a:ext cx="341280" cy="31752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687400" y="4848120"/>
                <a:ext cx="409680" cy="317520"/>
              </a:xfrm>
              <a:prstGeom prst="hexagon">
                <a:avLst>
                  <a:gd name="adj" fmla="val 32256"/>
                  <a:gd name="vf" fmla="val 115470"/>
                </a:avLst>
              </a:prstGeom>
              <a:solidFill>
                <a:srgbClr val="ffffff"/>
              </a:solidFill>
              <a:ln w="22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687400" y="5991120"/>
                <a:ext cx="409680" cy="317520"/>
              </a:xfrm>
              <a:prstGeom prst="hexagon">
                <a:avLst>
                  <a:gd name="adj" fmla="val 32256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187280" y="5991120"/>
                <a:ext cx="409680" cy="317520"/>
              </a:xfrm>
              <a:prstGeom prst="hexagon">
                <a:avLst>
                  <a:gd name="adj" fmla="val 32256"/>
                  <a:gd name="vf" fmla="val 115470"/>
                </a:avLst>
              </a:prstGeom>
              <a:solidFill>
                <a:srgbClr val="ffffff"/>
              </a:solidFill>
              <a:ln w="22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87280" y="4848120"/>
                <a:ext cx="409680" cy="317520"/>
              </a:xfrm>
              <a:prstGeom prst="hexagon">
                <a:avLst>
                  <a:gd name="adj" fmla="val 32256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108400" y="5419440"/>
                <a:ext cx="409680" cy="317520"/>
              </a:xfrm>
              <a:prstGeom prst="hexagon">
                <a:avLst>
                  <a:gd name="adj" fmla="val 32256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5518080" y="5101920"/>
                <a:ext cx="341280" cy="31752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5518080" y="5736960"/>
                <a:ext cx="341280" cy="31752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4767120" y="5736960"/>
                <a:ext cx="341280" cy="31752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flipV="1">
                <a:off x="4767120" y="5101920"/>
                <a:ext cx="341280" cy="31752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859360" y="4848120"/>
                <a:ext cx="407880" cy="317520"/>
              </a:xfrm>
              <a:prstGeom prst="hexagon">
                <a:avLst>
                  <a:gd name="adj" fmla="val 3211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59360" y="5991120"/>
                <a:ext cx="407880" cy="317520"/>
              </a:xfrm>
              <a:prstGeom prst="hexagon">
                <a:avLst>
                  <a:gd name="adj" fmla="val 3211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357440" y="5991120"/>
                <a:ext cx="409680" cy="317520"/>
              </a:xfrm>
              <a:prstGeom prst="hexagon">
                <a:avLst>
                  <a:gd name="adj" fmla="val 32256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357440" y="4848120"/>
                <a:ext cx="409680" cy="317520"/>
              </a:xfrm>
              <a:prstGeom prst="hexagon">
                <a:avLst>
                  <a:gd name="adj" fmla="val 32256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789600" y="5419440"/>
                <a:ext cx="341280" cy="317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67120" y="4938480"/>
                <a:ext cx="1982880" cy="571680"/>
              </a:xfrm>
              <a:custGeom>
                <a:avLst/>
                <a:gdLst/>
                <a:ahLst/>
                <a:rect l="l" t="t" r="r" b="b"/>
                <a:pathLst>
                  <a:path w="1152" h="480">
                    <a:moveTo>
                      <a:pt x="0" y="0"/>
                    </a:moveTo>
                    <a:cubicBezTo>
                      <a:pt x="120" y="8"/>
                      <a:pt x="240" y="16"/>
                      <a:pt x="432" y="96"/>
                    </a:cubicBezTo>
                    <a:cubicBezTo>
                      <a:pt x="624" y="176"/>
                      <a:pt x="888" y="328"/>
                      <a:pt x="1152" y="480"/>
                    </a:cubicBezTo>
                  </a:path>
                </a:pathLst>
              </a:custGeom>
              <a:noFill/>
              <a:ln w="22320">
                <a:solidFill>
                  <a:srgbClr val="3333cc"/>
                </a:solidFill>
                <a:prstDash val="dash"/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4767120" y="5672880"/>
                <a:ext cx="1982880" cy="444600"/>
              </a:xfrm>
              <a:custGeom>
                <a:avLst/>
                <a:gdLst/>
                <a:ahLst/>
                <a:rect l="l" t="t" r="r" b="b"/>
                <a:pathLst>
                  <a:path w="1152" h="480">
                    <a:moveTo>
                      <a:pt x="0" y="0"/>
                    </a:moveTo>
                    <a:cubicBezTo>
                      <a:pt x="120" y="8"/>
                      <a:pt x="240" y="16"/>
                      <a:pt x="432" y="96"/>
                    </a:cubicBezTo>
                    <a:cubicBezTo>
                      <a:pt x="624" y="176"/>
                      <a:pt x="888" y="328"/>
                      <a:pt x="1152" y="480"/>
                    </a:cubicBezTo>
                  </a:path>
                </a:pathLst>
              </a:custGeom>
              <a:noFill/>
              <a:ln w="22320">
                <a:solidFill>
                  <a:srgbClr val="3333cc"/>
                </a:solidFill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18080" y="5572080"/>
                <a:ext cx="1231920" cy="12600"/>
              </a:xfrm>
              <a:prstGeom prst="line">
                <a:avLst/>
              </a:prstGeom>
              <a:ln w="22320">
                <a:solidFill>
                  <a:srgbClr val="3333cc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216480" y="5013000"/>
                <a:ext cx="609840" cy="412920"/>
              </a:xfrm>
              <a:custGeom>
                <a:avLst/>
                <a:gdLst/>
                <a:ahLst/>
                <a:rect l="l" t="t" r="r" b="b"/>
                <a:pathLst>
                  <a:path w="367" h="260">
                    <a:moveTo>
                      <a:pt x="0" y="0"/>
                    </a:moveTo>
                    <a:cubicBezTo>
                      <a:pt x="34" y="12"/>
                      <a:pt x="145" y="30"/>
                      <a:pt x="206" y="73"/>
                    </a:cubicBezTo>
                    <a:cubicBezTo>
                      <a:pt x="267" y="116"/>
                      <a:pt x="334" y="221"/>
                      <a:pt x="367" y="260"/>
                    </a:cubicBezTo>
                  </a:path>
                </a:pathLst>
              </a:custGeom>
              <a:noFill/>
              <a:ln w="22320">
                <a:solidFill>
                  <a:srgbClr val="3333cc"/>
                </a:solidFill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199200" y="5736960"/>
                <a:ext cx="627120" cy="363600"/>
              </a:xfrm>
              <a:custGeom>
                <a:avLst/>
                <a:gdLst/>
                <a:ahLst/>
                <a:rect l="l" t="t" r="r" b="b"/>
                <a:pathLst>
                  <a:path w="395" h="229">
                    <a:moveTo>
                      <a:pt x="0" y="216"/>
                    </a:moveTo>
                    <a:cubicBezTo>
                      <a:pt x="36" y="212"/>
                      <a:pt x="151" y="229"/>
                      <a:pt x="217" y="193"/>
                    </a:cubicBezTo>
                    <a:cubicBezTo>
                      <a:pt x="283" y="157"/>
                      <a:pt x="358" y="40"/>
                      <a:pt x="395" y="0"/>
                    </a:cubicBezTo>
                  </a:path>
                </a:pathLst>
              </a:custGeom>
              <a:noFill/>
              <a:ln w="22320">
                <a:solidFill>
                  <a:srgbClr val="3333cc"/>
                </a:solidFill>
                <a:prstDash val="dash"/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6567480" y="4724280"/>
              <a:ext cx="21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Trebuchet MS"/>
                </a:rPr>
                <a:t>Not central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84360" y="3571920"/>
            <a:ext cx="78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09520" indent="-2095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Calibri"/>
                <a:ea typeface="Arial"/>
              </a:rPr>
              <a:t>Local view and decision</a:t>
            </a: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no network global view or coordination): to ensure scalability and robust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4363920"/>
            <a:ext cx="79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Calibri"/>
                <a:ea typeface="Arial"/>
              </a:rPr>
              <a:t>Distribut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no uniform or ubiquitous plane): to ensure organic deplo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82560" y="4962600"/>
            <a:ext cx="7489800" cy="1274760"/>
            <a:chOff x="682560" y="4962600"/>
            <a:chExt cx="7489800" cy="1274760"/>
          </a:xfrm>
        </p:grpSpPr>
        <p:sp>
          <p:nvSpPr>
            <p:cNvPr id="130" name=""/>
            <p:cNvSpPr/>
            <p:nvPr/>
          </p:nvSpPr>
          <p:spPr>
            <a:xfrm flipH="1" flipV="1">
              <a:off x="1406520" y="5182920"/>
              <a:ext cx="798480" cy="81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7360" y="60674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85720" y="513216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93720" y="6067440"/>
              <a:ext cx="82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33600" y="5153040"/>
              <a:ext cx="95868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5200" y="527832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433240" y="5153040"/>
              <a:ext cx="95868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60360" y="5904000"/>
              <a:ext cx="411120" cy="314280"/>
            </a:xfrm>
            <a:prstGeom prst="hexagon">
              <a:avLst>
                <a:gd name="adj" fmla="val 32703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08280" y="540360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60360" y="496548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462120" y="515304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3360" y="513216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73360" y="5132160"/>
              <a:ext cx="27468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598200" y="5716440"/>
              <a:ext cx="27468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73360" y="606744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55840" y="5904000"/>
              <a:ext cx="411120" cy="314280"/>
            </a:xfrm>
            <a:prstGeom prst="hexagon">
              <a:avLst>
                <a:gd name="adj" fmla="val 32703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55840" y="496548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2560" y="5419800"/>
              <a:ext cx="116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57360" y="5419800"/>
              <a:ext cx="116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54080" y="50594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54080" y="49878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54080" y="51321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54080" y="52038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54080" y="52750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54080" y="59925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54080" y="5921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54080" y="6065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54080" y="6137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54080" y="62085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30560" y="5419800"/>
              <a:ext cx="116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C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5284800" y="5182920"/>
              <a:ext cx="798480" cy="81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35280" y="60674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64000" y="513216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72000" y="6067440"/>
              <a:ext cx="82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11880" y="5153040"/>
              <a:ext cx="95868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3480" y="527832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311520" y="5153040"/>
              <a:ext cx="95868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38640" y="5904000"/>
              <a:ext cx="411120" cy="314280"/>
            </a:xfrm>
            <a:prstGeom prst="hexagon">
              <a:avLst>
                <a:gd name="adj" fmla="val 32703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86560" y="540360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38640" y="496548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340400" y="515304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51640" y="513216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51640" y="5132160"/>
              <a:ext cx="27468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476480" y="5716440"/>
              <a:ext cx="27468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51640" y="606744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34120" y="5904000"/>
              <a:ext cx="411120" cy="314280"/>
            </a:xfrm>
            <a:prstGeom prst="hexagon">
              <a:avLst>
                <a:gd name="adj" fmla="val 32703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34120" y="496548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72000" y="5419800"/>
              <a:ext cx="116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35280" y="5419800"/>
              <a:ext cx="116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32360" y="50594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32360" y="49878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32360" y="51321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32360" y="52038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32360" y="52750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32360" y="59925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32360" y="5921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32360" y="6065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32360" y="6137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32360" y="62085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08480" y="5419800"/>
              <a:ext cx="116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C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95800" y="4962600"/>
              <a:ext cx="411120" cy="312480"/>
            </a:xfrm>
            <a:prstGeom prst="hexagon">
              <a:avLst>
                <a:gd name="adj" fmla="val 32892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95800" y="592452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87280" y="4962600"/>
              <a:ext cx="411120" cy="312480"/>
            </a:xfrm>
            <a:prstGeom prst="hexagon">
              <a:avLst>
                <a:gd name="adj" fmla="val 32892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87280" y="592452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55280" y="4869000"/>
            <a:ext cx="7993440" cy="2013120"/>
            <a:chOff x="755280" y="4869000"/>
            <a:chExt cx="7993440" cy="2013120"/>
          </a:xfrm>
        </p:grpSpPr>
        <p:sp>
          <p:nvSpPr>
            <p:cNvPr id="195" name=""/>
            <p:cNvSpPr/>
            <p:nvPr/>
          </p:nvSpPr>
          <p:spPr>
            <a:xfrm flipV="1">
              <a:off x="1235160" y="5072040"/>
              <a:ext cx="0" cy="81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600" y="6135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5008680"/>
              <a:ext cx="17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30640" y="6135840"/>
              <a:ext cx="82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62240" y="5133960"/>
              <a:ext cx="959040" cy="87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94200" y="525960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262240" y="5133960"/>
              <a:ext cx="959040" cy="87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89360" y="5884920"/>
              <a:ext cx="411120" cy="314280"/>
            </a:xfrm>
            <a:prstGeom prst="hexagon">
              <a:avLst>
                <a:gd name="adj" fmla="val 32703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36920" y="538488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2987640" y="5529240"/>
              <a:ext cx="125640" cy="1712880"/>
            </a:xfrm>
            <a:custGeom>
              <a:avLst/>
              <a:gdLst>
                <a:gd name="textAreaLeft" fmla="*/ 0 w 125640"/>
                <a:gd name="textAreaRight" fmla="*/ 45360 w 125640"/>
                <a:gd name="textAreaTop" fmla="*/ 44640 h 1712880"/>
                <a:gd name="textAreaBottom" fmla="*/ 1668240 h 171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89360" y="494676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3291120" y="513396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5400000">
              <a:off x="1651680" y="5906160"/>
              <a:ext cx="125640" cy="959040"/>
            </a:xfrm>
            <a:custGeom>
              <a:avLst/>
              <a:gdLst>
                <a:gd name="textAreaLeft" fmla="*/ 0 w 125640"/>
                <a:gd name="textAreaRight" fmla="*/ 45360 w 125640"/>
                <a:gd name="textAreaTop" fmla="*/ 24840 h 959040"/>
                <a:gd name="textAreaBottom" fmla="*/ 934200 h 9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92440" y="5761080"/>
              <a:ext cx="34272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55280" y="613584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5640" y="500868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892440" y="5008680"/>
              <a:ext cx="41112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27560" y="500868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27560" y="5133960"/>
              <a:ext cx="27468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3427200" y="5697720"/>
              <a:ext cx="27468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27560" y="613584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84480" y="5884920"/>
              <a:ext cx="411120" cy="314280"/>
            </a:xfrm>
            <a:prstGeom prst="hexagon">
              <a:avLst>
                <a:gd name="adj" fmla="val 32703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84480" y="494676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66760" y="6423120"/>
              <a:ext cx="116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Inter-dom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68520" y="6423120"/>
              <a:ext cx="116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Intra-dom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30320" y="5884920"/>
              <a:ext cx="411120" cy="314280"/>
            </a:xfrm>
            <a:prstGeom prst="hexagon">
              <a:avLst>
                <a:gd name="adj" fmla="val 32703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30320" y="494676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48480" y="5326200"/>
              <a:ext cx="0" cy="733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27640" y="5284800"/>
              <a:ext cx="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07160" y="5326200"/>
              <a:ext cx="0" cy="733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54720" y="5284800"/>
              <a:ext cx="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34240" y="5284800"/>
              <a:ext cx="0" cy="750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72200" y="4869000"/>
              <a:ext cx="3200400" cy="452520"/>
            </a:xfrm>
            <a:prstGeom prst="parallelogram">
              <a:avLst>
                <a:gd name="adj" fmla="val 101371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  <a:effectLst>
              <a:outerShdw dist="77353" dir="483752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29400" y="4945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Uni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984920" y="5911560"/>
              <a:ext cx="20484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84920" y="6286680"/>
              <a:ext cx="68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64440" y="5786640"/>
              <a:ext cx="75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6286680"/>
              <a:ext cx="75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91520" y="5911920"/>
              <a:ext cx="20628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64440" y="5911920"/>
              <a:ext cx="27432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943240" y="5911920"/>
              <a:ext cx="27468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1840" y="6035760"/>
              <a:ext cx="411120" cy="314280"/>
            </a:xfrm>
            <a:prstGeom prst="hexagon">
              <a:avLst>
                <a:gd name="adj" fmla="val 32703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21360" y="5722920"/>
              <a:ext cx="411120" cy="312840"/>
            </a:xfrm>
            <a:prstGeom prst="hexagon">
              <a:avLst>
                <a:gd name="adj" fmla="val 32854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00880" y="6035760"/>
              <a:ext cx="411120" cy="314280"/>
            </a:xfrm>
            <a:prstGeom prst="hexagon">
              <a:avLst>
                <a:gd name="adj" fmla="val 32703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50240" y="5722920"/>
              <a:ext cx="409320" cy="312840"/>
            </a:xfrm>
            <a:prstGeom prst="hexagon">
              <a:avLst>
                <a:gd name="adj" fmla="val 32710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29400" y="6035760"/>
              <a:ext cx="409680" cy="314280"/>
            </a:xfrm>
            <a:prstGeom prst="hexagon">
              <a:avLst>
                <a:gd name="adj" fmla="val 32589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r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70680" y="5445360"/>
              <a:ext cx="1778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Trebuchet MS"/>
                </a:rPr>
                <a:t>Not uniform not ubiquit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340000" y="1432080"/>
            <a:ext cx="4319640" cy="1708200"/>
            <a:chOff x="2340000" y="1432080"/>
            <a:chExt cx="4319640" cy="1708200"/>
          </a:xfrm>
        </p:grpSpPr>
        <p:sp>
          <p:nvSpPr>
            <p:cNvPr id="243" name=""/>
            <p:cNvSpPr/>
            <p:nvPr/>
          </p:nvSpPr>
          <p:spPr>
            <a:xfrm>
              <a:off x="4994280" y="1432080"/>
              <a:ext cx="1484280" cy="1439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40000" y="1432080"/>
              <a:ext cx="1484280" cy="1439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75000" y="2062080"/>
              <a:ext cx="1214280" cy="22392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75000" y="2511360"/>
              <a:ext cx="1214280" cy="2253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war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29280" y="1566720"/>
              <a:ext cx="1216080" cy="225720"/>
            </a:xfrm>
            <a:prstGeom prst="rect">
              <a:avLst/>
            </a:prstGeom>
            <a:solidFill>
              <a:srgbClr val="3333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ear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29280" y="2062080"/>
              <a:ext cx="1216080" cy="22392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29280" y="2511360"/>
              <a:ext cx="1216080" cy="2253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war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11640" y="1971720"/>
              <a:ext cx="495360" cy="314280"/>
            </a:xfrm>
            <a:custGeom>
              <a:avLst/>
              <a:gdLst>
                <a:gd name="textAreaLeft" fmla="*/ 99000 w 495360"/>
                <a:gd name="textAreaRight" fmla="*/ 396360 w 495360"/>
                <a:gd name="textAreaTop" fmla="*/ 79200 h 314280"/>
                <a:gd name="textAreaBottom" fmla="*/ 235080 h 3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55"/>
                  </a:moveTo>
                  <a:lnTo>
                    <a:pt x="12877" y="5455"/>
                  </a:lnTo>
                  <a:lnTo>
                    <a:pt x="12877" y="0"/>
                  </a:lnTo>
                  <a:lnTo>
                    <a:pt x="21600" y="10800"/>
                  </a:lnTo>
                  <a:lnTo>
                    <a:pt x="12877" y="21600"/>
                  </a:lnTo>
                  <a:lnTo>
                    <a:pt x="12877" y="16145"/>
                  </a:lnTo>
                  <a:lnTo>
                    <a:pt x="0" y="16145"/>
                  </a:lnTo>
                  <a:lnTo>
                    <a:pt x="4317" y="10800"/>
                  </a:lnTo>
                  <a:lnTo>
                    <a:pt x="0" y="5455"/>
                  </a:lnTo>
                  <a:close/>
                </a:path>
              </a:pathLst>
            </a:cu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40000" y="1521000"/>
              <a:ext cx="14842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15000" y="1836720"/>
              <a:ext cx="18446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ak coup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40000" y="2921040"/>
              <a:ext cx="14842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To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684360" y="981000"/>
            <a:ext cx="7772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gment network systems (e.g. routers) with </a:t>
            </a:r>
            <a:r>
              <a:rPr b="1" lang="en-US" sz="2000" spc="-1" strike="noStrike">
                <a:solidFill>
                  <a:srgbClr val="0000cc"/>
                </a:solidFill>
                <a:latin typeface="Calibri"/>
              </a:rPr>
              <a:t>learning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F09-6A91-4355-B8BE-266648B683A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4A9B3-7FDB-400C-AED2-03820E8649FF}" type="datetime1">
              <a:rPr lang="en-US"/>
              <a:t>07/30/26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Consolas"/>
              </a:rPr>
              <a:t>Self-X paradigms vs functionality</a:t>
            </a:r>
            <a:endParaRPr b="1" lang="en-US" sz="26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443640" y="1103400"/>
          <a:ext cx="2185920" cy="3314520"/>
        </p:xfrm>
        <a:graphic>
          <a:graphicData uri="http://schemas.openxmlformats.org/drawingml/2006/table">
            <a:tbl>
              <a:tblPr/>
              <a:tblGrid>
                <a:gridCol w="2185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cti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f-config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f-mainte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f-sta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f-diagn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f-prot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f-hea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f-rep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f-optim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2411280" y="1111320"/>
          <a:ext cx="2185920" cy="2226960"/>
        </p:xfrm>
        <a:graphic>
          <a:graphicData uri="http://schemas.openxmlformats.org/drawingml/2006/table">
            <a:tbl>
              <a:tblPr/>
              <a:tblGrid>
                <a:gridCol w="218592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dig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f-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f-adap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f-orga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pSp>
        <p:nvGrpSpPr>
          <p:cNvPr id="259" name=""/>
          <p:cNvGrpSpPr/>
          <p:nvPr/>
        </p:nvGrpSpPr>
        <p:grpSpPr>
          <a:xfrm>
            <a:off x="0" y="1106640"/>
            <a:ext cx="2592360" cy="2601720"/>
            <a:chOff x="0" y="1106640"/>
            <a:chExt cx="2592360" cy="2601720"/>
          </a:xfrm>
        </p:grpSpPr>
        <p:sp>
          <p:nvSpPr>
            <p:cNvPr id="260" name=""/>
            <p:cNvSpPr/>
            <p:nvPr/>
          </p:nvSpPr>
          <p:spPr>
            <a:xfrm>
              <a:off x="826920" y="1467000"/>
              <a:ext cx="289080" cy="1800360"/>
            </a:xfrm>
            <a:prstGeom prst="downArrow">
              <a:avLst>
                <a:gd name="adj1" fmla="val 50000"/>
                <a:gd name="adj2" fmla="val 155697"/>
              </a:avLst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3340080"/>
              <a:ext cx="19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明朝"/>
                </a:rPr>
                <a:t>scal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547640" y="1466280"/>
              <a:ext cx="287640" cy="1800360"/>
            </a:xfrm>
            <a:prstGeom prst="downArrow">
              <a:avLst>
                <a:gd name="adj1" fmla="val 50000"/>
                <a:gd name="adj2" fmla="val 15647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4360" y="1106640"/>
              <a:ext cx="19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明朝"/>
                </a:rPr>
                <a:t>determi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95280" y="3789360"/>
            <a:ext cx="5183280" cy="2952720"/>
            <a:chOff x="395280" y="3789360"/>
            <a:chExt cx="5183280" cy="2952720"/>
          </a:xfrm>
        </p:grpSpPr>
        <p:sp>
          <p:nvSpPr>
            <p:cNvPr id="265" name=""/>
            <p:cNvSpPr/>
            <p:nvPr/>
          </p:nvSpPr>
          <p:spPr>
            <a:xfrm>
              <a:off x="466560" y="3789360"/>
              <a:ext cx="5112000" cy="295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30200" y="3960720"/>
              <a:ext cx="3313080" cy="1944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1330200" y="3960720"/>
              <a:ext cx="3313080" cy="1944720"/>
            </a:xfrm>
            <a:prstGeom prst="line">
              <a:avLst/>
            </a:prstGeom>
            <a:ln w="19080">
              <a:solidFill>
                <a:srgbClr val="00cc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1280" y="6093000"/>
              <a:ext cx="48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5280" y="6116760"/>
              <a:ext cx="180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ＭＳ 明朝"/>
                </a:rPr>
                <a:t>centralized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95640" y="6121440"/>
              <a:ext cx="1584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ＭＳ 明朝"/>
                </a:rPr>
                <a:t>distributed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22560" y="6121440"/>
              <a:ext cx="165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ＭＳ 明朝"/>
                </a:rPr>
                <a:t>self-organized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8360" y="4221000"/>
              <a:ext cx="18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ＭＳ 明朝"/>
                </a:rPr>
                <a:t>determinis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8360" y="5300640"/>
              <a:ext cx="18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ＭＳ 明朝"/>
                </a:rPr>
                <a:t>scal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084720" y="1484280"/>
            <a:ext cx="142920" cy="288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44"/>
                </a:lnTo>
                <a:cubicBezTo>
                  <a:pt x="10800" y="9144"/>
                  <a:pt x="5400" y="10044"/>
                  <a:pt x="0" y="10044"/>
                </a:cubicBezTo>
                <a:cubicBezTo>
                  <a:pt x="5400" y="10044"/>
                  <a:pt x="10800" y="10944"/>
                  <a:pt x="10800" y="1184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1773360"/>
            <a:ext cx="1440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2349360"/>
            <a:ext cx="1368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572000" y="292392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84D-0036-4052-8F5A-30D7B404208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52B65-1728-4194-8F26-FE7829AA2F65}" type="datetime1">
              <a:rPr lang="en-US"/>
              <a:t>07/30/26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nsolas"/>
              </a:rPr>
              <a:t>LCCN Research Activity Positioning </a:t>
            </a:r>
            <a:endParaRPr b="1" lang="en-US" sz="24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279" name=""/>
          <p:cNvSpPr/>
          <p:nvPr/>
        </p:nvSpPr>
        <p:spPr>
          <a:xfrm>
            <a:off x="684360" y="1198440"/>
            <a:ext cx="244764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f-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63640" y="2565360"/>
            <a:ext cx="287280" cy="576360"/>
          </a:xfrm>
          <a:prstGeom prst="downArrow">
            <a:avLst>
              <a:gd name="adj1" fmla="val 50278"/>
              <a:gd name="adj2" fmla="val 70749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3286080"/>
            <a:ext cx="2447640" cy="1224000"/>
          </a:xfrm>
          <a:prstGeom prst="ellipse">
            <a:avLst/>
          </a:prstGeom>
          <a:solidFill>
            <a:srgbClr val="bae5ee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alibri"/>
              </a:rPr>
              <a:t>Self-adap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63640" y="4653000"/>
            <a:ext cx="287280" cy="576360"/>
          </a:xfrm>
          <a:prstGeom prst="downArrow">
            <a:avLst>
              <a:gd name="adj1" fmla="val 50278"/>
              <a:gd name="adj2" fmla="val 70749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4360" y="5373720"/>
            <a:ext cx="2447640" cy="1224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f-organi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0" y="1125360"/>
            <a:ext cx="5508720" cy="15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elf man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bility to operate and maintain systems and devices depending on the current system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ropert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nified framework and global coordination (and re-evalu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echniqu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e.g. policy-based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03640" y="3214800"/>
            <a:ext cx="5724360" cy="15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elf-adapt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ility of the system's components to adapt to changing environmental and running conditions over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ropert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Distributed, modular, and local coordination (and re-evalu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echniqu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e.g. lear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5235480"/>
            <a:ext cx="572436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elf-organi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ucture and functionality at the global level emerge solely from numerous interactions among lower-level components without any external or centralized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echniqu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e.g. biology, neuro-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9280" y="3213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rebuchet MS"/>
              </a:rPr>
              <a:t>LC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CD5D-AAC3-45E0-8F14-47DC70CECE7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540EC-5AA8-4E8D-A6A3-6924E69C5F28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nsolas"/>
              </a:rPr>
              <a:t>Activities Timeline</a:t>
            </a: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289" name=""/>
          <p:cNvSpPr/>
          <p:nvPr/>
        </p:nvSpPr>
        <p:spPr>
          <a:xfrm>
            <a:off x="757080" y="2997360"/>
            <a:ext cx="741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52640" y="28796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38440" y="28796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38440" y="28796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49600" y="28796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412720" y="2879640"/>
            <a:ext cx="1116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81000" bIns="81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10040" y="28796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10040" y="28796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10040" y="28796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1200" y="28796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95840" y="28796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81640" y="28796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32000" y="30402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ETF 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2120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9584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8164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280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6744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5324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5324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6440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3904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2484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2484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2484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236000" y="287640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95400" bIns="9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4360" y="30402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IETF 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63640" y="342900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4360" y="4164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irst Get togethe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00720" y="3429000"/>
            <a:ext cx="0" cy="1152360"/>
          </a:xfrm>
          <a:prstGeom prst="line">
            <a:avLst/>
          </a:prstGeom>
          <a:ln w="28440">
            <a:solidFill>
              <a:srgbClr val="00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48080" y="45086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LCCN Meeting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73320" y="249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11-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16520" y="249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03-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92360" y="3157560"/>
            <a:ext cx="0" cy="77472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60840" y="38606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PS do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44920" y="249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01-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93920" y="1211400"/>
            <a:ext cx="1235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Trebuchet MS"/>
              </a:rPr>
              <a:t>First Draft charte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516720" y="1844640"/>
            <a:ext cx="0" cy="936720"/>
          </a:xfrm>
          <a:prstGeom prst="line">
            <a:avLst/>
          </a:prstGeom>
          <a:ln w="28440">
            <a:solidFill>
              <a:srgbClr val="cc00cc"/>
            </a:solidFill>
            <a:prstDash val="sysDot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70720" y="1197000"/>
            <a:ext cx="1711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Trebuchet MS"/>
              </a:rPr>
              <a:t>Draft charter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05440" y="249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07-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86320" y="249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05-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781440" y="1844640"/>
            <a:ext cx="0" cy="936720"/>
          </a:xfrm>
          <a:prstGeom prst="line">
            <a:avLst/>
          </a:prstGeom>
          <a:ln w="28440">
            <a:solidFill>
              <a:srgbClr val="cc00cc"/>
            </a:solidFill>
            <a:prstDash val="sysDot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69080" y="3139920"/>
            <a:ext cx="0" cy="77472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37200" y="3843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Doodle P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59640" y="30560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IETF 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6000" y="3444840"/>
            <a:ext cx="0" cy="2144880"/>
          </a:xfrm>
          <a:prstGeom prst="line">
            <a:avLst/>
          </a:prstGeom>
          <a:ln w="28440">
            <a:solidFill>
              <a:srgbClr val="00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83360" y="5532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LCCN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5040" y="4924440"/>
            <a:ext cx="52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ttps://sites.google.com/site/lccngroup/meetings/pre-bof-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96920" y="5932440"/>
            <a:ext cx="512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ttps://sites.google.com/site/lccngroup/meetings/meeting-ietf-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03640" y="4508640"/>
            <a:ext cx="360360" cy="865080"/>
          </a:xfrm>
          <a:custGeom>
            <a:avLst/>
            <a:gdLst/>
            <a:ahLst/>
            <a:rect l="l" t="t" r="r" b="b"/>
            <a:pathLst>
              <a:path w="227" h="499">
                <a:moveTo>
                  <a:pt x="0" y="0"/>
                </a:moveTo>
                <a:lnTo>
                  <a:pt x="227" y="0"/>
                </a:lnTo>
                <a:lnTo>
                  <a:pt x="227" y="499"/>
                </a:lnTo>
                <a:lnTo>
                  <a:pt x="0" y="499"/>
                </a:lnTo>
              </a:path>
            </a:pathLst>
          </a:custGeom>
          <a:noFill/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740720" y="5516640"/>
            <a:ext cx="360360" cy="865080"/>
          </a:xfrm>
          <a:custGeom>
            <a:avLst/>
            <a:gdLst/>
            <a:ahLst/>
            <a:rect l="l" t="t" r="r" b="b"/>
            <a:pathLst>
              <a:path w="227" h="499">
                <a:moveTo>
                  <a:pt x="0" y="0"/>
                </a:moveTo>
                <a:lnTo>
                  <a:pt x="227" y="0"/>
                </a:lnTo>
                <a:lnTo>
                  <a:pt x="227" y="499"/>
                </a:lnTo>
                <a:lnTo>
                  <a:pt x="0" y="499"/>
                </a:lnTo>
              </a:path>
            </a:pathLst>
          </a:custGeom>
          <a:noFill/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90A9-FCC6-4C6D-B47D-CF8462975D1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83842-AE0D-4B21-809D-345501570C26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nsolas"/>
              </a:rPr>
              <a:t>Research Space/Domains</a:t>
            </a: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523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1520" indent="-281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odle poll (25, about 50% of participants)</a:t>
            </a: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marL="281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marL="281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marL="281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marL="281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marL="281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marL="281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olas"/>
            </a:endParaRPr>
          </a:p>
          <a:p>
            <a:pPr lvl="1" marL="741600" indent="-273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Outco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several people will present state-of-the-art/challenges in these selected experimental domains during LCCN meeting @ IETF 81   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  <a:p>
            <a:pPr lvl="1" marL="741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olas"/>
            </a:endParaRPr>
          </a:p>
          <a:p>
            <a:pPr lvl="1" marL="741600" indent="-273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 research challenges and potentials wrt application of various learning models and techniques inside each of these domains and between domains (specialization vs generalization)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  <a:p>
            <a:pPr lvl="1" marL="741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olas"/>
            </a:endParaRPr>
          </a:p>
          <a:p>
            <a:pPr lvl="1" marL="741600" indent="-273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chitectural baseline (common principles, control model, etc.)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  <a:p>
            <a:pPr lvl="1" marL="74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539640" y="1749600"/>
          <a:ext cx="8242560" cy="1823760"/>
        </p:xfrm>
        <a:graphic>
          <a:graphicData uri="http://schemas.openxmlformats.org/drawingml/2006/table">
            <a:tbl>
              <a:tblPr/>
              <a:tblGrid>
                <a:gridCol w="1320840"/>
                <a:gridCol w="1384200"/>
                <a:gridCol w="1384560"/>
                <a:gridCol w="1384200"/>
                <a:gridCol w="1384200"/>
                <a:gridCol w="1384560"/>
              </a:tblGrid>
              <a:tr h="155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Network self-defense (incl. distributed intrusion/attack detection, distributed anomaly detection, etc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uting (incl. traffic engineering, resiliency, stability, etc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Control of optical net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obile/Ad-Hoc/Sensor net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Other Sugges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4E3A-60A8-4791-9DEF-B739DB38D1C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94220-4D29-4D92-90B5-D206C048FE17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Consolas"/>
              </a:rPr>
              <a:t>LCCN Initiative</a:t>
            </a:r>
            <a:endParaRPr b="1" lang="en-US" sz="2600" spc="-1" strike="noStrike">
              <a:solidFill>
                <a:srgbClr val="0033cc"/>
              </a:solidFill>
              <a:latin typeface="Consola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98984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alibri"/>
              </a:rPr>
              <a:t>One-line abstract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learning-based control for network systems to automatically and timely adapt to network environment and running conditions over time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alibri"/>
              </a:rPr>
              <a:t>Descrip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&lt;https://sites.google.com/site/lccngroup/&gt;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alibri"/>
              </a:rPr>
              <a:t>LCCN Meet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Wednesday July 27th from 1:00 to 3:00PM (303AB)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  <a:p>
            <a:pPr marL="28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oals (of this meeting)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  <a:p>
            <a:pPr lvl="1" marL="757080" indent="-279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research challenges &amp; potentials when applying learning to i) Routing (incl. traffic engineering, resiliency, stability, etc.), ii) Network self-defense (incl. distributed intrusion/attack detection, distributed anomaly detection, etc.), iii) Mobile/ad-hoc/sensor networks. </a:t>
            </a:r>
            <a:endParaRPr b="0" lang="en-US" sz="1800" spc="-1" strike="noStrike">
              <a:solidFill>
                <a:srgbClr val="000000"/>
              </a:solidFill>
              <a:latin typeface="Consolas"/>
            </a:endParaRPr>
          </a:p>
          <a:p>
            <a:pPr lvl="1" marL="757080" indent="-279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ess level of interest to initiate research on them</a:t>
            </a:r>
            <a:endParaRPr b="0" lang="en-US" sz="1800" spc="-1" strike="noStrike">
              <a:solidFill>
                <a:srgbClr val="000000"/>
              </a:solidFill>
              <a:latin typeface="Consolas"/>
            </a:endParaRPr>
          </a:p>
          <a:p>
            <a:pPr lvl="1" marL="757080" indent="-279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 if IRTF is the right place to conduct such research work </a:t>
            </a:r>
            <a:endParaRPr b="0" lang="en-US" sz="1800" spc="-1" strike="noStrike">
              <a:solidFill>
                <a:srgbClr val="000000"/>
              </a:solidFill>
              <a:latin typeface="Consolas"/>
            </a:endParaRPr>
          </a:p>
          <a:p>
            <a:pPr lvl="1" marL="757080" indent="-279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readiness for opening an IRTF Research Group by IETF 82</a:t>
            </a:r>
            <a:endParaRPr b="0" lang="en-US" sz="1800" spc="-1" strike="noStrike">
              <a:solidFill>
                <a:srgbClr val="000000"/>
              </a:solidFill>
              <a:latin typeface="Consolas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alibri"/>
              </a:rPr>
              <a:t>Agend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&lt;https://sites.google.com/site/lccngroup/bof-description-and-agenda&gt;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alibri"/>
              </a:rPr>
              <a:t>Problem statement I-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draft-tavernier-irtf-lccn-problem-statement-01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t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&lt;http://groups.google.com/group/lccn/&gt;</a:t>
            </a: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  <a:p>
            <a:pPr marL="28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43C-FD7F-4A39-9C6D-4F1A7E670CA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9A410-7385-4ED3-BB96-8F0D8B51B546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nsolas"/>
              </a:rPr>
              <a:t>LCCN Initiative </a:t>
            </a:r>
            <a:endParaRPr b="1" lang="en-US" sz="2800" spc="-1" strike="noStrike">
              <a:solidFill>
                <a:srgbClr val="0033cc"/>
              </a:solidFill>
              <a:latin typeface="Consolas"/>
            </a:endParaRPr>
          </a:p>
        </p:txBody>
      </p:sp>
      <p:pic>
        <p:nvPicPr>
          <p:cNvPr id="346" name="Chart 5" descr=""/>
          <p:cNvPicPr/>
          <p:nvPr/>
        </p:nvPicPr>
        <p:blipFill>
          <a:blip r:embed="rId1"/>
          <a:stretch/>
        </p:blipFill>
        <p:spPr>
          <a:xfrm>
            <a:off x="450720" y="1530360"/>
            <a:ext cx="8455320" cy="51386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909800" y="1100160"/>
            <a:ext cx="56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CCN Mailing list countries (60+ memb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2E8-FA4B-4EFC-89C3-B8523E2A0C0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DCC5A-501C-48DE-B556-D3F4E915E441}" type="datetime1">
              <a:rPr lang="en-US"/>
              <a:t>07/30/26</a:t>
            </a:fld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0:51:50Z</dcterms:created>
  <dc:creator>Dimitri Papadimitriou</dc:creator>
  <dc:description/>
  <dc:language>en-US</dc:language>
  <cp:lastModifiedBy>papadimitriou dimitri</cp:lastModifiedBy>
  <dcterms:modified xsi:type="dcterms:W3CDTF">2011-07-26T22:15:06Z</dcterms:modified>
  <cp:revision>99</cp:revision>
  <dc:subject/>
  <dc:title>FP7 ECODE Project</dc:title>
</cp:coreProperties>
</file>