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B9F8-20D5-4E1D-BC6D-70AF2EB56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60F4-6B93-4688-A84C-FD6F577AC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A7C5-B488-4A7B-AF69-F10B644E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EFF9-E788-458B-9351-D4DE22E1A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685800" y="2960640"/>
            <a:ext cx="54864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v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 traditional telephony networks the focus was on connecting wires. The major breakthrough was moving to automatic switc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 Internet the focus has been on interconnecting nodes via a packet switched network. The original design did not take mobility and security into acc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 the Future Internet, which SAIL addresses, the vision is to focus on networking of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Networking of Inform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t is the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atio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that is important to users, not the n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334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nd the quality and properties of tha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Where it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ame fro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is less impor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334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s long as it has the desired properties, including authen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s the architecture focuses on the information objects themselves the underlying network infrastructure needs to transparently support things like mobility, multihoming and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3B1-C725-4E7A-9D08-54B458CF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000-7A77-4587-A40B-D2B253A3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64158-2A9F-41E1-9083-35D156AD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DE930-62DE-4614-8B8B-62EF00F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45939-6136-46B8-8435-4233F38A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13F0D-DD14-4950-A055-D1557F0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F9A46-7F4B-4514-AEBE-6FDFDAA0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03D12-8B2E-47EB-A320-B051A83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E783-477D-4183-A3DD-9426A972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95B0A-1FFA-4855-AE6B-BA087638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A6F3E-E003-42D1-91F3-EC7EEF44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B7268-63CA-4DBC-9D4B-8A343275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5D4-8652-4943-9C8B-9BF4A29C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8452C-7D89-482A-8D9A-C04F1F82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0E89E-4051-47CE-812E-8FEF13C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67141-3178-44D9-B6F3-9DABD73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9BA7D-2F43-40A0-B8AD-C8527685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B4127-C8CB-4D88-95BA-C7869722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702A3-5CB4-49A4-9553-F8B3E18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67EE5-C16C-41D4-8BDE-AC9E298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7B04C-326F-438E-9D5D-43BC120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2013D-BB13-46DF-87CB-2F36747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2AC26-9A15-4167-AE0D-3404CC32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C3B-BA1A-420D-B700-9764941F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AE766-DE23-4EDB-B3C9-CCD0806A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2DF5A-9E12-477F-B5F1-1634AC7C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FB02F-3C46-4AE9-AD47-657CF4E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D6367-B7BA-46BD-A218-37750B80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C455E-2DCD-43CB-AA12-6E6C540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E35CC-29DA-4B6D-96DA-E25AF3C9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620EC-9E79-4114-A1E3-6EAE5D54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AF6EB-BF55-44C3-AF2D-FE3FB8B6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41FF7-E032-41DC-965C-4AE6CD2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B1E27-7BC8-42CB-A558-531045E0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3DD7-D9A9-47BF-AF78-9BDDD667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5740F-D9FB-4989-997E-7D18D178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DD9AE-BA08-4D28-BFD1-2934DD8C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FABB-7024-4F3F-8B18-6DD03C5B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5A5A3-2543-4145-BE8F-D44B06EF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954B8-3144-4B9D-A45F-295BDF1D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B6F26-43CE-4313-9A11-FAA67282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76276-42D6-406C-BCE6-28AED031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58426-CEE0-4598-9DF0-BA3722E8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C34E0-B1AB-49A7-8FDA-E5B473A4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E394E-2A93-4AD1-A1FE-D7470A3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A857-D419-497A-89D3-B3BA670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C3CA5-3861-4336-B162-DA2FBA3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825FA-AE9C-48CA-85DC-D49646D2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AC6D0-233A-4DDA-848E-15738E80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13B88-42AA-461C-AA4A-78440CA3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653B7-00B8-4981-8F7D-E9D90BDF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15BD-B2ED-4492-B922-BFF1A82D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4F11-1E84-497B-A237-18D2A85B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FAF3-D703-4547-A991-FE396D4F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9325-90AA-4984-81D2-287417F8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EE6-0DD0-480B-A57F-E1088F8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3F2-812E-40DB-BCDA-53DAF7F7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6574-B578-4A93-89E9-D39AE24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CD0D-2FFB-42C6-BEC2-139CB02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9D0B-C22F-43B7-83E8-CA0BA27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BBF-3FC5-4B1B-A12D-EFB28703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4788-F4BD-4A45-9A89-F7946AF1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1A69-095F-4069-BAD1-E73F7B14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47C3-76D0-412F-A6A1-C7C97C5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8160-9F7E-423C-B87B-134E0757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D1DA-3362-4D51-81FC-71CAD81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A974-F982-495E-9234-051F4DB3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731-F520-4523-8D2D-230DBC25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272F-6655-4233-ABCE-E1FF32A9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40B8-32CA-41D9-9C99-39919901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943C-4D48-4ED9-B951-6479715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5D5D-32BC-4503-9336-F52E337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1CBC-A84D-47D7-B104-555278D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AE98-7DF5-4ECF-8F6B-D742F0DC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1212-018F-49AE-ABB4-BA0FAC2D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23BA-1FF2-42E2-86EC-D53A1222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200D-8395-425F-BC9D-15A4519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C4FF-E81C-4A0A-BFF6-64C4DAA9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AF7-9118-44FE-AA42-2BA471ED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177EA-03D0-437B-9CFB-26C127BA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01D9-48E4-4AF1-BD56-8F59E57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D023-4930-4ABB-9ABC-2D9760D9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CD65D-EEF6-43F9-9DF4-250C589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666E-2A88-4E69-A80C-0BB22E9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5C6B-B03E-4ADA-8CB0-C74950F6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B09B-9F68-47C0-86F1-98247E3F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99B6-3D74-42A5-9BF4-94B117C7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6B4E8-2104-4993-84C0-4E35D35B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C750F-4DE7-405D-8E78-A9A7B032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163-A908-43E2-8E92-57C4A5DB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D888-4604-4C88-BB01-1445C7A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98E07-55DB-4F73-A634-F3EF819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D227-5EC0-44A4-A08A-4646F941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BB9C-B327-4F38-B514-EF5DE99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B451-13E4-4543-BD39-D6627EC6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949D-0311-4702-BCC7-1DEC78F6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9813-C8BE-4806-A7BE-6FEF7DA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C3A8-B5B6-415A-B3A2-DBDFCB2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BA6B-2F75-45DE-8377-A102E99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73B8E-3A16-4C1E-83FE-EF6E258E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148-CD6F-4478-9D3F-2DB170B6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77C73-4837-48E1-BC70-2C86B86A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06BA-A769-44E5-BAE8-87A6F803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88F47-63AB-422E-8975-75965E0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1DFD-AB58-4E93-8BA1-03E0581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D3573-3B94-4DB5-8981-A839C547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DD75-3BCE-47F8-9462-BB81C741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ED65-C27C-4FEE-8322-6C63872F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70676-CBB7-47F7-AF7B-9963D8C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34ABF-7753-4373-8DDF-1BA76CAE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85B5-7354-4C88-9C63-C8DDD56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FDB-8871-44BF-9460-3361FC6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C0E6-DFC0-409A-85CB-08670EF8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9260F-E194-4631-A00D-D214CC2B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A4451-B2C7-4D5C-9F44-EE150408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E95B-8119-441F-B074-778F028B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25B9-D36B-4E97-8DF6-A951FAA0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76B72-D842-4332-90F1-CDD9CCC1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7CA6A-D0BB-490F-BC70-C1ADF29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E1D78-8BC0-43EB-982A-00084E71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2F17A-AFFA-4F70-8FAB-07285BC3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0B7EC-EA13-41A9-85A6-CAE1C82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274-2013-4368-8B4E-D0A405A5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AC73-6574-46E6-9F88-A02585BC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58C75-F8C2-4CC0-95ED-B8CC176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C866-15C8-4ED3-9412-AE1B0E83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2FB3E-BF6D-4FFA-8090-F4D894B7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807A-AF08-4C94-A575-3CFC5FDD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A6F24-8A77-487D-A36B-DDB8632F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A5CCD-4960-4263-A74E-9ED6058B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5ACF3-274A-4612-8C17-74145AC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D75CA-2566-4C59-B51B-B08F3341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7EE76-EDD4-4EF8-B349-65FB626A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4C4-C082-48F9-B7DA-FD77395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B7A0-E3B3-44F6-827A-5737FCE5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0660D-A8FE-4B10-91DC-34228BE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38D22-3376-4596-A1D6-5E995A7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27FF7-0B31-4D8A-8E28-C52C893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6EFC9-BB36-4189-BACA-2806E15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9C270-A1F1-4DF8-A600-F737BD6A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C871C-E6A4-425B-A56F-0D60370E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09A7E-02D4-47A7-BE8B-130318BF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FDE97-8BD9-4120-9BE7-9FCC8ED7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5379F-3DFD-4D3B-86AB-0685FE6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0D43-584B-40B4-AEB6-C05D5A20E8A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C628-E9A4-49EB-8A3B-79A8C6917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D3E4-CF72-41E0-938C-426AE6936B0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474E-1B0F-4A64-97D9-F1778502F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BFB-0322-44AC-9EB1-91E4A1775EE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59BE-BC93-4650-A324-BB8294E45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D254-8DE8-4E51-8482-7C03A3D5099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C209-2464-4F42-B18F-AF1C017EE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2B1-A849-43B9-89C0-E44CB3D8B94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2999-7423-412F-AA9E-127E9C819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1-07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AE9-DD55-44C5-883C-104E3FF8E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C692-00AE-419F-8EED-FBABD8325EE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5C22-B26F-4734-BE72-9A2A93457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05F4-BD19-4BDC-A453-2D92BD0CCB4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C9FD-A274-48BC-AA78-B877DC978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A0F-6010-4BD8-9A8A-70E4B30C50C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4C6-8DEE-4EB5-9CF3-13D3F3494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8BCA-A3FB-404A-B26D-34C4884D314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3216-0364-48F6-91B4-8F606711B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43ED-6513-4A84-B7C6-6E263571950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29BF-45F1-4FC6-8F94-77298E225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7C35-3BA2-4AF1-A06C-428CA6906ED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AC72-3825-44CA-8D84-BE7336E8F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7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-Centric Networ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IRTF RG</a:t>
            </a:r>
            <a:br>
              <a:rPr sz="3200"/>
            </a:br>
            <a:br>
              <a:rPr sz="32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irk.Kutscher@neclab.eu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erje.Ohlman@ericsson.com</a:t>
            </a:r>
            <a:br>
              <a:rPr sz="2600"/>
            </a:br>
            <a:br>
              <a:rPr sz="3200"/>
            </a:br>
            <a:br>
              <a:rPr sz="32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5300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RTF Open Meeting at IETF-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FF8C-9565-47B9-BFC4-4E5763BA5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NRG current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457200" y="15238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ll attended bar meeting in Prag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CN-interest mailing list: 130 subscri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ositive feedback from all research projects in the area (that we heard fr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itial contacts with IRTF chairs Aaron Falk (previous) and Lars Eggert (current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positive feed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ICNRG proposal was discussed at a side meeting Tuesday in Queb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ter proposal on IRTF Wik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nning gro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gt Ahlgren, Stephen Farrell, Volker Hilt, Dirk Kutscher, 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örje Ohlman, Jörg Ott,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Vigoureux,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xia Zha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We Heard 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Bildobjekt 6" descr="logo.png"/>
          <p:cNvPicPr/>
          <p:nvPr/>
        </p:nvPicPr>
        <p:blipFill>
          <a:blip r:embed="rId1"/>
          <a:stretch/>
        </p:blipFill>
        <p:spPr>
          <a:xfrm>
            <a:off x="3419640" y="4437000"/>
            <a:ext cx="2469960" cy="17226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PURSUIT"/>
          <p:cNvPicPr/>
          <p:nvPr/>
        </p:nvPicPr>
        <p:blipFill>
          <a:blip r:embed="rId2"/>
          <a:stretch/>
        </p:blipFill>
        <p:spPr>
          <a:xfrm>
            <a:off x="7308720" y="1413000"/>
            <a:ext cx="1295640" cy="1323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http://www.comet-project.org/COMETLOGO.png"/>
          <p:cNvPicPr/>
          <p:nvPr/>
        </p:nvPicPr>
        <p:blipFill>
          <a:blip r:embed="rId3"/>
          <a:stretch/>
        </p:blipFill>
        <p:spPr>
          <a:xfrm>
            <a:off x="6372360" y="3767040"/>
            <a:ext cx="2603520" cy="62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9" descr=""/>
          <p:cNvPicPr/>
          <p:nvPr/>
        </p:nvPicPr>
        <p:blipFill>
          <a:blip r:embed="rId4"/>
          <a:stretch/>
        </p:blipFill>
        <p:spPr>
          <a:xfrm>
            <a:off x="611280" y="4110120"/>
            <a:ext cx="1439640" cy="13525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0" descr=""/>
          <p:cNvPicPr/>
          <p:nvPr/>
        </p:nvPicPr>
        <p:blipFill>
          <a:blip r:embed="rId5"/>
          <a:stretch/>
        </p:blipFill>
        <p:spPr>
          <a:xfrm>
            <a:off x="395280" y="2133720"/>
            <a:ext cx="3240000" cy="44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625" name="Picture 9" descr="C:\cygwin\home\kutscher\WP-B\publications\ietf-81\icnrg\connect-logo.png"/>
          <p:cNvPicPr/>
          <p:nvPr/>
        </p:nvPicPr>
        <p:blipFill>
          <a:blip r:embed="rId6"/>
          <a:stretch/>
        </p:blipFill>
        <p:spPr>
          <a:xfrm>
            <a:off x="3635280" y="242100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62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147-B76F-4344-BC27-C83DE7B4D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2"/>
          <p:cNvSpPr/>
          <p:nvPr/>
        </p:nvSpPr>
        <p:spPr>
          <a:xfrm>
            <a:off x="3285720" y="609300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ail-project.e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519840" y="263700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named-data.net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4"/>
          <p:cNvSpPr/>
          <p:nvPr/>
        </p:nvSpPr>
        <p:spPr>
          <a:xfrm>
            <a:off x="6411600" y="263700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fp7-pursuit.eu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5"/>
          <p:cNvSpPr/>
          <p:nvPr/>
        </p:nvSpPr>
        <p:spPr>
          <a:xfrm>
            <a:off x="3040560" y="386064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nr-connect.org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7"/>
          <p:cNvSpPr/>
          <p:nvPr/>
        </p:nvSpPr>
        <p:spPr>
          <a:xfrm>
            <a:off x="6219720" y="4386240"/>
            <a:ext cx="28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omet-project.org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8"/>
          <p:cNvSpPr/>
          <p:nvPr/>
        </p:nvSpPr>
        <p:spPr>
          <a:xfrm>
            <a:off x="-23400" y="5364000"/>
            <a:ext cx="30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ct-convergence.eu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N Community For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51920" y="1484280"/>
            <a:ext cx="6364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gstuhl seminar 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-Centric Networking; Dec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COMM-2011 Workshop on Information-Centric Networking; August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EE Communications Magazin Special Issue on IC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P open n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vier Computer Communications Journal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P to be publish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CN Interest Mailing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listserv.netlab.nec.de/mailman/listinfo/icn-inter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5340240" y="1484280"/>
            <a:ext cx="3772080" cy="800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"/>
          <p:cNvPicPr/>
          <p:nvPr/>
        </p:nvPicPr>
        <p:blipFill>
          <a:blip r:embed="rId2"/>
          <a:stretch/>
        </p:blipFill>
        <p:spPr>
          <a:xfrm>
            <a:off x="6588000" y="2565360"/>
            <a:ext cx="1219320" cy="1724040"/>
          </a:xfrm>
          <a:prstGeom prst="rect">
            <a:avLst/>
          </a:prstGeom>
          <a:ln w="0">
            <a:noFill/>
          </a:ln>
        </p:spPr>
      </p:pic>
      <p:sp>
        <p:nvSpPr>
          <p:cNvPr id="63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N side meeting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769-C974-4798-A385-7DCEACCC4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D03-3041-44BA-84FB-8123A7B6A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e Data Traf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2" descr="C:\Documents and Settings\kutscher\My Documents\Downloads\vnigraph (1).jpg"/>
          <p:cNvPicPr/>
          <p:nvPr/>
        </p:nvPicPr>
        <p:blipFill>
          <a:blip r:embed="rId1"/>
          <a:stretch/>
        </p:blipFill>
        <p:spPr>
          <a:xfrm>
            <a:off x="2571840" y="1655640"/>
            <a:ext cx="4000320" cy="47149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6443640" y="3500280"/>
            <a:ext cx="24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2010 to 201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26 increase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0F1D-7241-4485-9994-6DBF9678C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Data Traf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2" descr="C:\Documents and Settings\kutscher\My Documents\Downloads\vnigraph (2).jpg"/>
          <p:cNvPicPr/>
          <p:nvPr/>
        </p:nvPicPr>
        <p:blipFill>
          <a:blip r:embed="rId1"/>
          <a:stretch/>
        </p:blipFill>
        <p:spPr>
          <a:xfrm>
            <a:off x="2571840" y="2038320"/>
            <a:ext cx="4000320" cy="433404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6443640" y="3500280"/>
            <a:ext cx="24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2010 to 201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5 increase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0DC1-6E3E-489D-8847-C4C9FF1F1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Concep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Distribution Over the Internet Does No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http://www.openclipart.org/image/800px/svg_to_png/folder_video.png"/>
          <p:cNvPicPr/>
          <p:nvPr/>
        </p:nvPicPr>
        <p:blipFill>
          <a:blip r:embed="rId1"/>
          <a:stretch/>
        </p:blipFill>
        <p:spPr>
          <a:xfrm>
            <a:off x="1042920" y="155736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http://www.openclipart.org/image/800px/svg_to_png/folder_video.png"/>
          <p:cNvPicPr/>
          <p:nvPr/>
        </p:nvPicPr>
        <p:blipFill>
          <a:blip r:embed="rId2"/>
          <a:stretch/>
        </p:blipFill>
        <p:spPr>
          <a:xfrm>
            <a:off x="2484360" y="1557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http://www.openclipart.org/image/800px/svg_to_png/folder_video.png"/>
          <p:cNvPicPr/>
          <p:nvPr/>
        </p:nvPicPr>
        <p:blipFill>
          <a:blip r:embed="rId3"/>
          <a:stretch/>
        </p:blipFill>
        <p:spPr>
          <a:xfrm>
            <a:off x="3995640" y="155736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http://www.openclipart.org/image/800px/svg_to_png/folder_video.png"/>
          <p:cNvPicPr/>
          <p:nvPr/>
        </p:nvPicPr>
        <p:blipFill>
          <a:blip r:embed="rId4"/>
          <a:stretch/>
        </p:blipFill>
        <p:spPr>
          <a:xfrm>
            <a:off x="5508720" y="1557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http://www.openclipart.org/image/800px/svg_to_png/folder_video.png"/>
          <p:cNvPicPr/>
          <p:nvPr/>
        </p:nvPicPr>
        <p:blipFill>
          <a:blip r:embed="rId5"/>
          <a:stretch/>
        </p:blipFill>
        <p:spPr>
          <a:xfrm>
            <a:off x="6948360" y="155736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519" name="Cloud 9"/>
          <p:cNvSpPr/>
          <p:nvPr/>
        </p:nvSpPr>
        <p:spPr>
          <a:xfrm>
            <a:off x="4500720" y="2637000"/>
            <a:ext cx="1584000" cy="863280"/>
          </a:xfrm>
          <a:custGeom>
            <a:avLst/>
            <a:gdLst>
              <a:gd name="textAreaLeft" fmla="*/ 218160 w 1584000"/>
              <a:gd name="textAreaRight" fmla="*/ 1253160 w 1584000"/>
              <a:gd name="textAreaTop" fmla="*/ 130320 h 863280"/>
              <a:gd name="textAreaBottom" fmla="*/ 693000 h 863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loud 11"/>
          <p:cNvSpPr/>
          <p:nvPr/>
        </p:nvSpPr>
        <p:spPr>
          <a:xfrm>
            <a:off x="2987640" y="2637000"/>
            <a:ext cx="1584360" cy="863280"/>
          </a:xfrm>
          <a:custGeom>
            <a:avLst/>
            <a:gdLst>
              <a:gd name="textAreaLeft" fmla="*/ 218160 w 1584360"/>
              <a:gd name="textAreaRight" fmla="*/ 1253520 w 1584360"/>
              <a:gd name="textAreaTop" fmla="*/ 130320 h 863280"/>
              <a:gd name="textAreaBottom" fmla="*/ 693000 h 863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0"/>
          <p:cNvSpPr/>
          <p:nvPr/>
        </p:nvSpPr>
        <p:spPr>
          <a:xfrm>
            <a:off x="6227640" y="2781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ier 1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loud 12"/>
          <p:cNvSpPr/>
          <p:nvPr/>
        </p:nvSpPr>
        <p:spPr>
          <a:xfrm>
            <a:off x="395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loud 13"/>
          <p:cNvSpPr/>
          <p:nvPr/>
        </p:nvSpPr>
        <p:spPr>
          <a:xfrm>
            <a:off x="1619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loud 14"/>
          <p:cNvSpPr/>
          <p:nvPr/>
        </p:nvSpPr>
        <p:spPr>
          <a:xfrm>
            <a:off x="2843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loud 15"/>
          <p:cNvSpPr/>
          <p:nvPr/>
        </p:nvSpPr>
        <p:spPr>
          <a:xfrm>
            <a:off x="4067280" y="4076640"/>
            <a:ext cx="1081080" cy="576360"/>
          </a:xfrm>
          <a:custGeom>
            <a:avLst/>
            <a:gdLst>
              <a:gd name="textAreaLeft" fmla="*/ 149040 w 1081080"/>
              <a:gd name="textAreaRight" fmla="*/ 855360 w 10810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loud 16"/>
          <p:cNvSpPr/>
          <p:nvPr/>
        </p:nvSpPr>
        <p:spPr>
          <a:xfrm>
            <a:off x="5292720" y="4076640"/>
            <a:ext cx="1079640" cy="576360"/>
          </a:xfrm>
          <a:custGeom>
            <a:avLst/>
            <a:gdLst>
              <a:gd name="textAreaLeft" fmla="*/ 148680 w 1079640"/>
              <a:gd name="textAreaRight" fmla="*/ 854280 w 107964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loud 17"/>
          <p:cNvSpPr/>
          <p:nvPr/>
        </p:nvSpPr>
        <p:spPr>
          <a:xfrm>
            <a:off x="6516720" y="4076640"/>
            <a:ext cx="1079640" cy="576360"/>
          </a:xfrm>
          <a:custGeom>
            <a:avLst/>
            <a:gdLst>
              <a:gd name="textAreaLeft" fmla="*/ 148680 w 1079640"/>
              <a:gd name="textAreaRight" fmla="*/ 854280 w 107964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loud 18"/>
          <p:cNvSpPr/>
          <p:nvPr/>
        </p:nvSpPr>
        <p:spPr>
          <a:xfrm>
            <a:off x="7740720" y="4076640"/>
            <a:ext cx="1079280" cy="576360"/>
          </a:xfrm>
          <a:custGeom>
            <a:avLst/>
            <a:gdLst>
              <a:gd name="textAreaLeft" fmla="*/ 148680 w 1079280"/>
              <a:gd name="textAreaRight" fmla="*/ 853920 w 107928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9"/>
          <p:cNvSpPr/>
          <p:nvPr/>
        </p:nvSpPr>
        <p:spPr>
          <a:xfrm>
            <a:off x="6875640" y="472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http://www.openclipart.org/image/800px/svg_to_png/1309168682.png"/>
          <p:cNvPicPr/>
          <p:nvPr/>
        </p:nvPicPr>
        <p:blipFill>
          <a:blip r:embed="rId6"/>
          <a:stretch/>
        </p:blipFill>
        <p:spPr>
          <a:xfrm>
            <a:off x="39528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http://www.openclipart.org/image/800px/svg_to_png/1309168682.png"/>
          <p:cNvPicPr/>
          <p:nvPr/>
        </p:nvPicPr>
        <p:blipFill>
          <a:blip r:embed="rId7"/>
          <a:stretch/>
        </p:blipFill>
        <p:spPr>
          <a:xfrm>
            <a:off x="1014480" y="537372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http://www.openclipart.org/image/800px/svg_to_png/1309168682.png"/>
          <p:cNvPicPr/>
          <p:nvPr/>
        </p:nvPicPr>
        <p:blipFill>
          <a:blip r:embed="rId8"/>
          <a:stretch/>
        </p:blipFill>
        <p:spPr>
          <a:xfrm>
            <a:off x="158904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http://www.openclipart.org/image/800px/svg_to_png/1309168682.png"/>
          <p:cNvPicPr/>
          <p:nvPr/>
        </p:nvPicPr>
        <p:blipFill>
          <a:blip r:embed="rId9"/>
          <a:stretch/>
        </p:blipFill>
        <p:spPr>
          <a:xfrm>
            <a:off x="216540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http://www.openclipart.org/image/800px/svg_to_png/1309168682.png"/>
          <p:cNvPicPr/>
          <p:nvPr/>
        </p:nvPicPr>
        <p:blipFill>
          <a:blip r:embed="rId10"/>
          <a:stretch/>
        </p:blipFill>
        <p:spPr>
          <a:xfrm>
            <a:off x="277164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http://www.openclipart.org/image/800px/svg_to_png/1309168682.png"/>
          <p:cNvPicPr/>
          <p:nvPr/>
        </p:nvPicPr>
        <p:blipFill>
          <a:blip r:embed="rId11"/>
          <a:stretch/>
        </p:blipFill>
        <p:spPr>
          <a:xfrm>
            <a:off x="331776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http://www.openclipart.org/image/800px/svg_to_png/1309168682.png"/>
          <p:cNvPicPr/>
          <p:nvPr/>
        </p:nvPicPr>
        <p:blipFill>
          <a:blip r:embed="rId12"/>
          <a:stretch/>
        </p:blipFill>
        <p:spPr>
          <a:xfrm>
            <a:off x="389412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http://www.openclipart.org/image/800px/svg_to_png/1309168682.png"/>
          <p:cNvPicPr/>
          <p:nvPr/>
        </p:nvPicPr>
        <p:blipFill>
          <a:blip r:embed="rId13"/>
          <a:stretch/>
        </p:blipFill>
        <p:spPr>
          <a:xfrm>
            <a:off x="442764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http://www.openclipart.org/image/800px/svg_to_png/1309168682.png"/>
          <p:cNvPicPr/>
          <p:nvPr/>
        </p:nvPicPr>
        <p:blipFill>
          <a:blip r:embed="rId14"/>
          <a:stretch/>
        </p:blipFill>
        <p:spPr>
          <a:xfrm>
            <a:off x="497376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http://www.openclipart.org/image/800px/svg_to_png/1309168682.png"/>
          <p:cNvPicPr/>
          <p:nvPr/>
        </p:nvPicPr>
        <p:blipFill>
          <a:blip r:embed="rId15"/>
          <a:stretch/>
        </p:blipFill>
        <p:spPr>
          <a:xfrm>
            <a:off x="554976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http://www.openclipart.org/image/800px/svg_to_png/1309168682.png"/>
          <p:cNvPicPr/>
          <p:nvPr/>
        </p:nvPicPr>
        <p:blipFill>
          <a:blip r:embed="rId16"/>
          <a:stretch/>
        </p:blipFill>
        <p:spPr>
          <a:xfrm>
            <a:off x="6084720" y="5373720"/>
            <a:ext cx="605160" cy="6048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http://www.openclipart.org/image/800px/svg_to_png/1309168682.png"/>
          <p:cNvPicPr/>
          <p:nvPr/>
        </p:nvPicPr>
        <p:blipFill>
          <a:blip r:embed="rId17"/>
          <a:stretch/>
        </p:blipFill>
        <p:spPr>
          <a:xfrm>
            <a:off x="6600960" y="5373720"/>
            <a:ext cx="606240" cy="604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http://www.openclipart.org/image/800px/svg_to_png/1309168682.png"/>
          <p:cNvPicPr/>
          <p:nvPr/>
        </p:nvPicPr>
        <p:blipFill>
          <a:blip r:embed="rId18"/>
          <a:stretch/>
        </p:blipFill>
        <p:spPr>
          <a:xfrm>
            <a:off x="7176960" y="537372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http://www.openclipart.org/image/800px/svg_to_png/1309168682.png"/>
          <p:cNvPicPr/>
          <p:nvPr/>
        </p:nvPicPr>
        <p:blipFill>
          <a:blip r:embed="rId19"/>
          <a:stretch/>
        </p:blipFill>
        <p:spPr>
          <a:xfrm>
            <a:off x="7710480" y="5373720"/>
            <a:ext cx="606600" cy="604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http://www.openclipart.org/image/800px/svg_to_png/1309168682.png"/>
          <p:cNvPicPr/>
          <p:nvPr/>
        </p:nvPicPr>
        <p:blipFill>
          <a:blip r:embed="rId20"/>
          <a:stretch/>
        </p:blipFill>
        <p:spPr>
          <a:xfrm>
            <a:off x="54756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ttp://www.openclipart.org/image/800px/svg_to_png/1309168682.png"/>
          <p:cNvPicPr/>
          <p:nvPr/>
        </p:nvPicPr>
        <p:blipFill>
          <a:blip r:embed="rId21"/>
          <a:stretch/>
        </p:blipFill>
        <p:spPr>
          <a:xfrm>
            <a:off x="1166760" y="5877000"/>
            <a:ext cx="604800" cy="606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http://www.openclipart.org/image/800px/svg_to_png/1309168682.png"/>
          <p:cNvPicPr/>
          <p:nvPr/>
        </p:nvPicPr>
        <p:blipFill>
          <a:blip r:embed="rId22"/>
          <a:stretch/>
        </p:blipFill>
        <p:spPr>
          <a:xfrm>
            <a:off x="174132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http://www.openclipart.org/image/800px/svg_to_png/1309168682.png"/>
          <p:cNvPicPr/>
          <p:nvPr/>
        </p:nvPicPr>
        <p:blipFill>
          <a:blip r:embed="rId23"/>
          <a:stretch/>
        </p:blipFill>
        <p:spPr>
          <a:xfrm>
            <a:off x="231768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http://www.openclipart.org/image/800px/svg_to_png/1309168682.png"/>
          <p:cNvPicPr/>
          <p:nvPr/>
        </p:nvPicPr>
        <p:blipFill>
          <a:blip r:embed="rId24"/>
          <a:stretch/>
        </p:blipFill>
        <p:spPr>
          <a:xfrm>
            <a:off x="292428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http://www.openclipart.org/image/800px/svg_to_png/1309168682.png"/>
          <p:cNvPicPr/>
          <p:nvPr/>
        </p:nvPicPr>
        <p:blipFill>
          <a:blip r:embed="rId25"/>
          <a:stretch/>
        </p:blipFill>
        <p:spPr>
          <a:xfrm>
            <a:off x="347040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http://www.openclipart.org/image/800px/svg_to_png/1309168682.png"/>
          <p:cNvPicPr/>
          <p:nvPr/>
        </p:nvPicPr>
        <p:blipFill>
          <a:blip r:embed="rId26"/>
          <a:stretch/>
        </p:blipFill>
        <p:spPr>
          <a:xfrm>
            <a:off x="404640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http://www.openclipart.org/image/800px/svg_to_png/1309168682.png"/>
          <p:cNvPicPr/>
          <p:nvPr/>
        </p:nvPicPr>
        <p:blipFill>
          <a:blip r:embed="rId27"/>
          <a:stretch/>
        </p:blipFill>
        <p:spPr>
          <a:xfrm>
            <a:off x="457992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://www.openclipart.org/image/800px/svg_to_png/1309168682.png"/>
          <p:cNvPicPr/>
          <p:nvPr/>
        </p:nvPicPr>
        <p:blipFill>
          <a:blip r:embed="rId28"/>
          <a:stretch/>
        </p:blipFill>
        <p:spPr>
          <a:xfrm>
            <a:off x="5126040" y="5877000"/>
            <a:ext cx="606600" cy="606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http://www.openclipart.org/image/800px/svg_to_png/1309168682.png"/>
          <p:cNvPicPr/>
          <p:nvPr/>
        </p:nvPicPr>
        <p:blipFill>
          <a:blip r:embed="rId29"/>
          <a:stretch/>
        </p:blipFill>
        <p:spPr>
          <a:xfrm>
            <a:off x="570240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http://www.openclipart.org/image/800px/svg_to_png/1309168682.png"/>
          <p:cNvPicPr/>
          <p:nvPr/>
        </p:nvPicPr>
        <p:blipFill>
          <a:blip r:embed="rId30"/>
          <a:stretch/>
        </p:blipFill>
        <p:spPr>
          <a:xfrm>
            <a:off x="6237360" y="5877000"/>
            <a:ext cx="604800" cy="6062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http://www.openclipart.org/image/800px/svg_to_png/1309168682.png"/>
          <p:cNvPicPr/>
          <p:nvPr/>
        </p:nvPicPr>
        <p:blipFill>
          <a:blip r:embed="rId31"/>
          <a:stretch/>
        </p:blipFill>
        <p:spPr>
          <a:xfrm>
            <a:off x="6753240" y="5877000"/>
            <a:ext cx="606240" cy="6062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ttp://www.openclipart.org/image/800px/svg_to_png/1309168682.png"/>
          <p:cNvPicPr/>
          <p:nvPr/>
        </p:nvPicPr>
        <p:blipFill>
          <a:blip r:embed="rId32"/>
          <a:stretch/>
        </p:blipFill>
        <p:spPr>
          <a:xfrm>
            <a:off x="7329600" y="5877000"/>
            <a:ext cx="604800" cy="606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http://www.openclipart.org/image/800px/svg_to_png/1309168682.png"/>
          <p:cNvPicPr/>
          <p:nvPr/>
        </p:nvPicPr>
        <p:blipFill>
          <a:blip r:embed="rId33"/>
          <a:stretch/>
        </p:blipFill>
        <p:spPr>
          <a:xfrm>
            <a:off x="7862760" y="5877000"/>
            <a:ext cx="606600" cy="60624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0"/>
          <p:cNvSpPr/>
          <p:nvPr/>
        </p:nvSpPr>
        <p:spPr>
          <a:xfrm>
            <a:off x="3009960" y="2236680"/>
            <a:ext cx="766800" cy="3417840"/>
          </a:xfrm>
          <a:custGeom>
            <a:avLst/>
            <a:gdLst/>
            <a:ahLst/>
            <a:rect l="l" t="t" r="r" b="b"/>
            <a:pathLst>
              <a:path w="767919" h="3417903">
                <a:moveTo>
                  <a:pt x="0" y="3417903"/>
                </a:moveTo>
                <a:cubicBezTo>
                  <a:pt x="116149" y="2993994"/>
                  <a:pt x="232299" y="2570085"/>
                  <a:pt x="355107" y="2148396"/>
                </a:cubicBezTo>
                <a:cubicBezTo>
                  <a:pt x="477915" y="1726707"/>
                  <a:pt x="767919" y="1245833"/>
                  <a:pt x="736847" y="887767"/>
                </a:cubicBezTo>
                <a:cubicBezTo>
                  <a:pt x="705775" y="529701"/>
                  <a:pt x="437225" y="264850"/>
                  <a:pt x="168676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1"/>
          <p:cNvSpPr/>
          <p:nvPr/>
        </p:nvSpPr>
        <p:spPr>
          <a:xfrm>
            <a:off x="3160800" y="2246400"/>
            <a:ext cx="615960" cy="3363840"/>
          </a:xfrm>
          <a:custGeom>
            <a:avLst/>
            <a:gdLst/>
            <a:ahLst/>
            <a:rect l="l" t="t" r="r" b="b"/>
            <a:pathLst>
              <a:path w="615519" h="3364637">
                <a:moveTo>
                  <a:pt x="408373" y="3364637"/>
                </a:moveTo>
                <a:cubicBezTo>
                  <a:pt x="305540" y="2926672"/>
                  <a:pt x="202707" y="2488707"/>
                  <a:pt x="230820" y="2059620"/>
                </a:cubicBezTo>
                <a:cubicBezTo>
                  <a:pt x="258933" y="1630533"/>
                  <a:pt x="615519" y="1133383"/>
                  <a:pt x="577049" y="790113"/>
                </a:cubicBezTo>
                <a:cubicBezTo>
                  <a:pt x="538579" y="446843"/>
                  <a:pt x="269289" y="223421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"/>
          <p:cNvSpPr/>
          <p:nvPr/>
        </p:nvSpPr>
        <p:spPr>
          <a:xfrm>
            <a:off x="3160800" y="2246400"/>
            <a:ext cx="1503360" cy="3249360"/>
          </a:xfrm>
          <a:custGeom>
            <a:avLst/>
            <a:gdLst/>
            <a:ahLst/>
            <a:rect l="l" t="t" r="r" b="b"/>
            <a:pathLst>
              <a:path w="1503285" h="3249228">
                <a:moveTo>
                  <a:pt x="1003177" y="3249228"/>
                </a:moveTo>
                <a:cubicBezTo>
                  <a:pt x="1253231" y="2906698"/>
                  <a:pt x="1503285" y="2564168"/>
                  <a:pt x="1429305" y="2148397"/>
                </a:cubicBezTo>
                <a:cubicBezTo>
                  <a:pt x="1355325" y="1732626"/>
                  <a:pt x="797511" y="1112668"/>
                  <a:pt x="559294" y="754602"/>
                </a:cubicBezTo>
                <a:cubicBezTo>
                  <a:pt x="321077" y="396536"/>
                  <a:pt x="160538" y="198268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53"/>
          <p:cNvSpPr/>
          <p:nvPr/>
        </p:nvSpPr>
        <p:spPr>
          <a:xfrm>
            <a:off x="3160800" y="2236680"/>
            <a:ext cx="1581120" cy="3276720"/>
          </a:xfrm>
          <a:custGeom>
            <a:avLst/>
            <a:gdLst/>
            <a:ahLst/>
            <a:rect l="l" t="t" r="r" b="b"/>
            <a:pathLst>
              <a:path w="1581706" h="3275860">
                <a:moveTo>
                  <a:pt x="1544715" y="3275860"/>
                </a:moveTo>
                <a:cubicBezTo>
                  <a:pt x="1563210" y="2900038"/>
                  <a:pt x="1581706" y="2524217"/>
                  <a:pt x="1420428" y="2112885"/>
                </a:cubicBezTo>
                <a:cubicBezTo>
                  <a:pt x="1259150" y="1701553"/>
                  <a:pt x="813787" y="1160015"/>
                  <a:pt x="577049" y="807868"/>
                </a:cubicBezTo>
                <a:cubicBezTo>
                  <a:pt x="340311" y="455721"/>
                  <a:pt x="170155" y="227860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54"/>
          <p:cNvSpPr/>
          <p:nvPr/>
        </p:nvSpPr>
        <p:spPr>
          <a:xfrm>
            <a:off x="3168720" y="2228760"/>
            <a:ext cx="2095560" cy="3311640"/>
          </a:xfrm>
          <a:custGeom>
            <a:avLst/>
            <a:gdLst/>
            <a:ahLst/>
            <a:rect l="l" t="t" r="r" b="b"/>
            <a:pathLst>
              <a:path w="2095130" h="3311371">
                <a:moveTo>
                  <a:pt x="2095130" y="3311371"/>
                </a:moveTo>
                <a:cubicBezTo>
                  <a:pt x="1871708" y="2913355"/>
                  <a:pt x="1648287" y="2515339"/>
                  <a:pt x="1393794" y="2095130"/>
                </a:cubicBezTo>
                <a:cubicBezTo>
                  <a:pt x="1139301" y="1674921"/>
                  <a:pt x="800470" y="1139301"/>
                  <a:pt x="568171" y="790113"/>
                </a:cubicBezTo>
                <a:cubicBezTo>
                  <a:pt x="335872" y="440925"/>
                  <a:pt x="167936" y="220462"/>
                  <a:pt x="0" y="0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852C-A948-4540-9371-DAE844896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with Today’s Net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6A8A-785A-4872-A2A8-8732D89B1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179280" y="148428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Ls and IP addresses are overloaded with locator and identifier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ing information = changing it‘s name =&gt; 404 file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onsistent way to keep track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ntical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consiste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entation of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copy-independent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dissemination is in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‘t benefit from existing copies (e.g. local copy on client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“anycast”: e.g., get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ar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blems lik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ash-Crowd effect, Denial of Servic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with Today’s Net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C43F-4AB2-4DB8-AEBD-DAC9B82CA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79280" y="134136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trust a copy received from an untrusted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urity is host-cen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inly based 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uring channe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encryption)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sting serv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authentication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pplication and content provider indepen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DNs focus on web content distributions for major p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about other applications and other play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3000"/>
              </a:lnSpc>
              <a:spcBef>
                <a:spcPts val="550"/>
              </a:spcBef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1760" y="-27360"/>
            <a:ext cx="7753320" cy="1235160"/>
          </a:xfrm>
          <a:prstGeom prst="rect">
            <a:avLst/>
          </a:prstGeom>
          <a:noFill/>
          <a:ln w="0">
            <a:noFill/>
          </a:ln>
        </p:spPr>
        <p:txBody>
          <a:bodyPr tIns="64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 Centric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ounded Rectangle 34"/>
          <p:cNvSpPr/>
          <p:nvPr/>
        </p:nvSpPr>
        <p:spPr>
          <a:xfrm>
            <a:off x="3073320" y="2711520"/>
            <a:ext cx="763560" cy="1028520"/>
          </a:xfrm>
          <a:custGeom>
            <a:avLst/>
            <a:gdLst>
              <a:gd name="textAreaLeft" fmla="*/ 37080 w 763560"/>
              <a:gd name="textAreaRight" fmla="*/ 726480 w 763560"/>
              <a:gd name="textAreaTop" fmla="*/ 37080 h 1028520"/>
              <a:gd name="textAreaBottom" fmla="*/ 991440 h 1028520"/>
            </a:gdLst>
            <a:ahLst/>
            <a:rect l="textAreaLeft" t="textAreaTop" r="textAreaRight" b="textAreaBottom"/>
            <a:pathLst>
              <a:path w="21600" h="29092">
                <a:moveTo>
                  <a:pt x="3600" y="0"/>
                </a:moveTo>
                <a:arcTo wR="3600" hR="3600" stAng="16200000" swAng="-5400000"/>
                <a:lnTo>
                  <a:pt x="0" y="25492"/>
                </a:lnTo>
                <a:arcTo wR="3600" hR="3600" stAng="10800000" swAng="-5400000"/>
                <a:lnTo>
                  <a:pt x="18000" y="29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ounded Rectangle 35"/>
          <p:cNvSpPr/>
          <p:nvPr/>
        </p:nvSpPr>
        <p:spPr>
          <a:xfrm>
            <a:off x="3960720" y="2712960"/>
            <a:ext cx="763560" cy="1028880"/>
          </a:xfrm>
          <a:custGeom>
            <a:avLst/>
            <a:gdLst>
              <a:gd name="textAreaLeft" fmla="*/ 37080 w 763560"/>
              <a:gd name="textAreaRight" fmla="*/ 726480 w 763560"/>
              <a:gd name="textAreaTop" fmla="*/ 37080 h 1028880"/>
              <a:gd name="textAreaBottom" fmla="*/ 991800 h 1028880"/>
            </a:gdLst>
            <a:ahLst/>
            <a:rect l="textAreaLeft" t="textAreaTop" r="textAreaRight" b="textAreaBottom"/>
            <a:pathLst>
              <a:path w="21600" h="29102">
                <a:moveTo>
                  <a:pt x="3600" y="0"/>
                </a:moveTo>
                <a:arcTo wR="3600" hR="3600" stAng="16200000" swAng="-5400000"/>
                <a:lnTo>
                  <a:pt x="0" y="25502"/>
                </a:lnTo>
                <a:arcTo wR="3600" hR="3600" stAng="10800000" swAng="-5400000"/>
                <a:lnTo>
                  <a:pt x="18000" y="291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ounded Rectangle 36"/>
          <p:cNvSpPr/>
          <p:nvPr/>
        </p:nvSpPr>
        <p:spPr>
          <a:xfrm>
            <a:off x="4848120" y="2714760"/>
            <a:ext cx="763560" cy="1028520"/>
          </a:xfrm>
          <a:custGeom>
            <a:avLst/>
            <a:gdLst>
              <a:gd name="textAreaLeft" fmla="*/ 37080 w 763560"/>
              <a:gd name="textAreaRight" fmla="*/ 726480 w 763560"/>
              <a:gd name="textAreaTop" fmla="*/ 37080 h 1028520"/>
              <a:gd name="textAreaBottom" fmla="*/ 991440 h 1028520"/>
            </a:gdLst>
            <a:ahLst/>
            <a:rect l="textAreaLeft" t="textAreaTop" r="textAreaRight" b="textAreaBottom"/>
            <a:pathLst>
              <a:path w="21600" h="29092">
                <a:moveTo>
                  <a:pt x="3600" y="0"/>
                </a:moveTo>
                <a:arcTo wR="3600" hR="3600" stAng="16200000" swAng="-5400000"/>
                <a:lnTo>
                  <a:pt x="0" y="25492"/>
                </a:lnTo>
                <a:arcTo wR="3600" hR="3600" stAng="10800000" swAng="-5400000"/>
                <a:lnTo>
                  <a:pt x="18000" y="29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5707080" y="969840"/>
            <a:ext cx="3284640" cy="13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56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formation Centri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cus on </a:t>
            </a:r>
            <a:br>
              <a:rPr sz="1600"/>
            </a:br>
            <a:r>
              <a:rPr b="0" i="1" lang="en-GB" sz="1600" spc="-1" strike="noStrike">
                <a:solidFill>
                  <a:srgbClr val="ad2323"/>
                </a:solidFill>
                <a:latin typeface="Calibri"/>
              </a:rPr>
              <a:t>informatio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600" spc="-1" strike="noStrike">
                <a:solidFill>
                  <a:srgbClr val="ad2323"/>
                </a:solidFill>
                <a:latin typeface="Calibri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304920" y="2482920"/>
            <a:ext cx="2299680" cy="1650600"/>
            <a:chOff x="304920" y="2482920"/>
            <a:chExt cx="2299680" cy="1650600"/>
          </a:xfrm>
        </p:grpSpPr>
        <p:pic>
          <p:nvPicPr>
            <p:cNvPr id="579" name="Picture 4" descr=""/>
            <p:cNvPicPr/>
            <p:nvPr/>
          </p:nvPicPr>
          <p:blipFill>
            <a:blip r:embed="rId1"/>
            <a:stretch/>
          </p:blipFill>
          <p:spPr>
            <a:xfrm>
              <a:off x="398160" y="367056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5" descr=""/>
            <p:cNvPicPr/>
            <p:nvPr/>
          </p:nvPicPr>
          <p:blipFill>
            <a:blip r:embed="rId2"/>
            <a:stretch/>
          </p:blipFill>
          <p:spPr>
            <a:xfrm>
              <a:off x="1610280" y="373248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6" descr=""/>
            <p:cNvPicPr/>
            <p:nvPr/>
          </p:nvPicPr>
          <p:blipFill>
            <a:blip r:embed="rId3"/>
            <a:stretch/>
          </p:blipFill>
          <p:spPr>
            <a:xfrm>
              <a:off x="1330920" y="2482920"/>
              <a:ext cx="3391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" descr=""/>
            <p:cNvPicPr/>
            <p:nvPr/>
          </p:nvPicPr>
          <p:blipFill>
            <a:blip r:embed="rId4"/>
            <a:stretch/>
          </p:blipFill>
          <p:spPr>
            <a:xfrm>
              <a:off x="304920" y="2818800"/>
              <a:ext cx="3391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8" descr=""/>
            <p:cNvPicPr/>
            <p:nvPr/>
          </p:nvPicPr>
          <p:blipFill>
            <a:blip r:embed="rId5"/>
            <a:stretch/>
          </p:blipFill>
          <p:spPr>
            <a:xfrm>
              <a:off x="990000" y="3182040"/>
              <a:ext cx="3391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9" descr=""/>
            <p:cNvPicPr/>
            <p:nvPr/>
          </p:nvPicPr>
          <p:blipFill>
            <a:blip r:embed="rId6"/>
            <a:stretch/>
          </p:blipFill>
          <p:spPr>
            <a:xfrm>
              <a:off x="1641960" y="315180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10" descr=""/>
            <p:cNvPicPr/>
            <p:nvPr/>
          </p:nvPicPr>
          <p:blipFill>
            <a:blip r:embed="rId7"/>
            <a:stretch/>
          </p:blipFill>
          <p:spPr>
            <a:xfrm>
              <a:off x="2109960" y="2665440"/>
              <a:ext cx="339480" cy="4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11" descr=""/>
            <p:cNvPicPr/>
            <p:nvPr/>
          </p:nvPicPr>
          <p:blipFill>
            <a:blip r:embed="rId8"/>
            <a:stretch/>
          </p:blipFill>
          <p:spPr>
            <a:xfrm>
              <a:off x="2265120" y="3334320"/>
              <a:ext cx="339480" cy="401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87" name="AutoShape 12"/>
            <p:cNvCxnSpPr/>
            <p:nvPr/>
          </p:nvCxnSpPr>
          <p:spPr>
            <a:xfrm flipV="1">
              <a:off x="738000" y="3582720"/>
              <a:ext cx="42264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8" name="AutoShape 13"/>
            <p:cNvCxnSpPr/>
            <p:nvPr/>
          </p:nvCxnSpPr>
          <p:spPr>
            <a:xfrm flipH="1" flipV="1">
              <a:off x="643320" y="3018600"/>
              <a:ext cx="346680" cy="36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9" name="AutoShape 14"/>
            <p:cNvCxnSpPr/>
            <p:nvPr/>
          </p:nvCxnSpPr>
          <p:spPr>
            <a:xfrm flipV="1">
              <a:off x="644040" y="2682000"/>
              <a:ext cx="687600" cy="33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0" name="AutoShape 15"/>
            <p:cNvCxnSpPr/>
            <p:nvPr/>
          </p:nvCxnSpPr>
          <p:spPr>
            <a:xfrm flipH="1">
              <a:off x="1159200" y="2883960"/>
              <a:ext cx="34164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1" name="AutoShape 16"/>
            <p:cNvCxnSpPr/>
            <p:nvPr/>
          </p:nvCxnSpPr>
          <p:spPr>
            <a:xfrm>
              <a:off x="474120" y="3220200"/>
              <a:ext cx="93960" cy="45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2" name="AutoShape 17"/>
            <p:cNvCxnSpPr/>
            <p:nvPr/>
          </p:nvCxnSpPr>
          <p:spPr>
            <a:xfrm>
              <a:off x="737640" y="3870000"/>
              <a:ext cx="873000" cy="6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3" name="AutoShape 18"/>
            <p:cNvCxnSpPr/>
            <p:nvPr/>
          </p:nvCxnSpPr>
          <p:spPr>
            <a:xfrm flipV="1">
              <a:off x="1779480" y="3552480"/>
              <a:ext cx="31680" cy="17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4" name="AutoShape 19"/>
            <p:cNvCxnSpPr/>
            <p:nvPr/>
          </p:nvCxnSpPr>
          <p:spPr>
            <a:xfrm flipH="1" flipV="1">
              <a:off x="1159200" y="3583080"/>
              <a:ext cx="451080" cy="34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5" name="AutoShape 20"/>
            <p:cNvCxnSpPr/>
            <p:nvPr/>
          </p:nvCxnSpPr>
          <p:spPr>
            <a:xfrm flipV="1">
              <a:off x="1329120" y="3351240"/>
              <a:ext cx="314280" cy="3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6" name="AutoShape 21"/>
            <p:cNvCxnSpPr/>
            <p:nvPr/>
          </p:nvCxnSpPr>
          <p:spPr>
            <a:xfrm>
              <a:off x="1670040" y="2682720"/>
              <a:ext cx="441720" cy="18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7" name="AutoShape 22"/>
            <p:cNvCxnSpPr/>
            <p:nvPr/>
          </p:nvCxnSpPr>
          <p:spPr>
            <a:xfrm>
              <a:off x="1500480" y="2883960"/>
              <a:ext cx="311400" cy="26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8" name="AutoShape 23"/>
            <p:cNvCxnSpPr/>
            <p:nvPr/>
          </p:nvCxnSpPr>
          <p:spPr>
            <a:xfrm flipV="1">
              <a:off x="1981440" y="3065760"/>
              <a:ext cx="2988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9" name="AutoShape 24"/>
            <p:cNvCxnSpPr/>
            <p:nvPr/>
          </p:nvCxnSpPr>
          <p:spPr>
            <a:xfrm>
              <a:off x="2279160" y="3066480"/>
              <a:ext cx="155880" cy="26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0" name="AutoShape 25"/>
            <p:cNvCxnSpPr/>
            <p:nvPr/>
          </p:nvCxnSpPr>
          <p:spPr>
            <a:xfrm flipH="1" flipV="1">
              <a:off x="1981080" y="3351960"/>
              <a:ext cx="284400" cy="18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1" name="AutoShape 26"/>
            <p:cNvCxnSpPr/>
            <p:nvPr/>
          </p:nvCxnSpPr>
          <p:spPr>
            <a:xfrm flipH="1">
              <a:off x="1949040" y="3735720"/>
              <a:ext cx="485640" cy="19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02" name="Text Box 27"/>
          <p:cNvSpPr/>
          <p:nvPr/>
        </p:nvSpPr>
        <p:spPr>
          <a:xfrm>
            <a:off x="519480" y="1258920"/>
            <a:ext cx="187524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56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day’s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cu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ad2323"/>
                </a:solidFill>
                <a:latin typeface="Calibri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9"/>
          <p:cNvSpPr/>
          <p:nvPr/>
        </p:nvSpPr>
        <p:spPr>
          <a:xfrm>
            <a:off x="2843280" y="1330200"/>
            <a:ext cx="2666880" cy="99072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oday’s Interne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information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minating use c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0" descr=""/>
          <p:cNvPicPr/>
          <p:nvPr/>
        </p:nvPicPr>
        <p:blipFill>
          <a:blip r:embed="rId9"/>
          <a:stretch/>
        </p:blipFill>
        <p:spPr>
          <a:xfrm>
            <a:off x="5818320" y="2554200"/>
            <a:ext cx="3097080" cy="2314800"/>
          </a:xfrm>
          <a:prstGeom prst="rect">
            <a:avLst/>
          </a:prstGeom>
          <a:ln w="0">
            <a:noFill/>
          </a:ln>
        </p:spPr>
      </p:pic>
      <p:sp>
        <p:nvSpPr>
          <p:cNvPr id="605" name="AutoShape 28"/>
          <p:cNvSpPr/>
          <p:nvPr/>
        </p:nvSpPr>
        <p:spPr>
          <a:xfrm>
            <a:off x="2809800" y="2317680"/>
            <a:ext cx="3382920" cy="1093680"/>
          </a:xfrm>
          <a:prstGeom prst="rightArrow">
            <a:avLst>
              <a:gd name="adj1" fmla="val 36139"/>
              <a:gd name="adj2" fmla="val 44693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04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Content Placeholder 180"/>
          <p:cNvSpPr/>
          <p:nvPr/>
        </p:nvSpPr>
        <p:spPr>
          <a:xfrm>
            <a:off x="34920" y="4797360"/>
            <a:ext cx="439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ing importan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essing named resources – not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distribution through replication an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od control of resolution/routing an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ontent Placeholder 180"/>
          <p:cNvSpPr/>
          <p:nvPr/>
        </p:nvSpPr>
        <p:spPr>
          <a:xfrm>
            <a:off x="4608360" y="4797360"/>
            <a:ext cx="4535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ubiquitous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 for all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for all users and content/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n IRTF Effort Would be Use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pic seems important – quite some inter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-distribution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evolution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ite a number of research pro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cial to bring people together in an IRTF/IETF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development expertise considered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ated to on-going IETF eff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SP, DECADE, CD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G for persistent a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than typical conferences, workshop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CC2-FBBB-42A3-A9EA-10ABF63D3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sible Research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457200" y="1523880"/>
            <a:ext cx="822960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ing schemes for IC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lable name resolution for flat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lable routing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 and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/application-protoco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siness, legal and regulatory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et evolution /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RTF Open Meeting  @ IETF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13:58:02Z</dcterms:created>
  <dc:creator>Dirk Kutscher</dc:creator>
  <dc:description/>
  <dc:language>en-US</dc:language>
  <cp:lastModifiedBy>Dirk Kutscher</cp:lastModifiedBy>
  <dcterms:modified xsi:type="dcterms:W3CDTF">2011-07-26T22:39:39Z</dcterms:modified>
  <cp:revision>56</cp:revision>
  <dc:subject/>
  <dc:title>Information-Centric Networking Overview  Dirk.Kutscher@neclab.eu Boerje.Ohlman@ericsson.com   </dc:title>
</cp:coreProperties>
</file>