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B3BF-56F2-48A6-9F05-E94DC5A60F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3A93-8E5F-4444-8BD2-B0F92A9BBB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91B7-C715-4FD2-B393-6463D51C0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98C5-6B69-441E-9506-3EA4ED2F8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685800" y="2960640"/>
            <a:ext cx="54864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7240" bIns="4680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Ev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In traditional telephony networks the focus was on connecting wires. The major breakthrough was moving to automatic switc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In Internet the focus has been on interconnecting nodes via a packet switched network. The original design did not take mobility and security into accou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In the Future Internet, which SAIL addresses, the vision is to focus on networking of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Networking of Inform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It is the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information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 that is important to users, not the no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3344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And the quality and properties of that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Where it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came from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 is less impor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3344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As long as it has the desired properties, including authent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As the architecture focuses on the information objects themselves the underlying network infrastructure needs to transparently support things like mobility, multihoming and secur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84D1-2ECC-4C33-8C23-6473E304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1CC1-1BCA-4DB6-B6BD-AE9D03E8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83463-C5BA-44AA-8A65-8B971931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D0681-9217-4D5D-8C38-25328E0D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ED9DE-555C-44B0-8548-6A9E5140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7BBA9-6B33-482A-86E2-CC15D0CD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238E3-6D21-41C2-A867-30E07442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8FA20-D862-4026-9D74-8C9CF396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7126D-6F2F-4801-853B-5F6CE980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1D6CC-9B90-4FE0-BE8C-E47B1205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35A9B-C9A7-4EEA-8F1E-3E791564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206B3-D876-4B3F-93FB-3FABAB7E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60D9-38F2-4DCB-8EB8-1DE90C97F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35483-4A86-48B0-8439-121FA356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20126-1880-487C-B790-ECE3B0E9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702E0-59FE-427E-AEE8-9FE65E4D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A2EDB-32EF-43C8-A740-F83D5274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312E2-82AE-4E54-A4F9-B1083597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BD589-7845-4145-AF5D-9EFBF2C8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AB7BF-EF80-48C2-B36E-475117CE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72FD9-90AC-4A15-9301-72E047FD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6E348-76E7-405E-B6F9-051056A2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78661-692C-44B0-9504-8D15C369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3D22-4425-45B3-987A-F6ABBE01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BDA17-F047-4173-839E-B58F6F6E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9B340-62F2-4619-9F14-A4C2BFB4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76CC6-9B87-4B3C-BAE1-CC6D2E02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E7556-C51A-41EB-92C9-EDF71EF1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36FAA-C067-4451-A3A4-ABD97881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D0BE9-2974-4D9A-8ACA-2E29AE87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655DF-FA6A-43AA-B77F-CC7526B9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D5AE9-6494-4D50-B9D3-6B96E1E6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ACA36-EA3E-401E-9C7C-C553D595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53C18-D738-46B3-A632-D68928C8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6CB4-7FB8-4F00-88D2-03F67EDD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17F5D-95C2-4DE2-9CDD-D035BCF4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13F07-B172-4858-862F-FBD09105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DB9CE-F2A0-44AC-B622-E561B320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C8C4E-B334-4387-A983-72946075D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83244-6F02-4D4F-BDF6-2EAE5CED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9FDB5-59FC-4E5E-A3E1-1A954D00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89482-27C2-4369-B3CC-2CDE8E6D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7E129-587E-4CCA-B2E3-5D713E15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C51E9-EEFB-4B32-82F2-744CF266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E5036-B767-4B2E-9D2E-E2792234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DED7-36B8-4C3D-8D80-69CEF0C7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45939-619C-4C1D-88B5-34C6616B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5E7A3-DF6D-461E-9506-9247CED6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A6148A-598E-4A86-BDEE-B3906F4F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E59CF1-818F-4A66-88B6-6F04FD9A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C86AA-5E45-4054-8160-7ADD7EDC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8C6A-1B51-406F-96EC-F1076367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9218-B399-4651-86AD-F6665BD8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CACB-F68C-4B1F-A567-864AE593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8737-34FD-4F61-936C-12986A37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00B5-554B-459F-B17D-1A3BF91D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0EAB-4F40-4F9C-9A6B-653D8C21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7862-1791-4912-97F1-E4EB325F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A8CA-5084-43B6-B168-E5F9CDDD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7E86-4298-4199-8258-3979107E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F349-C38D-463D-8E55-9B60A8E2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263A-B8E7-4397-A270-05CFC5CD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9AE5F-999D-4066-BB92-E4C48D21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B6267-EB90-4C78-967B-954A78F1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6863A-2EA5-4743-B591-4C7F0005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1202B-A754-4467-AE67-4F8F2B2A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30E78-3BBB-4DB6-B622-CC19C810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1425-9AD6-4C9D-AEFD-C241340F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B6256-5EFE-4636-A8BA-0D53E611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AFC70-7E9D-44FB-8C7E-23778BFE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52D1F-92D0-444E-ADF2-D24BFBEE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7334E-F8B7-4A9E-8F29-F31A5E4C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38CA5-9097-48E8-8485-6DEC9CA9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48BF1-F21A-43AA-9BE0-F7EA6CA7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0CAC8-562D-4F61-898F-0144170E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3BA26-1999-423C-80DB-E0327EA7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465BB-7E07-46D2-87AD-5EA6FB58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A3B4E-87F0-4AD7-B258-3BAE7898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06FB-7FDD-4408-A051-2F95F637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C8D95-74D4-4905-A84A-3334CDED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42C7E-FFA4-44A9-9288-275D8342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C9357-45E5-4113-800F-7FFA1816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E8CF8-CD5E-4DC5-960C-8E22B993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557E1-7E3A-4E68-9BB2-8F5CF51F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C4609-EF62-4E6D-A7B6-F4AF4145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FB772-1606-4C49-88F8-68AE3BA4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5440E-2194-4AB5-8341-364218C5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02159-3E7E-41FF-A84E-530D87BE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2776B-E8B9-4AFB-BDFD-710BB26B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922E-3F22-478F-B217-76F05581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220C9-2A60-4796-9EDC-54E9D44D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D6DBC-4E2C-46F5-B0C9-43CB101D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23E54-C5A3-4BF3-98BB-01E271B3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E6836-C48A-4EE3-B63A-9286D762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93982-018D-4D51-AB90-3C74B397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4A941-2E2F-43E6-A15B-31B79F00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0537B-9529-4FD1-99F8-089D337B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E2F9C-3829-40AB-B895-246F0C03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EB368-EE5C-43F5-B4CF-98B15298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B57E5-E6ED-4BBA-BDCD-12E21FD4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7180-8188-4E2C-B372-10AD9393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A6608-3CE2-4DCE-83F1-70729133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2AA9D-2CE7-4D15-A926-133C460F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28A47-7933-4487-902D-295D66A4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A2EDE-794E-4CBC-BDCC-AE540718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2CBA0-D5FC-4915-BA66-EC3695F0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EED00-5600-4B61-9B74-71A4651F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A01B2-7003-4ABF-9FD0-516FF9DA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FD1FB-043D-440E-B827-1D88CD59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BB461-1BE9-4CAE-9423-84A5F681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52F7C-4212-4CD1-8613-EDE1BEF5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12EF-3C0F-4B90-B506-8871ABC9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A27ED-1EE5-4480-90B5-86EB32ED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AF3C6-1BE5-41E7-8E39-8B248FB4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C50C4-21A9-4341-B21E-8454BF22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31CC9-EC6E-4C59-A636-42A10D86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2D837-0C80-40CD-B644-43934C83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0077D-B953-4C6E-94C3-5417EA2F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44BCD-F42B-4688-8085-FB386A0D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4BD5D-921C-4313-90E6-4AAEB1D6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93439-A57E-4C1E-850D-88320AB5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A2586-705E-4136-A08F-48923913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0A2-E312-4A73-BC01-2D249FD9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61876-35E3-4E40-A3F4-812FBF2B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D3900-35C0-400A-A8D6-CF078BB2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3A7FF-432D-4F7D-BA03-0E06EFC6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F5649-70F9-4F83-8142-6D817F72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7833E-7EAE-436B-9FEA-FDD0DF21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5B3C2-C42D-456A-84A1-F1F44115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C1C0A-66D2-4956-8849-94B2EFA0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487E9-6CF8-4276-BC5F-CAD71445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DFC96-A87B-4C98-A062-D501267C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F61D5-0215-41F2-9082-C6215EA0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F0F6-E4CB-4274-92B1-DA8C1527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C6E67-F867-4207-BF56-41EB9B55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FF2DE-8FAE-4589-9B0D-C9847DF4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85719-79E0-4A9F-8210-11FF8781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EC357-2B78-48E3-806B-85256542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9BE7E-EF93-4004-B512-F4363CA6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144BA-0414-4A20-A8E7-2ABEF94B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B68B2-FF52-418C-977C-D2FEFB8CC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6FD50-B386-4F2B-A38C-1EA7A22A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E812E-E260-4A78-886E-3EF2F540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5118C-9EDE-4283-B1A9-2299A8EA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E4C8-BBD1-4F3C-AA27-FDF4B9019781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RTF Open Meeting  @ IETF-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FAED-25F3-458A-BF11-059B7EE2F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E703-4F82-480D-BCCD-7183BA45B869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CN side meeting @ IETF-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8E6D-DF54-4D42-8D04-2AE69F338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0638-FCBA-4ED4-8ADD-AEFB6B9F5059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CN side meeting @ IETF-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190F-513C-4D7C-8E09-50FF6161D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5175-0C49-4DA7-A78F-ABA7C55876C8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CN side meeting @ IETF-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0D3C-AF60-45D7-BA1E-4843FA5DA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B16C-96AA-43F4-A4B0-A84996B6ACAB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CN side meeting @ IETF-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FD78-C4EE-4332-A372-9B725EFF5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1-07-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CN side meeting @ IETF-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8723-04B8-4A13-9C36-3B1284893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6211-7355-4D88-AC1F-2B0CB768AF30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CN side meeting @ IETF-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35EC-7A8B-4F4C-AD40-2487B638E7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34AA-6E23-4E67-B549-C45034CE0F78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CN side meeting @ IETF-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2132-8A93-42DE-A5C6-5937E5F9D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A405-B064-45C0-BA28-9F6E7900C96B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CN side meeting @ IETF-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D37C-BCD7-479D-82CF-5BD916BC9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7B1E-F5CA-41B3-87B7-F37E80A74036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CN side meeting @ IETF-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D1F9-F88F-487C-AAC5-71CCDF179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EFD3-EE62-411D-917D-27BE8BC37C1D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CN side meeting @ IETF-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EB49-94D1-4829-9DEE-D392B2C2E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DBE5-6198-4A37-9F99-6F6D4BB9F39B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CN side meeting @ IETF-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6B96-4CA0-4FA2-958D-28BE1D79E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73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672920"/>
            <a:ext cx="7772400" cy="39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on-Centric Network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ed IRTF RG</a:t>
            </a:r>
            <a:br>
              <a:rPr sz="3200"/>
            </a:br>
            <a:br>
              <a:rPr sz="3200"/>
            </a:b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irk.Kutscher@neclab.eu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Boerje.Ohlman@ericsson.com</a:t>
            </a:r>
            <a:br>
              <a:rPr sz="2600"/>
            </a:br>
            <a:br>
              <a:rPr sz="3200"/>
            </a:br>
            <a:br>
              <a:rPr sz="32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5300280"/>
            <a:ext cx="6400800" cy="9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RTF Open Meeting at IETF-8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1E23-B275-482C-B333-2DB5A253D0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RTF Open Meeting  @ IETF-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CNRG current 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457200" y="1523880"/>
            <a:ext cx="8229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Well attended bar meeting in Prag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CN-interest mailing list: 130 subscrib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Positive feedback from all research projects in the area (that we heard from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nitial contacts with IRTF chairs Aaron Falk (previous) and Lars Eggert (current)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positive feedbac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ICNRG proposal was discussed at a side meeting Tuesday in Quebe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ter proposal on IRTF Wik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Planning grou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ngt Ahlgren, Stephen Farrell, Volker Hilt, Dirk Kutscher, </a:t>
            </a:r>
            <a:br>
              <a:rPr sz="1700"/>
            </a:b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örje Ohlman, Jörg Ott,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tin Vigoureux,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xia Zha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RTF Open Meeting  @ IETF-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s We Heard O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Bildobjekt 6" descr="logo.png"/>
          <p:cNvPicPr/>
          <p:nvPr/>
        </p:nvPicPr>
        <p:blipFill>
          <a:blip r:embed="rId1"/>
          <a:stretch/>
        </p:blipFill>
        <p:spPr>
          <a:xfrm>
            <a:off x="3419640" y="4437000"/>
            <a:ext cx="2469960" cy="17226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" descr="PURSUIT"/>
          <p:cNvPicPr/>
          <p:nvPr/>
        </p:nvPicPr>
        <p:blipFill>
          <a:blip r:embed="rId2"/>
          <a:stretch/>
        </p:blipFill>
        <p:spPr>
          <a:xfrm>
            <a:off x="7308720" y="1413000"/>
            <a:ext cx="1295640" cy="13237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7" descr="http://www.comet-project.org/COMETLOGO.png"/>
          <p:cNvPicPr/>
          <p:nvPr/>
        </p:nvPicPr>
        <p:blipFill>
          <a:blip r:embed="rId3"/>
          <a:stretch/>
        </p:blipFill>
        <p:spPr>
          <a:xfrm>
            <a:off x="6372360" y="3767040"/>
            <a:ext cx="2603520" cy="6206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9" descr=""/>
          <p:cNvPicPr/>
          <p:nvPr/>
        </p:nvPicPr>
        <p:blipFill>
          <a:blip r:embed="rId4"/>
          <a:stretch/>
        </p:blipFill>
        <p:spPr>
          <a:xfrm>
            <a:off x="611280" y="4110120"/>
            <a:ext cx="1439640" cy="13525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0" descr=""/>
          <p:cNvPicPr/>
          <p:nvPr/>
        </p:nvPicPr>
        <p:blipFill>
          <a:blip r:embed="rId5"/>
          <a:stretch/>
        </p:blipFill>
        <p:spPr>
          <a:xfrm>
            <a:off x="395280" y="2133720"/>
            <a:ext cx="3240000" cy="444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pic>
        <p:nvPicPr>
          <p:cNvPr id="625" name="Picture 9" descr="C:\cygwin\home\kutscher\WP-B\publications\ietf-81\icnrg\connect-logo.png"/>
          <p:cNvPicPr/>
          <p:nvPr/>
        </p:nvPicPr>
        <p:blipFill>
          <a:blip r:embed="rId6"/>
          <a:stretch/>
        </p:blipFill>
        <p:spPr>
          <a:xfrm>
            <a:off x="3635280" y="2421000"/>
            <a:ext cx="1728720" cy="1728720"/>
          </a:xfrm>
          <a:prstGeom prst="rect">
            <a:avLst/>
          </a:prstGeom>
          <a:ln w="0">
            <a:noFill/>
          </a:ln>
        </p:spPr>
      </p:pic>
      <p:sp>
        <p:nvSpPr>
          <p:cNvPr id="626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BFC0-567A-4DD9-B36F-ABD3F0A7E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12"/>
          <p:cNvSpPr/>
          <p:nvPr/>
        </p:nvSpPr>
        <p:spPr>
          <a:xfrm>
            <a:off x="3285720" y="6093000"/>
            <a:ext cx="28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ail-project.e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13"/>
          <p:cNvSpPr/>
          <p:nvPr/>
        </p:nvSpPr>
        <p:spPr>
          <a:xfrm>
            <a:off x="519840" y="2637000"/>
            <a:ext cx="271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named-data.net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14"/>
          <p:cNvSpPr/>
          <p:nvPr/>
        </p:nvSpPr>
        <p:spPr>
          <a:xfrm>
            <a:off x="6411600" y="2637000"/>
            <a:ext cx="253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fp7-pursuit.eu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15"/>
          <p:cNvSpPr/>
          <p:nvPr/>
        </p:nvSpPr>
        <p:spPr>
          <a:xfrm>
            <a:off x="3040560" y="3860640"/>
            <a:ext cx="271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anr-connect.org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17"/>
          <p:cNvSpPr/>
          <p:nvPr/>
        </p:nvSpPr>
        <p:spPr>
          <a:xfrm>
            <a:off x="6219720" y="4386240"/>
            <a:ext cx="287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omet-project.org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18"/>
          <p:cNvSpPr/>
          <p:nvPr/>
        </p:nvSpPr>
        <p:spPr>
          <a:xfrm>
            <a:off x="-23400" y="5364000"/>
            <a:ext cx="301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ict-convergence.eu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RTF Open Meeting  @ IETF-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CN Community Form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51920" y="1484280"/>
            <a:ext cx="6364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gstuhl seminar 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ormation-Centric Networking; Dec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GCOMM-2011 Workshop on Information-Centric Networking; August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EEE Communications Magazin Special Issue on IC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fP open n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sevier Computer Communications Journal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fP to be publish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CN Interest Mailing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s://listserv.netlab.nec.de/mailman/listinfo/icn-inter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6" name="Picture 2" descr=""/>
          <p:cNvPicPr/>
          <p:nvPr/>
        </p:nvPicPr>
        <p:blipFill>
          <a:blip r:embed="rId1"/>
          <a:stretch/>
        </p:blipFill>
        <p:spPr>
          <a:xfrm>
            <a:off x="5340240" y="1484280"/>
            <a:ext cx="3772080" cy="800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5" descr=""/>
          <p:cNvPicPr/>
          <p:nvPr/>
        </p:nvPicPr>
        <p:blipFill>
          <a:blip r:embed="rId2"/>
          <a:stretch/>
        </p:blipFill>
        <p:spPr>
          <a:xfrm>
            <a:off x="6588000" y="2565360"/>
            <a:ext cx="1219320" cy="1724040"/>
          </a:xfrm>
          <a:prstGeom prst="rect">
            <a:avLst/>
          </a:prstGeom>
          <a:ln w="0">
            <a:noFill/>
          </a:ln>
        </p:spPr>
      </p:pic>
      <p:sp>
        <p:nvSpPr>
          <p:cNvPr id="63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CN side meeting @ IETF-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7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7EF3-EB36-4C26-AB17-22DD7A5B7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4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0403-8583-4BD5-A546-CCC0E0D85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RTF Open Meeting  @ IETF-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e Data Traffic Predi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Picture 2" descr="C:\Documents and Settings\kutscher\My Documents\Downloads\vnigraph (1).jpg"/>
          <p:cNvPicPr/>
          <p:nvPr/>
        </p:nvPicPr>
        <p:blipFill>
          <a:blip r:embed="rId1"/>
          <a:stretch/>
        </p:blipFill>
        <p:spPr>
          <a:xfrm>
            <a:off x="2571840" y="1655640"/>
            <a:ext cx="4000320" cy="4714920"/>
          </a:xfrm>
          <a:prstGeom prst="rect">
            <a:avLst/>
          </a:prstGeom>
          <a:ln w="0">
            <a:noFill/>
          </a:ln>
        </p:spPr>
      </p:pic>
      <p:sp>
        <p:nvSpPr>
          <p:cNvPr id="505" name="TextBox 3"/>
          <p:cNvSpPr/>
          <p:nvPr/>
        </p:nvSpPr>
        <p:spPr>
          <a:xfrm>
            <a:off x="6443640" y="3500280"/>
            <a:ext cx="249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2010 to 201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26 increase exp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77A9-2424-470D-A52A-BA063FA0D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RTF Open Meeting  @ IETF-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 Data Traffic Predi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Picture 2" descr="C:\Documents and Settings\kutscher\My Documents\Downloads\vnigraph (2).jpg"/>
          <p:cNvPicPr/>
          <p:nvPr/>
        </p:nvPicPr>
        <p:blipFill>
          <a:blip r:embed="rId1"/>
          <a:stretch/>
        </p:blipFill>
        <p:spPr>
          <a:xfrm>
            <a:off x="2571840" y="2038320"/>
            <a:ext cx="4000320" cy="4334040"/>
          </a:xfrm>
          <a:prstGeom prst="rect">
            <a:avLst/>
          </a:prstGeom>
          <a:ln w="0">
            <a:noFill/>
          </a:ln>
        </p:spPr>
      </p:pic>
      <p:sp>
        <p:nvSpPr>
          <p:cNvPr id="510" name="TextBox 3"/>
          <p:cNvSpPr/>
          <p:nvPr/>
        </p:nvSpPr>
        <p:spPr>
          <a:xfrm>
            <a:off x="6443640" y="3500280"/>
            <a:ext cx="249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2010 to 201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5 increase exp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72AA-C91C-42F1-8DA3-98C51132B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RTF Open Meeting  @ IETF-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ular Conceptio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nt Distribution Over the Internet Does Not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Picture 2" descr="http://www.openclipart.org/image/800px/svg_to_png/folder_video.png"/>
          <p:cNvPicPr/>
          <p:nvPr/>
        </p:nvPicPr>
        <p:blipFill>
          <a:blip r:embed="rId1"/>
          <a:stretch/>
        </p:blipFill>
        <p:spPr>
          <a:xfrm>
            <a:off x="1042920" y="1557360"/>
            <a:ext cx="936720" cy="9349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2" descr="http://www.openclipart.org/image/800px/svg_to_png/folder_video.png"/>
          <p:cNvPicPr/>
          <p:nvPr/>
        </p:nvPicPr>
        <p:blipFill>
          <a:blip r:embed="rId2"/>
          <a:stretch/>
        </p:blipFill>
        <p:spPr>
          <a:xfrm>
            <a:off x="2484360" y="155736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" descr="http://www.openclipart.org/image/800px/svg_to_png/folder_video.png"/>
          <p:cNvPicPr/>
          <p:nvPr/>
        </p:nvPicPr>
        <p:blipFill>
          <a:blip r:embed="rId3"/>
          <a:stretch/>
        </p:blipFill>
        <p:spPr>
          <a:xfrm>
            <a:off x="3995640" y="1557360"/>
            <a:ext cx="936720" cy="9349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" descr="http://www.openclipart.org/image/800px/svg_to_png/folder_video.png"/>
          <p:cNvPicPr/>
          <p:nvPr/>
        </p:nvPicPr>
        <p:blipFill>
          <a:blip r:embed="rId4"/>
          <a:stretch/>
        </p:blipFill>
        <p:spPr>
          <a:xfrm>
            <a:off x="5508720" y="155736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" descr="http://www.openclipart.org/image/800px/svg_to_png/folder_video.png"/>
          <p:cNvPicPr/>
          <p:nvPr/>
        </p:nvPicPr>
        <p:blipFill>
          <a:blip r:embed="rId5"/>
          <a:stretch/>
        </p:blipFill>
        <p:spPr>
          <a:xfrm>
            <a:off x="6948360" y="1557360"/>
            <a:ext cx="936720" cy="934920"/>
          </a:xfrm>
          <a:prstGeom prst="rect">
            <a:avLst/>
          </a:prstGeom>
          <a:ln w="0">
            <a:noFill/>
          </a:ln>
        </p:spPr>
      </p:pic>
      <p:sp>
        <p:nvSpPr>
          <p:cNvPr id="519" name="Cloud 9"/>
          <p:cNvSpPr/>
          <p:nvPr/>
        </p:nvSpPr>
        <p:spPr>
          <a:xfrm>
            <a:off x="4500720" y="2637000"/>
            <a:ext cx="1584000" cy="863280"/>
          </a:xfrm>
          <a:custGeom>
            <a:avLst/>
            <a:gdLst>
              <a:gd name="textAreaLeft" fmla="*/ 218160 w 1584000"/>
              <a:gd name="textAreaRight" fmla="*/ 1253160 w 1584000"/>
              <a:gd name="textAreaTop" fmla="*/ 130320 h 863280"/>
              <a:gd name="textAreaBottom" fmla="*/ 693000 h 8632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a6a6a6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loud 11"/>
          <p:cNvSpPr/>
          <p:nvPr/>
        </p:nvSpPr>
        <p:spPr>
          <a:xfrm>
            <a:off x="2987640" y="2637000"/>
            <a:ext cx="1584360" cy="863280"/>
          </a:xfrm>
          <a:custGeom>
            <a:avLst/>
            <a:gdLst>
              <a:gd name="textAreaLeft" fmla="*/ 218160 w 1584360"/>
              <a:gd name="textAreaRight" fmla="*/ 1253520 w 1584360"/>
              <a:gd name="textAreaTop" fmla="*/ 130320 h 863280"/>
              <a:gd name="textAreaBottom" fmla="*/ 693000 h 8632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a6a6a6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0"/>
          <p:cNvSpPr/>
          <p:nvPr/>
        </p:nvSpPr>
        <p:spPr>
          <a:xfrm>
            <a:off x="6227640" y="278136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ier 1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Cloud 12"/>
          <p:cNvSpPr/>
          <p:nvPr/>
        </p:nvSpPr>
        <p:spPr>
          <a:xfrm>
            <a:off x="395280" y="4076640"/>
            <a:ext cx="1081080" cy="576360"/>
          </a:xfrm>
          <a:custGeom>
            <a:avLst/>
            <a:gdLst>
              <a:gd name="textAreaLeft" fmla="*/ 149040 w 1081080"/>
              <a:gd name="textAreaRight" fmla="*/ 855360 w 1081080"/>
              <a:gd name="textAreaTop" fmla="*/ 86760 h 576360"/>
              <a:gd name="textAreaBottom" fmla="*/ 462600 h 576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2f2f2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loud 13"/>
          <p:cNvSpPr/>
          <p:nvPr/>
        </p:nvSpPr>
        <p:spPr>
          <a:xfrm>
            <a:off x="1619280" y="4076640"/>
            <a:ext cx="1081080" cy="576360"/>
          </a:xfrm>
          <a:custGeom>
            <a:avLst/>
            <a:gdLst>
              <a:gd name="textAreaLeft" fmla="*/ 149040 w 1081080"/>
              <a:gd name="textAreaRight" fmla="*/ 855360 w 1081080"/>
              <a:gd name="textAreaTop" fmla="*/ 86760 h 576360"/>
              <a:gd name="textAreaBottom" fmla="*/ 462600 h 576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2f2f2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loud 14"/>
          <p:cNvSpPr/>
          <p:nvPr/>
        </p:nvSpPr>
        <p:spPr>
          <a:xfrm>
            <a:off x="2843280" y="4076640"/>
            <a:ext cx="1081080" cy="576360"/>
          </a:xfrm>
          <a:custGeom>
            <a:avLst/>
            <a:gdLst>
              <a:gd name="textAreaLeft" fmla="*/ 149040 w 1081080"/>
              <a:gd name="textAreaRight" fmla="*/ 855360 w 1081080"/>
              <a:gd name="textAreaTop" fmla="*/ 86760 h 576360"/>
              <a:gd name="textAreaBottom" fmla="*/ 462600 h 576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2f2f2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Cloud 15"/>
          <p:cNvSpPr/>
          <p:nvPr/>
        </p:nvSpPr>
        <p:spPr>
          <a:xfrm>
            <a:off x="4067280" y="4076640"/>
            <a:ext cx="1081080" cy="576360"/>
          </a:xfrm>
          <a:custGeom>
            <a:avLst/>
            <a:gdLst>
              <a:gd name="textAreaLeft" fmla="*/ 149040 w 1081080"/>
              <a:gd name="textAreaRight" fmla="*/ 855360 w 1081080"/>
              <a:gd name="textAreaTop" fmla="*/ 86760 h 576360"/>
              <a:gd name="textAreaBottom" fmla="*/ 462600 h 576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2f2f2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Cloud 16"/>
          <p:cNvSpPr/>
          <p:nvPr/>
        </p:nvSpPr>
        <p:spPr>
          <a:xfrm>
            <a:off x="5292720" y="4076640"/>
            <a:ext cx="1079640" cy="576360"/>
          </a:xfrm>
          <a:custGeom>
            <a:avLst/>
            <a:gdLst>
              <a:gd name="textAreaLeft" fmla="*/ 148680 w 1079640"/>
              <a:gd name="textAreaRight" fmla="*/ 854280 w 1079640"/>
              <a:gd name="textAreaTop" fmla="*/ 86760 h 576360"/>
              <a:gd name="textAreaBottom" fmla="*/ 462600 h 576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2f2f2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Cloud 17"/>
          <p:cNvSpPr/>
          <p:nvPr/>
        </p:nvSpPr>
        <p:spPr>
          <a:xfrm>
            <a:off x="6516720" y="4076640"/>
            <a:ext cx="1079640" cy="576360"/>
          </a:xfrm>
          <a:custGeom>
            <a:avLst/>
            <a:gdLst>
              <a:gd name="textAreaLeft" fmla="*/ 148680 w 1079640"/>
              <a:gd name="textAreaRight" fmla="*/ 854280 w 1079640"/>
              <a:gd name="textAreaTop" fmla="*/ 86760 h 576360"/>
              <a:gd name="textAreaBottom" fmla="*/ 462600 h 576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2f2f2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Cloud 18"/>
          <p:cNvSpPr/>
          <p:nvPr/>
        </p:nvSpPr>
        <p:spPr>
          <a:xfrm>
            <a:off x="7740720" y="4076640"/>
            <a:ext cx="1079280" cy="576360"/>
          </a:xfrm>
          <a:custGeom>
            <a:avLst/>
            <a:gdLst>
              <a:gd name="textAreaLeft" fmla="*/ 148680 w 1079280"/>
              <a:gd name="textAreaRight" fmla="*/ 853920 w 1079280"/>
              <a:gd name="textAreaTop" fmla="*/ 86760 h 576360"/>
              <a:gd name="textAreaBottom" fmla="*/ 462600 h 576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2f2f2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19"/>
          <p:cNvSpPr/>
          <p:nvPr/>
        </p:nvSpPr>
        <p:spPr>
          <a:xfrm>
            <a:off x="6875640" y="4724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S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http://www.openclipart.org/image/800px/svg_to_png/1309168682.png"/>
          <p:cNvPicPr/>
          <p:nvPr/>
        </p:nvPicPr>
        <p:blipFill>
          <a:blip r:embed="rId6"/>
          <a:stretch/>
        </p:blipFill>
        <p:spPr>
          <a:xfrm>
            <a:off x="395280" y="5373720"/>
            <a:ext cx="606600" cy="6048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" descr="http://www.openclipart.org/image/800px/svg_to_png/1309168682.png"/>
          <p:cNvPicPr/>
          <p:nvPr/>
        </p:nvPicPr>
        <p:blipFill>
          <a:blip r:embed="rId7"/>
          <a:stretch/>
        </p:blipFill>
        <p:spPr>
          <a:xfrm>
            <a:off x="1014480" y="5373720"/>
            <a:ext cx="604800" cy="6048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" descr="http://www.openclipart.org/image/800px/svg_to_png/1309168682.png"/>
          <p:cNvPicPr/>
          <p:nvPr/>
        </p:nvPicPr>
        <p:blipFill>
          <a:blip r:embed="rId8"/>
          <a:stretch/>
        </p:blipFill>
        <p:spPr>
          <a:xfrm>
            <a:off x="1589040" y="5373720"/>
            <a:ext cx="606600" cy="6048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" descr="http://www.openclipart.org/image/800px/svg_to_png/1309168682.png"/>
          <p:cNvPicPr/>
          <p:nvPr/>
        </p:nvPicPr>
        <p:blipFill>
          <a:blip r:embed="rId9"/>
          <a:stretch/>
        </p:blipFill>
        <p:spPr>
          <a:xfrm>
            <a:off x="2165400" y="5373720"/>
            <a:ext cx="606240" cy="6048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" descr="http://www.openclipart.org/image/800px/svg_to_png/1309168682.png"/>
          <p:cNvPicPr/>
          <p:nvPr/>
        </p:nvPicPr>
        <p:blipFill>
          <a:blip r:embed="rId10"/>
          <a:stretch/>
        </p:blipFill>
        <p:spPr>
          <a:xfrm>
            <a:off x="2771640" y="5373720"/>
            <a:ext cx="606600" cy="6048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" descr="http://www.openclipart.org/image/800px/svg_to_png/1309168682.png"/>
          <p:cNvPicPr/>
          <p:nvPr/>
        </p:nvPicPr>
        <p:blipFill>
          <a:blip r:embed="rId11"/>
          <a:stretch/>
        </p:blipFill>
        <p:spPr>
          <a:xfrm>
            <a:off x="3317760" y="5373720"/>
            <a:ext cx="606600" cy="6048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4" descr="http://www.openclipart.org/image/800px/svg_to_png/1309168682.png"/>
          <p:cNvPicPr/>
          <p:nvPr/>
        </p:nvPicPr>
        <p:blipFill>
          <a:blip r:embed="rId12"/>
          <a:stretch/>
        </p:blipFill>
        <p:spPr>
          <a:xfrm>
            <a:off x="3894120" y="5373720"/>
            <a:ext cx="606600" cy="6048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4" descr="http://www.openclipart.org/image/800px/svg_to_png/1309168682.png"/>
          <p:cNvPicPr/>
          <p:nvPr/>
        </p:nvPicPr>
        <p:blipFill>
          <a:blip r:embed="rId13"/>
          <a:stretch/>
        </p:blipFill>
        <p:spPr>
          <a:xfrm>
            <a:off x="4427640" y="5373720"/>
            <a:ext cx="606240" cy="6048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4" descr="http://www.openclipart.org/image/800px/svg_to_png/1309168682.png"/>
          <p:cNvPicPr/>
          <p:nvPr/>
        </p:nvPicPr>
        <p:blipFill>
          <a:blip r:embed="rId14"/>
          <a:stretch/>
        </p:blipFill>
        <p:spPr>
          <a:xfrm>
            <a:off x="4973760" y="5373720"/>
            <a:ext cx="606240" cy="6048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http://www.openclipart.org/image/800px/svg_to_png/1309168682.png"/>
          <p:cNvPicPr/>
          <p:nvPr/>
        </p:nvPicPr>
        <p:blipFill>
          <a:blip r:embed="rId15"/>
          <a:stretch/>
        </p:blipFill>
        <p:spPr>
          <a:xfrm>
            <a:off x="5549760" y="5373720"/>
            <a:ext cx="606600" cy="6048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http://www.openclipart.org/image/800px/svg_to_png/1309168682.png"/>
          <p:cNvPicPr/>
          <p:nvPr/>
        </p:nvPicPr>
        <p:blipFill>
          <a:blip r:embed="rId16"/>
          <a:stretch/>
        </p:blipFill>
        <p:spPr>
          <a:xfrm>
            <a:off x="6084720" y="5373720"/>
            <a:ext cx="605160" cy="6048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http://www.openclipart.org/image/800px/svg_to_png/1309168682.png"/>
          <p:cNvPicPr/>
          <p:nvPr/>
        </p:nvPicPr>
        <p:blipFill>
          <a:blip r:embed="rId17"/>
          <a:stretch/>
        </p:blipFill>
        <p:spPr>
          <a:xfrm>
            <a:off x="6600960" y="5373720"/>
            <a:ext cx="606240" cy="6048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" descr="http://www.openclipart.org/image/800px/svg_to_png/1309168682.png"/>
          <p:cNvPicPr/>
          <p:nvPr/>
        </p:nvPicPr>
        <p:blipFill>
          <a:blip r:embed="rId18"/>
          <a:stretch/>
        </p:blipFill>
        <p:spPr>
          <a:xfrm>
            <a:off x="7176960" y="5373720"/>
            <a:ext cx="604800" cy="6048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4" descr="http://www.openclipart.org/image/800px/svg_to_png/1309168682.png"/>
          <p:cNvPicPr/>
          <p:nvPr/>
        </p:nvPicPr>
        <p:blipFill>
          <a:blip r:embed="rId19"/>
          <a:stretch/>
        </p:blipFill>
        <p:spPr>
          <a:xfrm>
            <a:off x="7710480" y="5373720"/>
            <a:ext cx="606600" cy="6048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http://www.openclipart.org/image/800px/svg_to_png/1309168682.png"/>
          <p:cNvPicPr/>
          <p:nvPr/>
        </p:nvPicPr>
        <p:blipFill>
          <a:blip r:embed="rId20"/>
          <a:stretch/>
        </p:blipFill>
        <p:spPr>
          <a:xfrm>
            <a:off x="547560" y="5877000"/>
            <a:ext cx="606600" cy="6062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http://www.openclipart.org/image/800px/svg_to_png/1309168682.png"/>
          <p:cNvPicPr/>
          <p:nvPr/>
        </p:nvPicPr>
        <p:blipFill>
          <a:blip r:embed="rId21"/>
          <a:stretch/>
        </p:blipFill>
        <p:spPr>
          <a:xfrm>
            <a:off x="1166760" y="5877000"/>
            <a:ext cx="604800" cy="6062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http://www.openclipart.org/image/800px/svg_to_png/1309168682.png"/>
          <p:cNvPicPr/>
          <p:nvPr/>
        </p:nvPicPr>
        <p:blipFill>
          <a:blip r:embed="rId22"/>
          <a:stretch/>
        </p:blipFill>
        <p:spPr>
          <a:xfrm>
            <a:off x="1741320" y="5877000"/>
            <a:ext cx="606600" cy="6062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4" descr="http://www.openclipart.org/image/800px/svg_to_png/1309168682.png"/>
          <p:cNvPicPr/>
          <p:nvPr/>
        </p:nvPicPr>
        <p:blipFill>
          <a:blip r:embed="rId23"/>
          <a:stretch/>
        </p:blipFill>
        <p:spPr>
          <a:xfrm>
            <a:off x="2317680" y="5877000"/>
            <a:ext cx="606600" cy="6062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http://www.openclipart.org/image/800px/svg_to_png/1309168682.png"/>
          <p:cNvPicPr/>
          <p:nvPr/>
        </p:nvPicPr>
        <p:blipFill>
          <a:blip r:embed="rId24"/>
          <a:stretch/>
        </p:blipFill>
        <p:spPr>
          <a:xfrm>
            <a:off x="2924280" y="5877000"/>
            <a:ext cx="606240" cy="6062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4" descr="http://www.openclipart.org/image/800px/svg_to_png/1309168682.png"/>
          <p:cNvPicPr/>
          <p:nvPr/>
        </p:nvPicPr>
        <p:blipFill>
          <a:blip r:embed="rId25"/>
          <a:stretch/>
        </p:blipFill>
        <p:spPr>
          <a:xfrm>
            <a:off x="3470400" y="5877000"/>
            <a:ext cx="606240" cy="6062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" descr="http://www.openclipart.org/image/800px/svg_to_png/1309168682.png"/>
          <p:cNvPicPr/>
          <p:nvPr/>
        </p:nvPicPr>
        <p:blipFill>
          <a:blip r:embed="rId26"/>
          <a:stretch/>
        </p:blipFill>
        <p:spPr>
          <a:xfrm>
            <a:off x="4046400" y="5877000"/>
            <a:ext cx="606600" cy="6062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" descr="http://www.openclipart.org/image/800px/svg_to_png/1309168682.png"/>
          <p:cNvPicPr/>
          <p:nvPr/>
        </p:nvPicPr>
        <p:blipFill>
          <a:blip r:embed="rId27"/>
          <a:stretch/>
        </p:blipFill>
        <p:spPr>
          <a:xfrm>
            <a:off x="4579920" y="5877000"/>
            <a:ext cx="606600" cy="6062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http://www.openclipart.org/image/800px/svg_to_png/1309168682.png"/>
          <p:cNvPicPr/>
          <p:nvPr/>
        </p:nvPicPr>
        <p:blipFill>
          <a:blip r:embed="rId28"/>
          <a:stretch/>
        </p:blipFill>
        <p:spPr>
          <a:xfrm>
            <a:off x="5126040" y="5877000"/>
            <a:ext cx="606600" cy="6062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4" descr="http://www.openclipart.org/image/800px/svg_to_png/1309168682.png"/>
          <p:cNvPicPr/>
          <p:nvPr/>
        </p:nvPicPr>
        <p:blipFill>
          <a:blip r:embed="rId29"/>
          <a:stretch/>
        </p:blipFill>
        <p:spPr>
          <a:xfrm>
            <a:off x="5702400" y="5877000"/>
            <a:ext cx="606240" cy="6062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http://www.openclipart.org/image/800px/svg_to_png/1309168682.png"/>
          <p:cNvPicPr/>
          <p:nvPr/>
        </p:nvPicPr>
        <p:blipFill>
          <a:blip r:embed="rId30"/>
          <a:stretch/>
        </p:blipFill>
        <p:spPr>
          <a:xfrm>
            <a:off x="6237360" y="5877000"/>
            <a:ext cx="604800" cy="6062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4" descr="http://www.openclipart.org/image/800px/svg_to_png/1309168682.png"/>
          <p:cNvPicPr/>
          <p:nvPr/>
        </p:nvPicPr>
        <p:blipFill>
          <a:blip r:embed="rId31"/>
          <a:stretch/>
        </p:blipFill>
        <p:spPr>
          <a:xfrm>
            <a:off x="6753240" y="5877000"/>
            <a:ext cx="606240" cy="6062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http://www.openclipart.org/image/800px/svg_to_png/1309168682.png"/>
          <p:cNvPicPr/>
          <p:nvPr/>
        </p:nvPicPr>
        <p:blipFill>
          <a:blip r:embed="rId32"/>
          <a:stretch/>
        </p:blipFill>
        <p:spPr>
          <a:xfrm>
            <a:off x="7329600" y="5877000"/>
            <a:ext cx="604800" cy="6062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" descr="http://www.openclipart.org/image/800px/svg_to_png/1309168682.png"/>
          <p:cNvPicPr/>
          <p:nvPr/>
        </p:nvPicPr>
        <p:blipFill>
          <a:blip r:embed="rId33"/>
          <a:stretch/>
        </p:blipFill>
        <p:spPr>
          <a:xfrm>
            <a:off x="7862760" y="5877000"/>
            <a:ext cx="606600" cy="606240"/>
          </a:xfrm>
          <a:prstGeom prst="rect">
            <a:avLst/>
          </a:prstGeom>
          <a:ln w="0">
            <a:noFill/>
          </a:ln>
        </p:spPr>
      </p:pic>
      <p:sp>
        <p:nvSpPr>
          <p:cNvPr id="558" name="Freeform 50"/>
          <p:cNvSpPr/>
          <p:nvPr/>
        </p:nvSpPr>
        <p:spPr>
          <a:xfrm>
            <a:off x="3009960" y="2236680"/>
            <a:ext cx="766800" cy="3417840"/>
          </a:xfrm>
          <a:custGeom>
            <a:avLst/>
            <a:gdLst/>
            <a:ahLst/>
            <a:rect l="l" t="t" r="r" b="b"/>
            <a:pathLst>
              <a:path w="767919" h="3417903">
                <a:moveTo>
                  <a:pt x="0" y="3417903"/>
                </a:moveTo>
                <a:cubicBezTo>
                  <a:pt x="116149" y="2993994"/>
                  <a:pt x="232299" y="2570085"/>
                  <a:pt x="355107" y="2148396"/>
                </a:cubicBezTo>
                <a:cubicBezTo>
                  <a:pt x="477915" y="1726707"/>
                  <a:pt x="767919" y="1245833"/>
                  <a:pt x="736847" y="887767"/>
                </a:cubicBezTo>
                <a:cubicBezTo>
                  <a:pt x="705775" y="529701"/>
                  <a:pt x="437225" y="264850"/>
                  <a:pt x="168676" y="0"/>
                </a:cubicBezTo>
              </a:path>
            </a:pathLst>
          </a:custGeom>
          <a:noFill/>
          <a:ln w="38160">
            <a:solidFill>
              <a:srgbClr val="17375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51"/>
          <p:cNvSpPr/>
          <p:nvPr/>
        </p:nvSpPr>
        <p:spPr>
          <a:xfrm>
            <a:off x="3160800" y="2246400"/>
            <a:ext cx="615960" cy="3363840"/>
          </a:xfrm>
          <a:custGeom>
            <a:avLst/>
            <a:gdLst/>
            <a:ahLst/>
            <a:rect l="l" t="t" r="r" b="b"/>
            <a:pathLst>
              <a:path w="615519" h="3364637">
                <a:moveTo>
                  <a:pt x="408373" y="3364637"/>
                </a:moveTo>
                <a:cubicBezTo>
                  <a:pt x="305540" y="2926672"/>
                  <a:pt x="202707" y="2488707"/>
                  <a:pt x="230820" y="2059620"/>
                </a:cubicBezTo>
                <a:cubicBezTo>
                  <a:pt x="258933" y="1630533"/>
                  <a:pt x="615519" y="1133383"/>
                  <a:pt x="577049" y="790113"/>
                </a:cubicBezTo>
                <a:cubicBezTo>
                  <a:pt x="538579" y="446843"/>
                  <a:pt x="269289" y="223421"/>
                  <a:pt x="0" y="0"/>
                </a:cubicBezTo>
              </a:path>
            </a:pathLst>
          </a:custGeom>
          <a:noFill/>
          <a:ln w="38160">
            <a:solidFill>
              <a:srgbClr val="17375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2"/>
          <p:cNvSpPr/>
          <p:nvPr/>
        </p:nvSpPr>
        <p:spPr>
          <a:xfrm>
            <a:off x="3160800" y="2246400"/>
            <a:ext cx="1503360" cy="3249360"/>
          </a:xfrm>
          <a:custGeom>
            <a:avLst/>
            <a:gdLst/>
            <a:ahLst/>
            <a:rect l="l" t="t" r="r" b="b"/>
            <a:pathLst>
              <a:path w="1503285" h="3249228">
                <a:moveTo>
                  <a:pt x="1003177" y="3249228"/>
                </a:moveTo>
                <a:cubicBezTo>
                  <a:pt x="1253231" y="2906698"/>
                  <a:pt x="1503285" y="2564168"/>
                  <a:pt x="1429305" y="2148397"/>
                </a:cubicBezTo>
                <a:cubicBezTo>
                  <a:pt x="1355325" y="1732626"/>
                  <a:pt x="797511" y="1112668"/>
                  <a:pt x="559294" y="754602"/>
                </a:cubicBezTo>
                <a:cubicBezTo>
                  <a:pt x="321077" y="396536"/>
                  <a:pt x="160538" y="198268"/>
                  <a:pt x="0" y="0"/>
                </a:cubicBezTo>
              </a:path>
            </a:pathLst>
          </a:custGeom>
          <a:noFill/>
          <a:ln w="38160">
            <a:solidFill>
              <a:srgbClr val="17375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53"/>
          <p:cNvSpPr/>
          <p:nvPr/>
        </p:nvSpPr>
        <p:spPr>
          <a:xfrm>
            <a:off x="3160800" y="2236680"/>
            <a:ext cx="1581120" cy="3276720"/>
          </a:xfrm>
          <a:custGeom>
            <a:avLst/>
            <a:gdLst/>
            <a:ahLst/>
            <a:rect l="l" t="t" r="r" b="b"/>
            <a:pathLst>
              <a:path w="1581706" h="3275860">
                <a:moveTo>
                  <a:pt x="1544715" y="3275860"/>
                </a:moveTo>
                <a:cubicBezTo>
                  <a:pt x="1563210" y="2900038"/>
                  <a:pt x="1581706" y="2524217"/>
                  <a:pt x="1420428" y="2112885"/>
                </a:cubicBezTo>
                <a:cubicBezTo>
                  <a:pt x="1259150" y="1701553"/>
                  <a:pt x="813787" y="1160015"/>
                  <a:pt x="577049" y="807868"/>
                </a:cubicBezTo>
                <a:cubicBezTo>
                  <a:pt x="340311" y="455721"/>
                  <a:pt x="170155" y="227860"/>
                  <a:pt x="0" y="0"/>
                </a:cubicBezTo>
              </a:path>
            </a:pathLst>
          </a:custGeom>
          <a:noFill/>
          <a:ln w="38160">
            <a:solidFill>
              <a:srgbClr val="17375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54"/>
          <p:cNvSpPr/>
          <p:nvPr/>
        </p:nvSpPr>
        <p:spPr>
          <a:xfrm>
            <a:off x="3168720" y="2228760"/>
            <a:ext cx="2095560" cy="3311640"/>
          </a:xfrm>
          <a:custGeom>
            <a:avLst/>
            <a:gdLst/>
            <a:ahLst/>
            <a:rect l="l" t="t" r="r" b="b"/>
            <a:pathLst>
              <a:path w="2095130" h="3311371">
                <a:moveTo>
                  <a:pt x="2095130" y="3311371"/>
                </a:moveTo>
                <a:cubicBezTo>
                  <a:pt x="1871708" y="2913355"/>
                  <a:pt x="1648287" y="2515339"/>
                  <a:pt x="1393794" y="2095130"/>
                </a:cubicBezTo>
                <a:cubicBezTo>
                  <a:pt x="1139301" y="1674921"/>
                  <a:pt x="800470" y="1139301"/>
                  <a:pt x="568171" y="790113"/>
                </a:cubicBezTo>
                <a:cubicBezTo>
                  <a:pt x="335872" y="440925"/>
                  <a:pt x="167936" y="220462"/>
                  <a:pt x="0" y="0"/>
                </a:cubicBezTo>
              </a:path>
            </a:pathLst>
          </a:custGeom>
          <a:noFill/>
          <a:ln w="38160">
            <a:solidFill>
              <a:srgbClr val="17375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5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42CE-0475-4F14-BD4E-A3136CDBA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RTF Open Meeting  @ IETF-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blems with Today’s Networ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3E51-F35A-40AE-97CF-4B9A1B081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179280" y="1484280"/>
            <a:ext cx="8785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RLs and IP addresses are overloaded with locator and identifier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7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ving information = changing it‘s name =&gt; 404 file not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consistent way to keep track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dentical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7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 consisten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resentation of inform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copy-independent)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dissemination is in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7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‘t benefit from existing copies (e.g. local copy on client)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7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 “anycast”: e.g., get 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are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” 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7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blems lik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lash-Crowd effect, Denial of Service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7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RTF Open Meeting  @ IETF-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blems with Today’s Networ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4B54-7A2E-4502-8FE1-1A2B3FF3B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179280" y="1341360"/>
            <a:ext cx="8785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’t trust a copy received from an untrusted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7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curity is host-cen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7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inly based o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curing channe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(encryption)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usting serv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(authentication)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pplication and content provider independ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DNs focus on web content distributions for major p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about other applications and other player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73000"/>
              </a:lnSpc>
              <a:spcBef>
                <a:spcPts val="550"/>
              </a:spcBef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RTF Open Meeting  @ IETF-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61760" y="-27360"/>
            <a:ext cx="7753320" cy="1235160"/>
          </a:xfrm>
          <a:prstGeom prst="rect">
            <a:avLst/>
          </a:prstGeom>
          <a:noFill/>
          <a:ln w="0">
            <a:noFill/>
          </a:ln>
        </p:spPr>
        <p:txBody>
          <a:bodyPr tIns="64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Information Centric Networ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ounded Rectangle 34"/>
          <p:cNvSpPr/>
          <p:nvPr/>
        </p:nvSpPr>
        <p:spPr>
          <a:xfrm>
            <a:off x="3073320" y="2711520"/>
            <a:ext cx="763560" cy="1028520"/>
          </a:xfrm>
          <a:custGeom>
            <a:avLst/>
            <a:gdLst>
              <a:gd name="textAreaLeft" fmla="*/ 37080 w 763560"/>
              <a:gd name="textAreaRight" fmla="*/ 726480 w 763560"/>
              <a:gd name="textAreaTop" fmla="*/ 37080 h 1028520"/>
              <a:gd name="textAreaBottom" fmla="*/ 991440 h 1028520"/>
            </a:gdLst>
            <a:ahLst/>
            <a:rect l="textAreaLeft" t="textAreaTop" r="textAreaRight" b="textAreaBottom"/>
            <a:pathLst>
              <a:path w="21600" h="29092">
                <a:moveTo>
                  <a:pt x="3600" y="0"/>
                </a:moveTo>
                <a:arcTo wR="3600" hR="3600" stAng="16200000" swAng="-5400000"/>
                <a:lnTo>
                  <a:pt x="0" y="25492"/>
                </a:lnTo>
                <a:arcTo wR="3600" hR="3600" stAng="10800000" swAng="-5400000"/>
                <a:lnTo>
                  <a:pt x="18000" y="29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a2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ounded Rectangle 35"/>
          <p:cNvSpPr/>
          <p:nvPr/>
        </p:nvSpPr>
        <p:spPr>
          <a:xfrm>
            <a:off x="3960720" y="2712960"/>
            <a:ext cx="763560" cy="1028880"/>
          </a:xfrm>
          <a:custGeom>
            <a:avLst/>
            <a:gdLst>
              <a:gd name="textAreaLeft" fmla="*/ 37080 w 763560"/>
              <a:gd name="textAreaRight" fmla="*/ 726480 w 763560"/>
              <a:gd name="textAreaTop" fmla="*/ 37080 h 1028880"/>
              <a:gd name="textAreaBottom" fmla="*/ 991800 h 1028880"/>
            </a:gdLst>
            <a:ahLst/>
            <a:rect l="textAreaLeft" t="textAreaTop" r="textAreaRight" b="textAreaBottom"/>
            <a:pathLst>
              <a:path w="21600" h="29102">
                <a:moveTo>
                  <a:pt x="3600" y="0"/>
                </a:moveTo>
                <a:arcTo wR="3600" hR="3600" stAng="16200000" swAng="-5400000"/>
                <a:lnTo>
                  <a:pt x="0" y="25502"/>
                </a:lnTo>
                <a:arcTo wR="3600" hR="3600" stAng="10800000" swAng="-5400000"/>
                <a:lnTo>
                  <a:pt x="18000" y="291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a2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ounded Rectangle 36"/>
          <p:cNvSpPr/>
          <p:nvPr/>
        </p:nvSpPr>
        <p:spPr>
          <a:xfrm>
            <a:off x="4848120" y="2714760"/>
            <a:ext cx="763560" cy="1028520"/>
          </a:xfrm>
          <a:custGeom>
            <a:avLst/>
            <a:gdLst>
              <a:gd name="textAreaLeft" fmla="*/ 37080 w 763560"/>
              <a:gd name="textAreaRight" fmla="*/ 726480 w 763560"/>
              <a:gd name="textAreaTop" fmla="*/ 37080 h 1028520"/>
              <a:gd name="textAreaBottom" fmla="*/ 991440 h 1028520"/>
            </a:gdLst>
            <a:ahLst/>
            <a:rect l="textAreaLeft" t="textAreaTop" r="textAreaRight" b="textAreaBottom"/>
            <a:pathLst>
              <a:path w="21600" h="29092">
                <a:moveTo>
                  <a:pt x="3600" y="0"/>
                </a:moveTo>
                <a:arcTo wR="3600" hR="3600" stAng="16200000" swAng="-5400000"/>
                <a:lnTo>
                  <a:pt x="0" y="25492"/>
                </a:lnTo>
                <a:arcTo wR="3600" hR="3600" stAng="10800000" swAng="-5400000"/>
                <a:lnTo>
                  <a:pt x="18000" y="29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a2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2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"/>
          <p:cNvSpPr/>
          <p:nvPr/>
        </p:nvSpPr>
        <p:spPr>
          <a:xfrm>
            <a:off x="5707080" y="969840"/>
            <a:ext cx="3284640" cy="13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956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formation Centric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ocus on </a:t>
            </a:r>
            <a:br>
              <a:rPr sz="1600"/>
            </a:br>
            <a:r>
              <a:rPr b="0" i="1" lang="en-GB" sz="1600" spc="-1" strike="noStrike">
                <a:solidFill>
                  <a:srgbClr val="ad2323"/>
                </a:solidFill>
                <a:latin typeface="Calibri"/>
              </a:rPr>
              <a:t>information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600" spc="-1" strike="noStrike">
                <a:solidFill>
                  <a:srgbClr val="ad2323"/>
                </a:solidFill>
                <a:latin typeface="Calibri"/>
              </a:rPr>
              <a:t>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3"/>
          <p:cNvGrpSpPr/>
          <p:nvPr/>
        </p:nvGrpSpPr>
        <p:grpSpPr>
          <a:xfrm>
            <a:off x="304920" y="2482920"/>
            <a:ext cx="2299680" cy="1650600"/>
            <a:chOff x="304920" y="2482920"/>
            <a:chExt cx="2299680" cy="1650600"/>
          </a:xfrm>
        </p:grpSpPr>
        <p:pic>
          <p:nvPicPr>
            <p:cNvPr id="579" name="Picture 4" descr=""/>
            <p:cNvPicPr/>
            <p:nvPr/>
          </p:nvPicPr>
          <p:blipFill>
            <a:blip r:embed="rId1"/>
            <a:stretch/>
          </p:blipFill>
          <p:spPr>
            <a:xfrm>
              <a:off x="398160" y="3670560"/>
              <a:ext cx="33948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5" descr=""/>
            <p:cNvPicPr/>
            <p:nvPr/>
          </p:nvPicPr>
          <p:blipFill>
            <a:blip r:embed="rId2"/>
            <a:stretch/>
          </p:blipFill>
          <p:spPr>
            <a:xfrm>
              <a:off x="1610280" y="3732480"/>
              <a:ext cx="33948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6" descr=""/>
            <p:cNvPicPr/>
            <p:nvPr/>
          </p:nvPicPr>
          <p:blipFill>
            <a:blip r:embed="rId3"/>
            <a:stretch/>
          </p:blipFill>
          <p:spPr>
            <a:xfrm>
              <a:off x="1330920" y="2482920"/>
              <a:ext cx="33912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7" descr=""/>
            <p:cNvPicPr/>
            <p:nvPr/>
          </p:nvPicPr>
          <p:blipFill>
            <a:blip r:embed="rId4"/>
            <a:stretch/>
          </p:blipFill>
          <p:spPr>
            <a:xfrm>
              <a:off x="304920" y="2818800"/>
              <a:ext cx="33912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8" descr=""/>
            <p:cNvPicPr/>
            <p:nvPr/>
          </p:nvPicPr>
          <p:blipFill>
            <a:blip r:embed="rId5"/>
            <a:stretch/>
          </p:blipFill>
          <p:spPr>
            <a:xfrm>
              <a:off x="990000" y="3182040"/>
              <a:ext cx="33912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9" descr=""/>
            <p:cNvPicPr/>
            <p:nvPr/>
          </p:nvPicPr>
          <p:blipFill>
            <a:blip r:embed="rId6"/>
            <a:stretch/>
          </p:blipFill>
          <p:spPr>
            <a:xfrm>
              <a:off x="1641960" y="3151800"/>
              <a:ext cx="33948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10" descr=""/>
            <p:cNvPicPr/>
            <p:nvPr/>
          </p:nvPicPr>
          <p:blipFill>
            <a:blip r:embed="rId7"/>
            <a:stretch/>
          </p:blipFill>
          <p:spPr>
            <a:xfrm>
              <a:off x="2109960" y="2665440"/>
              <a:ext cx="339480" cy="40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11" descr=""/>
            <p:cNvPicPr/>
            <p:nvPr/>
          </p:nvPicPr>
          <p:blipFill>
            <a:blip r:embed="rId8"/>
            <a:stretch/>
          </p:blipFill>
          <p:spPr>
            <a:xfrm>
              <a:off x="2265120" y="3334320"/>
              <a:ext cx="339480" cy="4010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87" name="AutoShape 12"/>
            <p:cNvCxnSpPr/>
            <p:nvPr/>
          </p:nvCxnSpPr>
          <p:spPr>
            <a:xfrm flipV="1">
              <a:off x="738000" y="3582720"/>
              <a:ext cx="422640" cy="28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88" name="AutoShape 13"/>
            <p:cNvCxnSpPr/>
            <p:nvPr/>
          </p:nvCxnSpPr>
          <p:spPr>
            <a:xfrm flipH="1" flipV="1">
              <a:off x="643320" y="3018600"/>
              <a:ext cx="346680" cy="36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89" name="AutoShape 14"/>
            <p:cNvCxnSpPr/>
            <p:nvPr/>
          </p:nvCxnSpPr>
          <p:spPr>
            <a:xfrm flipV="1">
              <a:off x="644040" y="2682000"/>
              <a:ext cx="687600" cy="336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0" name="AutoShape 15"/>
            <p:cNvCxnSpPr/>
            <p:nvPr/>
          </p:nvCxnSpPr>
          <p:spPr>
            <a:xfrm flipH="1">
              <a:off x="1159200" y="2883960"/>
              <a:ext cx="341640" cy="29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1" name="AutoShape 16"/>
            <p:cNvCxnSpPr/>
            <p:nvPr/>
          </p:nvCxnSpPr>
          <p:spPr>
            <a:xfrm>
              <a:off x="474120" y="3220200"/>
              <a:ext cx="93960" cy="45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2" name="AutoShape 17"/>
            <p:cNvCxnSpPr/>
            <p:nvPr/>
          </p:nvCxnSpPr>
          <p:spPr>
            <a:xfrm>
              <a:off x="737640" y="3870000"/>
              <a:ext cx="873000" cy="6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3" name="AutoShape 18"/>
            <p:cNvCxnSpPr/>
            <p:nvPr/>
          </p:nvCxnSpPr>
          <p:spPr>
            <a:xfrm flipV="1">
              <a:off x="1779480" y="3552480"/>
              <a:ext cx="31680" cy="17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4" name="AutoShape 19"/>
            <p:cNvCxnSpPr/>
            <p:nvPr/>
          </p:nvCxnSpPr>
          <p:spPr>
            <a:xfrm flipH="1" flipV="1">
              <a:off x="1159200" y="3583080"/>
              <a:ext cx="451080" cy="349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5" name="AutoShape 20"/>
            <p:cNvCxnSpPr/>
            <p:nvPr/>
          </p:nvCxnSpPr>
          <p:spPr>
            <a:xfrm flipV="1">
              <a:off x="1329120" y="3351240"/>
              <a:ext cx="314280" cy="30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6" name="AutoShape 21"/>
            <p:cNvCxnSpPr/>
            <p:nvPr/>
          </p:nvCxnSpPr>
          <p:spPr>
            <a:xfrm>
              <a:off x="1670040" y="2682720"/>
              <a:ext cx="441720" cy="18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7" name="AutoShape 22"/>
            <p:cNvCxnSpPr/>
            <p:nvPr/>
          </p:nvCxnSpPr>
          <p:spPr>
            <a:xfrm>
              <a:off x="1500480" y="2883960"/>
              <a:ext cx="311400" cy="268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8" name="AutoShape 23"/>
            <p:cNvCxnSpPr/>
            <p:nvPr/>
          </p:nvCxnSpPr>
          <p:spPr>
            <a:xfrm flipV="1">
              <a:off x="1981440" y="3065760"/>
              <a:ext cx="29880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9" name="AutoShape 24"/>
            <p:cNvCxnSpPr/>
            <p:nvPr/>
          </p:nvCxnSpPr>
          <p:spPr>
            <a:xfrm>
              <a:off x="2279160" y="3066480"/>
              <a:ext cx="155880" cy="268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0" name="AutoShape 25"/>
            <p:cNvCxnSpPr/>
            <p:nvPr/>
          </p:nvCxnSpPr>
          <p:spPr>
            <a:xfrm flipH="1" flipV="1">
              <a:off x="1981080" y="3351960"/>
              <a:ext cx="284400" cy="18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1" name="AutoShape 26"/>
            <p:cNvCxnSpPr/>
            <p:nvPr/>
          </p:nvCxnSpPr>
          <p:spPr>
            <a:xfrm flipH="1">
              <a:off x="1949040" y="3735720"/>
              <a:ext cx="485640" cy="19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602" name="Text Box 27"/>
          <p:cNvSpPr/>
          <p:nvPr/>
        </p:nvSpPr>
        <p:spPr>
          <a:xfrm>
            <a:off x="519480" y="1258920"/>
            <a:ext cx="1875240" cy="10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56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day’s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ocus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ad2323"/>
                </a:solidFill>
                <a:latin typeface="Calibri"/>
              </a:rPr>
              <a:t>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29"/>
          <p:cNvSpPr/>
          <p:nvPr/>
        </p:nvSpPr>
        <p:spPr>
          <a:xfrm>
            <a:off x="2843280" y="1330200"/>
            <a:ext cx="2666880" cy="99072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oday’s Interne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ng information 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ominating use cas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30" descr=""/>
          <p:cNvPicPr/>
          <p:nvPr/>
        </p:nvPicPr>
        <p:blipFill>
          <a:blip r:embed="rId9"/>
          <a:stretch/>
        </p:blipFill>
        <p:spPr>
          <a:xfrm>
            <a:off x="5818320" y="2554200"/>
            <a:ext cx="3097080" cy="2314800"/>
          </a:xfrm>
          <a:prstGeom prst="rect">
            <a:avLst/>
          </a:prstGeom>
          <a:ln w="0">
            <a:noFill/>
          </a:ln>
        </p:spPr>
      </p:pic>
      <p:sp>
        <p:nvSpPr>
          <p:cNvPr id="605" name="AutoShape 28"/>
          <p:cNvSpPr/>
          <p:nvPr/>
        </p:nvSpPr>
        <p:spPr>
          <a:xfrm>
            <a:off x="2809800" y="2317680"/>
            <a:ext cx="3382920" cy="1093680"/>
          </a:xfrm>
          <a:prstGeom prst="rightArrow">
            <a:avLst>
              <a:gd name="adj1" fmla="val 36139"/>
              <a:gd name="adj2" fmla="val 44693"/>
            </a:avLst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04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RTF Open Meeting  @ IETF-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Content Placeholder 180"/>
          <p:cNvSpPr/>
          <p:nvPr/>
        </p:nvSpPr>
        <p:spPr>
          <a:xfrm>
            <a:off x="34920" y="4797360"/>
            <a:ext cx="4392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dering important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cessing named resources – not 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distribution through replication and c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ood control of resolution/routing and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Content Placeholder 180"/>
          <p:cNvSpPr/>
          <p:nvPr/>
        </p:nvSpPr>
        <p:spPr>
          <a:xfrm>
            <a:off x="4608360" y="4797360"/>
            <a:ext cx="45356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ubiquitous c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t for all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for all users and content/service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n IRTF Effort Would be Usefu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opic seems important – quite some intere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nt-distribution perspec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et evolution perspec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Quite a number of research projec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neficial to bring people together in an IRTF/IETF con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et development expertise considered impor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ated to on-going IETF effor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PSP, DECADE, CD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G for persistent activ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than typical conferences, workshops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D163-6FFA-42E1-9028-06B5EC1E9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RTF Open Meeting  @ IETF-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ssible Research To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457200" y="1523880"/>
            <a:ext cx="822960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ming schemes for IC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alable name resolution for flat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alable routing sc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urity and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lication/application-protoco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siness, legal and regulatory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et evolution /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RTF Open Meeting  @ IETF-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0T13:58:02Z</dcterms:created>
  <dc:creator>Dirk Kutscher</dc:creator>
  <dc:description/>
  <dc:language>en-US</dc:language>
  <cp:lastModifiedBy>Dirk Kutscher</cp:lastModifiedBy>
  <dcterms:modified xsi:type="dcterms:W3CDTF">2011-07-26T22:39:39Z</dcterms:modified>
  <cp:revision>56</cp:revision>
  <dc:subject/>
  <dc:title>Information-Centric Networking Overview  Dirk.Kutscher@neclab.eu Boerje.Ohlman@ericsson.com   </dc:title>
</cp:coreProperties>
</file>