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7B9BD-BEB5-4E3A-ABF9-54BDCACAE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9E49E-A85B-4680-BBAC-D85F3802E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CCBF1-EB3F-4B56-9BAB-8FD41B9DA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A0E89-BCE6-4BB0-BEF2-9ED52BA92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0ACC8-6261-4FC0-8295-1D711C2E1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AD85D-EEAA-453F-A859-85261648C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656F5-C15C-4F8B-B29E-FFA1B2979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E7C70-8C96-44A5-80FD-9C6C7377C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50EEC-1A8E-4B33-BA83-E05EDAD27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710A-2AC4-4DB4-8C67-1353A2E95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55690-84A9-4BC0-BF31-F6B2D73A4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1AA7-2575-4284-B4D5-4F4A4911D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687C-6535-4D57-8561-8F9BDB526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IS W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504960"/>
            <a:ext cx="6400800" cy="29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81 Quebec C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 Hopps &lt;chopps@cisco.com&g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e Ward &lt;dward@juniper.net&g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
          <p:cNvSpPr txBox="1"/>
          <p:nvPr/>
        </p:nvSpPr>
        <p:spPr>
          <a:xfrm>
            <a:off x="685800" y="1066320"/>
            <a:ext cx="7772400" cy="5791320"/>
          </a:xfrm>
          <a:prstGeom prst="rect">
            <a:avLst/>
          </a:prstGeom>
          <a:noFill/>
          <a:ln w="0">
            <a:noFill/>
          </a:ln>
        </p:spPr>
        <p:txBody>
          <a:bodyPr anchor="t">
            <a:normAutofit/>
          </a:bodyPr>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8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ＭＳ Ｐゴシック"/>
              </a:rPr>
              <a:t>The IETF plenary session</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lnSpc>
                <a:spcPct val="6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ll IETF Contributions are subject to the rules of </a:t>
            </a:r>
            <a:r>
              <a:rPr b="0" lang="en-US" sz="1800" spc="-1" strike="noStrike" u="sng">
                <a:solidFill>
                  <a:srgbClr val="000000"/>
                </a:solidFill>
                <a:uFillTx/>
                <a:latin typeface="Arial"/>
              </a:rPr>
              <a:t>RFC 5378 and RFC 3979 (updated by RFC 4879).</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lease consult </a:t>
            </a:r>
            <a:r>
              <a:rPr b="0" lang="en-US" sz="1800" spc="-1" strike="noStrike" u="sng">
                <a:solidFill>
                  <a:srgbClr val="000000"/>
                </a:solidFill>
                <a:uFillTx/>
                <a:latin typeface="Arial"/>
              </a:rPr>
              <a:t>RFC 5378 and RFC 3979 for details.</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participant in any IETF activity acknowledges that written, audio and video records of meetings may be made and may be available to the public.</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6" name="PlaceHolder 2"/>
          <p:cNvSpPr>
            <a:spLocks noGrp="1"/>
          </p:cNvSpPr>
          <p:nvPr>
            <p:ph/>
          </p:nvPr>
        </p:nvSpPr>
        <p:spPr>
          <a:xfrm>
            <a:off x="228600" y="1981080"/>
            <a:ext cx="868680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m  - Intro, Adminastriva, Document Statu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7m - IEEE 802.1aq Shortest Path Bridging Interop Presenation</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eter Ashwood-Smith</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m - ISIS OTV</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hananjaya Rao</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ttp://www.ietf.org/id/draft-drao-isis-otv-00.tx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m - Use of GENAPP in draft-ietf-trill-rbridge-channel</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nald Eastlak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RFCs</a:t>
            </a:r>
            <a:endParaRPr b="0" lang="en-US" sz="4400" spc="-1" strike="noStrike">
              <a:solidFill>
                <a:srgbClr val="000000"/>
              </a:solidFill>
              <a:latin typeface="Arial"/>
            </a:endParaRPr>
          </a:p>
        </p:txBody>
      </p:sp>
      <p:sp>
        <p:nvSpPr>
          <p:cNvPr id="48" name=""/>
          <p:cNvSpPr txBox="1"/>
          <p:nvPr/>
        </p:nvSpPr>
        <p:spPr>
          <a:xfrm>
            <a:off x="533520" y="1828800"/>
            <a:ext cx="807696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616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ons to IS-IS for Layer-2 System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621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S-IS BFD-Enabled TLV</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623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Originator Identification TLV for IS-I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323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IS Registry Extension for Pur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FC Ed Queue</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ed On MISRE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isis-ieee-aq</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aq</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isis-genap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isis-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WG Doc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isis-oper-enhance-00</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raft-shen-isis-oper-enhance-0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amante-isis-reverse-metric-0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for resbumi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 Sub ID-Exist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xis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drao-isis-otv-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simpson-isis-ppp-unique-01</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manral-isis-trill-multi-topo-0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dhody-pce-bn-discovery-isis-02</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ir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nie-isis-mi-mib-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xu-l2vpn-vpls-isis-00</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13:20:24Z</dcterms:created>
  <dc:creator>Christian Hopps</dc:creator>
  <dc:description/>
  <dc:language>en-US</dc:language>
  <cp:lastModifiedBy>Christian Hopps</cp:lastModifiedBy>
  <dcterms:modified xsi:type="dcterms:W3CDTF">2011-07-25T14:55:31Z</dcterms:modified>
  <cp:revision>37</cp:revision>
  <dc:subject/>
  <dc:title>IS-IS WG</dc:title>
</cp:coreProperties>
</file>