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"/>
          <p:cNvSpPr/>
          <p:nvPr/>
        </p:nvSpPr>
        <p:spPr>
          <a:xfrm>
            <a:off x="541440" y="974880"/>
            <a:ext cx="1156968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802.1aq/SPB - 3</a:t>
            </a:r>
            <a:r>
              <a:rPr b="0" lang="en-US" sz="51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 Interop Overview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site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dgard Vargas – Alcatel Lucent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eter Ashwood-Smith - Huawei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John Vant Erve - Avaya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ephane Vinet - Spiren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is Nandy – Solana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p Makkar - Solana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June 27-30 Ottawa/Canada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Physical Network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6120" y="184320"/>
            <a:ext cx="11702880" cy="1234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Physical topology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4000" y="1625760"/>
            <a:ext cx="12155760" cy="7051680"/>
            <a:chOff x="324000" y="1625760"/>
            <a:chExt cx="12155760" cy="7051680"/>
          </a:xfrm>
        </p:grpSpPr>
        <p:sp>
          <p:nvSpPr>
            <p:cNvPr id="121" name=""/>
            <p:cNvSpPr/>
            <p:nvPr/>
          </p:nvSpPr>
          <p:spPr>
            <a:xfrm flipV="1">
              <a:off x="6224760" y="4288320"/>
              <a:ext cx="2028240" cy="16218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198440" y="2919960"/>
              <a:ext cx="1890000" cy="10382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0360" y="2919960"/>
              <a:ext cx="393840" cy="11156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6480" y="2919960"/>
              <a:ext cx="1648440" cy="12049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1720" y="4199760"/>
              <a:ext cx="1404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325160" y="4199400"/>
              <a:ext cx="2146320" cy="1636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451520" y="4288680"/>
              <a:ext cx="4404960" cy="15472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581120" y="4288680"/>
              <a:ext cx="6913800" cy="14580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324800" y="4288320"/>
              <a:ext cx="2399400" cy="16218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0160" y="4110480"/>
              <a:ext cx="14040" cy="17254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966480" y="4199400"/>
              <a:ext cx="2016720" cy="1636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6480" y="4199400"/>
              <a:ext cx="440208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071360" y="4199400"/>
              <a:ext cx="529092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836520" y="4199400"/>
              <a:ext cx="227268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520" y="4199760"/>
              <a:ext cx="1404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324800" y="4288320"/>
              <a:ext cx="7422840" cy="16218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456720" y="4288320"/>
              <a:ext cx="5417640" cy="16218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842080" y="4288320"/>
              <a:ext cx="328572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36840" y="4288680"/>
              <a:ext cx="11160" cy="15472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736840" y="4199400"/>
              <a:ext cx="2028240" cy="1711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375280" y="4110480"/>
              <a:ext cx="11160" cy="1636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836520" y="4366440"/>
              <a:ext cx="7422840" cy="13802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451160" y="4288320"/>
              <a:ext cx="9681480" cy="16218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3800" y="5988600"/>
              <a:ext cx="14040" cy="13831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23000" y="4300200"/>
              <a:ext cx="11160" cy="29937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107440" y="6077520"/>
              <a:ext cx="14040" cy="1294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00" y="5735520"/>
              <a:ext cx="152172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1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5720" y="5735520"/>
              <a:ext cx="152172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2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7440" y="5735520"/>
              <a:ext cx="151020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3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9160" y="5735520"/>
              <a:ext cx="152460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4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373760" y="5735520"/>
              <a:ext cx="125424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-6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73760" y="3946680"/>
              <a:ext cx="19015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niswitch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3946680"/>
              <a:ext cx="15217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5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9000" y="3946680"/>
              <a:ext cx="15217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6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4360" y="3946680"/>
              <a:ext cx="15217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7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79360" y="3946680"/>
              <a:ext cx="15217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8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69640" y="7230960"/>
              <a:ext cx="2310120" cy="546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RENT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60840" y="2589120"/>
              <a:ext cx="1711800" cy="5576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GGA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2360" y="7245360"/>
              <a:ext cx="1625400" cy="5576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ANA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1720" y="6178320"/>
              <a:ext cx="14040" cy="188928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440" y="6178320"/>
              <a:ext cx="14040" cy="188928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500480" y="6178320"/>
              <a:ext cx="11160" cy="104112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440" y="7878240"/>
              <a:ext cx="747720" cy="5576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PC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2560" y="7866720"/>
              <a:ext cx="747720" cy="543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PC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560" y="6762240"/>
              <a:ext cx="710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38000" y="6762240"/>
              <a:ext cx="710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9800" y="6762240"/>
              <a:ext cx="710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8720" y="6546600"/>
              <a:ext cx="104148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2500"/>
              </a:b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51640" y="6609600"/>
              <a:ext cx="1041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2500"/>
              </a:b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74720" y="6684480"/>
              <a:ext cx="1041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2500"/>
              </a:b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32120" y="7763040"/>
              <a:ext cx="1038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2500"/>
              </a:b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9120" y="1625760"/>
              <a:ext cx="1038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2500"/>
              </a:br>
              <a:r>
                <a:rPr b="0" lang="en-US" sz="25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20360" y="3141720"/>
            <a:ext cx="98892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Arial"/>
              </a:rPr>
              <a:t>ISID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Arial"/>
              </a:rPr>
              <a:t>1000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"/>
          <p:cNvSpPr/>
          <p:nvPr/>
        </p:nvSpPr>
        <p:spPr>
          <a:xfrm>
            <a:off x="968400" y="2647800"/>
            <a:ext cx="8012160" cy="502992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isis lsdb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information for ISIS(1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-1 Link State Database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SPID                 Seq Num      Checksum      Holdtime      Length  ATT/P/OL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.0000.0001.00-00  0x00000066   0xd16         648           202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_2.00-00      0x000000b6   0xa06e        850           209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_3.00-00      0x000000b6   0x85c4        313           269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_4.00-00      0x000000b4   0xcd4f        811           239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_5.00-00      0x000000b6   0xe9e9        1002          275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S-6.00-00           0x000001e9   0x28d5        694           324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mniswitch.00-00      0x00000085   0xb9bf        839           176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.00-00         0x00000143   0x8961        717           162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2.00-00         0x0000036f   0x1714        715           219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3.00-00         0x00000311   0xb5ba        727           200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4.00-00         0x0000035a   0xbbba        676           219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5.00-00         0x000003d0   0x7cde        432           183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6.00-00*        0x000003ce   0x81d8        503           202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7.00-00         0x000003d3   0xff18        889           183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8.00-00         0x0000016d   0x15cc        1015          145     0/0/0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885160" y="4557600"/>
            <a:ext cx="976320" cy="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9" name=""/>
          <p:cNvSpPr/>
          <p:nvPr/>
        </p:nvSpPr>
        <p:spPr>
          <a:xfrm>
            <a:off x="9995040" y="437184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pirent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885160" y="5208480"/>
            <a:ext cx="976320" cy="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1" name=""/>
          <p:cNvSpPr/>
          <p:nvPr/>
        </p:nvSpPr>
        <p:spPr>
          <a:xfrm>
            <a:off x="9995040" y="4883040"/>
            <a:ext cx="1164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Quagga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885160" y="5857920"/>
            <a:ext cx="976320" cy="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3" name=""/>
          <p:cNvSpPr/>
          <p:nvPr/>
        </p:nvSpPr>
        <p:spPr>
          <a:xfrm>
            <a:off x="9995040" y="5645160"/>
            <a:ext cx="630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u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885160" y="6724800"/>
            <a:ext cx="976320" cy="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5" name=""/>
          <p:cNvSpPr/>
          <p:nvPr/>
        </p:nvSpPr>
        <p:spPr>
          <a:xfrm>
            <a:off x="9995040" y="6513480"/>
            <a:ext cx="1164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uaweii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885160" y="5641920"/>
            <a:ext cx="976320" cy="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7" name=""/>
          <p:cNvSpPr/>
          <p:nvPr/>
        </p:nvSpPr>
        <p:spPr>
          <a:xfrm>
            <a:off x="9995040" y="5429160"/>
            <a:ext cx="963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ya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10077480" y="7483320"/>
            <a:ext cx="2322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olana is passiv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o no LSP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Link State Database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1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2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3" name=""/>
          <p:cNvSpPr/>
          <p:nvPr/>
        </p:nvSpPr>
        <p:spPr>
          <a:xfrm>
            <a:off x="1727280" y="2484360"/>
            <a:ext cx="8958240" cy="54298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S-6:3/show/isis/spbm# unicast-fib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 Execution Time: THU JUN 30 12:04:29 2011 UTC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BM UNICAST FIB ENTRY INFO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BVLAN  SYSID            HOST-NAME         OUTGOING     COST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                                                    INTERFACE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1:00:00:00:03  40     0001.0000.0003   NULL              2/18         7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55:66:77:10:05  41     0055.6677.1005   Instance_5        2/20         4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e0:b1:e7:0b:d3  40     00e0.b1e7.0bd3   omniswitch        2/4          10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e0:b1:e7:0b:d3  41     00e0.b1e7.0bd3   omniswitch        2/4          10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1  40     4455.6677.0001   s9303-1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1  41     4455.6677.0001   s9303-1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2  40     4455.6677.0002   s9303-2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2  41     4455.6677.0002   s9303-2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3  40     4455.6677.0003   s9303-3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:55:66:77:00:03  41     4455.6677.0003   s9303-3           2/20        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Filtering Database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6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7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8" name=""/>
          <p:cNvSpPr/>
          <p:nvPr/>
        </p:nvSpPr>
        <p:spPr>
          <a:xfrm>
            <a:off x="425520" y="2268360"/>
            <a:ext cx="12042720" cy="50266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RS-6:3/show/isis/spbm# multicast-fib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 Execution Time: THU JUN 30 12:08:33 2011 UTC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PBM MULTICAST FIB ENTRY INFO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CAST DA           ISID   BVLAN  SYSID                HOST-NAME         OUTGOING-INTERFACES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23:00:0e:00:03:e8  1000   40     0001.0000.000e       NULL              2/20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:06:00:03:e8  1000   40     00be.b000.0600       ERS-6             2/18,2/20,2/4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:06:00:03:e9  1001   41     00be.b000.0600       ERS-6             2/18,2/20,2/4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73:0b:d3:00:03:e8  1000   40     00e0.b1e7.0bd3       omniswitch        2/18,2/20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73:0b:d3:00:03:e9  1001   41     00e0.b1e7.0bd3       omniswitch        2/18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73:00:01:00:03:e8  1000   40     4455.6677.0001       s9303-1           2/18,2/4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73:00:01:00:03:e9  1001   41     4455.6677.0001       s9303-1           2/18,2/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Multicast FDB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1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2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3" name=""/>
          <p:cNvSpPr/>
          <p:nvPr/>
        </p:nvSpPr>
        <p:spPr>
          <a:xfrm>
            <a:off x="2593800" y="3027240"/>
            <a:ext cx="7459920" cy="457740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-X40-A2_14_2_3-&gt; show ip isis spf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IS Path Table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                          Interface           Nexthop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.0000.0001.00             1/3                 0010.9400.0001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.0000.0002.00             1/3                 0010.9400.0001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.0000.0003.00             1/3                 0010.9400.0001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011a.00             1/2                 00be.b000.0600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011b.00             1/2                 00be.b000.0600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1008.00             1/2                 00be.b000.0600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1009.00             1/1                 4455.6677.0004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100a.00             1/2                 00be.b000.0600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100b.00             1/2                 00be.b000.0600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100c.00             1/1                 4455.6677.0004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F count: 185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Shortest Path Next hop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6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08280" y="5092560"/>
            <a:ext cx="6716880" cy="3556440"/>
            <a:chOff x="2708280" y="5092560"/>
            <a:chExt cx="6716880" cy="3556440"/>
          </a:xfrm>
        </p:grpSpPr>
        <p:sp>
          <p:nvSpPr>
            <p:cNvPr id="209" name=""/>
            <p:cNvSpPr/>
            <p:nvPr/>
          </p:nvSpPr>
          <p:spPr>
            <a:xfrm flipH="1">
              <a:off x="3191040" y="5129640"/>
              <a:ext cx="1051920" cy="6199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69320" y="5129640"/>
              <a:ext cx="215280" cy="6714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1320" y="5129640"/>
              <a:ext cx="910800" cy="7232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3280" y="5890320"/>
              <a:ext cx="1404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54040" y="5889960"/>
              <a:ext cx="1189800" cy="973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328920" y="5938920"/>
              <a:ext cx="2434320" cy="9241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392280" y="5939280"/>
              <a:ext cx="3828240" cy="8755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254040" y="5938920"/>
              <a:ext cx="133056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0560" y="5838840"/>
              <a:ext cx="1404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711320" y="5889960"/>
              <a:ext cx="1126440" cy="9730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711320" y="5890320"/>
              <a:ext cx="244584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112920" y="5890320"/>
              <a:ext cx="292860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647960" y="5890320"/>
              <a:ext cx="125316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89960" y="5890320"/>
              <a:ext cx="1116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253680" y="5938920"/>
              <a:ext cx="410436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432320" y="5938920"/>
              <a:ext cx="300348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5748840" y="5939280"/>
              <a:ext cx="1824840" cy="10274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47240" y="5939280"/>
              <a:ext cx="11160" cy="92412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347240" y="5890320"/>
              <a:ext cx="1126440" cy="10245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04520" y="5838840"/>
              <a:ext cx="1116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4647960" y="5990760"/>
              <a:ext cx="4104360" cy="8236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328920" y="5938920"/>
              <a:ext cx="534888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7560" y="6952680"/>
              <a:ext cx="14040" cy="82368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224280" y="5953680"/>
              <a:ext cx="11160" cy="178524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66640" y="7004160"/>
              <a:ext cx="11160" cy="772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08280" y="6952680"/>
              <a:ext cx="836280" cy="34128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1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90680" y="6952680"/>
              <a:ext cx="836280" cy="34128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2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70200" y="6952680"/>
              <a:ext cx="850680" cy="34128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3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64480" y="6952680"/>
              <a:ext cx="836280" cy="34128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4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8400" y="6952680"/>
              <a:ext cx="709920" cy="34128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-6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58400" y="5890320"/>
              <a:ext cx="100296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niswitch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08280" y="5890320"/>
              <a:ext cx="83628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5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27320" y="5890320"/>
              <a:ext cx="83628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6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2320" y="5890320"/>
              <a:ext cx="84780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7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63240" y="5890320"/>
              <a:ext cx="83628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9303-8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46440" y="7698960"/>
              <a:ext cx="1278720" cy="330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RENT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0360" y="5092560"/>
              <a:ext cx="925200" cy="330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GGA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4760" y="7865640"/>
              <a:ext cx="87372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ANA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964840" y="5938920"/>
              <a:ext cx="1114920" cy="97596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7680" y="7067520"/>
              <a:ext cx="11160" cy="112500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36880" y="7067520"/>
              <a:ext cx="11160" cy="112500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24640" y="7067520"/>
              <a:ext cx="11160" cy="619920"/>
            </a:xfrm>
            <a:prstGeom prst="line">
              <a:avLst/>
            </a:prstGeom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86480" y="8244360"/>
              <a:ext cx="494280" cy="33012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2760" y="8232840"/>
              <a:ext cx="505800" cy="327240"/>
            </a:xfrm>
            <a:prstGeom prst="rect">
              <a:avLst/>
            </a:prstGeom>
            <a:solidFill>
              <a:srgbClr val="ffffff"/>
            </a:solidFill>
            <a:ln w="13680">
              <a:solidFill>
                <a:srgbClr val="ff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19440" y="7561080"/>
              <a:ext cx="471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04880" y="7561080"/>
              <a:ext cx="468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4320" y="7561080"/>
              <a:ext cx="468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uni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87360" y="7434720"/>
              <a:ext cx="6840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1100"/>
              </a:b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4120" y="7472160"/>
              <a:ext cx="6840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1100"/>
              </a:b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22120" y="7524000"/>
              <a:ext cx="6984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1100"/>
              </a:b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62960" y="8169840"/>
              <a:ext cx="6840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ISID</a:t>
              </a:r>
              <a:br>
                <a:rPr sz="1100"/>
              </a:br>
              <a:r>
                <a:rPr b="0" lang="en-U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184400" y="2050920"/>
            <a:ext cx="9875880" cy="24346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uroute s9303-1 omniswitch vlan 40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 -&gt; s9303-6 -&gt; ERS-6 -&gt; omniswitch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uroute s9303-1 omniswitch vlan 41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 -&gt; s9303-7 -&gt; s9303-4 -&gt; omniswitch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1" name=""/>
          <p:cNvSpPr/>
          <p:nvPr/>
        </p:nvSpPr>
        <p:spPr>
          <a:xfrm>
            <a:off x="3141720" y="6064200"/>
            <a:ext cx="5956200" cy="1087560"/>
          </a:xfrm>
          <a:prstGeom prst="pie">
            <a:avLst/>
          </a:prstGeom>
          <a:noFill/>
          <a:ln w="813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2" name=""/>
          <p:cNvSpPr/>
          <p:nvPr/>
        </p:nvSpPr>
        <p:spPr>
          <a:xfrm>
            <a:off x="3281400" y="6018120"/>
            <a:ext cx="5737320" cy="1062000"/>
          </a:xfrm>
          <a:prstGeom prst="pie">
            <a:avLst/>
          </a:prstGeom>
          <a:noFill/>
          <a:ln w="813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Route query for two ECT-ALGORITHMS. 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4" name=""/>
          <p:cNvSpPr/>
          <p:nvPr/>
        </p:nvSpPr>
        <p:spPr>
          <a:xfrm>
            <a:off x="8561520" y="5200560"/>
            <a:ext cx="6350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ISID</a:t>
            </a:r>
            <a:br>
              <a:rPr sz="1100"/>
            </a:br>
            <a:r>
              <a:rPr b="0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6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7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8" name=""/>
          <p:cNvSpPr/>
          <p:nvPr/>
        </p:nvSpPr>
        <p:spPr>
          <a:xfrm>
            <a:off x="425520" y="1943280"/>
            <a:ext cx="12042720" cy="24346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uroute s9303-1 Instance_22 vlan 40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 -&gt; s9303-6 -&gt; Instance_2 -&gt; Instance_3 -&gt; Instance_8 -&gt; Instance_14 -&gt; Instance_24 -&gt; Instance_23 -&gt; Instance_2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uroute s9303-1 Instance_22 vlan 41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 -&gt; s9303-7 -&gt; Instance_4 -&gt; Instance_5 -&gt; Instance_8 -&gt; Instance_14 -&gt; Instance_24 -&gt; Instance_23 -&gt; Instance_22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236080" y="4551480"/>
            <a:ext cx="4010400" cy="4223160"/>
            <a:chOff x="8236080" y="4551480"/>
            <a:chExt cx="4010400" cy="4223160"/>
          </a:xfrm>
        </p:grpSpPr>
        <p:pic>
          <p:nvPicPr>
            <p:cNvPr id="270" name="big.png" descr=""/>
            <p:cNvPicPr/>
            <p:nvPr/>
          </p:nvPicPr>
          <p:blipFill>
            <a:blip r:embed="rId1"/>
            <a:stretch/>
          </p:blipFill>
          <p:spPr>
            <a:xfrm>
              <a:off x="8236080" y="4551480"/>
              <a:ext cx="4010400" cy="42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0387440" y="7036920"/>
              <a:ext cx="366840" cy="1308600"/>
            </a:xfrm>
            <a:prstGeom prst="pie">
              <a:avLst/>
            </a:prstGeom>
            <a:noFill/>
            <a:ln w="813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49440" y="4551480"/>
            <a:ext cx="6714360" cy="4074480"/>
            <a:chOff x="649440" y="4551480"/>
            <a:chExt cx="6714360" cy="4074480"/>
          </a:xfrm>
        </p:grpSpPr>
        <p:grpSp>
          <p:nvGrpSpPr>
            <p:cNvPr id="273" name=""/>
            <p:cNvGrpSpPr/>
            <p:nvPr/>
          </p:nvGrpSpPr>
          <p:grpSpPr>
            <a:xfrm>
              <a:off x="649440" y="5070960"/>
              <a:ext cx="6714360" cy="3555000"/>
              <a:chOff x="649440" y="5070960"/>
              <a:chExt cx="6714360" cy="355500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1131480" y="5108040"/>
                <a:ext cx="1051560" cy="61956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10120" y="5108040"/>
                <a:ext cx="215280" cy="6714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51760" y="5108040"/>
                <a:ext cx="910800" cy="72288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54440" y="5868360"/>
                <a:ext cx="1404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195200" y="5868000"/>
                <a:ext cx="1189440" cy="97236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269720" y="5917320"/>
                <a:ext cx="2433600" cy="92376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333080" y="5917320"/>
                <a:ext cx="3826800" cy="8748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1194840" y="5916960"/>
                <a:ext cx="133020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11000" y="5816880"/>
                <a:ext cx="1404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651760" y="5868000"/>
                <a:ext cx="1126080" cy="97236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651760" y="5868000"/>
                <a:ext cx="244476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1054440" y="5868000"/>
                <a:ext cx="292752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588400" y="5868000"/>
                <a:ext cx="125244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30040" y="5868360"/>
                <a:ext cx="1116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1194840" y="5916960"/>
                <a:ext cx="410292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2373120" y="5916960"/>
                <a:ext cx="300240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689280" y="5916960"/>
                <a:ext cx="1824480" cy="102708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86600" y="5917320"/>
                <a:ext cx="11160" cy="92376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286600" y="5868000"/>
                <a:ext cx="1126080" cy="102420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43520" y="5816880"/>
                <a:ext cx="1116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2588400" y="5968440"/>
                <a:ext cx="4102920" cy="82332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1269720" y="5916960"/>
                <a:ext cx="534672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48000" y="6930000"/>
                <a:ext cx="14040" cy="82332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62920" y="5931720"/>
                <a:ext cx="11160" cy="178452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05280" y="6981840"/>
                <a:ext cx="11160" cy="77148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440" y="6930000"/>
                <a:ext cx="835920" cy="3412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1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31120" y="6930000"/>
                <a:ext cx="835920" cy="3412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2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10280" y="6930000"/>
                <a:ext cx="850320" cy="3412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3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03840" y="6930000"/>
                <a:ext cx="835920" cy="3412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4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97400" y="6930000"/>
                <a:ext cx="709560" cy="3412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RS-6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97400" y="5868360"/>
                <a:ext cx="100260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mniswitch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9440" y="5868360"/>
                <a:ext cx="83592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5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68120" y="5868360"/>
                <a:ext cx="83592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6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2400" y="5868360"/>
                <a:ext cx="84744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7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02960" y="5868360"/>
                <a:ext cx="83592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9303-8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85440" y="7675920"/>
                <a:ext cx="1278360" cy="32976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IRENT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91160" y="5070960"/>
                <a:ext cx="924840" cy="32976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GGA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05560" y="7842600"/>
                <a:ext cx="87336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ANA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904560" y="5916960"/>
                <a:ext cx="1114560" cy="975240"/>
              </a:xfrm>
              <a:prstGeom prst="line">
                <a:avLst/>
              </a:prstGeom>
              <a:ln w="13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8840" y="7044840"/>
                <a:ext cx="11160" cy="1124640"/>
              </a:xfrm>
              <a:prstGeom prst="line">
                <a:avLst/>
              </a:prstGeom>
              <a:ln w="1368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76960" y="7044840"/>
                <a:ext cx="11160" cy="1124640"/>
              </a:xfrm>
              <a:prstGeom prst="line">
                <a:avLst/>
              </a:prstGeom>
              <a:ln w="1368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63640" y="7044840"/>
                <a:ext cx="11160" cy="619560"/>
              </a:xfrm>
              <a:prstGeom prst="line">
                <a:avLst/>
              </a:prstGeom>
              <a:ln w="1368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7280" y="8221320"/>
                <a:ext cx="493920" cy="32976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PC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73200" y="8209800"/>
                <a:ext cx="505440" cy="326880"/>
              </a:xfrm>
              <a:prstGeom prst="rect">
                <a:avLst/>
              </a:prstGeom>
              <a:solidFill>
                <a:srgbClr val="ffffff"/>
              </a:solidFill>
              <a:ln w="1368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PC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0600" y="7538400"/>
                <a:ext cx="4708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uni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43880" y="7538400"/>
                <a:ext cx="4680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uni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14400" y="7538400"/>
                <a:ext cx="4680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uni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28520" y="7412040"/>
                <a:ext cx="68364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ISID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1000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94200" y="7449480"/>
                <a:ext cx="6836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ISID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1000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61480" y="7500960"/>
                <a:ext cx="69804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ISID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1000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01960" y="8146800"/>
                <a:ext cx="68364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ISID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1000</a:t>
                </a:r>
                <a:endParaRPr b="0" lang="en-US" sz="11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69640" y="4551480"/>
              <a:ext cx="1862280" cy="2480760"/>
            </a:xfrm>
            <a:prstGeom prst="pie">
              <a:avLst/>
            </a:prstGeom>
            <a:noFill/>
            <a:ln w="813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06720" y="4666320"/>
              <a:ext cx="2535120" cy="2365920"/>
            </a:xfrm>
            <a:prstGeom prst="pie">
              <a:avLst/>
            </a:prstGeom>
            <a:noFill/>
            <a:ln w="813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Route query for distant nodes 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8" name=""/>
          <p:cNvSpPr/>
          <p:nvPr/>
        </p:nvSpPr>
        <p:spPr>
          <a:xfrm>
            <a:off x="6502320" y="5310360"/>
            <a:ext cx="6350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ISID</a:t>
            </a:r>
            <a:br>
              <a:rPr sz="1100"/>
            </a:br>
            <a:r>
              <a:rPr b="0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0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1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2" name=""/>
          <p:cNvSpPr/>
          <p:nvPr/>
        </p:nvSpPr>
        <p:spPr>
          <a:xfrm>
            <a:off x="858960" y="317520"/>
            <a:ext cx="11285280" cy="50698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status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PB Status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 SPBM, nodes 187, links 412, adj 6, ufib 372, mfib 45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: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isis peer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eer information for ISIS(1)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 Id     Interface          Circuit Id       State HoldTime Type     PRI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1         GE1/0/10           0000000002        Up   23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2         GE1/0/11           0000000004        Up   25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3         GE1/0/12           0000000002        Up   29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9303-4         GE1/0/13           0000000003        Up   27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_2      GE1/0/14           005               Up   26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RS-6           GE1/0/24           0825505536        Up   23s      L1       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Peer(s): 6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3" name=""/>
          <p:cNvSpPr/>
          <p:nvPr/>
        </p:nvSpPr>
        <p:spPr>
          <a:xfrm>
            <a:off x="1515960" y="7151760"/>
            <a:ext cx="5446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Huawei “S9303”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34" name="IMG_0259.jpg" descr=""/>
          <p:cNvPicPr/>
          <p:nvPr/>
        </p:nvPicPr>
        <p:blipFill>
          <a:blip r:embed="rId1"/>
          <a:stretch/>
        </p:blipFill>
        <p:spPr>
          <a:xfrm>
            <a:off x="8885160" y="5092560"/>
            <a:ext cx="336096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6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7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8" name=""/>
          <p:cNvSpPr/>
          <p:nvPr/>
        </p:nvSpPr>
        <p:spPr>
          <a:xfrm>
            <a:off x="1184400" y="858960"/>
            <a:ext cx="8977320" cy="393804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S-6:3# show isis adj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 Execution Time: THU JUN 30 11:36:15 2011 UTC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IS Adjacencies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L STATE        UPTIME PRI HOLDTIME SYSID             HOST-NAME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2/18  1 UP         18:24:49 127       25 0010.9400.0008    (null)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2/19  1 UP         04:27:27 127       29 4455.6677.0005    s9303-5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2/20  1 UP         04:25:41 127       28 4455.6677.0006    s9303-6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2/4   1 UP         14:39:30 127       21 00e0.b1e7.0bd3    omniswitch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out of 4 interfaces have formed an adjacency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9" name=""/>
          <p:cNvSpPr/>
          <p:nvPr/>
        </p:nvSpPr>
        <p:spPr>
          <a:xfrm>
            <a:off x="1407960" y="5200560"/>
            <a:ext cx="52819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Avaya  “ERS-6”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40" name="IMG_0253.jpg" descr=""/>
          <p:cNvPicPr/>
          <p:nvPr/>
        </p:nvPicPr>
        <p:blipFill>
          <a:blip r:embed="rId1"/>
          <a:stretch/>
        </p:blipFill>
        <p:spPr>
          <a:xfrm>
            <a:off x="7043760" y="5092560"/>
            <a:ext cx="5310000" cy="30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359160" y="6718320"/>
            <a:ext cx="7369200" cy="2166840"/>
          </a:xfrm>
          <a:prstGeom prst="pie">
            <a:avLst/>
          </a:prstGeom>
          <a:solidFill>
            <a:srgbClr val="ffff66"/>
          </a:solidFill>
          <a:ln w="136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802.1aq Standardization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33400" y="2925720"/>
            <a:ext cx="2923560" cy="2382120"/>
            <a:chOff x="1733400" y="2925720"/>
            <a:chExt cx="2923560" cy="2382120"/>
          </a:xfrm>
        </p:grpSpPr>
        <p:sp>
          <p:nvSpPr>
            <p:cNvPr id="48" name=""/>
            <p:cNvSpPr/>
            <p:nvPr/>
          </p:nvSpPr>
          <p:spPr>
            <a:xfrm>
              <a:off x="1733400" y="2925720"/>
              <a:ext cx="2923560" cy="2382120"/>
            </a:xfrm>
            <a:prstGeom prst="rect">
              <a:avLst/>
            </a:prstGeom>
            <a:solidFill>
              <a:srgbClr val="bbe0e3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67800" y="3661200"/>
              <a:ext cx="14544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aq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792920" y="3467160"/>
            <a:ext cx="4134600" cy="972000"/>
            <a:chOff x="7792920" y="3467160"/>
            <a:chExt cx="4134600" cy="972000"/>
          </a:xfrm>
        </p:grpSpPr>
        <p:sp>
          <p:nvSpPr>
            <p:cNvPr id="51" name=""/>
            <p:cNvSpPr/>
            <p:nvPr/>
          </p:nvSpPr>
          <p:spPr>
            <a:xfrm>
              <a:off x="7792920" y="3467160"/>
              <a:ext cx="4134600" cy="972000"/>
            </a:xfrm>
            <a:prstGeom prst="rect">
              <a:avLst/>
            </a:prstGeom>
            <a:solidFill>
              <a:srgbClr val="bbe0e3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92920" y="3681360"/>
              <a:ext cx="4134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ft-ietf-isis-ieee-aq-05.txt</a:t>
              </a:r>
              <a:endParaRPr b="0" lang="en-US" sz="2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74840" y="2274840"/>
            <a:ext cx="19098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"/>
          <p:cNvSpPr/>
          <p:nvPr/>
        </p:nvSpPr>
        <p:spPr>
          <a:xfrm>
            <a:off x="8777160" y="2274840"/>
            <a:ext cx="24336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ETF IS-IS WG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"/>
          <p:cNvSpPr/>
          <p:nvPr/>
        </p:nvSpPr>
        <p:spPr>
          <a:xfrm>
            <a:off x="974880" y="5634000"/>
            <a:ext cx="44431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in Project, IEEE Expert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thernet, Data Plane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PDU and IS-IS extension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"/>
          <p:cNvSpPr/>
          <p:nvPr/>
        </p:nvSpPr>
        <p:spPr>
          <a:xfrm>
            <a:off x="7802640" y="5634000"/>
            <a:ext cx="426240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-IS TLVs, Expert Review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d Code point allocation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"/>
          <p:cNvSpPr/>
          <p:nvPr/>
        </p:nvSpPr>
        <p:spPr>
          <a:xfrm>
            <a:off x="5743440" y="3684600"/>
            <a:ext cx="1082880" cy="649440"/>
          </a:xfrm>
          <a:prstGeom prst="leftRightArrow">
            <a:avLst>
              <a:gd name="adj1" fmla="val 50000"/>
              <a:gd name="adj2" fmla="val 23452"/>
            </a:avLst>
          </a:prstGeom>
          <a:solidFill>
            <a:srgbClr val="bbe0e3"/>
          </a:solidFill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"/>
          <p:cNvSpPr/>
          <p:nvPr/>
        </p:nvSpPr>
        <p:spPr>
          <a:xfrm>
            <a:off x="5524560" y="4551480"/>
            <a:ext cx="15843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uthor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"/>
          <p:cNvSpPr/>
          <p:nvPr/>
        </p:nvSpPr>
        <p:spPr>
          <a:xfrm>
            <a:off x="4226040" y="7477200"/>
            <a:ext cx="541800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monstration  of Implementation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"/>
          <p:cNvSpPr/>
          <p:nvPr/>
        </p:nvSpPr>
        <p:spPr>
          <a:xfrm>
            <a:off x="5310360" y="3033720"/>
            <a:ext cx="21445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-operation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"/>
          <p:cNvSpPr/>
          <p:nvPr/>
        </p:nvSpPr>
        <p:spPr>
          <a:xfrm>
            <a:off x="5851440" y="3792600"/>
            <a:ext cx="925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ynch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2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3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4" name=""/>
          <p:cNvSpPr/>
          <p:nvPr/>
        </p:nvSpPr>
        <p:spPr>
          <a:xfrm>
            <a:off x="642960" y="750960"/>
            <a:ext cx="11680920" cy="3471480"/>
          </a:xfrm>
          <a:prstGeom prst="rect">
            <a:avLst/>
          </a:prstGeom>
          <a:noFill/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-X40-A2_14_2_3-&gt; show ip isis adjacency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=======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SIS Adjacency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=======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 ID           Type      State     Hold      Interface             Hostname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4455.6677.0004      L1        UP        27        1/1                   s9303-4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00be.b000.0600      L1        UP        25        1/2                   ERS-6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0010.9400.0001      L1        UP        28        1/3                   None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Adjacency : 3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=======================================================================================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45" name="IMG_0252.jpg" descr=""/>
          <p:cNvPicPr/>
          <p:nvPr/>
        </p:nvPicPr>
        <p:blipFill>
          <a:blip r:embed="rId1"/>
          <a:stretch/>
        </p:blipFill>
        <p:spPr>
          <a:xfrm>
            <a:off x="1733400" y="6176880"/>
            <a:ext cx="9753840" cy="1516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684600" y="4984920"/>
            <a:ext cx="5925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ALU “omniswitch”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8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9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Compliance points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1080" y="2707920"/>
            <a:ext cx="11704680" cy="33591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ridge Priority 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st &gt; 2 ECT (but should be easy)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 more adjacency rejection tests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IBs?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.1ag tests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27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3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4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1200" y="712440"/>
            <a:ext cx="11704680" cy="12351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Recommended but not required for compliance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96600" y="2258640"/>
            <a:ext cx="11704680" cy="64371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Be nice to have Default B-VIDs/ECT mappings. I.e Best Common Practice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eg: 4000-4015 as default set?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Align SpSouceID’s, MEPID’s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Hostname very useful, if not set by user suggest (ASCI of your OUI) + instance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8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9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9440" y="2274840"/>
            <a:ext cx="11704320" cy="6437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Tata has offered to host 4</a:t>
            </a:r>
            <a:r>
              <a:rPr b="0" lang="en-US" sz="45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Interop in NJ and offered use of a transatlantic link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More in depth.1ag test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IETF interop informational but want to use also to recommend good practices (BCP).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Perhaps test the MIBs?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3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4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Thank-you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66" name="IMG_0256.jpg" descr=""/>
          <p:cNvPicPr/>
          <p:nvPr/>
        </p:nvPicPr>
        <p:blipFill>
          <a:blip r:embed="rId1"/>
          <a:stretch/>
        </p:blipFill>
        <p:spPr>
          <a:xfrm>
            <a:off x="3141720" y="2274840"/>
            <a:ext cx="7261200" cy="5423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25720" y="7910640"/>
            <a:ext cx="85773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dgard, Peter, John, Stephane, Bis &amp; Rup (not shown)..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d many others of course in 3 different countries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802.1aq (SPBm) Interop's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440" y="2274840"/>
            <a:ext cx="12028320" cy="6437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st Interop was 2010 Avaya/Huawei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lvl="1" marL="662040" indent="-20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MT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imple control plane/data/.1ag – 5 nodes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lvl="1" marL="662040" indent="-20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MT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port available via the wikipedia 802.1aq pag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nd Interop was in January 2011 Avaya/Huawei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lvl="1" marL="662040" indent="-20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MT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ll data plane/control/.1ag – 9 nodes including VM moves (report pending..)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lvl="1"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rd Interop was in June 2011 Avaya/Huawei/ALU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lvl="1" marL="662040" indent="-20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MT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ll control plane/ some .1ag – 187 nodes and 412 link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marL="26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th Interop will be in a few month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marL="26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Third Interop Summary (SPBM)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440" y="2599920"/>
            <a:ext cx="11704320" cy="509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 fontScale="95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Based the IETF draft-05 with current IANA code point allocations and the IEEE D4.0 – June 2011.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ocus on SPBM mode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Brought together 5 vendors products representing 6 independent implementations.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10 real switches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1 high end tester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1 passive network viewer (via NNI)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1 LINUX/Quagga emulator.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Built a IS-IS SPB network with 187 nodes and 412 links. </a:t>
            </a:r>
            <a:endParaRPr b="0" lang="en-US" sz="2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Actual TLV’s Tested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3" name="image.pdf" descr=""/>
          <p:cNvPicPr/>
          <p:nvPr/>
        </p:nvPicPr>
        <p:blipFill>
          <a:blip r:embed="rId1"/>
          <a:stretch/>
        </p:blipFill>
        <p:spPr>
          <a:xfrm>
            <a:off x="0" y="2629080"/>
            <a:ext cx="12679200" cy="5317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49400" y="8344080"/>
            <a:ext cx="904716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These are the proper IANA code points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9440" y="390600"/>
            <a:ext cx="11704320" cy="11253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Simulate a Large Network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9" name="big.png" descr=""/>
          <p:cNvPicPr/>
          <p:nvPr/>
        </p:nvPicPr>
        <p:blipFill>
          <a:blip r:embed="rId1"/>
          <a:stretch/>
        </p:blipFill>
        <p:spPr>
          <a:xfrm>
            <a:off x="3900600" y="1515960"/>
            <a:ext cx="5351400" cy="563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33400" y="7151760"/>
            <a:ext cx="102949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ttawa-s9300-6&gt;d spb status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SPB Status: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 SPBM, nodes 187, links 412, adj 6, ufib 372, mfib 45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9440" y="390600"/>
            <a:ext cx="11704320" cy="11253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Viewer –via passive NNI - Solana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5" name="big.png" descr=""/>
          <p:cNvPicPr/>
          <p:nvPr/>
        </p:nvPicPr>
        <p:blipFill>
          <a:blip r:embed="rId1"/>
          <a:stretch/>
        </p:blipFill>
        <p:spPr>
          <a:xfrm>
            <a:off x="1949400" y="1841400"/>
            <a:ext cx="5351400" cy="5202360"/>
          </a:xfrm>
          <a:prstGeom prst="rect">
            <a:avLst/>
          </a:prstGeom>
          <a:ln w="0">
            <a:noFill/>
          </a:ln>
        </p:spPr>
      </p:pic>
      <p:pic>
        <p:nvPicPr>
          <p:cNvPr id="86" name="IMG_0249.jpg" descr=""/>
          <p:cNvPicPr/>
          <p:nvPr/>
        </p:nvPicPr>
        <p:blipFill>
          <a:blip r:embed="rId2"/>
          <a:stretch/>
        </p:blipFill>
        <p:spPr>
          <a:xfrm>
            <a:off x="1841400" y="7477200"/>
            <a:ext cx="6935760" cy="69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93200" y="2600280"/>
            <a:ext cx="510192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mplemented the hello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ocol.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ssive Llsten to the IS-IS LSP’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raw the topology they see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utomatic network drawing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ayout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9440" y="390600"/>
            <a:ext cx="11704320" cy="11253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Network emulator - Spirent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"/>
          <p:cNvSpPr/>
          <p:nvPr/>
        </p:nvSpPr>
        <p:spPr>
          <a:xfrm>
            <a:off x="7693200" y="1407960"/>
            <a:ext cx="435744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rmed 3 SPBM Adjacencies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ject various topologie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cluding ISIDs info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jected packets with PBB encapsulation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lso used as Customer test point for ISID.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2880" y="1647360"/>
            <a:ext cx="6714000" cy="6911280"/>
            <a:chOff x="542880" y="1647360"/>
            <a:chExt cx="6714000" cy="6911280"/>
          </a:xfrm>
        </p:grpSpPr>
        <p:pic>
          <p:nvPicPr>
            <p:cNvPr id="94" name="big.png" descr=""/>
            <p:cNvPicPr/>
            <p:nvPr/>
          </p:nvPicPr>
          <p:blipFill>
            <a:blip r:embed="rId1"/>
            <a:stretch/>
          </p:blipFill>
          <p:spPr>
            <a:xfrm>
              <a:off x="1875240" y="1837440"/>
              <a:ext cx="5114160" cy="48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G_0253.jpg" descr=""/>
            <p:cNvPicPr/>
            <p:nvPr/>
          </p:nvPicPr>
          <p:blipFill>
            <a:blip r:embed="rId2"/>
            <a:stretch/>
          </p:blipFill>
          <p:spPr>
            <a:xfrm>
              <a:off x="1748520" y="6859080"/>
              <a:ext cx="5482440" cy="169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70760" y="4259160"/>
              <a:ext cx="5586120" cy="1509840"/>
            </a:xfrm>
            <a:prstGeom prst="pie">
              <a:avLst/>
            </a:prstGeom>
            <a:noFill/>
            <a:ln w="136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69520" y="1926360"/>
              <a:ext cx="11160" cy="3589200"/>
            </a:xfrm>
            <a:prstGeom prst="line">
              <a:avLst/>
            </a:prstGeom>
            <a:ln w="13680">
              <a:solidFill>
                <a:srgbClr val="0000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769680" y="2959920"/>
              <a:ext cx="3411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rent SPB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99" name="TestCenter_GUI.jpg" descr=""/>
          <p:cNvPicPr/>
          <p:nvPr/>
        </p:nvPicPr>
        <p:blipFill>
          <a:blip r:embed="rId3"/>
          <a:stretch/>
        </p:blipFill>
        <p:spPr>
          <a:xfrm>
            <a:off x="7910640" y="6067440"/>
            <a:ext cx="433548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7043760" y="7259760"/>
            <a:ext cx="758880" cy="43344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4944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July 1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"/>
          <p:cNvSpPr/>
          <p:nvPr/>
        </p:nvSpPr>
        <p:spPr>
          <a:xfrm>
            <a:off x="4441680" y="8881920"/>
            <a:ext cx="4119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Plenary San Francisco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EEE 802.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"/>
          <p:cNvSpPr/>
          <p:nvPr/>
        </p:nvSpPr>
        <p:spPr>
          <a:xfrm>
            <a:off x="9318600" y="8881920"/>
            <a:ext cx="3035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9440" y="390600"/>
            <a:ext cx="11704320" cy="11253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Network emulator - Quagga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5" name="big.png" descr=""/>
          <p:cNvPicPr/>
          <p:nvPr/>
        </p:nvPicPr>
        <p:blipFill>
          <a:blip r:embed="rId1"/>
          <a:stretch/>
        </p:blipFill>
        <p:spPr>
          <a:xfrm>
            <a:off x="1949400" y="1841400"/>
            <a:ext cx="5351400" cy="5635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996320" y="2543040"/>
            <a:ext cx="44924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inux/Laptop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odified Quagga ISIS+Java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raw picture &amp; inject/change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"/>
          <p:cNvSpPr/>
          <p:nvPr/>
        </p:nvSpPr>
        <p:spPr>
          <a:xfrm>
            <a:off x="1733400" y="4767120"/>
            <a:ext cx="5851800" cy="1579680"/>
          </a:xfrm>
          <a:prstGeom prst="pie">
            <a:avLst/>
          </a:prstGeom>
          <a:noFill/>
          <a:ln w="136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"/>
          <p:cNvSpPr/>
          <p:nvPr/>
        </p:nvSpPr>
        <p:spPr>
          <a:xfrm>
            <a:off x="1625760" y="6392880"/>
            <a:ext cx="0" cy="976320"/>
          </a:xfrm>
          <a:prstGeom prst="line">
            <a:avLst/>
          </a:prstGeom>
          <a:ln w="1368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9040" y="7086960"/>
            <a:ext cx="20653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Quagga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0" name="image.png" descr=""/>
          <p:cNvPicPr/>
          <p:nvPr/>
        </p:nvPicPr>
        <p:blipFill>
          <a:blip r:embed="rId2"/>
          <a:stretch/>
        </p:blipFill>
        <p:spPr>
          <a:xfrm>
            <a:off x="8669160" y="4984920"/>
            <a:ext cx="4118040" cy="3246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6392520" y="6502320"/>
            <a:ext cx="2058840" cy="108000"/>
          </a:xfrm>
          <a:prstGeom prst="line">
            <a:avLst/>
          </a:prstGeom>
          <a:ln w="136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