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AE1-DD12-4C4A-8A53-8951DA97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8BA-662F-4649-AD33-FF535DE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CA3-BC49-4CFD-A5C4-44D4CEF0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B21-8DAA-4276-8FD8-9A811A74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04B-C368-4CB3-8FBC-7CCEFCB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F87-D55A-4576-A809-63592DF6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B7F-8C28-46EF-815D-61ADF32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33B-F23B-4051-A9E1-B6499E0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3A5-E8FB-41D5-825F-3EBB1FB5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08C-30A1-4A95-A401-9BDEE18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123-9F6C-4511-93E9-E48AA0E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D29-C1C5-4EE8-9563-6D26E9AD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4E0B-9B6B-47AD-8C1F-142CD0BEEB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-ram-l2vpn-ldp-vpls-etree-2pw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81          Jul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 Ram (rafir@orcki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Cohn (danielc@orcki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mond Key (raymond.key@team.telstr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eet Agarwal (pagarwal@broadcom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addresses the E-Tree requirement for leaf-to-leaf communication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ly with this requirement, the draft proposes using a pair of PWs (root and leaf) to interconnect core VPLS 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originated in root AC is forwarded over root 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originated in leaf AC is forwarded over leaf 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defining new VSI types to identify root and leaf PWs (-00), a new PW interface parameter called VSI E-Tree Type i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dentify root and leaf PWs in the same logical VSI interface (identified by FEC in -00), a new PW interface parameter called VSI E-tree Identifier i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rameters are encoded as interface parameters sub-TLVs (section 5.5. of RFC 4447),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 E-tree Type can take the following valu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: E-Tree Root V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E-Tree Leaf V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 E-tree Identifier is a 32-bit number that is used to identify a pair of root and leaf PW as part of the same logical VSI interface, in the context of a pair of VPLS 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880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6588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input into new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harmonize with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 Comm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1:19:14Z</dcterms:created>
  <dc:creator>Corrigent</dc:creator>
  <dc:description/>
  <dc:language>en-US</dc:language>
  <cp:lastModifiedBy>Daniel Cohn</cp:lastModifiedBy>
  <dcterms:modified xsi:type="dcterms:W3CDTF">2011-07-19T15:22:00Z</dcterms:modified>
  <cp:revision>26</cp:revision>
  <dc:subject/>
  <dc:title>draft-rkhd-mpls-tp-sd-00</dc:title>
</cp:coreProperties>
</file>