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C39-931E-46B7-9FEF-498BEFA9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36D-0D85-49DF-A441-D923BA72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4AF-6F7C-4737-A0A6-B84F5E6F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8E3-18C8-44CC-86EF-EF05E158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604-60DB-4F5D-B053-8D2A3AF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CB5-B6AA-4CD8-B873-C12DF007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2E6-563D-4DD3-BCB4-1109EDD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174-5EDD-4109-B16F-F4C818C3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068-F648-4A11-B5D4-66681D42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9A4-F462-4239-8DC4-7FF9BB71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C0F-A0AB-4AA0-9378-2F0CAB9D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5E9-A71C-474E-9821-A0ACE80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8015-76AE-4AD3-8AEB-D924C70A76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ft-ram-l2vpn-ldp-vpls-etree-2pw-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81          Jul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i Ram (rafir@orckit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iel Cohn (danielc@orckit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mond Key (raymond.key@team.telstr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eet Agarwal (pagarwal@broadcom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raft addresses the E-Tree requirement for leaf-to-leaf communication re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ly with this requirement, the draft proposes using a pair of PWs (root and leaf) to interconnect core VPLS 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originated in root AC is forwarded over root P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originated in leaf AC is forwarded over leaf P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defining new VSI types to identify root and leaf PWs (-00), a new PW interface parameter called VSI E-Tree Type i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dentify root and leaf PWs in the same logical VSI interface (identified by FEC in -00), a new PW interface parameter called VSI E-tree Identifier i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arameters are encoded as interface parameters sub-TLVs (section 5.5. of RFC 4447),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 E-tree Type can take the following valu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: E-Tree Root V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E-Tree Leaf V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 E-tree Identifier is a 32-bit number that is used to identify a pair of root and leaf PW as part of the same logical VSI interface, in the context of a pair of VPLS P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65880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6588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input into new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harmonize with othe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? Comm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1:19:14Z</dcterms:created>
  <dc:creator>Corrigent</dc:creator>
  <dc:description/>
  <dc:language>en-US</dc:language>
  <cp:lastModifiedBy>Daniel Cohn</cp:lastModifiedBy>
  <dcterms:modified xsi:type="dcterms:W3CDTF">2011-07-19T15:22:00Z</dcterms:modified>
  <cp:revision>26</cp:revision>
  <dc:subject/>
  <dc:title>draft-rkhd-mpls-tp-sd-00</dc:title>
</cp:coreProperties>
</file>