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742E-A536-4265-9284-B1146F3E0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64EF-2750-4358-929B-2F818874D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E3D-F7AB-4BD5-8C4F-A126BDB4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5B18-ABD3-4710-8708-DEE0096F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D24-E024-44AC-9E31-7437EBF8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791-E8E3-4CFA-96C2-4CD2F77A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CD33-9B4C-4110-8F25-FAAA942D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2EB-60A9-478F-BC84-8F187F0E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168-7383-40CF-8652-7D2066D0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732B-AB48-46EC-B098-CCBEE1E7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E84D-CB20-4D5E-9C3A-192CA1CE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23D6-D8AB-4AE5-BCBD-2D16B598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CD0-3776-4498-808D-2752688C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10D-1BD0-4DA4-B6A2-9527BCCB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ECC9-1ECE-4C8C-9774-DB50A5788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de redundancy provisioning for VPLS Inter-dom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liu-l2vpn-vpls-inter-domain-redundancy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hihua Liu, China Tele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zhong Jin, Z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 Chen, Z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595A-AEE1-48CF-94C2-B574F4CE7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3505320" y="292428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2VPN IETF8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: Inter-AS VPLS redundancy could be provided by MC-LA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I-to-VSI connections at the ASB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 interconnected link between the two providers should be Ethernet 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nter-AS VPLS redundancy should be provided by PW redundan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connected link is POS (Packet over Sonet/SDH) 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bandwidth, QoS, MAC address and Broadcast/Multicast traff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8B6B-985D-42C1-AF56-FAFDB3571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al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ed deployment scenario of inter-domain VPLS redund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MAC withdraw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2152-51C7-4625-AD4B-354898088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loyment sce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3968280"/>
            <a:ext cx="822960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operator's point of view, one operator will not highly rely on the other operator's technical choice for inter-domain VPLS node redunda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CCP, instead of STP on ASBRs to avoid loo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 converg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control active/standby PW, so as to deploy load bal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2758-F020-48BF-9861-21CB10B87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3132000" y="1773360"/>
            <a:ext cx="792360" cy="503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B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3132000" y="2565360"/>
            <a:ext cx="792360" cy="503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RB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5148360" y="1773360"/>
            <a:ext cx="792000" cy="503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B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5148360" y="2565360"/>
            <a:ext cx="792000" cy="503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B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17"/>
          <p:cNvSpPr/>
          <p:nvPr/>
        </p:nvSpPr>
        <p:spPr>
          <a:xfrm>
            <a:off x="4789440" y="1515960"/>
            <a:ext cx="1582920" cy="23162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18"/>
          <p:cNvSpPr/>
          <p:nvPr/>
        </p:nvSpPr>
        <p:spPr>
          <a:xfrm>
            <a:off x="3178080" y="1465200"/>
            <a:ext cx="1141560" cy="220500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9"/>
          <p:cNvSpPr/>
          <p:nvPr/>
        </p:nvSpPr>
        <p:spPr>
          <a:xfrm>
            <a:off x="5580000" y="2060640"/>
            <a:ext cx="360360" cy="21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0"/>
          <p:cNvSpPr/>
          <p:nvPr/>
        </p:nvSpPr>
        <p:spPr>
          <a:xfrm>
            <a:off x="3132000" y="2060640"/>
            <a:ext cx="360360" cy="21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1"/>
          <p:cNvSpPr/>
          <p:nvPr/>
        </p:nvSpPr>
        <p:spPr>
          <a:xfrm>
            <a:off x="3132000" y="2852640"/>
            <a:ext cx="360360" cy="21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2"/>
          <p:cNvSpPr/>
          <p:nvPr/>
        </p:nvSpPr>
        <p:spPr>
          <a:xfrm>
            <a:off x="5580000" y="2852640"/>
            <a:ext cx="360360" cy="21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4"/>
          <p:cNvSpPr/>
          <p:nvPr/>
        </p:nvSpPr>
        <p:spPr>
          <a:xfrm>
            <a:off x="7236000" y="2133720"/>
            <a:ext cx="792000" cy="503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5"/>
          <p:cNvSpPr/>
          <p:nvPr/>
        </p:nvSpPr>
        <p:spPr>
          <a:xfrm>
            <a:off x="7236000" y="2421000"/>
            <a:ext cx="360360" cy="21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6"/>
          <p:cNvSpPr/>
          <p:nvPr/>
        </p:nvSpPr>
        <p:spPr>
          <a:xfrm>
            <a:off x="1042920" y="2133720"/>
            <a:ext cx="792360" cy="503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7"/>
          <p:cNvSpPr/>
          <p:nvPr/>
        </p:nvSpPr>
        <p:spPr>
          <a:xfrm>
            <a:off x="1476360" y="2421000"/>
            <a:ext cx="358920" cy="21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29"/>
          <p:cNvSpPr/>
          <p:nvPr/>
        </p:nvSpPr>
        <p:spPr>
          <a:xfrm>
            <a:off x="3492360" y="2168640"/>
            <a:ext cx="2087640" cy="1440"/>
          </a:xfrm>
          <a:prstGeom prst="line">
            <a:avLst/>
          </a:prstGeom>
          <a:ln w="381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30"/>
          <p:cNvSpPr/>
          <p:nvPr/>
        </p:nvSpPr>
        <p:spPr>
          <a:xfrm>
            <a:off x="3492360" y="2997360"/>
            <a:ext cx="2087640" cy="1440"/>
          </a:xfrm>
          <a:prstGeom prst="line">
            <a:avLst/>
          </a:prstGeom>
          <a:ln w="381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32"/>
          <p:cNvSpPr/>
          <p:nvPr/>
        </p:nvSpPr>
        <p:spPr>
          <a:xfrm flipV="1">
            <a:off x="1835280" y="2168280"/>
            <a:ext cx="1296720" cy="360360"/>
          </a:xfrm>
          <a:prstGeom prst="line">
            <a:avLst/>
          </a:prstGeom>
          <a:ln w="381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34"/>
          <p:cNvSpPr/>
          <p:nvPr/>
        </p:nvSpPr>
        <p:spPr>
          <a:xfrm>
            <a:off x="1835280" y="2529000"/>
            <a:ext cx="1296720" cy="431640"/>
          </a:xfrm>
          <a:prstGeom prst="line">
            <a:avLst/>
          </a:prstGeom>
          <a:ln w="381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36"/>
          <p:cNvSpPr/>
          <p:nvPr/>
        </p:nvSpPr>
        <p:spPr>
          <a:xfrm>
            <a:off x="2930400" y="2166840"/>
            <a:ext cx="201600" cy="801720"/>
          </a:xfrm>
          <a:prstGeom prst="pie">
            <a:avLst/>
          </a:prstGeom>
          <a:noFill/>
          <a:ln w="381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38"/>
          <p:cNvSpPr/>
          <p:nvPr/>
        </p:nvSpPr>
        <p:spPr>
          <a:xfrm>
            <a:off x="5940360" y="2168640"/>
            <a:ext cx="1295640" cy="360360"/>
          </a:xfrm>
          <a:prstGeom prst="line">
            <a:avLst/>
          </a:prstGeom>
          <a:ln w="381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40"/>
          <p:cNvSpPr/>
          <p:nvPr/>
        </p:nvSpPr>
        <p:spPr>
          <a:xfrm flipH="1">
            <a:off x="5940000" y="2528280"/>
            <a:ext cx="1295640" cy="431640"/>
          </a:xfrm>
          <a:prstGeom prst="line">
            <a:avLst/>
          </a:prstGeom>
          <a:ln w="381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41"/>
          <p:cNvSpPr/>
          <p:nvPr/>
        </p:nvSpPr>
        <p:spPr>
          <a:xfrm>
            <a:off x="5950080" y="2166840"/>
            <a:ext cx="187200" cy="789120"/>
          </a:xfrm>
          <a:prstGeom prst="pie">
            <a:avLst/>
          </a:prstGeom>
          <a:noFill/>
          <a:ln w="381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2"/>
          <p:cNvSpPr/>
          <p:nvPr/>
        </p:nvSpPr>
        <p:spPr>
          <a:xfrm>
            <a:off x="4211640" y="1916280"/>
            <a:ext cx="7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e P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3"/>
          <p:cNvSpPr/>
          <p:nvPr/>
        </p:nvSpPr>
        <p:spPr>
          <a:xfrm>
            <a:off x="4140360" y="2725560"/>
            <a:ext cx="93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by P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loyment Recomme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deployment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CP deployment option: ICCP is deployed on VPLS edge nodes (on ASBR in the figure) in both domai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W redundancy mode: independent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deploying, the operator MUST negotiate to configure same PW priority at two PW end-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sure the same active/standby negotiated state at two PW end-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9692-F217-42B8-B894-6E4D686AF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 Withdraw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means PE SHOULD not advertise MAC Address Withdraw message from one domain to the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, the MAC address withdraw message with empty list originated from one domain would lead to a VPLS in another domain, to flush all MAC addresses which is not necessary, and bring potential network inst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4904-84EC-4769-886E-A0BEAFE89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balancing among VPLS inst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different PW priority values for different VPLS insta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tive PW of different VPLS will be running on different PEs, to provide load balancing between the two PEs in one dom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7D35-9489-47F3-B78A-7D7D435F6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comments from wor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95280" y="386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DDEE-4789-41ED-8DF2-07A5739EC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3:20:18Z</dcterms:created>
  <dc:creator>Zhihua Liu</dc:creator>
  <dc:description/>
  <cp:keywords>draft</cp:keywords>
  <dc:language>en-US</dc:language>
  <cp:lastModifiedBy>Lizhong Jin</cp:lastModifiedBy>
  <dcterms:modified xsi:type="dcterms:W3CDTF">2011-07-22T09:12:11Z</dcterms:modified>
  <cp:revision>136</cp:revision>
  <dc:subject/>
  <dc:title>draft-liu-l2vpn-vpls-inter-domain-redundancy</dc:title>
</cp:coreProperties>
</file>