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46F4-39A4-4F2D-AEC3-F5948F4C8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BB95-99EB-4075-A938-CE5A636D7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4270-A845-4D2E-8F12-6E93E020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6FA3-F88A-4EB8-A5E2-7A6C8116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EBE5-3E9B-48EB-AF2A-0657407B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7509-CCE5-424C-BCF8-C079E6B5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4C85-9A3D-46CE-805E-B979C969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C7BD-B171-4ECB-83E2-D189A2AF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ABD-6E31-4E36-9D10-C3AAEDF4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2F3B-3F2C-47BB-989B-26813824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80EC-F836-4B13-9250-F2798BF2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CCD5-80D3-4120-89E6-3A124738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6C29-4D0C-4EE4-AC37-DD7FCC21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B6AA-789B-401A-AFD8-21C00ADE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6527-FDAE-43B1-AEC5-06CE4ECF5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de redundancy provisioning for VPLS Inter-dom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liu-l2vpn-vpls-inter-domain-redundancy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hihua Liu, China Tele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zhong Jin, Z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 Chen, Z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8FB2-486A-4282-BD9B-4AF21F495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3505320" y="292428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2VPN IETF8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: Inter-AS VPLS redundancy could be provided by MC-LA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I-to-VSI connections at the ASB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 interconnected link between the two providers should be Ethernet 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nter-AS VPLS redundancy should be provided by PW redundanc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rconnected link is POS (Packet over Sonet/SDH) 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bandwidth, QoS, MAC address and Broadcast/Multicast traff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FFC0-06D1-42FC-B049-F6B94B878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al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ed deployment scenario of inter-domain VPLS redund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MAC withdraw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bal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60C1-645F-4F26-A9FC-31F658615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loyment scen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3968280"/>
            <a:ext cx="822960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operator's point of view, one operator will not highly rely on the other operator's technical choice for inter-domain VPLS node redunda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CCP, instead of STP on ASBRs to avoid loo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 converg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control active/standby PW, so as to deploy load bal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03B7-7DED-4CB6-947E-919CCF774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3132000" y="1773360"/>
            <a:ext cx="792360" cy="503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B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3132000" y="2565360"/>
            <a:ext cx="792360" cy="503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RB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/>
          <p:cNvSpPr/>
          <p:nvPr/>
        </p:nvSpPr>
        <p:spPr>
          <a:xfrm>
            <a:off x="5148360" y="1773360"/>
            <a:ext cx="792000" cy="503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B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5148360" y="2565360"/>
            <a:ext cx="792000" cy="503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B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17"/>
          <p:cNvSpPr/>
          <p:nvPr/>
        </p:nvSpPr>
        <p:spPr>
          <a:xfrm>
            <a:off x="4789440" y="1515960"/>
            <a:ext cx="1582920" cy="23162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18"/>
          <p:cNvSpPr/>
          <p:nvPr/>
        </p:nvSpPr>
        <p:spPr>
          <a:xfrm>
            <a:off x="3178080" y="1465200"/>
            <a:ext cx="1141560" cy="220500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9"/>
          <p:cNvSpPr/>
          <p:nvPr/>
        </p:nvSpPr>
        <p:spPr>
          <a:xfrm>
            <a:off x="5580000" y="2060640"/>
            <a:ext cx="360360" cy="21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0"/>
          <p:cNvSpPr/>
          <p:nvPr/>
        </p:nvSpPr>
        <p:spPr>
          <a:xfrm>
            <a:off x="3132000" y="2060640"/>
            <a:ext cx="360360" cy="21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1"/>
          <p:cNvSpPr/>
          <p:nvPr/>
        </p:nvSpPr>
        <p:spPr>
          <a:xfrm>
            <a:off x="3132000" y="2852640"/>
            <a:ext cx="360360" cy="21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2"/>
          <p:cNvSpPr/>
          <p:nvPr/>
        </p:nvSpPr>
        <p:spPr>
          <a:xfrm>
            <a:off x="5580000" y="2852640"/>
            <a:ext cx="360360" cy="21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4"/>
          <p:cNvSpPr/>
          <p:nvPr/>
        </p:nvSpPr>
        <p:spPr>
          <a:xfrm>
            <a:off x="7236000" y="2133720"/>
            <a:ext cx="792000" cy="503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5"/>
          <p:cNvSpPr/>
          <p:nvPr/>
        </p:nvSpPr>
        <p:spPr>
          <a:xfrm>
            <a:off x="7236000" y="2421000"/>
            <a:ext cx="360360" cy="21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6"/>
          <p:cNvSpPr/>
          <p:nvPr/>
        </p:nvSpPr>
        <p:spPr>
          <a:xfrm>
            <a:off x="1042920" y="2133720"/>
            <a:ext cx="792360" cy="503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7"/>
          <p:cNvSpPr/>
          <p:nvPr/>
        </p:nvSpPr>
        <p:spPr>
          <a:xfrm>
            <a:off x="1476360" y="2421000"/>
            <a:ext cx="358920" cy="21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29"/>
          <p:cNvSpPr/>
          <p:nvPr/>
        </p:nvSpPr>
        <p:spPr>
          <a:xfrm>
            <a:off x="3492360" y="2168640"/>
            <a:ext cx="2087640" cy="1440"/>
          </a:xfrm>
          <a:prstGeom prst="line">
            <a:avLst/>
          </a:prstGeom>
          <a:ln w="3816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30"/>
          <p:cNvSpPr/>
          <p:nvPr/>
        </p:nvSpPr>
        <p:spPr>
          <a:xfrm>
            <a:off x="3492360" y="2997360"/>
            <a:ext cx="2087640" cy="1440"/>
          </a:xfrm>
          <a:prstGeom prst="line">
            <a:avLst/>
          </a:prstGeom>
          <a:ln w="3816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32"/>
          <p:cNvSpPr/>
          <p:nvPr/>
        </p:nvSpPr>
        <p:spPr>
          <a:xfrm flipV="1">
            <a:off x="1835280" y="2168280"/>
            <a:ext cx="1296720" cy="360360"/>
          </a:xfrm>
          <a:prstGeom prst="line">
            <a:avLst/>
          </a:prstGeom>
          <a:ln w="3816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34"/>
          <p:cNvSpPr/>
          <p:nvPr/>
        </p:nvSpPr>
        <p:spPr>
          <a:xfrm>
            <a:off x="1835280" y="2529000"/>
            <a:ext cx="1296720" cy="431640"/>
          </a:xfrm>
          <a:prstGeom prst="line">
            <a:avLst/>
          </a:prstGeom>
          <a:ln w="3816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36"/>
          <p:cNvSpPr/>
          <p:nvPr/>
        </p:nvSpPr>
        <p:spPr>
          <a:xfrm>
            <a:off x="2930400" y="2166840"/>
            <a:ext cx="201600" cy="801720"/>
          </a:xfrm>
          <a:prstGeom prst="pie">
            <a:avLst/>
          </a:prstGeom>
          <a:noFill/>
          <a:ln w="381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38"/>
          <p:cNvSpPr/>
          <p:nvPr/>
        </p:nvSpPr>
        <p:spPr>
          <a:xfrm>
            <a:off x="5940360" y="2168640"/>
            <a:ext cx="1295640" cy="360360"/>
          </a:xfrm>
          <a:prstGeom prst="line">
            <a:avLst/>
          </a:prstGeom>
          <a:ln w="3816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40"/>
          <p:cNvSpPr/>
          <p:nvPr/>
        </p:nvSpPr>
        <p:spPr>
          <a:xfrm flipH="1">
            <a:off x="5940000" y="2528280"/>
            <a:ext cx="1295640" cy="431640"/>
          </a:xfrm>
          <a:prstGeom prst="line">
            <a:avLst/>
          </a:prstGeom>
          <a:ln w="3816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41"/>
          <p:cNvSpPr/>
          <p:nvPr/>
        </p:nvSpPr>
        <p:spPr>
          <a:xfrm>
            <a:off x="5950080" y="2166840"/>
            <a:ext cx="187200" cy="789120"/>
          </a:xfrm>
          <a:prstGeom prst="pie">
            <a:avLst/>
          </a:prstGeom>
          <a:noFill/>
          <a:ln w="381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2"/>
          <p:cNvSpPr/>
          <p:nvPr/>
        </p:nvSpPr>
        <p:spPr>
          <a:xfrm>
            <a:off x="4211640" y="1916280"/>
            <a:ext cx="7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e P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3"/>
          <p:cNvSpPr/>
          <p:nvPr/>
        </p:nvSpPr>
        <p:spPr>
          <a:xfrm>
            <a:off x="4140360" y="2725560"/>
            <a:ext cx="93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by P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loyment Recommen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deployment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CP deployment option: ICCP is deployed on VPLS edge nodes (on ASBR in the figure) in both domai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W redundancy mode: independent o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deploying, the operator MUST negotiate to configure same PW priority at two PW end-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sure the same active/standby negotiated state at two PW end-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8268-6DD6-4B2C-B6F6-F501E09C2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 Withdraw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means PE SHOULD not advertise MAC Address Withdraw message from one domain to the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, the MAC address withdraw message with empty list originated from one domain would lead to a VPLS in another domain, to flush all MAC addresses which is not necessary, and bring potential network inst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B08A-D3E1-42C4-89D0-385CE3D14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d Bala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balancing among VPLS inst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different PW priority values for different VPLS instan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tive PW of different VPLS will be running on different PEs, to provide load balancing between the two PEs in one dom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9F7D-67AE-4507-9C98-468F04364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comments from wor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95280" y="386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DDC1-B91A-4BA6-BC2E-84729B40A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3:20:18Z</dcterms:created>
  <dc:creator>Zhihua Liu</dc:creator>
  <dc:description/>
  <cp:keywords>draft</cp:keywords>
  <dc:language>en-US</dc:language>
  <cp:lastModifiedBy>Lizhong Jin</cp:lastModifiedBy>
  <dcterms:modified xsi:type="dcterms:W3CDTF">2011-07-22T09:12:11Z</dcterms:modified>
  <cp:revision>136</cp:revision>
  <dc:subject/>
  <dc:title>draft-liu-l2vpn-vpls-inter-domain-redundancy</dc:title>
</cp:coreProperties>
</file>