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7517-7707-4C5F-89A5-6A76C7CDD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04EA-453F-4FBC-B656-EFECBAE5D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83b7"/>
                </a:solidFill>
                <a:latin typeface="Calibri"/>
              </a:rPr>
              <a:t>draft-ietf-l2vpn-vpls-ldp-mac-opt-0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submitted for IETF-7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ed </a:t>
            </a:r>
            <a:r>
              <a:rPr b="1" lang="en-US" sz="1200" spc="-1" strike="noStrike">
                <a:solidFill>
                  <a:srgbClr val="0183b7"/>
                </a:solidFill>
                <a:latin typeface="Calibri"/>
              </a:rPr>
              <a:t>draft-balus-l2vpn-pbb-ldp-ext-0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as agreed in IETF-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B VPLS extensions – propagate CMAC flush transparently through the B-VPLS; avoid unnecessary BMAC flus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isting enhancements apply also to PBB-VP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ED18-E873-45FB-9832-44A8D8BB8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83b7"/>
                </a:solidFill>
                <a:latin typeface="Calibri"/>
              </a:rPr>
              <a:t>draft-ietf-l2vpn-vpls-ldp-mac-opt-0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submitted for IETF-7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ed </a:t>
            </a:r>
            <a:r>
              <a:rPr b="1" lang="en-US" sz="1200" spc="-1" strike="noStrike">
                <a:solidFill>
                  <a:srgbClr val="0183b7"/>
                </a:solidFill>
                <a:latin typeface="Calibri"/>
              </a:rPr>
              <a:t>draft-balus-l2vpn-pbb-ldp-ext-0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as agreed in IETF-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B VPLS extensions – propagate CMAC flush transparently through the B-VPLS; avoid unnecessary BMAC flus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isting enhancements apply also to PBB-VP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F976-01F4-4C1E-82E8-5F31BE86F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8E89-2E64-4B82-AE3D-5FD037C12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492E-2D59-4DEF-93FD-4C738CCE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28E-1A3A-4F61-ACC7-71B1F36A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176-8B88-42DC-A58C-80653E6C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3CC8-143E-42CF-A941-EB0BF803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AC6D6-C34C-44E3-8AA3-86209DEE5C4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4C520-46D6-4585-B8B2-A139807BBB6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9F01B-6640-4F7B-BD68-4FA4632BF88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FD592-D4F9-4665-9DCD-8F8B4D08BA7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DDA5A-F228-4BAA-ACAD-E5A26464F79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84EE0-77C9-457D-98FD-7F54C094C6E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3B31F-E8A9-4EC8-BF1F-EBF48FB1FE1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B5FE6-01E0-43DD-98CE-E5C140EBD1F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89823-6514-40A0-9AC8-2E8B0E6296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8FFDF-360F-4516-A249-D29C52F1E78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3C5FA-D01F-4DBC-8232-D58B40BE9EB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03347-FAF5-47B8-8ACC-3FD03EE7AA9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80D1B-9BD2-497E-8C2E-07357C5CC26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554D2-1F36-491F-A0D9-578C6723F9B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98CF6-0545-4C3B-9B5E-E6AD10565DE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05938-CF5B-48B8-9A8C-27FB21C94AC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D3651-7CE8-45E7-9E18-773C7A6DBE8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3764D-D607-48A6-9035-765E66FA111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FB6AC-D4C6-4732-90ED-5EA9311A0D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310C-CB89-4D6F-9E63-E1EA7915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B6BF8-1046-4D07-81ED-0A321C0E6AB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FD2CC-C97B-4D59-9F1C-D08DA62BD04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9B7E5-E27B-4B03-A7FC-056A131C90B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87DF8-824E-4C9E-8A58-4444DE1713E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360B5-43D2-4E30-8639-564153A0058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0DA7-707C-4CE9-B68E-B3AD7520E7D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E54A-0AD3-4B66-B06A-2B44045D345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93BA-07A2-4AD3-A3CB-A85C384C1AC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5636-7627-4A5A-AEFE-243F1A5D643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F1A0-88BE-473B-BA67-D53DCE176E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60A1-213C-478C-A000-A5CCE14E85C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0D97-8261-4F36-9110-233C461F52F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0B54-A24A-47B3-9B4C-A466DF23872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4201-F9AF-494C-BE24-CD84DEE5A67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BF13-48CE-489A-9299-0F09ACC9B1D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FE77-D739-40B5-A433-1458A23B362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5C1F-86D5-4913-9809-EF4BDD496A9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DCA26D-F7B1-4BB0-B684-C3AF9E064DA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9E45CE-C89B-409F-BA93-709BCF0A915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7998E2-FF8A-4A08-BCB7-607C2D8835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01A8C9-8375-430B-83E2-DECA854D2F1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FD0D4D-C578-4DFB-81B1-5F85F6EECAD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4F0DBD-1B52-4161-A1E6-9337EE663B7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082E32-CC4D-45E0-9B14-F39728CA1F7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296B8A-80A1-420D-9514-89B11B6BEA4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DF0566-40C7-48FA-8649-4343F56E158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63D78F-B8B1-4AF3-BCF1-7C53FCCE201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AC260D-3526-4A2C-9E80-68F35B46685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4B7FE8-35BB-41DF-88BD-9F1175E5938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DBC49-5976-4904-9D55-E27CE13545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249C7-EFD2-42BA-A695-7D6ABC77C7C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9B7B1-E23E-4968-8466-9E758FBF102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E152E-FBE3-48AD-AABB-DDECA83B88C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42173-7186-47EF-BFA5-D89C09C3213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1E271-5D8C-4E88-84A0-8969553F462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7FA8C-56DA-480E-8814-B247B8053CE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7165A-D884-4508-8AB9-5C271A762CF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9E4E4-5430-4707-B35B-0F2CA9CDE39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7A3FF-A6D2-40D0-9DBB-B4D3BAC920A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18D06-4952-4CF4-A82E-22A1936335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0A351-DEB6-4BD5-91D4-81AF3712F14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E48CD-ECCE-48D8-861F-0D1D1FB5FA2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59777-EFA3-4DD3-8CED-CF63FF6B8F4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85959-BFBD-4A59-9817-2E1B5BE9E99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327DE-7100-484A-922E-F93ED5DC0DC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4C2A2-375D-4BC0-9E28-EF8EE345B62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C7141-A168-4F33-985B-FC3C8D86885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FB953-FBE4-4AFC-86F0-37AD7F5F838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940E4-1710-4CB6-9039-4F0B72CFC4D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588A0-D2E7-4472-80D8-AAE51BFB9D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3DF5F-A736-4836-9B21-6BD60B9F536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3737-9C83-4CB9-A73D-6FABF507C77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5CF3F-DE00-45DE-83FB-7B67BE2DE2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FA5-74FF-427D-9CE8-BBDD3D5D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086-53E6-45A0-BAB0-A85AB775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61B8-0CBF-44D9-8DB8-BBBBFB43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CE6D-C5E3-4481-9CAE-3D953779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4E3B-458D-480E-B85C-43D22585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FD1-1AC2-4153-8E33-C81AB40E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C0E3-3A9C-4731-8DF5-C8BF1008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87BB-A37C-4116-B4C9-E4F42ABEF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68"/>
          <p:cNvSpPr/>
          <p:nvPr/>
        </p:nvSpPr>
        <p:spPr>
          <a:xfrm>
            <a:off x="3240" y="2286000"/>
            <a:ext cx="9140760" cy="2286000"/>
          </a:xfrm>
          <a:prstGeom prst="rect">
            <a:avLst/>
          </a:prstGeom>
          <a:solidFill>
            <a:srgbClr val="00b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70" descr="dots-blue"/>
          <p:cNvPicPr/>
          <p:nvPr/>
        </p:nvPicPr>
        <p:blipFill>
          <a:blip r:embed="rId2"/>
          <a:stretch/>
        </p:blipFill>
        <p:spPr>
          <a:xfrm>
            <a:off x="614520" y="4205160"/>
            <a:ext cx="7883280" cy="9972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6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3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sldNum" idx="4"/>
          </p:nvPr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0803-150F-4B19-801E-59FECD4898C3}" type="slidenum">
              <a:rPr b="0" lang="en-US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 | Presentation Title | Month 2008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6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3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sldNum" idx="5"/>
          </p:nvPr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C7BA-FFFB-45A1-A0EC-5B64A5F573CD}" type="slidenum">
              <a:rPr b="0" lang="en-US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 | Presentation Title | Month 2008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6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3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6"/>
          </p:nvPr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59B7-1D5D-406A-B95F-138F923BDC2F}" type="slidenum">
              <a:rPr b="0" lang="en-US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 | Presentation Title | Month 2008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4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36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3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sldNum" idx="7"/>
          </p:nvPr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0566-9442-4468-81B2-6CCA99CF4421}" type="slidenum">
              <a:rPr b="0" lang="en-US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 | Presentation Title | Month 2008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0F21EC2-8D3B-4005-A660-3D087D274D6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4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6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23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sldNum" idx="8"/>
          </p:nvPr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4D7C-D277-48DC-B7A1-6013E2B8CFAD}" type="slidenum">
              <a:rPr b="0" lang="en-US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 | Presentation Title | Month 2008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36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3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sldNum" idx="9"/>
          </p:nvPr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BEAF-6FB1-4ACD-8723-11390C06EBA2}" type="slidenum">
              <a:rPr b="0" lang="en-US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 | Presentation Title | Month 2008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9" name="Rectangle 36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3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10FEB80-43C2-4189-AA95-6AD82E6AF99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85840" y="2356920"/>
            <a:ext cx="8501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 on LDP Extensions for Optimized MAC Address Withdrawal in H-VPLS </a:t>
            </a:r>
            <a:br>
              <a:rPr sz="2800"/>
            </a:b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draft-ietf-l2vpn-vpls-ldp-mac-opt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1332000" y="4292640"/>
            <a:ext cx="648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eraldine Calvignac </a:t>
            </a:r>
            <a:r>
              <a:rPr b="0" lang="fr-FR" sz="1800" spc="-1" strike="noStrike">
                <a:solidFill>
                  <a:srgbClr val="0183b7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183b7"/>
                </a:solidFill>
                <a:latin typeface="Arial"/>
              </a:rPr>
              <a:t>geraldine.calvignac@orange-ftgroup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en Stokes </a:t>
            </a:r>
            <a:r>
              <a:rPr b="0" lang="en-US" sz="1800" spc="-1" strike="noStrike">
                <a:solidFill>
                  <a:srgbClr val="0183b7"/>
                </a:solidFill>
                <a:latin typeface="Arial"/>
              </a:rPr>
              <a:t>(ostokes@extremenetworks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njal Kumar Dutta </a:t>
            </a:r>
            <a:r>
              <a:rPr b="0" lang="en-US" sz="1800" spc="-1" strike="noStrike">
                <a:solidFill>
                  <a:srgbClr val="0183b7"/>
                </a:solidFill>
                <a:latin typeface="Arial"/>
              </a:rPr>
              <a:t>(pranjal.dutta@alcatel-lucent.co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rin Balus </a:t>
            </a:r>
            <a:r>
              <a:rPr b="0" lang="en-US" sz="1800" spc="-1" strike="noStrike">
                <a:solidFill>
                  <a:srgbClr val="0183b7"/>
                </a:solidFill>
                <a:latin typeface="Arial"/>
              </a:rPr>
              <a:t>(florin.balus@alcatel-lucent.co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643960" cy="642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Background - </a:t>
            </a:r>
            <a:r>
              <a:rPr b="1" lang="en-US" sz="2400" spc="-1" strike="noStrike">
                <a:solidFill>
                  <a:srgbClr val="0183b7"/>
                </a:solidFill>
                <a:latin typeface="Arial"/>
              </a:rPr>
              <a:t>draft-ietf-l2vpn-vpls-ldp-mac-opt</a:t>
            </a:r>
            <a:endParaRPr b="1" lang="en-US" sz="24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178920" y="1521000"/>
            <a:ext cx="8425080" cy="4356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, extend LDP MAC Flush to address existing LDP VPLS deployments, including PBB-VPLS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“flush-all-from-me” procedure to minimize the MAC re-learning and unknown unicast flo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extensions for PBB VP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F-79 presentation proposed to consolidate some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use MAC Flush TLV to address also the HVPLS use case (A/S PW ac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643960" cy="642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Background - </a:t>
            </a:r>
            <a:r>
              <a:rPr b="1" lang="en-US" sz="2400" spc="-1" strike="noStrike">
                <a:solidFill>
                  <a:srgbClr val="0183b7"/>
                </a:solidFill>
                <a:latin typeface="Arial"/>
              </a:rPr>
              <a:t>draft-ietf-l2vpn-vpls-ldp-mac-opt (cont.)</a:t>
            </a:r>
            <a:endParaRPr b="1" lang="en-US" sz="24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23640" y="3644640"/>
            <a:ext cx="8675640" cy="1655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* PE-ID TLV procedure may result in PE-rs overloading and slower convergence due to additional LDP MAC Flush propagation in PE-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** PW Access – MTU multi-homed to VPLS PEs via A/S P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*** Ethernet Access multi-homed to VPLS PEs (Ethernet access multi-homing example - ICCP, MC-LAG, BGP MH, G.8032 rin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826920" y="2133720"/>
          <a:ext cx="7201080" cy="1160280"/>
        </p:xfrm>
        <a:graphic>
          <a:graphicData uri="http://schemas.openxmlformats.org/drawingml/2006/table">
            <a:tbl>
              <a:tblPr/>
              <a:tblGrid>
                <a:gridCol w="1602000"/>
                <a:gridCol w="1662120"/>
                <a:gridCol w="1859040"/>
                <a:gridCol w="207792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lic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W Acces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hernet Access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BB-VPLS exten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 Flush T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40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-ID TLV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643960" cy="642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hanges in version 04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029440" cy="2016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a brief description of Ethernet access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ed text in the solution section - PE-ID TLV procedure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wording throughout th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713880" y="857160"/>
            <a:ext cx="3488040" cy="571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9640" y="2491920"/>
            <a:ext cx="8136000" cy="1513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 WG feedback on some of the wording for backwards compatibility/emulating RFC 4762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ready for L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65005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rebuchet MS"/>
              </a:rPr>
              <a:t>MAC Optimization benefits</a:t>
            </a:r>
            <a:endParaRPr b="0" lang="en-US" sz="2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94920" y="1420920"/>
            <a:ext cx="58006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07880"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3232"/>
                </a:solidFill>
                <a:latin typeface="Trebuchet MS"/>
              </a:rPr>
              <a:t>Flush-all-from-me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 benefit: optimized MAC Flush, less flooding - flush only the MACs associated with PW13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74" name="Oval 90"/>
          <p:cNvSpPr/>
          <p:nvPr/>
        </p:nvSpPr>
        <p:spPr>
          <a:xfrm>
            <a:off x="6429240" y="1143000"/>
            <a:ext cx="1571760" cy="1428840"/>
          </a:xfrm>
          <a:prstGeom prst="ellipse">
            <a:avLst/>
          </a:prstGeom>
          <a:solidFill>
            <a:srgbClr val="f03c8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93"/>
          <p:cNvSpPr/>
          <p:nvPr/>
        </p:nvSpPr>
        <p:spPr>
          <a:xfrm>
            <a:off x="6573960" y="1386000"/>
            <a:ext cx="366480" cy="366480"/>
          </a:xfrm>
          <a:prstGeom prst="ellipse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77"/>
          <p:cNvSpPr/>
          <p:nvPr/>
        </p:nvSpPr>
        <p:spPr>
          <a:xfrm>
            <a:off x="6746760" y="1711440"/>
            <a:ext cx="1000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LL other MACs in the F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571680" y="5357880"/>
            <a:ext cx="56433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07880" indent="-237960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3232"/>
                </a:solidFill>
                <a:latin typeface="Trebuchet MS"/>
                <a:ea typeface="Arial"/>
              </a:rPr>
              <a:t>Flush-all-but-mine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  <a:ea typeface="Arial"/>
              </a:rPr>
              <a:t> (RFC4762): flush all the MACs except the MACs learned from P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109"/>
          <p:cNvSpPr/>
          <p:nvPr/>
        </p:nvSpPr>
        <p:spPr>
          <a:xfrm>
            <a:off x="6215040" y="4929120"/>
            <a:ext cx="1571760" cy="1428840"/>
          </a:xfrm>
          <a:prstGeom prst="ellipse">
            <a:avLst/>
          </a:prstGeom>
          <a:solidFill>
            <a:srgbClr val="f03c8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77"/>
          <p:cNvSpPr/>
          <p:nvPr/>
        </p:nvSpPr>
        <p:spPr>
          <a:xfrm>
            <a:off x="6550200" y="5315040"/>
            <a:ext cx="1000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LL other MACs in the F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101"/>
          <p:cNvSpPr/>
          <p:nvPr/>
        </p:nvSpPr>
        <p:spPr>
          <a:xfrm>
            <a:off x="6286680" y="5715000"/>
            <a:ext cx="366480" cy="366840"/>
          </a:xfrm>
          <a:prstGeom prst="ellipse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118"/>
          <p:cNvGrpSpPr/>
          <p:nvPr/>
        </p:nvGrpSpPr>
        <p:grpSpPr>
          <a:xfrm>
            <a:off x="500040" y="2143080"/>
            <a:ext cx="6589800" cy="2928960"/>
            <a:chOff x="500040" y="2143080"/>
            <a:chExt cx="6589800" cy="2928960"/>
          </a:xfrm>
        </p:grpSpPr>
        <p:pic>
          <p:nvPicPr>
            <p:cNvPr id="882" name="Picture 76" descr="Network_b"/>
            <p:cNvPicPr/>
            <p:nvPr/>
          </p:nvPicPr>
          <p:blipFill>
            <a:blip r:embed="rId1"/>
            <a:stretch/>
          </p:blipFill>
          <p:spPr>
            <a:xfrm>
              <a:off x="2803320" y="2143080"/>
              <a:ext cx="288936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Rectangle 77"/>
            <p:cNvSpPr/>
            <p:nvPr/>
          </p:nvSpPr>
          <p:spPr>
            <a:xfrm>
              <a:off x="3589200" y="3429000"/>
              <a:ext cx="14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IP/MP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Group 6"/>
            <p:cNvGrpSpPr/>
            <p:nvPr/>
          </p:nvGrpSpPr>
          <p:grpSpPr>
            <a:xfrm>
              <a:off x="3073320" y="2495160"/>
              <a:ext cx="493560" cy="559800"/>
              <a:chOff x="3073320" y="2495160"/>
              <a:chExt cx="493560" cy="559800"/>
            </a:xfrm>
          </p:grpSpPr>
          <p:sp>
            <p:nvSpPr>
              <p:cNvPr id="885" name="Text Box 55"/>
              <p:cNvSpPr/>
              <p:nvPr/>
            </p:nvSpPr>
            <p:spPr>
              <a:xfrm>
                <a:off x="3107160" y="2495160"/>
                <a:ext cx="3985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PE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6" name="Picture 60" descr="7450_ESS_b"/>
              <p:cNvPicPr/>
              <p:nvPr/>
            </p:nvPicPr>
            <p:blipFill>
              <a:blip r:embed="rId2"/>
              <a:stretch/>
            </p:blipFill>
            <p:spPr>
              <a:xfrm>
                <a:off x="3073320" y="2698200"/>
                <a:ext cx="493560" cy="35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7" name="Group 9"/>
            <p:cNvGrpSpPr/>
            <p:nvPr/>
          </p:nvGrpSpPr>
          <p:grpSpPr>
            <a:xfrm>
              <a:off x="500040" y="3295440"/>
              <a:ext cx="748800" cy="461160"/>
              <a:chOff x="500040" y="3295440"/>
              <a:chExt cx="748800" cy="461160"/>
            </a:xfrm>
          </p:grpSpPr>
          <p:sp>
            <p:nvSpPr>
              <p:cNvPr id="888" name="Text Box 19"/>
              <p:cNvSpPr/>
              <p:nvPr/>
            </p:nvSpPr>
            <p:spPr>
              <a:xfrm>
                <a:off x="500040" y="3525840"/>
                <a:ext cx="693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MTU/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9" name="Picture 65" descr="7450_ESS"/>
              <p:cNvPicPr/>
              <p:nvPr/>
            </p:nvPicPr>
            <p:blipFill>
              <a:blip r:embed="rId3"/>
              <a:stretch/>
            </p:blipFill>
            <p:spPr>
              <a:xfrm>
                <a:off x="588600" y="3295440"/>
                <a:ext cx="660240" cy="209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0" name="Group 12"/>
            <p:cNvGrpSpPr/>
            <p:nvPr/>
          </p:nvGrpSpPr>
          <p:grpSpPr>
            <a:xfrm>
              <a:off x="3073320" y="4438440"/>
              <a:ext cx="493560" cy="573480"/>
              <a:chOff x="3073320" y="4438440"/>
              <a:chExt cx="493560" cy="573480"/>
            </a:xfrm>
          </p:grpSpPr>
          <p:sp>
            <p:nvSpPr>
              <p:cNvPr id="891" name="Text Box 55"/>
              <p:cNvSpPr/>
              <p:nvPr/>
            </p:nvSpPr>
            <p:spPr>
              <a:xfrm>
                <a:off x="3102120" y="4781160"/>
                <a:ext cx="3985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PE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2" name="Picture 60" descr="7450_ESS_b"/>
              <p:cNvPicPr/>
              <p:nvPr/>
            </p:nvPicPr>
            <p:blipFill>
              <a:blip r:embed="rId4"/>
              <a:stretch/>
            </p:blipFill>
            <p:spPr>
              <a:xfrm>
                <a:off x="3073320" y="4438440"/>
                <a:ext cx="49356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93" name="Line 17"/>
            <p:cNvSpPr/>
            <p:nvPr/>
          </p:nvSpPr>
          <p:spPr>
            <a:xfrm flipV="1">
              <a:off x="963360" y="2912400"/>
              <a:ext cx="2187720" cy="453960"/>
            </a:xfrm>
            <a:prstGeom prst="line">
              <a:avLst/>
            </a:prstGeom>
            <a:ln w="19080">
              <a:solidFill>
                <a:srgbClr val="f03c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18"/>
            <p:cNvSpPr/>
            <p:nvPr/>
          </p:nvSpPr>
          <p:spPr>
            <a:xfrm>
              <a:off x="963360" y="3367080"/>
              <a:ext cx="2197080" cy="1204920"/>
            </a:xfrm>
            <a:prstGeom prst="line">
              <a:avLst/>
            </a:prstGeom>
            <a:ln w="19080">
              <a:solidFill>
                <a:srgbClr val="f03c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5" name="Group 19"/>
            <p:cNvGrpSpPr/>
            <p:nvPr/>
          </p:nvGrpSpPr>
          <p:grpSpPr>
            <a:xfrm>
              <a:off x="5575320" y="3152520"/>
              <a:ext cx="493560" cy="573480"/>
              <a:chOff x="5575320" y="3152520"/>
              <a:chExt cx="493560" cy="573480"/>
            </a:xfrm>
          </p:grpSpPr>
          <p:sp>
            <p:nvSpPr>
              <p:cNvPr id="896" name="Text Box 55"/>
              <p:cNvSpPr/>
              <p:nvPr/>
            </p:nvSpPr>
            <p:spPr>
              <a:xfrm>
                <a:off x="5602680" y="3495240"/>
                <a:ext cx="3985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PE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7" name="Picture 60" descr="7450_ESS_b"/>
              <p:cNvPicPr/>
              <p:nvPr/>
            </p:nvPicPr>
            <p:blipFill>
              <a:blip r:embed="rId5"/>
              <a:stretch/>
            </p:blipFill>
            <p:spPr>
              <a:xfrm>
                <a:off x="5575320" y="3152520"/>
                <a:ext cx="49356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8" name="Group 25"/>
            <p:cNvGrpSpPr/>
            <p:nvPr/>
          </p:nvGrpSpPr>
          <p:grpSpPr>
            <a:xfrm>
              <a:off x="6429600" y="3229560"/>
              <a:ext cx="660240" cy="359280"/>
              <a:chOff x="6429600" y="3229560"/>
              <a:chExt cx="660240" cy="359280"/>
            </a:xfrm>
          </p:grpSpPr>
          <p:sp>
            <p:nvSpPr>
              <p:cNvPr id="899" name="Text Box 19"/>
              <p:cNvSpPr/>
              <p:nvPr/>
            </p:nvSpPr>
            <p:spPr>
              <a:xfrm>
                <a:off x="6539400" y="3358080"/>
                <a:ext cx="4399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NTU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00" name="Picture 65" descr="7450_ESS"/>
              <p:cNvPicPr/>
              <p:nvPr/>
            </p:nvPicPr>
            <p:blipFill>
              <a:blip r:embed="rId6"/>
              <a:stretch/>
            </p:blipFill>
            <p:spPr>
              <a:xfrm>
                <a:off x="6429600" y="3229560"/>
                <a:ext cx="660240" cy="14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1" name="Oval 33"/>
            <p:cNvSpPr/>
            <p:nvPr/>
          </p:nvSpPr>
          <p:spPr>
            <a:xfrm>
              <a:off x="3160080" y="2761200"/>
              <a:ext cx="321480" cy="232200"/>
            </a:xfrm>
            <a:prstGeom prst="ellipse">
              <a:avLst/>
            </a:prstGeom>
            <a:solidFill>
              <a:srgbClr val="f03c9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V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34"/>
            <p:cNvSpPr/>
            <p:nvPr/>
          </p:nvSpPr>
          <p:spPr>
            <a:xfrm>
              <a:off x="3160080" y="4477320"/>
              <a:ext cx="321480" cy="232200"/>
            </a:xfrm>
            <a:prstGeom prst="ellipse">
              <a:avLst/>
            </a:prstGeom>
            <a:solidFill>
              <a:srgbClr val="f03c9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V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35"/>
            <p:cNvSpPr/>
            <p:nvPr/>
          </p:nvSpPr>
          <p:spPr>
            <a:xfrm>
              <a:off x="5662440" y="3202560"/>
              <a:ext cx="321480" cy="232200"/>
            </a:xfrm>
            <a:prstGeom prst="ellipse">
              <a:avLst/>
            </a:prstGeom>
            <a:solidFill>
              <a:srgbClr val="f03c9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V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77"/>
            <p:cNvSpPr/>
            <p:nvPr/>
          </p:nvSpPr>
          <p:spPr>
            <a:xfrm rot="21079800">
              <a:off x="2192760" y="2781000"/>
              <a:ext cx="90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03c91"/>
                  </a:solidFill>
                  <a:latin typeface="Trebuchet MS"/>
                </a:rPr>
                <a:t>Primary P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77"/>
            <p:cNvSpPr/>
            <p:nvPr/>
          </p:nvSpPr>
          <p:spPr>
            <a:xfrm rot="1798200">
              <a:off x="2207520" y="4332240"/>
              <a:ext cx="90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03c91"/>
                  </a:solidFill>
                  <a:latin typeface="Trebuchet MS"/>
                </a:rPr>
                <a:t>Standby P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40"/>
            <p:cNvSpPr/>
            <p:nvPr/>
          </p:nvSpPr>
          <p:spPr>
            <a:xfrm>
              <a:off x="772920" y="3298680"/>
              <a:ext cx="215640" cy="134640"/>
            </a:xfrm>
            <a:prstGeom prst="ellipse">
              <a:avLst/>
            </a:prstGeom>
            <a:solidFill>
              <a:srgbClr val="f03c9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77"/>
            <p:cNvSpPr/>
            <p:nvPr/>
          </p:nvSpPr>
          <p:spPr>
            <a:xfrm rot="20748000">
              <a:off x="1088280" y="2846160"/>
              <a:ext cx="114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rebuchet MS"/>
                </a:rPr>
                <a:t>1. PW fail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3"/>
            <p:cNvSpPr/>
            <p:nvPr/>
          </p:nvSpPr>
          <p:spPr>
            <a:xfrm rot="21280800">
              <a:off x="1484280" y="3070080"/>
              <a:ext cx="5839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lvl="1" marL="407880" indent="-237960">
                <a:lnSpc>
                  <a:spcPts val="2398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rebuchet MS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574560" indent="-164880">
                <a:lnSpc>
                  <a:spcPts val="1998"/>
                </a:lnSpc>
                <a:spcAft>
                  <a:spcPts val="799"/>
                </a:spcAft>
                <a:buClr>
                  <a:srgbClr val="969696"/>
                </a:buClr>
                <a:buFont typeface="Wingdings" charset="2"/>
                <a:buChar char=""/>
                <a:tabLst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Straight Connector 102"/>
            <p:cNvSpPr/>
            <p:nvPr/>
          </p:nvSpPr>
          <p:spPr>
            <a:xfrm flipV="1">
              <a:off x="5977080" y="3302640"/>
              <a:ext cx="45216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Straight Connector 106"/>
            <p:cNvSpPr/>
            <p:nvPr/>
          </p:nvSpPr>
          <p:spPr>
            <a:xfrm>
              <a:off x="3475080" y="2877120"/>
              <a:ext cx="2238840" cy="352080"/>
            </a:xfrm>
            <a:prstGeom prst="line">
              <a:avLst/>
            </a:prstGeom>
            <a:ln w="19080">
              <a:solidFill>
                <a:srgbClr val="f03c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Straight Connector 107"/>
            <p:cNvSpPr/>
            <p:nvPr/>
          </p:nvSpPr>
          <p:spPr>
            <a:xfrm flipV="1">
              <a:off x="3475080" y="3407400"/>
              <a:ext cx="2238840" cy="1185480"/>
            </a:xfrm>
            <a:prstGeom prst="line">
              <a:avLst/>
            </a:prstGeom>
            <a:ln w="19080">
              <a:solidFill>
                <a:srgbClr val="f03c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8"/>
            <p:cNvSpPr/>
            <p:nvPr/>
          </p:nvSpPr>
          <p:spPr>
            <a:xfrm>
              <a:off x="3375000" y="2955960"/>
              <a:ext cx="214200" cy="15444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544400"/>
                <a:gd name="textAreaBottom" fmla="*/ 1544760 h 1544400"/>
              </a:gdLst>
              <a:ahLst/>
              <a:rect l="textAreaLeft" t="textAreaTop" r="textAreaRight" b="textAreaBottom"/>
              <a:pathLst>
                <a:path w="261770" h="753036">
                  <a:moveTo>
                    <a:pt x="0" y="0"/>
                  </a:moveTo>
                  <a:cubicBezTo>
                    <a:pt x="127299" y="66339"/>
                    <a:pt x="254598" y="132678"/>
                    <a:pt x="258184" y="258184"/>
                  </a:cubicBezTo>
                  <a:cubicBezTo>
                    <a:pt x="261770" y="383690"/>
                    <a:pt x="141642" y="568363"/>
                    <a:pt x="21515" y="753036"/>
                  </a:cubicBezTo>
                </a:path>
              </a:pathLst>
            </a:custGeom>
            <a:noFill/>
            <a:ln w="19080">
              <a:solidFill>
                <a:srgbClr val="f03c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77"/>
            <p:cNvSpPr/>
            <p:nvPr/>
          </p:nvSpPr>
          <p:spPr>
            <a:xfrm>
              <a:off x="2946240" y="3593520"/>
              <a:ext cx="71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03c81"/>
                  </a:solidFill>
                  <a:latin typeface="Trebuchet MS"/>
                </a:rPr>
                <a:t>PW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77"/>
            <p:cNvSpPr/>
            <p:nvPr/>
          </p:nvSpPr>
          <p:spPr>
            <a:xfrm rot="19948800">
              <a:off x="4068000" y="3844800"/>
              <a:ext cx="71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03c81"/>
                  </a:solidFill>
                  <a:latin typeface="Trebuchet MS"/>
                </a:rPr>
                <a:t>PW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13"/>
            <p:cNvSpPr/>
            <p:nvPr/>
          </p:nvSpPr>
          <p:spPr>
            <a:xfrm rot="546600">
              <a:off x="3989160" y="2804040"/>
              <a:ext cx="71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03c81"/>
                  </a:solidFill>
                  <a:latin typeface="Trebuchet MS"/>
                </a:rPr>
                <a:t>PW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17"/>
            <p:cNvSpPr/>
            <p:nvPr/>
          </p:nvSpPr>
          <p:spPr>
            <a:xfrm>
              <a:off x="5286600" y="2928960"/>
              <a:ext cx="366480" cy="366480"/>
            </a:xfrm>
            <a:prstGeom prst="ellipse">
              <a:avLst/>
            </a:prstGeom>
            <a:solidFill>
              <a:srgbClr val="006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19"/>
            <p:cNvSpPr/>
            <p:nvPr/>
          </p:nvSpPr>
          <p:spPr>
            <a:xfrm>
              <a:off x="5232600" y="3490920"/>
              <a:ext cx="366480" cy="366480"/>
            </a:xfrm>
            <a:prstGeom prst="ellipse">
              <a:avLst/>
            </a:prstGeom>
            <a:solidFill>
              <a:srgbClr val="006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76" descr="Network_b"/>
          <p:cNvPicPr/>
          <p:nvPr/>
        </p:nvPicPr>
        <p:blipFill>
          <a:blip r:embed="rId1"/>
          <a:stretch/>
        </p:blipFill>
        <p:spPr>
          <a:xfrm>
            <a:off x="3429000" y="1643040"/>
            <a:ext cx="2889360" cy="2928960"/>
          </a:xfrm>
          <a:prstGeom prst="rect">
            <a:avLst/>
          </a:prstGeom>
          <a:ln w="0">
            <a:noFill/>
          </a:ln>
        </p:spPr>
      </p:pic>
      <p:sp>
        <p:nvSpPr>
          <p:cNvPr id="919" name="Rectangle 77"/>
          <p:cNvSpPr/>
          <p:nvPr/>
        </p:nvSpPr>
        <p:spPr>
          <a:xfrm>
            <a:off x="4214880" y="2928960"/>
            <a:ext cx="143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IP/MP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85480" y="382680"/>
            <a:ext cx="8715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rebuchet MS"/>
              </a:rPr>
              <a:t>Old PE ID TLV based solution for “flush-all-from-me”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grpSp>
        <p:nvGrpSpPr>
          <p:cNvPr id="921" name="Group 6"/>
          <p:cNvGrpSpPr/>
          <p:nvPr/>
        </p:nvGrpSpPr>
        <p:grpSpPr>
          <a:xfrm>
            <a:off x="3699000" y="1995480"/>
            <a:ext cx="493560" cy="560520"/>
            <a:chOff x="3699000" y="1995480"/>
            <a:chExt cx="493560" cy="560520"/>
          </a:xfrm>
        </p:grpSpPr>
        <p:sp>
          <p:nvSpPr>
            <p:cNvPr id="922" name="Text Box 55"/>
            <p:cNvSpPr/>
            <p:nvPr/>
          </p:nvSpPr>
          <p:spPr>
            <a:xfrm>
              <a:off x="3732840" y="1995480"/>
              <a:ext cx="3985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E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3" name="Picture 60" descr="7450_ESS_b"/>
            <p:cNvPicPr/>
            <p:nvPr/>
          </p:nvPicPr>
          <p:blipFill>
            <a:blip r:embed="rId2"/>
            <a:stretch/>
          </p:blipFill>
          <p:spPr>
            <a:xfrm>
              <a:off x="3699000" y="2198880"/>
              <a:ext cx="49356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4" name="Group 9"/>
          <p:cNvGrpSpPr/>
          <p:nvPr/>
        </p:nvGrpSpPr>
        <p:grpSpPr>
          <a:xfrm>
            <a:off x="1125360" y="2795760"/>
            <a:ext cx="749520" cy="461160"/>
            <a:chOff x="1125360" y="2795760"/>
            <a:chExt cx="749520" cy="461160"/>
          </a:xfrm>
        </p:grpSpPr>
        <p:sp>
          <p:nvSpPr>
            <p:cNvPr id="925" name="Text Box 19"/>
            <p:cNvSpPr/>
            <p:nvPr/>
          </p:nvSpPr>
          <p:spPr>
            <a:xfrm>
              <a:off x="1125360" y="3026160"/>
              <a:ext cx="6937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T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6" name="Picture 65" descr="7450_ESS"/>
            <p:cNvPicPr/>
            <p:nvPr/>
          </p:nvPicPr>
          <p:blipFill>
            <a:blip r:embed="rId3"/>
            <a:stretch/>
          </p:blipFill>
          <p:spPr>
            <a:xfrm>
              <a:off x="1214280" y="2795760"/>
              <a:ext cx="660600" cy="21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7" name="Group 12"/>
          <p:cNvGrpSpPr/>
          <p:nvPr/>
        </p:nvGrpSpPr>
        <p:grpSpPr>
          <a:xfrm>
            <a:off x="3699000" y="3938760"/>
            <a:ext cx="493560" cy="573120"/>
            <a:chOff x="3699000" y="3938760"/>
            <a:chExt cx="493560" cy="573120"/>
          </a:xfrm>
        </p:grpSpPr>
        <p:sp>
          <p:nvSpPr>
            <p:cNvPr id="928" name="Text Box 55"/>
            <p:cNvSpPr/>
            <p:nvPr/>
          </p:nvSpPr>
          <p:spPr>
            <a:xfrm>
              <a:off x="3727800" y="4281120"/>
              <a:ext cx="3985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E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9" name="Picture 60" descr="7450_ESS_b"/>
            <p:cNvPicPr/>
            <p:nvPr/>
          </p:nvPicPr>
          <p:blipFill>
            <a:blip r:embed="rId4"/>
            <a:stretch/>
          </p:blipFill>
          <p:spPr>
            <a:xfrm>
              <a:off x="3699000" y="3938760"/>
              <a:ext cx="493560" cy="35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0" name="Line 17"/>
          <p:cNvSpPr/>
          <p:nvPr/>
        </p:nvSpPr>
        <p:spPr>
          <a:xfrm flipV="1">
            <a:off x="1589040" y="2412720"/>
            <a:ext cx="2187720" cy="453960"/>
          </a:xfrm>
          <a:prstGeom prst="line">
            <a:avLst/>
          </a:prstGeom>
          <a:ln w="19080">
            <a:solidFill>
              <a:srgbClr val="f03c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8"/>
          <p:cNvSpPr/>
          <p:nvPr/>
        </p:nvSpPr>
        <p:spPr>
          <a:xfrm>
            <a:off x="1589040" y="2867040"/>
            <a:ext cx="2197080" cy="1204920"/>
          </a:xfrm>
          <a:prstGeom prst="line">
            <a:avLst/>
          </a:prstGeom>
          <a:ln w="19080">
            <a:solidFill>
              <a:srgbClr val="f03c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Group 19"/>
          <p:cNvGrpSpPr/>
          <p:nvPr/>
        </p:nvGrpSpPr>
        <p:grpSpPr>
          <a:xfrm>
            <a:off x="6200640" y="2652840"/>
            <a:ext cx="493920" cy="573480"/>
            <a:chOff x="6200640" y="2652840"/>
            <a:chExt cx="493920" cy="573480"/>
          </a:xfrm>
        </p:grpSpPr>
        <p:sp>
          <p:nvSpPr>
            <p:cNvPr id="933" name="Text Box 55"/>
            <p:cNvSpPr/>
            <p:nvPr/>
          </p:nvSpPr>
          <p:spPr>
            <a:xfrm>
              <a:off x="6228360" y="2995560"/>
              <a:ext cx="3985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E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4" name="Picture 60" descr="7450_ESS_b"/>
            <p:cNvPicPr/>
            <p:nvPr/>
          </p:nvPicPr>
          <p:blipFill>
            <a:blip r:embed="rId5"/>
            <a:stretch/>
          </p:blipFill>
          <p:spPr>
            <a:xfrm>
              <a:off x="6200640" y="2652840"/>
              <a:ext cx="4939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5" name="Group 25"/>
          <p:cNvGrpSpPr/>
          <p:nvPr/>
        </p:nvGrpSpPr>
        <p:grpSpPr>
          <a:xfrm>
            <a:off x="7054920" y="2728800"/>
            <a:ext cx="660240" cy="359280"/>
            <a:chOff x="7054920" y="2728800"/>
            <a:chExt cx="660240" cy="359280"/>
          </a:xfrm>
        </p:grpSpPr>
        <p:sp>
          <p:nvSpPr>
            <p:cNvPr id="936" name="Text Box 19"/>
            <p:cNvSpPr/>
            <p:nvPr/>
          </p:nvSpPr>
          <p:spPr>
            <a:xfrm>
              <a:off x="7164720" y="2857320"/>
              <a:ext cx="4399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T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7" name="Picture 65" descr="7450_ESS"/>
            <p:cNvPicPr/>
            <p:nvPr/>
          </p:nvPicPr>
          <p:blipFill>
            <a:blip r:embed="rId6"/>
            <a:stretch/>
          </p:blipFill>
          <p:spPr>
            <a:xfrm>
              <a:off x="7054920" y="2728800"/>
              <a:ext cx="660240" cy="14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8" name="Oval 33"/>
          <p:cNvSpPr/>
          <p:nvPr/>
        </p:nvSpPr>
        <p:spPr>
          <a:xfrm>
            <a:off x="3785760" y="2261160"/>
            <a:ext cx="321480" cy="2322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V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34"/>
          <p:cNvSpPr/>
          <p:nvPr/>
        </p:nvSpPr>
        <p:spPr>
          <a:xfrm>
            <a:off x="3785760" y="3977280"/>
            <a:ext cx="321480" cy="2322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V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Oval 35"/>
          <p:cNvSpPr/>
          <p:nvPr/>
        </p:nvSpPr>
        <p:spPr>
          <a:xfrm>
            <a:off x="6287760" y="2702520"/>
            <a:ext cx="321480" cy="2322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V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77"/>
          <p:cNvSpPr/>
          <p:nvPr/>
        </p:nvSpPr>
        <p:spPr>
          <a:xfrm rot="21079800">
            <a:off x="2819160" y="2280960"/>
            <a:ext cx="9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03c91"/>
                </a:solidFill>
                <a:latin typeface="Trebuchet MS"/>
              </a:rPr>
              <a:t>Primary P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77"/>
          <p:cNvSpPr/>
          <p:nvPr/>
        </p:nvSpPr>
        <p:spPr>
          <a:xfrm rot="1798200">
            <a:off x="2832120" y="3832200"/>
            <a:ext cx="9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03c91"/>
                </a:solidFill>
                <a:latin typeface="Trebuchet MS"/>
              </a:rPr>
              <a:t>Standby P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40"/>
          <p:cNvSpPr/>
          <p:nvPr/>
        </p:nvSpPr>
        <p:spPr>
          <a:xfrm>
            <a:off x="1398600" y="2798640"/>
            <a:ext cx="216000" cy="1350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77"/>
          <p:cNvSpPr/>
          <p:nvPr/>
        </p:nvSpPr>
        <p:spPr>
          <a:xfrm rot="20748000">
            <a:off x="1714320" y="2346120"/>
            <a:ext cx="114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1. PW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77"/>
          <p:cNvSpPr/>
          <p:nvPr/>
        </p:nvSpPr>
        <p:spPr>
          <a:xfrm>
            <a:off x="5643720" y="1714680"/>
            <a:ext cx="171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4. Flush only MACs learned over </a:t>
            </a: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6" name="Straight Arrow Connector 54"/>
          <p:cNvCxnSpPr>
            <a:stCxn id="945" idx="2"/>
            <a:endCxn id="947" idx="7"/>
          </p:cNvCxnSpPr>
          <p:nvPr/>
        </p:nvCxnSpPr>
        <p:spPr>
          <a:xfrm flipH="1">
            <a:off x="6224040" y="2084040"/>
            <a:ext cx="276840" cy="3992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948" name="Rectangle 3"/>
          <p:cNvSpPr/>
          <p:nvPr/>
        </p:nvSpPr>
        <p:spPr>
          <a:xfrm rot="21280800">
            <a:off x="2109960" y="2570040"/>
            <a:ext cx="583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07880" indent="-237960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-1648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traight Connector 58"/>
          <p:cNvSpPr/>
          <p:nvPr/>
        </p:nvSpPr>
        <p:spPr>
          <a:xfrm flipV="1">
            <a:off x="6602400" y="2801880"/>
            <a:ext cx="45252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118"/>
          <p:cNvGrpSpPr/>
          <p:nvPr/>
        </p:nvGrpSpPr>
        <p:grpSpPr>
          <a:xfrm>
            <a:off x="1501920" y="3153600"/>
            <a:ext cx="1771560" cy="1192320"/>
            <a:chOff x="1501920" y="3153600"/>
            <a:chExt cx="1771560" cy="1192320"/>
          </a:xfrm>
        </p:grpSpPr>
        <p:sp>
          <p:nvSpPr>
            <p:cNvPr id="951" name="Rectangle 77"/>
            <p:cNvSpPr/>
            <p:nvPr/>
          </p:nvSpPr>
          <p:spPr>
            <a:xfrm rot="1717800">
              <a:off x="1477800" y="3566880"/>
              <a:ext cx="1819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1. T-LDP MAC Withdraw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with PE-ID1 TL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2" name="Straight Arrow Connector 56"/>
            <p:cNvCxnSpPr/>
            <p:nvPr/>
          </p:nvCxnSpPr>
          <p:spPr>
            <a:xfrm>
              <a:off x="1673640" y="3369960"/>
              <a:ext cx="1524600" cy="8449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arrow" w="med"/>
            </a:ln>
          </p:spPr>
        </p:cxnSp>
      </p:grpSp>
      <p:sp>
        <p:nvSpPr>
          <p:cNvPr id="953" name="Straight Connector 69"/>
          <p:cNvSpPr/>
          <p:nvPr/>
        </p:nvSpPr>
        <p:spPr>
          <a:xfrm>
            <a:off x="4100400" y="2376360"/>
            <a:ext cx="2238480" cy="352440"/>
          </a:xfrm>
          <a:prstGeom prst="line">
            <a:avLst/>
          </a:prstGeom>
          <a:ln w="19080">
            <a:solidFill>
              <a:srgbClr val="f03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traight Connector 70"/>
          <p:cNvSpPr/>
          <p:nvPr/>
        </p:nvSpPr>
        <p:spPr>
          <a:xfrm flipV="1">
            <a:off x="4100400" y="2908080"/>
            <a:ext cx="2238480" cy="1184040"/>
          </a:xfrm>
          <a:prstGeom prst="line">
            <a:avLst/>
          </a:prstGeom>
          <a:ln w="19080">
            <a:solidFill>
              <a:srgbClr val="f03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74"/>
          <p:cNvSpPr/>
          <p:nvPr/>
        </p:nvSpPr>
        <p:spPr>
          <a:xfrm>
            <a:off x="4000680" y="2455920"/>
            <a:ext cx="214200" cy="1544760"/>
          </a:xfrm>
          <a:custGeom>
            <a:avLst/>
            <a:gdLst>
              <a:gd name="textAreaLeft" fmla="*/ 0 w 214200"/>
              <a:gd name="textAreaRight" fmla="*/ 214560 w 21420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261770" h="753036">
                <a:moveTo>
                  <a:pt x="0" y="0"/>
                </a:moveTo>
                <a:cubicBezTo>
                  <a:pt x="127299" y="66339"/>
                  <a:pt x="254598" y="132678"/>
                  <a:pt x="258184" y="258184"/>
                </a:cubicBezTo>
                <a:cubicBezTo>
                  <a:pt x="261770" y="383690"/>
                  <a:pt x="141642" y="568363"/>
                  <a:pt x="21515" y="753036"/>
                </a:cubicBezTo>
              </a:path>
            </a:pathLst>
          </a:custGeom>
          <a:noFill/>
          <a:ln w="19080">
            <a:solidFill>
              <a:srgbClr val="f03c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77"/>
          <p:cNvSpPr/>
          <p:nvPr/>
        </p:nvSpPr>
        <p:spPr>
          <a:xfrm>
            <a:off x="3571920" y="3094200"/>
            <a:ext cx="71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77"/>
          <p:cNvSpPr/>
          <p:nvPr/>
        </p:nvSpPr>
        <p:spPr>
          <a:xfrm rot="19948800">
            <a:off x="4693680" y="3344760"/>
            <a:ext cx="71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77"/>
          <p:cNvSpPr/>
          <p:nvPr/>
        </p:nvSpPr>
        <p:spPr>
          <a:xfrm rot="546600">
            <a:off x="4614840" y="2304720"/>
            <a:ext cx="71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Group 119"/>
          <p:cNvGrpSpPr/>
          <p:nvPr/>
        </p:nvGrpSpPr>
        <p:grpSpPr>
          <a:xfrm>
            <a:off x="4500360" y="3135960"/>
            <a:ext cx="1819800" cy="1308960"/>
            <a:chOff x="4500360" y="3135960"/>
            <a:chExt cx="1819800" cy="1308960"/>
          </a:xfrm>
        </p:grpSpPr>
        <p:sp>
          <p:nvSpPr>
            <p:cNvPr id="960" name="Rectangle 77"/>
            <p:cNvSpPr/>
            <p:nvPr/>
          </p:nvSpPr>
          <p:spPr>
            <a:xfrm rot="19932600">
              <a:off x="4525920" y="3516480"/>
              <a:ext cx="17683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3. T-LDP MAC Withdraw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with PE-ID1 TL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1" name="Straight Arrow Connector 56"/>
            <p:cNvCxnSpPr/>
            <p:nvPr/>
          </p:nvCxnSpPr>
          <p:spPr>
            <a:xfrm flipV="1">
              <a:off x="4671720" y="3275280"/>
              <a:ext cx="154440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arrow" w="med"/>
            </a:ln>
          </p:spPr>
        </p:cxnSp>
      </p:grpSp>
      <p:sp>
        <p:nvSpPr>
          <p:cNvPr id="947" name="Oval 92"/>
          <p:cNvSpPr/>
          <p:nvPr/>
        </p:nvSpPr>
        <p:spPr>
          <a:xfrm>
            <a:off x="5911920" y="2428920"/>
            <a:ext cx="366480" cy="366840"/>
          </a:xfrm>
          <a:prstGeom prst="ellipse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125"/>
          <p:cNvSpPr/>
          <p:nvPr/>
        </p:nvSpPr>
        <p:spPr>
          <a:xfrm>
            <a:off x="539640" y="54151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ble only to HVPLS resiliency using (A/S) PW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77"/>
          <p:cNvSpPr/>
          <p:nvPr/>
        </p:nvSpPr>
        <p:spPr>
          <a:xfrm>
            <a:off x="3786120" y="4559400"/>
            <a:ext cx="1785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2. Flush only MACs learned over </a:t>
            </a: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4" name="Straight Arrow Connector 54"/>
          <p:cNvCxnSpPr>
            <a:stCxn id="963" idx="0"/>
            <a:endCxn id="965" idx="5"/>
          </p:cNvCxnSpPr>
          <p:nvPr/>
        </p:nvCxnSpPr>
        <p:spPr>
          <a:xfrm flipH="1" flipV="1">
            <a:off x="4026600" y="3942720"/>
            <a:ext cx="653400" cy="6166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965" name="Oval 128"/>
          <p:cNvSpPr/>
          <p:nvPr/>
        </p:nvSpPr>
        <p:spPr>
          <a:xfrm>
            <a:off x="3714840" y="3630600"/>
            <a:ext cx="366480" cy="366840"/>
          </a:xfrm>
          <a:prstGeom prst="ellipse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9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Picture 76" descr="Network_b"/>
          <p:cNvPicPr/>
          <p:nvPr/>
        </p:nvPicPr>
        <p:blipFill>
          <a:blip r:embed="rId1"/>
          <a:stretch/>
        </p:blipFill>
        <p:spPr>
          <a:xfrm>
            <a:off x="3429000" y="1643040"/>
            <a:ext cx="2889360" cy="2928960"/>
          </a:xfrm>
          <a:prstGeom prst="rect">
            <a:avLst/>
          </a:prstGeom>
          <a:ln w="0">
            <a:noFill/>
          </a:ln>
        </p:spPr>
      </p:pic>
      <p:sp>
        <p:nvSpPr>
          <p:cNvPr id="967" name="Rectangle 77"/>
          <p:cNvSpPr/>
          <p:nvPr/>
        </p:nvSpPr>
        <p:spPr>
          <a:xfrm>
            <a:off x="4214880" y="2928960"/>
            <a:ext cx="143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IP/MP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8358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rebuchet MS"/>
              </a:rPr>
              <a:t>Native Ethernet use case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grpSp>
        <p:nvGrpSpPr>
          <p:cNvPr id="969" name="Group 6"/>
          <p:cNvGrpSpPr/>
          <p:nvPr/>
        </p:nvGrpSpPr>
        <p:grpSpPr>
          <a:xfrm>
            <a:off x="3699000" y="1995480"/>
            <a:ext cx="493560" cy="560520"/>
            <a:chOff x="3699000" y="1995480"/>
            <a:chExt cx="493560" cy="560520"/>
          </a:xfrm>
        </p:grpSpPr>
        <p:sp>
          <p:nvSpPr>
            <p:cNvPr id="970" name="Text Box 55"/>
            <p:cNvSpPr/>
            <p:nvPr/>
          </p:nvSpPr>
          <p:spPr>
            <a:xfrm>
              <a:off x="3732840" y="1995480"/>
              <a:ext cx="3985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E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1" name="Picture 60" descr="7450_ESS_b"/>
            <p:cNvPicPr/>
            <p:nvPr/>
          </p:nvPicPr>
          <p:blipFill>
            <a:blip r:embed="rId2"/>
            <a:stretch/>
          </p:blipFill>
          <p:spPr>
            <a:xfrm>
              <a:off x="3699000" y="2198880"/>
              <a:ext cx="49356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2" name="Group 9"/>
          <p:cNvGrpSpPr/>
          <p:nvPr/>
        </p:nvGrpSpPr>
        <p:grpSpPr>
          <a:xfrm>
            <a:off x="1125360" y="2795760"/>
            <a:ext cx="749520" cy="461160"/>
            <a:chOff x="1125360" y="2795760"/>
            <a:chExt cx="749520" cy="461160"/>
          </a:xfrm>
        </p:grpSpPr>
        <p:sp>
          <p:nvSpPr>
            <p:cNvPr id="973" name="Text Box 19"/>
            <p:cNvSpPr/>
            <p:nvPr/>
          </p:nvSpPr>
          <p:spPr>
            <a:xfrm>
              <a:off x="1125360" y="3026160"/>
              <a:ext cx="6937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TU/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4" name="Picture 65" descr="7450_ESS"/>
            <p:cNvPicPr/>
            <p:nvPr/>
          </p:nvPicPr>
          <p:blipFill>
            <a:blip r:embed="rId3"/>
            <a:stretch/>
          </p:blipFill>
          <p:spPr>
            <a:xfrm>
              <a:off x="1214280" y="2795760"/>
              <a:ext cx="660600" cy="21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5" name="Group 12"/>
          <p:cNvGrpSpPr/>
          <p:nvPr/>
        </p:nvGrpSpPr>
        <p:grpSpPr>
          <a:xfrm>
            <a:off x="3699000" y="3938760"/>
            <a:ext cx="493560" cy="573120"/>
            <a:chOff x="3699000" y="3938760"/>
            <a:chExt cx="493560" cy="573120"/>
          </a:xfrm>
        </p:grpSpPr>
        <p:sp>
          <p:nvSpPr>
            <p:cNvPr id="976" name="Text Box 55"/>
            <p:cNvSpPr/>
            <p:nvPr/>
          </p:nvSpPr>
          <p:spPr>
            <a:xfrm>
              <a:off x="3727800" y="4281120"/>
              <a:ext cx="3985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E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7" name="Picture 60" descr="7450_ESS_b"/>
            <p:cNvPicPr/>
            <p:nvPr/>
          </p:nvPicPr>
          <p:blipFill>
            <a:blip r:embed="rId4"/>
            <a:stretch/>
          </p:blipFill>
          <p:spPr>
            <a:xfrm>
              <a:off x="3699000" y="3938760"/>
              <a:ext cx="493560" cy="35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8" name="Line 17"/>
          <p:cNvSpPr/>
          <p:nvPr/>
        </p:nvSpPr>
        <p:spPr>
          <a:xfrm flipV="1">
            <a:off x="1589040" y="2412720"/>
            <a:ext cx="2187720" cy="453960"/>
          </a:xfrm>
          <a:prstGeom prst="line">
            <a:avLst/>
          </a:prstGeom>
          <a:ln w="19080">
            <a:solidFill>
              <a:srgbClr val="f03c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18"/>
          <p:cNvSpPr/>
          <p:nvPr/>
        </p:nvSpPr>
        <p:spPr>
          <a:xfrm>
            <a:off x="1589040" y="2867040"/>
            <a:ext cx="2197080" cy="1204920"/>
          </a:xfrm>
          <a:prstGeom prst="line">
            <a:avLst/>
          </a:prstGeom>
          <a:ln w="19080">
            <a:solidFill>
              <a:srgbClr val="f03c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Group 19"/>
          <p:cNvGrpSpPr/>
          <p:nvPr/>
        </p:nvGrpSpPr>
        <p:grpSpPr>
          <a:xfrm>
            <a:off x="6200640" y="2652840"/>
            <a:ext cx="493920" cy="573480"/>
            <a:chOff x="6200640" y="2652840"/>
            <a:chExt cx="493920" cy="573480"/>
          </a:xfrm>
        </p:grpSpPr>
        <p:sp>
          <p:nvSpPr>
            <p:cNvPr id="981" name="Text Box 55"/>
            <p:cNvSpPr/>
            <p:nvPr/>
          </p:nvSpPr>
          <p:spPr>
            <a:xfrm>
              <a:off x="6228360" y="2995560"/>
              <a:ext cx="3985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E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2" name="Picture 60" descr="7450_ESS_b"/>
            <p:cNvPicPr/>
            <p:nvPr/>
          </p:nvPicPr>
          <p:blipFill>
            <a:blip r:embed="rId5"/>
            <a:stretch/>
          </p:blipFill>
          <p:spPr>
            <a:xfrm>
              <a:off x="6200640" y="2652840"/>
              <a:ext cx="4939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3" name="Group 25"/>
          <p:cNvGrpSpPr/>
          <p:nvPr/>
        </p:nvGrpSpPr>
        <p:grpSpPr>
          <a:xfrm>
            <a:off x="7054920" y="2728800"/>
            <a:ext cx="660240" cy="359280"/>
            <a:chOff x="7054920" y="2728800"/>
            <a:chExt cx="660240" cy="359280"/>
          </a:xfrm>
        </p:grpSpPr>
        <p:sp>
          <p:nvSpPr>
            <p:cNvPr id="984" name="Text Box 19"/>
            <p:cNvSpPr/>
            <p:nvPr/>
          </p:nvSpPr>
          <p:spPr>
            <a:xfrm>
              <a:off x="7164720" y="2857320"/>
              <a:ext cx="4399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T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5" name="Picture 65" descr="7450_ESS"/>
            <p:cNvPicPr/>
            <p:nvPr/>
          </p:nvPicPr>
          <p:blipFill>
            <a:blip r:embed="rId6"/>
            <a:stretch/>
          </p:blipFill>
          <p:spPr>
            <a:xfrm>
              <a:off x="7054920" y="2728800"/>
              <a:ext cx="660240" cy="14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6" name="Oval 33"/>
          <p:cNvSpPr/>
          <p:nvPr/>
        </p:nvSpPr>
        <p:spPr>
          <a:xfrm>
            <a:off x="3785760" y="2261160"/>
            <a:ext cx="321480" cy="2322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V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34"/>
          <p:cNvSpPr/>
          <p:nvPr/>
        </p:nvSpPr>
        <p:spPr>
          <a:xfrm>
            <a:off x="3785760" y="3977280"/>
            <a:ext cx="321480" cy="2322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V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35"/>
          <p:cNvSpPr/>
          <p:nvPr/>
        </p:nvSpPr>
        <p:spPr>
          <a:xfrm>
            <a:off x="6287760" y="2702520"/>
            <a:ext cx="321480" cy="2322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V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77"/>
          <p:cNvSpPr/>
          <p:nvPr/>
        </p:nvSpPr>
        <p:spPr>
          <a:xfrm rot="20871600">
            <a:off x="2819160" y="2280960"/>
            <a:ext cx="9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03c91"/>
                </a:solidFill>
                <a:latin typeface="Trebuchet MS"/>
              </a:rPr>
              <a:t>Prim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77"/>
          <p:cNvSpPr/>
          <p:nvPr/>
        </p:nvSpPr>
        <p:spPr>
          <a:xfrm rot="1798200">
            <a:off x="2832120" y="3832200"/>
            <a:ext cx="9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03c91"/>
                </a:solidFill>
                <a:latin typeface="Trebuchet MS"/>
              </a:rPr>
              <a:t>Standb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40"/>
          <p:cNvSpPr/>
          <p:nvPr/>
        </p:nvSpPr>
        <p:spPr>
          <a:xfrm>
            <a:off x="1398600" y="2798640"/>
            <a:ext cx="216000" cy="1350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77"/>
          <p:cNvSpPr/>
          <p:nvPr/>
        </p:nvSpPr>
        <p:spPr>
          <a:xfrm rot="20720400">
            <a:off x="1714320" y="2346120"/>
            <a:ext cx="114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1. Link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3"/>
          <p:cNvSpPr/>
          <p:nvPr/>
        </p:nvSpPr>
        <p:spPr>
          <a:xfrm rot="21280800">
            <a:off x="2109960" y="2570040"/>
            <a:ext cx="583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07880" indent="-237960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-1648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traight Connector 58"/>
          <p:cNvSpPr/>
          <p:nvPr/>
        </p:nvSpPr>
        <p:spPr>
          <a:xfrm flipV="1">
            <a:off x="6602400" y="2801880"/>
            <a:ext cx="45252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traight Connector 69"/>
          <p:cNvSpPr/>
          <p:nvPr/>
        </p:nvSpPr>
        <p:spPr>
          <a:xfrm>
            <a:off x="4100400" y="2376360"/>
            <a:ext cx="2238480" cy="352440"/>
          </a:xfrm>
          <a:prstGeom prst="line">
            <a:avLst/>
          </a:prstGeom>
          <a:ln w="19080">
            <a:solidFill>
              <a:srgbClr val="f03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traight Connector 70"/>
          <p:cNvSpPr/>
          <p:nvPr/>
        </p:nvSpPr>
        <p:spPr>
          <a:xfrm flipV="1">
            <a:off x="4100400" y="2908080"/>
            <a:ext cx="2238480" cy="1184040"/>
          </a:xfrm>
          <a:prstGeom prst="line">
            <a:avLst/>
          </a:prstGeom>
          <a:ln w="19080">
            <a:solidFill>
              <a:srgbClr val="f03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74"/>
          <p:cNvSpPr/>
          <p:nvPr/>
        </p:nvSpPr>
        <p:spPr>
          <a:xfrm>
            <a:off x="4000680" y="2455920"/>
            <a:ext cx="214200" cy="1544760"/>
          </a:xfrm>
          <a:custGeom>
            <a:avLst/>
            <a:gdLst>
              <a:gd name="textAreaLeft" fmla="*/ 0 w 214200"/>
              <a:gd name="textAreaRight" fmla="*/ 214560 w 21420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261770" h="753036">
                <a:moveTo>
                  <a:pt x="0" y="0"/>
                </a:moveTo>
                <a:cubicBezTo>
                  <a:pt x="127299" y="66339"/>
                  <a:pt x="254598" y="132678"/>
                  <a:pt x="258184" y="258184"/>
                </a:cubicBezTo>
                <a:cubicBezTo>
                  <a:pt x="261770" y="383690"/>
                  <a:pt x="141642" y="568363"/>
                  <a:pt x="21515" y="753036"/>
                </a:cubicBezTo>
              </a:path>
            </a:pathLst>
          </a:custGeom>
          <a:noFill/>
          <a:ln w="19080">
            <a:solidFill>
              <a:srgbClr val="f03c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77"/>
          <p:cNvSpPr/>
          <p:nvPr/>
        </p:nvSpPr>
        <p:spPr>
          <a:xfrm>
            <a:off x="4111560" y="3143160"/>
            <a:ext cx="71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77"/>
          <p:cNvSpPr/>
          <p:nvPr/>
        </p:nvSpPr>
        <p:spPr>
          <a:xfrm rot="19948800">
            <a:off x="4725360" y="3660840"/>
            <a:ext cx="71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77"/>
          <p:cNvSpPr/>
          <p:nvPr/>
        </p:nvSpPr>
        <p:spPr>
          <a:xfrm rot="546600">
            <a:off x="4581360" y="2555640"/>
            <a:ext cx="71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25"/>
          <p:cNvSpPr/>
          <p:nvPr/>
        </p:nvSpPr>
        <p:spPr>
          <a:xfrm>
            <a:off x="1258920" y="4941720"/>
            <a:ext cx="67863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7880" indent="-237960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3232"/>
                </a:solidFill>
                <a:latin typeface="Arial"/>
                <a:ea typeface="Arial"/>
              </a:rPr>
              <a:t>Solution expanded to address the native Ethernet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3232"/>
                </a:solidFill>
                <a:latin typeface="Arial"/>
                <a:ea typeface="Arial"/>
              </a:rPr>
              <a:t>Applicable to any non-STP based resiliency scheme – ICCP, MC-LAG, BGP MH, G.8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77"/>
          <p:cNvSpPr/>
          <p:nvPr/>
        </p:nvSpPr>
        <p:spPr>
          <a:xfrm>
            <a:off x="2268360" y="2852640"/>
            <a:ext cx="1079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Ethernet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76" descr="Network_b"/>
          <p:cNvPicPr/>
          <p:nvPr/>
        </p:nvPicPr>
        <p:blipFill>
          <a:blip r:embed="rId1"/>
          <a:stretch/>
        </p:blipFill>
        <p:spPr>
          <a:xfrm>
            <a:off x="3303720" y="1273320"/>
            <a:ext cx="2889000" cy="2928960"/>
          </a:xfrm>
          <a:prstGeom prst="rect">
            <a:avLst/>
          </a:prstGeom>
          <a:ln w="0">
            <a:noFill/>
          </a:ln>
        </p:spPr>
      </p:pic>
      <p:sp>
        <p:nvSpPr>
          <p:cNvPr id="1004" name="Rectangle 77"/>
          <p:cNvSpPr/>
          <p:nvPr/>
        </p:nvSpPr>
        <p:spPr>
          <a:xfrm>
            <a:off x="4089240" y="2558880"/>
            <a:ext cx="143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IP/MP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8715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rebuchet MS"/>
              </a:rPr>
              <a:t>MAC TLV based solution for “flush-all-from-me”</a:t>
            </a:r>
            <a:endParaRPr b="0" lang="en-US" sz="2000" spc="-1" strike="noStrike">
              <a:solidFill>
                <a:srgbClr val="323232"/>
              </a:solidFill>
              <a:latin typeface="Trebuchet MS"/>
            </a:endParaRPr>
          </a:p>
        </p:txBody>
      </p:sp>
      <p:grpSp>
        <p:nvGrpSpPr>
          <p:cNvPr id="1006" name="Group 6"/>
          <p:cNvGrpSpPr/>
          <p:nvPr/>
        </p:nvGrpSpPr>
        <p:grpSpPr>
          <a:xfrm>
            <a:off x="3573360" y="1625760"/>
            <a:ext cx="493920" cy="559800"/>
            <a:chOff x="3573360" y="1625760"/>
            <a:chExt cx="493920" cy="559800"/>
          </a:xfrm>
        </p:grpSpPr>
        <p:sp>
          <p:nvSpPr>
            <p:cNvPr id="1007" name="Text Box 55"/>
            <p:cNvSpPr/>
            <p:nvPr/>
          </p:nvSpPr>
          <p:spPr>
            <a:xfrm>
              <a:off x="3607560" y="1625760"/>
              <a:ext cx="3985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E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8" name="Picture 60" descr="7450_ESS_b"/>
            <p:cNvPicPr/>
            <p:nvPr/>
          </p:nvPicPr>
          <p:blipFill>
            <a:blip r:embed="rId2"/>
            <a:stretch/>
          </p:blipFill>
          <p:spPr>
            <a:xfrm>
              <a:off x="3573360" y="1828800"/>
              <a:ext cx="493920" cy="35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9" name="Group 9"/>
          <p:cNvGrpSpPr/>
          <p:nvPr/>
        </p:nvGrpSpPr>
        <p:grpSpPr>
          <a:xfrm>
            <a:off x="1000080" y="2425680"/>
            <a:ext cx="749520" cy="461160"/>
            <a:chOff x="1000080" y="2425680"/>
            <a:chExt cx="749520" cy="461160"/>
          </a:xfrm>
        </p:grpSpPr>
        <p:sp>
          <p:nvSpPr>
            <p:cNvPr id="1010" name="Text Box 19"/>
            <p:cNvSpPr/>
            <p:nvPr/>
          </p:nvSpPr>
          <p:spPr>
            <a:xfrm>
              <a:off x="1000080" y="2656080"/>
              <a:ext cx="6937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TU/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1" name="Picture 65" descr="7450_ESS"/>
            <p:cNvPicPr/>
            <p:nvPr/>
          </p:nvPicPr>
          <p:blipFill>
            <a:blip r:embed="rId3"/>
            <a:stretch/>
          </p:blipFill>
          <p:spPr>
            <a:xfrm>
              <a:off x="1089000" y="2425680"/>
              <a:ext cx="660600" cy="21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Group 12"/>
          <p:cNvGrpSpPr/>
          <p:nvPr/>
        </p:nvGrpSpPr>
        <p:grpSpPr>
          <a:xfrm>
            <a:off x="3573360" y="3568680"/>
            <a:ext cx="493920" cy="573480"/>
            <a:chOff x="3573360" y="3568680"/>
            <a:chExt cx="493920" cy="573480"/>
          </a:xfrm>
        </p:grpSpPr>
        <p:sp>
          <p:nvSpPr>
            <p:cNvPr id="1013" name="Text Box 55"/>
            <p:cNvSpPr/>
            <p:nvPr/>
          </p:nvSpPr>
          <p:spPr>
            <a:xfrm>
              <a:off x="3602520" y="3911400"/>
              <a:ext cx="3985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E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4" name="Picture 60" descr="7450_ESS_b"/>
            <p:cNvPicPr/>
            <p:nvPr/>
          </p:nvPicPr>
          <p:blipFill>
            <a:blip r:embed="rId4"/>
            <a:stretch/>
          </p:blipFill>
          <p:spPr>
            <a:xfrm>
              <a:off x="3573360" y="3568680"/>
              <a:ext cx="49392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5" name="Line 17"/>
          <p:cNvSpPr/>
          <p:nvPr/>
        </p:nvSpPr>
        <p:spPr>
          <a:xfrm flipV="1">
            <a:off x="1463760" y="2042640"/>
            <a:ext cx="2187360" cy="453960"/>
          </a:xfrm>
          <a:prstGeom prst="line">
            <a:avLst/>
          </a:prstGeom>
          <a:ln w="19080">
            <a:solidFill>
              <a:srgbClr val="f03c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18"/>
          <p:cNvSpPr/>
          <p:nvPr/>
        </p:nvSpPr>
        <p:spPr>
          <a:xfrm>
            <a:off x="1463760" y="2496960"/>
            <a:ext cx="2197080" cy="1204920"/>
          </a:xfrm>
          <a:prstGeom prst="line">
            <a:avLst/>
          </a:prstGeom>
          <a:ln w="19080">
            <a:solidFill>
              <a:srgbClr val="f03c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Group 19"/>
          <p:cNvGrpSpPr/>
          <p:nvPr/>
        </p:nvGrpSpPr>
        <p:grpSpPr>
          <a:xfrm>
            <a:off x="6075360" y="2282760"/>
            <a:ext cx="493560" cy="573480"/>
            <a:chOff x="6075360" y="2282760"/>
            <a:chExt cx="493560" cy="573480"/>
          </a:xfrm>
        </p:grpSpPr>
        <p:sp>
          <p:nvSpPr>
            <p:cNvPr id="1018" name="Text Box 55"/>
            <p:cNvSpPr/>
            <p:nvPr/>
          </p:nvSpPr>
          <p:spPr>
            <a:xfrm>
              <a:off x="6102720" y="2625480"/>
              <a:ext cx="3985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E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9" name="Picture 60" descr="7450_ESS_b"/>
            <p:cNvPicPr/>
            <p:nvPr/>
          </p:nvPicPr>
          <p:blipFill>
            <a:blip r:embed="rId5"/>
            <a:stretch/>
          </p:blipFill>
          <p:spPr>
            <a:xfrm>
              <a:off x="6075360" y="2282760"/>
              <a:ext cx="49356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0" name="Group 25"/>
          <p:cNvGrpSpPr/>
          <p:nvPr/>
        </p:nvGrpSpPr>
        <p:grpSpPr>
          <a:xfrm>
            <a:off x="6929280" y="2360520"/>
            <a:ext cx="660600" cy="359280"/>
            <a:chOff x="6929280" y="2360520"/>
            <a:chExt cx="660600" cy="359280"/>
          </a:xfrm>
        </p:grpSpPr>
        <p:sp>
          <p:nvSpPr>
            <p:cNvPr id="1021" name="Text Box 19"/>
            <p:cNvSpPr/>
            <p:nvPr/>
          </p:nvSpPr>
          <p:spPr>
            <a:xfrm>
              <a:off x="7039440" y="2489040"/>
              <a:ext cx="4399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T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2" name="Picture 65" descr="7450_ESS"/>
            <p:cNvPicPr/>
            <p:nvPr/>
          </p:nvPicPr>
          <p:blipFill>
            <a:blip r:embed="rId6"/>
            <a:stretch/>
          </p:blipFill>
          <p:spPr>
            <a:xfrm>
              <a:off x="6929280" y="2360520"/>
              <a:ext cx="660600" cy="14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Oval 33"/>
          <p:cNvSpPr/>
          <p:nvPr/>
        </p:nvSpPr>
        <p:spPr>
          <a:xfrm>
            <a:off x="3660480" y="1891440"/>
            <a:ext cx="321480" cy="2322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V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Oval 34"/>
          <p:cNvSpPr/>
          <p:nvPr/>
        </p:nvSpPr>
        <p:spPr>
          <a:xfrm>
            <a:off x="3660480" y="3607200"/>
            <a:ext cx="321480" cy="2322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V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Oval 35"/>
          <p:cNvSpPr/>
          <p:nvPr/>
        </p:nvSpPr>
        <p:spPr>
          <a:xfrm>
            <a:off x="6162480" y="2332440"/>
            <a:ext cx="321480" cy="2322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V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77"/>
          <p:cNvSpPr/>
          <p:nvPr/>
        </p:nvSpPr>
        <p:spPr>
          <a:xfrm rot="20871600">
            <a:off x="2693520" y="1910880"/>
            <a:ext cx="90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03c91"/>
                </a:solidFill>
                <a:latin typeface="Trebuchet MS"/>
              </a:rPr>
              <a:t>Prim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77"/>
          <p:cNvSpPr/>
          <p:nvPr/>
        </p:nvSpPr>
        <p:spPr>
          <a:xfrm rot="1798200">
            <a:off x="2707200" y="3462480"/>
            <a:ext cx="90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03c91"/>
                </a:solidFill>
                <a:latin typeface="Trebuchet MS"/>
              </a:rPr>
              <a:t>Standb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Oval 40"/>
          <p:cNvSpPr/>
          <p:nvPr/>
        </p:nvSpPr>
        <p:spPr>
          <a:xfrm>
            <a:off x="1273320" y="2428920"/>
            <a:ext cx="215640" cy="135000"/>
          </a:xfrm>
          <a:prstGeom prst="ellipse">
            <a:avLst/>
          </a:prstGeom>
          <a:solidFill>
            <a:srgbClr val="f03c9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77"/>
          <p:cNvSpPr/>
          <p:nvPr/>
        </p:nvSpPr>
        <p:spPr>
          <a:xfrm rot="20720400">
            <a:off x="1588320" y="1976040"/>
            <a:ext cx="114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1. Link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77"/>
          <p:cNvSpPr/>
          <p:nvPr/>
        </p:nvSpPr>
        <p:spPr>
          <a:xfrm>
            <a:off x="5875200" y="1273320"/>
            <a:ext cx="1554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2. Flush only MACs learned over </a:t>
            </a: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1" name="Straight Arrow Connector 54"/>
          <p:cNvCxnSpPr>
            <a:stCxn id="1030" idx="2"/>
            <a:endCxn id="1032" idx="7"/>
          </p:cNvCxnSpPr>
          <p:nvPr/>
        </p:nvCxnSpPr>
        <p:spPr>
          <a:xfrm flipH="1">
            <a:off x="6098400" y="1642680"/>
            <a:ext cx="554760" cy="47052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033" name="Rectangle 3"/>
          <p:cNvSpPr/>
          <p:nvPr/>
        </p:nvSpPr>
        <p:spPr>
          <a:xfrm rot="21280800">
            <a:off x="1984320" y="2199960"/>
            <a:ext cx="584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07880" indent="-237960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-1648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traight Connector 58"/>
          <p:cNvSpPr/>
          <p:nvPr/>
        </p:nvSpPr>
        <p:spPr>
          <a:xfrm flipV="1">
            <a:off x="6477120" y="2433600"/>
            <a:ext cx="45216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traight Connector 69"/>
          <p:cNvSpPr/>
          <p:nvPr/>
        </p:nvSpPr>
        <p:spPr>
          <a:xfrm>
            <a:off x="3975120" y="2008080"/>
            <a:ext cx="2238480" cy="352440"/>
          </a:xfrm>
          <a:prstGeom prst="line">
            <a:avLst/>
          </a:prstGeom>
          <a:ln w="19080">
            <a:solidFill>
              <a:srgbClr val="f03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traight Connector 70"/>
          <p:cNvSpPr/>
          <p:nvPr/>
        </p:nvSpPr>
        <p:spPr>
          <a:xfrm flipV="1">
            <a:off x="3975120" y="2538360"/>
            <a:ext cx="2238480" cy="1185840"/>
          </a:xfrm>
          <a:prstGeom prst="line">
            <a:avLst/>
          </a:prstGeom>
          <a:ln w="19080">
            <a:solidFill>
              <a:srgbClr val="f03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Freeform 74"/>
          <p:cNvSpPr/>
          <p:nvPr/>
        </p:nvSpPr>
        <p:spPr>
          <a:xfrm>
            <a:off x="3875040" y="2085840"/>
            <a:ext cx="214200" cy="1544760"/>
          </a:xfrm>
          <a:custGeom>
            <a:avLst/>
            <a:gdLst>
              <a:gd name="textAreaLeft" fmla="*/ 0 w 214200"/>
              <a:gd name="textAreaRight" fmla="*/ 214560 w 21420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261770" h="753036">
                <a:moveTo>
                  <a:pt x="0" y="0"/>
                </a:moveTo>
                <a:cubicBezTo>
                  <a:pt x="127299" y="66339"/>
                  <a:pt x="254598" y="132678"/>
                  <a:pt x="258184" y="258184"/>
                </a:cubicBezTo>
                <a:cubicBezTo>
                  <a:pt x="261770" y="383690"/>
                  <a:pt x="141642" y="568363"/>
                  <a:pt x="21515" y="753036"/>
                </a:cubicBezTo>
              </a:path>
            </a:pathLst>
          </a:custGeom>
          <a:noFill/>
          <a:ln w="19080">
            <a:solidFill>
              <a:srgbClr val="f03c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77"/>
          <p:cNvSpPr/>
          <p:nvPr/>
        </p:nvSpPr>
        <p:spPr>
          <a:xfrm>
            <a:off x="3946680" y="2773440"/>
            <a:ext cx="71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77"/>
          <p:cNvSpPr/>
          <p:nvPr/>
        </p:nvSpPr>
        <p:spPr>
          <a:xfrm rot="19948800">
            <a:off x="4568400" y="2976120"/>
            <a:ext cx="71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77"/>
          <p:cNvSpPr/>
          <p:nvPr/>
        </p:nvSpPr>
        <p:spPr>
          <a:xfrm rot="546600">
            <a:off x="4456080" y="2185560"/>
            <a:ext cx="71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119"/>
          <p:cNvGrpSpPr/>
          <p:nvPr/>
        </p:nvGrpSpPr>
        <p:grpSpPr>
          <a:xfrm>
            <a:off x="2295000" y="1608840"/>
            <a:ext cx="3557520" cy="1250280"/>
            <a:chOff x="2295000" y="1608840"/>
            <a:chExt cx="3557520" cy="1250280"/>
          </a:xfrm>
        </p:grpSpPr>
        <p:sp>
          <p:nvSpPr>
            <p:cNvPr id="1042" name="Rectangle 77"/>
            <p:cNvSpPr/>
            <p:nvPr/>
          </p:nvSpPr>
          <p:spPr>
            <a:xfrm rot="507600">
              <a:off x="4030200" y="1716120"/>
              <a:ext cx="1489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1. T-LDP MAC Withdraw (N=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3" name="Straight Arrow Connector 56"/>
            <p:cNvCxnSpPr/>
            <p:nvPr/>
          </p:nvCxnSpPr>
          <p:spPr>
            <a:xfrm>
              <a:off x="4112640" y="1813680"/>
              <a:ext cx="1740240" cy="236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arrow" w="med"/>
            </a:ln>
          </p:spPr>
        </p:cxnSp>
        <p:sp>
          <p:nvSpPr>
            <p:cNvPr id="1044" name="Rectangle 77"/>
            <p:cNvSpPr/>
            <p:nvPr/>
          </p:nvSpPr>
          <p:spPr>
            <a:xfrm>
              <a:off x="2295000" y="2493720"/>
              <a:ext cx="1489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1. T-LDP MAC Withdraw (N=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Oval 92"/>
          <p:cNvSpPr/>
          <p:nvPr/>
        </p:nvSpPr>
        <p:spPr>
          <a:xfrm>
            <a:off x="5786280" y="2058840"/>
            <a:ext cx="366840" cy="366840"/>
          </a:xfrm>
          <a:prstGeom prst="ellipse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77"/>
          <p:cNvSpPr/>
          <p:nvPr/>
        </p:nvSpPr>
        <p:spPr>
          <a:xfrm>
            <a:off x="3732120" y="4202280"/>
            <a:ext cx="1625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2. Flush only MACs learned over </a:t>
            </a:r>
            <a:r>
              <a:rPr b="1" lang="en-US" sz="1200" spc="-1" strike="noStrike">
                <a:solidFill>
                  <a:srgbClr val="f03c81"/>
                </a:solidFill>
                <a:latin typeface="Trebuchet MS"/>
              </a:rPr>
              <a:t>PW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6" name="Straight Arrow Connector 54"/>
          <p:cNvCxnSpPr>
            <a:stCxn id="1045" idx="0"/>
            <a:endCxn id="1047" idx="5"/>
          </p:cNvCxnSpPr>
          <p:nvPr/>
        </p:nvCxnSpPr>
        <p:spPr>
          <a:xfrm flipH="1" flipV="1">
            <a:off x="3972960" y="3585600"/>
            <a:ext cx="572040" cy="6166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047" name="Oval 47"/>
          <p:cNvSpPr/>
          <p:nvPr/>
        </p:nvSpPr>
        <p:spPr>
          <a:xfrm>
            <a:off x="3660840" y="3273480"/>
            <a:ext cx="366480" cy="366480"/>
          </a:xfrm>
          <a:prstGeom prst="ellipse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8" name="Straight Arrow Connector 56"/>
          <p:cNvCxnSpPr/>
          <p:nvPr/>
        </p:nvCxnSpPr>
        <p:spPr>
          <a:xfrm flipH="1">
            <a:off x="3588840" y="2130480"/>
            <a:ext cx="54720" cy="12020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049" name="Rectangle 3"/>
          <p:cNvSpPr/>
          <p:nvPr/>
        </p:nvSpPr>
        <p:spPr>
          <a:xfrm>
            <a:off x="468360" y="4869000"/>
            <a:ext cx="85010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Use the N-Flag from MAC Flush parameters TLV: 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  <a:ea typeface="Arial"/>
              </a:rPr>
              <a:t>N=1 indicates “flush-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all-from-me” is required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  <a:ea typeface="Arial"/>
              </a:rPr>
              <a:t> – re-uses the 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method proposed before for PBB-V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Arial"/>
              </a:rPr>
              <a:t>Same procedure for both Ethernet and PW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7:44:14Z</dcterms:created>
  <dc:creator>Kireeti Kompella</dc:creator>
  <dc:description/>
  <dc:language>en-US</dc:language>
  <cp:lastModifiedBy>fbalus</cp:lastModifiedBy>
  <dcterms:modified xsi:type="dcterms:W3CDTF">2011-07-28T03:44:51Z</dcterms:modified>
  <cp:revision>85</cp:revision>
  <dc:subject/>
  <dc:title>BGP VPLS Multi-hom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5955896</vt:r8>
  </property>
  <property fmtid="{D5CDD505-2E9C-101B-9397-08002B2CF9AE}" pid="3" name="_AuthorEmail">
    <vt:lpwstr>florin.balus@alcatel-lucent.com</vt:lpwstr>
  </property>
  <property fmtid="{D5CDD505-2E9C-101B-9397-08002B2CF9AE}" pid="4" name="_AuthorEmailDisplayName">
    <vt:lpwstr>Balus, Florin Stelian (Florin)</vt:lpwstr>
  </property>
  <property fmtid="{D5CDD505-2E9C-101B-9397-08002B2CF9AE}" pid="5" name="_EmailSubject">
    <vt:lpwstr>[l2vpn] Presenters' slides for the L2VPN WG session at IETF-81 Quebec City by Wednesday 07/27/2011 9PM</vt:lpwstr>
  </property>
  <property fmtid="{D5CDD505-2E9C-101B-9397-08002B2CF9AE}" pid="6" name="_NewReviewCycle">
    <vt:lpwstr/>
  </property>
</Properties>
</file>