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notesMasterIdLst>
    <p:notesMasterId r:id="rId23"/>
  </p:notes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notesMaster" Target="notesMasters/notesMaster1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DAB6-4526-4400-8538-1A8684A22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B5C8-07E1-4BCB-B200-4022C076F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83b7"/>
                </a:solidFill>
                <a:latin typeface="Calibri"/>
              </a:rPr>
              <a:t>draft-ietf-l2vpn-vpls-ldp-mac-opt-0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submitted for IETF-7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ed </a:t>
            </a:r>
            <a:r>
              <a:rPr b="1" lang="en-US" sz="1200" spc="-1" strike="noStrike">
                <a:solidFill>
                  <a:srgbClr val="0183b7"/>
                </a:solidFill>
                <a:latin typeface="Calibri"/>
              </a:rPr>
              <a:t>draft-balus-l2vpn-pbb-ldp-ext-0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 as agreed in IETF-7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BB VPLS extensions – propagate CMAC flush transparently through the B-VPLS; avoid unnecessary BMAC flus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isting enhancements apply also to PBB-VP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BB21-50C8-4BF5-8775-2B0A3A708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83b7"/>
                </a:solidFill>
                <a:latin typeface="Calibri"/>
              </a:rPr>
              <a:t>draft-ietf-l2vpn-vpls-ldp-mac-opt-0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submitted for IETF-7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ed </a:t>
            </a:r>
            <a:r>
              <a:rPr b="1" lang="en-US" sz="1200" spc="-1" strike="noStrike">
                <a:solidFill>
                  <a:srgbClr val="0183b7"/>
                </a:solidFill>
                <a:latin typeface="Calibri"/>
              </a:rPr>
              <a:t>draft-balus-l2vpn-pbb-ldp-ext-0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 as agreed in IETF-7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BB VPLS extensions – propagate CMAC flush transparently through the B-VPLS; avoid unnecessary BMAC flus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isting enhancements apply also to PBB-VP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B92D-3264-4BE9-B3A4-A9D091EDC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9C0D-9ED9-467F-A362-EE33D5FB8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1C4D-2460-498D-A8E0-2C1DD06E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3D1A-1838-43CA-AC2C-9C908869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AD0F-1531-43DF-B803-DC87F429B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E51F-00D7-4817-806F-655E5E530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67B89-E161-4BCD-A24B-1B03E8B1473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35177-1A8A-48E9-B128-455E8210442C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774AC-6D0C-4139-8523-B32728478CE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3F0AB8-3E25-44C5-B9DD-EAD246649D5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F8F5B-25BF-4791-A179-52F309EFCAF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0FDD0-C5BC-4E05-92F0-099AA00CBFA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116F1-9D96-40D4-A85D-0B786EA5825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DBB60-770D-4E66-892D-4EA728E0293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62F60-A484-4510-B080-C886590B84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EA179-F20B-42C8-8A4F-ADEF0106B9C5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0474C-AF50-4D42-9248-A146FBAE0706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D67BC-DE24-4340-8AF1-66EEFD5C2504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5F9A2-64B3-4064-8B23-587261C4FE1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5E7FA-55D4-49FD-9490-EBEE18B5349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92C99-3F9C-4325-AD20-7245B5B09C66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56332-D023-444D-8C05-69B0F073804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ED061-02A7-43B7-BB00-48712F05F02D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4EAD3-DEA3-46C6-9C49-3B3EE0E56C76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70DEC-4754-4A1E-9E8E-5540F2433E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A165-E7FC-466E-854D-325276E1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3A8D5-3994-4F49-8099-9579C6A99F76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3B809-316B-40C7-9467-0B68A3212AAD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807FF-2EE3-49F4-9D23-B7F3302005F5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AC13F-5BD7-4A21-BD15-CDFBC1722AE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8E343-3E78-4417-99BE-FD7E7333E561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A670-FC84-48B0-B223-A1C18399E80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BA10-99F4-41C2-B591-FAA813B09378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1EE1-BE6D-4224-BC6A-E3DF84E5FBC5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8789-6162-46CE-B79D-79AACF3BBE0B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D5AF-4DCC-476F-9FE8-8C87708B1D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C97A-6D76-4708-BEFF-2AB254B828A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44A2-B664-42B8-AA2E-0BA53CFA92B1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3356-2B77-4025-AEA8-461EACE237D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C4D7-BE2D-4D85-9679-867CF5C5287B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F102-2BB4-422C-9123-58AAF00AE51B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4645-2A40-4DF3-A720-367C4E0D9C09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E7F2-0B2F-4F24-9879-501DA9D0C151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76A52B-0334-4EE3-8F61-4B7096A2088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92C2ED-15B6-4757-B57B-B1B94AA363A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99DD32-ABBD-4274-A9E9-5332B85EEA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0AC000-60A1-422E-8C4B-6A08A028400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28E070-F0C3-453F-AAC6-9406F9E3E127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F72A21-950E-4581-95AA-FB8B4F5C6A72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BA9B91-7B7A-43DC-ADE8-1129236011D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B59CC7-3448-4EF4-9E42-F5938F0DF7C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ACC247-96AB-4A17-B674-24CF3054E3F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29A3B4-D546-415F-92A9-4DF3144E0DE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57F1AA-4E07-472D-80D6-9F2F0AFEDAC8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09282E-D705-41FF-ADEF-4CADF362608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36058C-E131-424D-B3F5-9FBEC52036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270C8F-F463-469F-8661-704A821D829B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B92A46-1B78-43B7-B8D4-F5AF4DAF2DF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BE4525-5856-4947-9FF3-31D575832D28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A960B8-D6A2-4F64-9003-C62116310BB9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9E576A-6D6B-4C81-867C-C8F35DC8E1FE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A8377D-F149-4ACD-81E2-356A8F56A561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F42346-7043-4957-81AD-BE597C6D5ADF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75F3FE-0E38-43BA-B164-1DFB59EA95DB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683EE8-9834-40BB-857E-38499F2D5501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625D86-4715-4067-B6A1-78E73F5A26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0E6AEF-F0E5-4FFA-A18D-8D855A2464F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2DCD5-4FD3-4578-8253-F644D778A8C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93523-A5A6-4A2B-8DA0-F1A7643107B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82DC5-C924-4676-BB59-5A2A34920D2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4BA1F-C61A-4395-9731-E9B9C995B7A0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18F52-CFBB-4642-8C87-E04569F2AD4E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0FE3B-4D65-4702-B2FE-20B6F6E43F7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C8BC3-ECB6-4117-914B-F1263372F515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46C79-2342-4A97-AF7A-50067E5607A6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22976-1862-4557-96D0-0F1E594DDCE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E04AD-6BF3-4563-B7A6-6A6B067E9147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8E953-CF4E-4096-BEE1-6EF525660D9F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52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53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910F5-142C-4B3D-BFA1-85D03646300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6C7F-8DBD-4110-865A-3B947171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5226-66DC-4FCD-ADA6-3305EF43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C1FB-E8D3-41C1-878F-45947FF0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8E90-CCF5-4BDF-9A0D-EF01B816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C59F-33EB-48CB-A683-FB3DA800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CEF2-7580-4BF1-AA8F-10E80738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0AB0-A6EA-43FA-89A7-AF4D8515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0E56-8941-4444-B53A-CC2B727D0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68"/>
          <p:cNvSpPr/>
          <p:nvPr/>
        </p:nvSpPr>
        <p:spPr>
          <a:xfrm>
            <a:off x="3240" y="2286000"/>
            <a:ext cx="9140760" cy="2286000"/>
          </a:xfrm>
          <a:prstGeom prst="rect">
            <a:avLst/>
          </a:prstGeom>
          <a:solidFill>
            <a:srgbClr val="00b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70" descr="dots-blue"/>
          <p:cNvPicPr/>
          <p:nvPr/>
        </p:nvPicPr>
        <p:blipFill>
          <a:blip r:embed="rId2"/>
          <a:stretch/>
        </p:blipFill>
        <p:spPr>
          <a:xfrm>
            <a:off x="614520" y="4205160"/>
            <a:ext cx="7883280" cy="99720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574560" indent="-16488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3" marL="150660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4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5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6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4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"/>
          <p:cNvSpPr/>
          <p:nvPr/>
        </p:nvSpPr>
        <p:spPr>
          <a:xfrm>
            <a:off x="9126360" y="6145200"/>
            <a:ext cx="648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d7d7d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36"/>
          <p:cNvSpPr/>
          <p:nvPr/>
        </p:nvSpPr>
        <p:spPr>
          <a:xfrm>
            <a:off x="453960" y="892080"/>
            <a:ext cx="871560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beb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27000" bIns="-270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3"/>
          <p:cNvSpPr/>
          <p:nvPr/>
        </p:nvSpPr>
        <p:spPr>
          <a:xfrm>
            <a:off x="453960" y="6359400"/>
            <a:ext cx="871560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beb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27000" bIns="-270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574560" indent="-16488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3" marL="150660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4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5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6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sldNum" idx="4"/>
          </p:nvPr>
        </p:nvSpPr>
        <p:spPr>
          <a:xfrm>
            <a:off x="355680" y="6526080"/>
            <a:ext cx="31924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4B55-5D8F-48B8-9FA6-2903B6BD2D75}" type="slidenum">
              <a:rPr b="0" lang="en-US" sz="7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r>
              <a:rPr b="0" lang="en-US" sz="700" spc="-1" strike="noStrike">
                <a:solidFill>
                  <a:srgbClr val="000000"/>
                </a:solidFill>
                <a:latin typeface="Trebuchet MS"/>
              </a:rPr>
              <a:t> | Presentation Title | Month 2008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4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4"/>
          <p:cNvSpPr/>
          <p:nvPr/>
        </p:nvSpPr>
        <p:spPr>
          <a:xfrm>
            <a:off x="9126360" y="6145200"/>
            <a:ext cx="648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d7d7d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36"/>
          <p:cNvSpPr/>
          <p:nvPr/>
        </p:nvSpPr>
        <p:spPr>
          <a:xfrm>
            <a:off x="453960" y="892080"/>
            <a:ext cx="871560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beb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27000" bIns="-270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23"/>
          <p:cNvSpPr/>
          <p:nvPr/>
        </p:nvSpPr>
        <p:spPr>
          <a:xfrm>
            <a:off x="453960" y="6359400"/>
            <a:ext cx="871560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beb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27000" bIns="-270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574560" indent="-16488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3" marL="150660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4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5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6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sldNum" idx="5"/>
          </p:nvPr>
        </p:nvSpPr>
        <p:spPr>
          <a:xfrm>
            <a:off x="355680" y="6526080"/>
            <a:ext cx="31924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1850-3A2F-498D-9CCF-EB99929DA746}" type="slidenum">
              <a:rPr b="0" lang="en-US" sz="7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r>
              <a:rPr b="0" lang="en-US" sz="700" spc="-1" strike="noStrike">
                <a:solidFill>
                  <a:srgbClr val="000000"/>
                </a:solidFill>
                <a:latin typeface="Trebuchet MS"/>
              </a:rPr>
              <a:t> | Presentation Title | Month 2008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4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"/>
          <p:cNvSpPr/>
          <p:nvPr/>
        </p:nvSpPr>
        <p:spPr>
          <a:xfrm>
            <a:off x="9126360" y="6145200"/>
            <a:ext cx="648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d7d7d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36"/>
          <p:cNvSpPr/>
          <p:nvPr/>
        </p:nvSpPr>
        <p:spPr>
          <a:xfrm>
            <a:off x="453960" y="892080"/>
            <a:ext cx="871560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beb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27000" bIns="-270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23"/>
          <p:cNvSpPr/>
          <p:nvPr/>
        </p:nvSpPr>
        <p:spPr>
          <a:xfrm>
            <a:off x="453960" y="6359400"/>
            <a:ext cx="871560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beb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27000" bIns="-270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574560" indent="-16488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3" marL="150660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4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5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6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sldNum" idx="6"/>
          </p:nvPr>
        </p:nvSpPr>
        <p:spPr>
          <a:xfrm>
            <a:off x="355680" y="6526080"/>
            <a:ext cx="31924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50A8-E1F1-45AF-B6DD-681D5E5B8FE9}" type="slidenum">
              <a:rPr b="0" lang="en-US" sz="7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r>
              <a:rPr b="0" lang="en-US" sz="700" spc="-1" strike="noStrike">
                <a:solidFill>
                  <a:srgbClr val="000000"/>
                </a:solidFill>
                <a:latin typeface="Trebuchet MS"/>
              </a:rPr>
              <a:t> | Presentation Title | Month 2008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4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4"/>
          <p:cNvSpPr/>
          <p:nvPr/>
        </p:nvSpPr>
        <p:spPr>
          <a:xfrm>
            <a:off x="9126360" y="6145200"/>
            <a:ext cx="648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d7d7d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36"/>
          <p:cNvSpPr/>
          <p:nvPr/>
        </p:nvSpPr>
        <p:spPr>
          <a:xfrm>
            <a:off x="453960" y="892080"/>
            <a:ext cx="871560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beb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27000" bIns="-270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23"/>
          <p:cNvSpPr/>
          <p:nvPr/>
        </p:nvSpPr>
        <p:spPr>
          <a:xfrm>
            <a:off x="453960" y="6359400"/>
            <a:ext cx="871560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beb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27000" bIns="-270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574560" indent="-16488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3" marL="150660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4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5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6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sldNum" idx="7"/>
          </p:nvPr>
        </p:nvSpPr>
        <p:spPr>
          <a:xfrm>
            <a:off x="355680" y="6526080"/>
            <a:ext cx="31924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E021-C4E7-4127-AD7D-270BF56AF87C}" type="slidenum">
              <a:rPr b="0" lang="en-US" sz="7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r>
              <a:rPr b="0" lang="en-US" sz="700" spc="-1" strike="noStrike">
                <a:solidFill>
                  <a:srgbClr val="000000"/>
                </a:solidFill>
                <a:latin typeface="Trebuchet MS"/>
              </a:rPr>
              <a:t> | Presentation Title | Month 2008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174840" y="6672240"/>
            <a:ext cx="8751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E960293-038E-41E2-8A27-DD9CCA24EBA0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4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4"/>
          <p:cNvSpPr/>
          <p:nvPr/>
        </p:nvSpPr>
        <p:spPr>
          <a:xfrm>
            <a:off x="9126360" y="6145200"/>
            <a:ext cx="648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d7d7d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36"/>
          <p:cNvSpPr/>
          <p:nvPr/>
        </p:nvSpPr>
        <p:spPr>
          <a:xfrm>
            <a:off x="453960" y="892080"/>
            <a:ext cx="871560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beb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27000" bIns="-270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23"/>
          <p:cNvSpPr/>
          <p:nvPr/>
        </p:nvSpPr>
        <p:spPr>
          <a:xfrm>
            <a:off x="453960" y="6359400"/>
            <a:ext cx="871560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beb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27000" bIns="-270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574560" indent="-16488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3" marL="150660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4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5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6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sldNum" idx="8"/>
          </p:nvPr>
        </p:nvSpPr>
        <p:spPr>
          <a:xfrm>
            <a:off x="355680" y="6526080"/>
            <a:ext cx="31924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3137-7EC2-49AD-B19A-AC6DF3A79D7C}" type="slidenum">
              <a:rPr b="0" lang="en-US" sz="7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r>
              <a:rPr b="0" lang="en-US" sz="700" spc="-1" strike="noStrike">
                <a:solidFill>
                  <a:srgbClr val="000000"/>
                </a:solidFill>
                <a:latin typeface="Trebuchet MS"/>
              </a:rPr>
              <a:t> | Presentation Title | Month 2008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4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4"/>
          <p:cNvSpPr/>
          <p:nvPr/>
        </p:nvSpPr>
        <p:spPr>
          <a:xfrm>
            <a:off x="9126360" y="6145200"/>
            <a:ext cx="648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d7d7d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36"/>
          <p:cNvSpPr/>
          <p:nvPr/>
        </p:nvSpPr>
        <p:spPr>
          <a:xfrm>
            <a:off x="453960" y="892080"/>
            <a:ext cx="871560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beb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27000" bIns="-270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23"/>
          <p:cNvSpPr/>
          <p:nvPr/>
        </p:nvSpPr>
        <p:spPr>
          <a:xfrm>
            <a:off x="453960" y="6359400"/>
            <a:ext cx="871560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beb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27000" bIns="-270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574560" indent="-16488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3" marL="150660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4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5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6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 type="sldNum" idx="9"/>
          </p:nvPr>
        </p:nvSpPr>
        <p:spPr>
          <a:xfrm>
            <a:off x="355680" y="6526080"/>
            <a:ext cx="31924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8E25-3C3F-4B16-A64F-471CAB5F7B8D}" type="slidenum">
              <a:rPr b="0" lang="en-US" sz="7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r>
              <a:rPr b="0" lang="en-US" sz="700" spc="-1" strike="noStrike">
                <a:solidFill>
                  <a:srgbClr val="000000"/>
                </a:solidFill>
                <a:latin typeface="Trebuchet MS"/>
              </a:rPr>
              <a:t> | Presentation Title | Month 2008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9126360" y="6145200"/>
            <a:ext cx="648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d7d7d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574560" indent="-16488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3" marL="150660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4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5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6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9" name="Rectangle 36"/>
          <p:cNvSpPr/>
          <p:nvPr/>
        </p:nvSpPr>
        <p:spPr>
          <a:xfrm>
            <a:off x="453960" y="892080"/>
            <a:ext cx="871560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beb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27000" bIns="-270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3"/>
          <p:cNvSpPr/>
          <p:nvPr/>
        </p:nvSpPr>
        <p:spPr>
          <a:xfrm>
            <a:off x="453960" y="6359400"/>
            <a:ext cx="871560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beb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27000" bIns="-270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3174840" y="6672240"/>
            <a:ext cx="8751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27DD294A-2875-482B-B03D-81B34D801000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85840" y="2356920"/>
            <a:ext cx="8501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date on LDP Extensions for Optimized MAC Address Withdrawal in H-VPLS </a:t>
            </a:r>
            <a:br>
              <a:rPr sz="2800"/>
            </a:b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draft-ietf-l2vpn-vpls-ldp-mac-opt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3"/>
          <p:cNvSpPr/>
          <p:nvPr/>
        </p:nvSpPr>
        <p:spPr>
          <a:xfrm>
            <a:off x="1332000" y="4292640"/>
            <a:ext cx="648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eraldine Calvignac </a:t>
            </a:r>
            <a:r>
              <a:rPr b="0" lang="fr-FR" sz="1800" spc="-1" strike="noStrike">
                <a:solidFill>
                  <a:srgbClr val="0183b7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183b7"/>
                </a:solidFill>
                <a:latin typeface="Arial"/>
              </a:rPr>
              <a:t>geraldine.calvignac@orange-ftgroup.c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len Stokes </a:t>
            </a:r>
            <a:r>
              <a:rPr b="0" lang="en-US" sz="1800" spc="-1" strike="noStrike">
                <a:solidFill>
                  <a:srgbClr val="0183b7"/>
                </a:solidFill>
                <a:latin typeface="Arial"/>
              </a:rPr>
              <a:t>(ostokes@extremenetworks.c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anjal Kumar Dutta </a:t>
            </a:r>
            <a:r>
              <a:rPr b="0" lang="en-US" sz="1800" spc="-1" strike="noStrike">
                <a:solidFill>
                  <a:srgbClr val="0183b7"/>
                </a:solidFill>
                <a:latin typeface="Arial"/>
              </a:rPr>
              <a:t>(pranjal.dutta@alcatel-lucent.co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rin Balus </a:t>
            </a:r>
            <a:r>
              <a:rPr b="0" lang="en-US" sz="1800" spc="-1" strike="noStrike">
                <a:solidFill>
                  <a:srgbClr val="0183b7"/>
                </a:solidFill>
                <a:latin typeface="Arial"/>
              </a:rPr>
              <a:t>(florin.balus@alcatel-lucent.co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643960" cy="642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Background - </a:t>
            </a:r>
            <a:r>
              <a:rPr b="1" lang="en-US" sz="2400" spc="-1" strike="noStrike">
                <a:solidFill>
                  <a:srgbClr val="0183b7"/>
                </a:solidFill>
                <a:latin typeface="Arial"/>
              </a:rPr>
              <a:t>draft-ietf-l2vpn-vpls-ldp-mac-opt</a:t>
            </a:r>
            <a:endParaRPr b="1" lang="en-US" sz="24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178920" y="1521000"/>
            <a:ext cx="8425080" cy="4356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e, extend LDP MAC Flush to address existing LDP VPLS deployments, including PBB-VPLS us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“flush-all-from-me” procedure to minimize the MAC re-learning and unknown unicast flo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extensions for PBB VP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TF-79 presentation proposed to consolidate some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use MAC Flush TLV to address also the HVPLS use case (A/S PW acc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643960" cy="642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Background - </a:t>
            </a:r>
            <a:r>
              <a:rPr b="1" lang="en-US" sz="2400" spc="-1" strike="noStrike">
                <a:solidFill>
                  <a:srgbClr val="0183b7"/>
                </a:solidFill>
                <a:latin typeface="Arial"/>
              </a:rPr>
              <a:t>draft-ietf-l2vpn-vpls-ldp-mac-opt (cont.)</a:t>
            </a:r>
            <a:endParaRPr b="1" lang="en-US" sz="24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323640" y="3644640"/>
            <a:ext cx="8675640" cy="1655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* PE-ID TLV procedure may result in PE-rs overloading and slower convergence due to additional LDP MAC Flush propagation in PE-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** PW Access – MTU multi-homed to VPLS PEs via A/S P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*** Ethernet Access multi-homed to VPLS PEs (Ethernet access multi-homing example - ICCP, MC-LAG, BGP MH, G.8032 rin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7" name=""/>
          <p:cNvGraphicFramePr/>
          <p:nvPr/>
        </p:nvGraphicFramePr>
        <p:xfrm>
          <a:off x="826920" y="2133720"/>
          <a:ext cx="7201080" cy="1160280"/>
        </p:xfrm>
        <a:graphic>
          <a:graphicData uri="http://schemas.openxmlformats.org/drawingml/2006/table">
            <a:tbl>
              <a:tblPr/>
              <a:tblGrid>
                <a:gridCol w="1602000"/>
                <a:gridCol w="1662120"/>
                <a:gridCol w="1859040"/>
                <a:gridCol w="207792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lic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W Access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thernet Access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BB-VPLS extens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 Flush TL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440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-ID TLV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643960" cy="642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hanges in version 04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029440" cy="2016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a brief description of Ethernet access u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olidated text in the solution section - PE-ID TLV procedure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wording throughout th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713880" y="857160"/>
            <a:ext cx="3488040" cy="571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Next step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39640" y="2491920"/>
            <a:ext cx="8136000" cy="1513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ate WG feedback on some of the wording for backwards compatibility/emulating RFC 4762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ready for L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28400" y="357120"/>
            <a:ext cx="65005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rebuchet MS"/>
              </a:rPr>
              <a:t>MAC Optimization benefits</a:t>
            </a:r>
            <a:endParaRPr b="0" lang="en-US" sz="2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394920" y="1420920"/>
            <a:ext cx="580068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07880" indent="0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3232"/>
                </a:solidFill>
                <a:latin typeface="Trebuchet MS"/>
              </a:rPr>
              <a:t>Flush-all-from-me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 benefit: optimized MAC Flush, less flooding - flush only the MACs associated with PW13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74" name="Oval 90"/>
          <p:cNvSpPr/>
          <p:nvPr/>
        </p:nvSpPr>
        <p:spPr>
          <a:xfrm>
            <a:off x="6429240" y="1143000"/>
            <a:ext cx="1571760" cy="1428840"/>
          </a:xfrm>
          <a:prstGeom prst="ellipse">
            <a:avLst/>
          </a:prstGeom>
          <a:solidFill>
            <a:srgbClr val="f03c8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Oval 93"/>
          <p:cNvSpPr/>
          <p:nvPr/>
        </p:nvSpPr>
        <p:spPr>
          <a:xfrm>
            <a:off x="6573960" y="1386000"/>
            <a:ext cx="366480" cy="366480"/>
          </a:xfrm>
          <a:prstGeom prst="ellipse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77"/>
          <p:cNvSpPr/>
          <p:nvPr/>
        </p:nvSpPr>
        <p:spPr>
          <a:xfrm>
            <a:off x="6746760" y="1711440"/>
            <a:ext cx="1000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ALL other MACs in the F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5"/>
          <p:cNvSpPr/>
          <p:nvPr/>
        </p:nvSpPr>
        <p:spPr>
          <a:xfrm>
            <a:off x="571680" y="5357880"/>
            <a:ext cx="56433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07880" indent="-237960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3232"/>
                </a:solidFill>
                <a:latin typeface="Trebuchet MS"/>
                <a:ea typeface="Arial"/>
              </a:rPr>
              <a:t>Flush-all-but-mine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  <a:ea typeface="Arial"/>
              </a:rPr>
              <a:t> (RFC4762): flush all the MACs except the MACs learned from P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Oval 109"/>
          <p:cNvSpPr/>
          <p:nvPr/>
        </p:nvSpPr>
        <p:spPr>
          <a:xfrm>
            <a:off x="6215040" y="4929120"/>
            <a:ext cx="1571760" cy="1428840"/>
          </a:xfrm>
          <a:prstGeom prst="ellipse">
            <a:avLst/>
          </a:prstGeom>
          <a:solidFill>
            <a:srgbClr val="f03c8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77"/>
          <p:cNvSpPr/>
          <p:nvPr/>
        </p:nvSpPr>
        <p:spPr>
          <a:xfrm>
            <a:off x="6550200" y="5315040"/>
            <a:ext cx="1000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ALL other MACs in the F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101"/>
          <p:cNvSpPr/>
          <p:nvPr/>
        </p:nvSpPr>
        <p:spPr>
          <a:xfrm>
            <a:off x="6286680" y="5715000"/>
            <a:ext cx="366480" cy="366840"/>
          </a:xfrm>
          <a:prstGeom prst="ellipse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Group 118"/>
          <p:cNvGrpSpPr/>
          <p:nvPr/>
        </p:nvGrpSpPr>
        <p:grpSpPr>
          <a:xfrm>
            <a:off x="500040" y="2143080"/>
            <a:ext cx="6589800" cy="2928960"/>
            <a:chOff x="500040" y="2143080"/>
            <a:chExt cx="6589800" cy="2928960"/>
          </a:xfrm>
        </p:grpSpPr>
        <p:pic>
          <p:nvPicPr>
            <p:cNvPr id="882" name="Picture 76" descr="Network_b"/>
            <p:cNvPicPr/>
            <p:nvPr/>
          </p:nvPicPr>
          <p:blipFill>
            <a:blip r:embed="rId1"/>
            <a:stretch/>
          </p:blipFill>
          <p:spPr>
            <a:xfrm>
              <a:off x="2803320" y="2143080"/>
              <a:ext cx="2889360" cy="29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Rectangle 77"/>
            <p:cNvSpPr/>
            <p:nvPr/>
          </p:nvSpPr>
          <p:spPr>
            <a:xfrm>
              <a:off x="3589200" y="3429000"/>
              <a:ext cx="14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rebuchet MS"/>
                </a:rPr>
                <a:t>IP/MP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4" name="Group 6"/>
            <p:cNvGrpSpPr/>
            <p:nvPr/>
          </p:nvGrpSpPr>
          <p:grpSpPr>
            <a:xfrm>
              <a:off x="3073320" y="2495160"/>
              <a:ext cx="493560" cy="559800"/>
              <a:chOff x="3073320" y="2495160"/>
              <a:chExt cx="493560" cy="559800"/>
            </a:xfrm>
          </p:grpSpPr>
          <p:sp>
            <p:nvSpPr>
              <p:cNvPr id="885" name="Text Box 55"/>
              <p:cNvSpPr/>
              <p:nvPr/>
            </p:nvSpPr>
            <p:spPr>
              <a:xfrm>
                <a:off x="3107160" y="2495160"/>
                <a:ext cx="3985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PE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86" name="Picture 60" descr="7450_ESS_b"/>
              <p:cNvPicPr/>
              <p:nvPr/>
            </p:nvPicPr>
            <p:blipFill>
              <a:blip r:embed="rId2"/>
              <a:stretch/>
            </p:blipFill>
            <p:spPr>
              <a:xfrm>
                <a:off x="3073320" y="2698200"/>
                <a:ext cx="493560" cy="356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87" name="Group 9"/>
            <p:cNvGrpSpPr/>
            <p:nvPr/>
          </p:nvGrpSpPr>
          <p:grpSpPr>
            <a:xfrm>
              <a:off x="500040" y="3295440"/>
              <a:ext cx="748800" cy="461160"/>
              <a:chOff x="500040" y="3295440"/>
              <a:chExt cx="748800" cy="461160"/>
            </a:xfrm>
          </p:grpSpPr>
          <p:sp>
            <p:nvSpPr>
              <p:cNvPr id="888" name="Text Box 19"/>
              <p:cNvSpPr/>
              <p:nvPr/>
            </p:nvSpPr>
            <p:spPr>
              <a:xfrm>
                <a:off x="500040" y="3525840"/>
                <a:ext cx="693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MTU/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89" name="Picture 65" descr="7450_ESS"/>
              <p:cNvPicPr/>
              <p:nvPr/>
            </p:nvPicPr>
            <p:blipFill>
              <a:blip r:embed="rId3"/>
              <a:stretch/>
            </p:blipFill>
            <p:spPr>
              <a:xfrm>
                <a:off x="588600" y="3295440"/>
                <a:ext cx="660240" cy="209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90" name="Group 12"/>
            <p:cNvGrpSpPr/>
            <p:nvPr/>
          </p:nvGrpSpPr>
          <p:grpSpPr>
            <a:xfrm>
              <a:off x="3073320" y="4438440"/>
              <a:ext cx="493560" cy="573480"/>
              <a:chOff x="3073320" y="4438440"/>
              <a:chExt cx="493560" cy="573480"/>
            </a:xfrm>
          </p:grpSpPr>
          <p:sp>
            <p:nvSpPr>
              <p:cNvPr id="891" name="Text Box 55"/>
              <p:cNvSpPr/>
              <p:nvPr/>
            </p:nvSpPr>
            <p:spPr>
              <a:xfrm>
                <a:off x="3102120" y="4781160"/>
                <a:ext cx="3985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PE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92" name="Picture 60" descr="7450_ESS_b"/>
              <p:cNvPicPr/>
              <p:nvPr/>
            </p:nvPicPr>
            <p:blipFill>
              <a:blip r:embed="rId4"/>
              <a:stretch/>
            </p:blipFill>
            <p:spPr>
              <a:xfrm>
                <a:off x="3073320" y="4438440"/>
                <a:ext cx="493560" cy="357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93" name="Line 17"/>
            <p:cNvSpPr/>
            <p:nvPr/>
          </p:nvSpPr>
          <p:spPr>
            <a:xfrm flipV="1">
              <a:off x="963360" y="2912400"/>
              <a:ext cx="2187720" cy="453960"/>
            </a:xfrm>
            <a:prstGeom prst="line">
              <a:avLst/>
            </a:prstGeom>
            <a:ln w="19080">
              <a:solidFill>
                <a:srgbClr val="f03c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Line 18"/>
            <p:cNvSpPr/>
            <p:nvPr/>
          </p:nvSpPr>
          <p:spPr>
            <a:xfrm>
              <a:off x="963360" y="3367080"/>
              <a:ext cx="2197080" cy="1204920"/>
            </a:xfrm>
            <a:prstGeom prst="line">
              <a:avLst/>
            </a:prstGeom>
            <a:ln w="19080">
              <a:solidFill>
                <a:srgbClr val="f03c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5" name="Group 19"/>
            <p:cNvGrpSpPr/>
            <p:nvPr/>
          </p:nvGrpSpPr>
          <p:grpSpPr>
            <a:xfrm>
              <a:off x="5575320" y="3152520"/>
              <a:ext cx="493560" cy="573480"/>
              <a:chOff x="5575320" y="3152520"/>
              <a:chExt cx="493560" cy="573480"/>
            </a:xfrm>
          </p:grpSpPr>
          <p:sp>
            <p:nvSpPr>
              <p:cNvPr id="896" name="Text Box 55"/>
              <p:cNvSpPr/>
              <p:nvPr/>
            </p:nvSpPr>
            <p:spPr>
              <a:xfrm>
                <a:off x="5602680" y="3495240"/>
                <a:ext cx="3985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PE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97" name="Picture 60" descr="7450_ESS_b"/>
              <p:cNvPicPr/>
              <p:nvPr/>
            </p:nvPicPr>
            <p:blipFill>
              <a:blip r:embed="rId5"/>
              <a:stretch/>
            </p:blipFill>
            <p:spPr>
              <a:xfrm>
                <a:off x="5575320" y="3152520"/>
                <a:ext cx="493560" cy="357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98" name="Group 25"/>
            <p:cNvGrpSpPr/>
            <p:nvPr/>
          </p:nvGrpSpPr>
          <p:grpSpPr>
            <a:xfrm>
              <a:off x="6429600" y="3229560"/>
              <a:ext cx="660240" cy="359280"/>
              <a:chOff x="6429600" y="3229560"/>
              <a:chExt cx="660240" cy="359280"/>
            </a:xfrm>
          </p:grpSpPr>
          <p:sp>
            <p:nvSpPr>
              <p:cNvPr id="899" name="Text Box 19"/>
              <p:cNvSpPr/>
              <p:nvPr/>
            </p:nvSpPr>
            <p:spPr>
              <a:xfrm>
                <a:off x="6539400" y="3358080"/>
                <a:ext cx="4399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NTU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00" name="Picture 65" descr="7450_ESS"/>
              <p:cNvPicPr/>
              <p:nvPr/>
            </p:nvPicPr>
            <p:blipFill>
              <a:blip r:embed="rId6"/>
              <a:stretch/>
            </p:blipFill>
            <p:spPr>
              <a:xfrm>
                <a:off x="6429600" y="3229560"/>
                <a:ext cx="660240" cy="14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01" name="Oval 33"/>
            <p:cNvSpPr/>
            <p:nvPr/>
          </p:nvSpPr>
          <p:spPr>
            <a:xfrm>
              <a:off x="3160080" y="2761200"/>
              <a:ext cx="321480" cy="232200"/>
            </a:xfrm>
            <a:prstGeom prst="ellipse">
              <a:avLst/>
            </a:prstGeom>
            <a:solidFill>
              <a:srgbClr val="f03c9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VS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34"/>
            <p:cNvSpPr/>
            <p:nvPr/>
          </p:nvSpPr>
          <p:spPr>
            <a:xfrm>
              <a:off x="3160080" y="4477320"/>
              <a:ext cx="321480" cy="232200"/>
            </a:xfrm>
            <a:prstGeom prst="ellipse">
              <a:avLst/>
            </a:prstGeom>
            <a:solidFill>
              <a:srgbClr val="f03c9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VS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35"/>
            <p:cNvSpPr/>
            <p:nvPr/>
          </p:nvSpPr>
          <p:spPr>
            <a:xfrm>
              <a:off x="5662440" y="3202560"/>
              <a:ext cx="321480" cy="232200"/>
            </a:xfrm>
            <a:prstGeom prst="ellipse">
              <a:avLst/>
            </a:prstGeom>
            <a:solidFill>
              <a:srgbClr val="f03c9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VS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77"/>
            <p:cNvSpPr/>
            <p:nvPr/>
          </p:nvSpPr>
          <p:spPr>
            <a:xfrm rot="21079800">
              <a:off x="2192760" y="2781000"/>
              <a:ext cx="90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03c91"/>
                  </a:solidFill>
                  <a:latin typeface="Trebuchet MS"/>
                </a:rPr>
                <a:t>Primary PW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77"/>
            <p:cNvSpPr/>
            <p:nvPr/>
          </p:nvSpPr>
          <p:spPr>
            <a:xfrm rot="1798200">
              <a:off x="2207520" y="4332240"/>
              <a:ext cx="90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03c91"/>
                  </a:solidFill>
                  <a:latin typeface="Trebuchet MS"/>
                </a:rPr>
                <a:t>Standby PW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40"/>
            <p:cNvSpPr/>
            <p:nvPr/>
          </p:nvSpPr>
          <p:spPr>
            <a:xfrm>
              <a:off x="772920" y="3298680"/>
              <a:ext cx="215640" cy="134640"/>
            </a:xfrm>
            <a:prstGeom prst="ellipse">
              <a:avLst/>
            </a:prstGeom>
            <a:solidFill>
              <a:srgbClr val="f03c9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77"/>
            <p:cNvSpPr/>
            <p:nvPr/>
          </p:nvSpPr>
          <p:spPr>
            <a:xfrm rot="20748000">
              <a:off x="1088280" y="2846160"/>
              <a:ext cx="114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rebuchet MS"/>
                </a:rPr>
                <a:t>1. PW fail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3"/>
            <p:cNvSpPr/>
            <p:nvPr/>
          </p:nvSpPr>
          <p:spPr>
            <a:xfrm rot="21280800">
              <a:off x="1484280" y="3070080"/>
              <a:ext cx="5839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lvl="1" marL="407880" indent="-237960">
                <a:lnSpc>
                  <a:spcPts val="2398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rebuchet MS"/>
                  <a:ea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574560" indent="-164880">
                <a:lnSpc>
                  <a:spcPts val="1998"/>
                </a:lnSpc>
                <a:spcAft>
                  <a:spcPts val="799"/>
                </a:spcAft>
                <a:buClr>
                  <a:srgbClr val="969696"/>
                </a:buClr>
                <a:buFont typeface="Wingdings" charset="2"/>
                <a:buChar char=""/>
                <a:tabLst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Straight Connector 102"/>
            <p:cNvSpPr/>
            <p:nvPr/>
          </p:nvSpPr>
          <p:spPr>
            <a:xfrm flipV="1">
              <a:off x="5977080" y="3302640"/>
              <a:ext cx="45216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Straight Connector 106"/>
            <p:cNvSpPr/>
            <p:nvPr/>
          </p:nvSpPr>
          <p:spPr>
            <a:xfrm>
              <a:off x="3475080" y="2877120"/>
              <a:ext cx="2238840" cy="352080"/>
            </a:xfrm>
            <a:prstGeom prst="line">
              <a:avLst/>
            </a:prstGeom>
            <a:ln w="19080">
              <a:solidFill>
                <a:srgbClr val="f03c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Straight Connector 107"/>
            <p:cNvSpPr/>
            <p:nvPr/>
          </p:nvSpPr>
          <p:spPr>
            <a:xfrm flipV="1">
              <a:off x="3475080" y="3407400"/>
              <a:ext cx="2238840" cy="1185480"/>
            </a:xfrm>
            <a:prstGeom prst="line">
              <a:avLst/>
            </a:prstGeom>
            <a:ln w="19080">
              <a:solidFill>
                <a:srgbClr val="f03c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08"/>
            <p:cNvSpPr/>
            <p:nvPr/>
          </p:nvSpPr>
          <p:spPr>
            <a:xfrm>
              <a:off x="3375000" y="2955960"/>
              <a:ext cx="214200" cy="154440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544400"/>
                <a:gd name="textAreaBottom" fmla="*/ 1544760 h 1544400"/>
              </a:gdLst>
              <a:ahLst/>
              <a:rect l="textAreaLeft" t="textAreaTop" r="textAreaRight" b="textAreaBottom"/>
              <a:pathLst>
                <a:path w="261770" h="753036">
                  <a:moveTo>
                    <a:pt x="0" y="0"/>
                  </a:moveTo>
                  <a:cubicBezTo>
                    <a:pt x="127299" y="66339"/>
                    <a:pt x="254598" y="132678"/>
                    <a:pt x="258184" y="258184"/>
                  </a:cubicBezTo>
                  <a:cubicBezTo>
                    <a:pt x="261770" y="383690"/>
                    <a:pt x="141642" y="568363"/>
                    <a:pt x="21515" y="753036"/>
                  </a:cubicBezTo>
                </a:path>
              </a:pathLst>
            </a:custGeom>
            <a:noFill/>
            <a:ln w="19080">
              <a:solidFill>
                <a:srgbClr val="f03c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77"/>
            <p:cNvSpPr/>
            <p:nvPr/>
          </p:nvSpPr>
          <p:spPr>
            <a:xfrm>
              <a:off x="2946240" y="3593520"/>
              <a:ext cx="71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03c81"/>
                  </a:solidFill>
                  <a:latin typeface="Trebuchet MS"/>
                </a:rPr>
                <a:t>PW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77"/>
            <p:cNvSpPr/>
            <p:nvPr/>
          </p:nvSpPr>
          <p:spPr>
            <a:xfrm rot="19948800">
              <a:off x="4068000" y="3844800"/>
              <a:ext cx="71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03c81"/>
                  </a:solidFill>
                  <a:latin typeface="Trebuchet MS"/>
                </a:rPr>
                <a:t>PW2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113"/>
            <p:cNvSpPr/>
            <p:nvPr/>
          </p:nvSpPr>
          <p:spPr>
            <a:xfrm rot="546600">
              <a:off x="3989160" y="2804040"/>
              <a:ext cx="71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03c81"/>
                  </a:solidFill>
                  <a:latin typeface="Trebuchet MS"/>
                </a:rPr>
                <a:t>PW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117"/>
            <p:cNvSpPr/>
            <p:nvPr/>
          </p:nvSpPr>
          <p:spPr>
            <a:xfrm>
              <a:off x="5286600" y="2928960"/>
              <a:ext cx="366480" cy="366480"/>
            </a:xfrm>
            <a:prstGeom prst="ellipse">
              <a:avLst/>
            </a:prstGeom>
            <a:solidFill>
              <a:srgbClr val="0066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M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119"/>
            <p:cNvSpPr/>
            <p:nvPr/>
          </p:nvSpPr>
          <p:spPr>
            <a:xfrm>
              <a:off x="5232600" y="3490920"/>
              <a:ext cx="366480" cy="366480"/>
            </a:xfrm>
            <a:prstGeom prst="ellipse">
              <a:avLst/>
            </a:prstGeom>
            <a:solidFill>
              <a:srgbClr val="0066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M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Picture 76" descr="Network_b"/>
          <p:cNvPicPr/>
          <p:nvPr/>
        </p:nvPicPr>
        <p:blipFill>
          <a:blip r:embed="rId1"/>
          <a:stretch/>
        </p:blipFill>
        <p:spPr>
          <a:xfrm>
            <a:off x="3429000" y="1643040"/>
            <a:ext cx="2889360" cy="2928960"/>
          </a:xfrm>
          <a:prstGeom prst="rect">
            <a:avLst/>
          </a:prstGeom>
          <a:ln w="0">
            <a:noFill/>
          </a:ln>
        </p:spPr>
      </p:pic>
      <p:sp>
        <p:nvSpPr>
          <p:cNvPr id="919" name="Rectangle 77"/>
          <p:cNvSpPr/>
          <p:nvPr/>
        </p:nvSpPr>
        <p:spPr>
          <a:xfrm>
            <a:off x="4214880" y="2928960"/>
            <a:ext cx="1433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IP/MP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285480" y="382680"/>
            <a:ext cx="87152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rebuchet MS"/>
              </a:rPr>
              <a:t>Old PE ID TLV based solution for “flush-all-from-me”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grpSp>
        <p:nvGrpSpPr>
          <p:cNvPr id="921" name="Group 6"/>
          <p:cNvGrpSpPr/>
          <p:nvPr/>
        </p:nvGrpSpPr>
        <p:grpSpPr>
          <a:xfrm>
            <a:off x="3699000" y="1995480"/>
            <a:ext cx="493560" cy="560520"/>
            <a:chOff x="3699000" y="1995480"/>
            <a:chExt cx="493560" cy="560520"/>
          </a:xfrm>
        </p:grpSpPr>
        <p:sp>
          <p:nvSpPr>
            <p:cNvPr id="922" name="Text Box 55"/>
            <p:cNvSpPr/>
            <p:nvPr/>
          </p:nvSpPr>
          <p:spPr>
            <a:xfrm>
              <a:off x="3732840" y="1995480"/>
              <a:ext cx="3985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E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3" name="Picture 60" descr="7450_ESS_b"/>
            <p:cNvPicPr/>
            <p:nvPr/>
          </p:nvPicPr>
          <p:blipFill>
            <a:blip r:embed="rId2"/>
            <a:stretch/>
          </p:blipFill>
          <p:spPr>
            <a:xfrm>
              <a:off x="3699000" y="2198880"/>
              <a:ext cx="49356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4" name="Group 9"/>
          <p:cNvGrpSpPr/>
          <p:nvPr/>
        </p:nvGrpSpPr>
        <p:grpSpPr>
          <a:xfrm>
            <a:off x="1125360" y="2795760"/>
            <a:ext cx="749520" cy="461160"/>
            <a:chOff x="1125360" y="2795760"/>
            <a:chExt cx="749520" cy="461160"/>
          </a:xfrm>
        </p:grpSpPr>
        <p:sp>
          <p:nvSpPr>
            <p:cNvPr id="925" name="Text Box 19"/>
            <p:cNvSpPr/>
            <p:nvPr/>
          </p:nvSpPr>
          <p:spPr>
            <a:xfrm>
              <a:off x="1125360" y="3026160"/>
              <a:ext cx="6937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MT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6" name="Picture 65" descr="7450_ESS"/>
            <p:cNvPicPr/>
            <p:nvPr/>
          </p:nvPicPr>
          <p:blipFill>
            <a:blip r:embed="rId3"/>
            <a:stretch/>
          </p:blipFill>
          <p:spPr>
            <a:xfrm>
              <a:off x="1214280" y="2795760"/>
              <a:ext cx="660600" cy="21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7" name="Group 12"/>
          <p:cNvGrpSpPr/>
          <p:nvPr/>
        </p:nvGrpSpPr>
        <p:grpSpPr>
          <a:xfrm>
            <a:off x="3699000" y="3938760"/>
            <a:ext cx="493560" cy="573120"/>
            <a:chOff x="3699000" y="3938760"/>
            <a:chExt cx="493560" cy="573120"/>
          </a:xfrm>
        </p:grpSpPr>
        <p:sp>
          <p:nvSpPr>
            <p:cNvPr id="928" name="Text Box 55"/>
            <p:cNvSpPr/>
            <p:nvPr/>
          </p:nvSpPr>
          <p:spPr>
            <a:xfrm>
              <a:off x="3727800" y="4281120"/>
              <a:ext cx="3985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E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9" name="Picture 60" descr="7450_ESS_b"/>
            <p:cNvPicPr/>
            <p:nvPr/>
          </p:nvPicPr>
          <p:blipFill>
            <a:blip r:embed="rId4"/>
            <a:stretch/>
          </p:blipFill>
          <p:spPr>
            <a:xfrm>
              <a:off x="3699000" y="3938760"/>
              <a:ext cx="493560" cy="35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0" name="Line 17"/>
          <p:cNvSpPr/>
          <p:nvPr/>
        </p:nvSpPr>
        <p:spPr>
          <a:xfrm flipV="1">
            <a:off x="1589040" y="2412720"/>
            <a:ext cx="2187720" cy="453960"/>
          </a:xfrm>
          <a:prstGeom prst="line">
            <a:avLst/>
          </a:prstGeom>
          <a:ln w="19080">
            <a:solidFill>
              <a:srgbClr val="f03c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8"/>
          <p:cNvSpPr/>
          <p:nvPr/>
        </p:nvSpPr>
        <p:spPr>
          <a:xfrm>
            <a:off x="1589040" y="2867040"/>
            <a:ext cx="2197080" cy="1204920"/>
          </a:xfrm>
          <a:prstGeom prst="line">
            <a:avLst/>
          </a:prstGeom>
          <a:ln w="19080">
            <a:solidFill>
              <a:srgbClr val="f03c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2" name="Group 19"/>
          <p:cNvGrpSpPr/>
          <p:nvPr/>
        </p:nvGrpSpPr>
        <p:grpSpPr>
          <a:xfrm>
            <a:off x="6200640" y="2652840"/>
            <a:ext cx="493920" cy="573480"/>
            <a:chOff x="6200640" y="2652840"/>
            <a:chExt cx="493920" cy="573480"/>
          </a:xfrm>
        </p:grpSpPr>
        <p:sp>
          <p:nvSpPr>
            <p:cNvPr id="933" name="Text Box 55"/>
            <p:cNvSpPr/>
            <p:nvPr/>
          </p:nvSpPr>
          <p:spPr>
            <a:xfrm>
              <a:off x="6228360" y="2995560"/>
              <a:ext cx="3985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E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4" name="Picture 60" descr="7450_ESS_b"/>
            <p:cNvPicPr/>
            <p:nvPr/>
          </p:nvPicPr>
          <p:blipFill>
            <a:blip r:embed="rId5"/>
            <a:stretch/>
          </p:blipFill>
          <p:spPr>
            <a:xfrm>
              <a:off x="6200640" y="2652840"/>
              <a:ext cx="49392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5" name="Group 25"/>
          <p:cNvGrpSpPr/>
          <p:nvPr/>
        </p:nvGrpSpPr>
        <p:grpSpPr>
          <a:xfrm>
            <a:off x="7054920" y="2728800"/>
            <a:ext cx="660240" cy="359280"/>
            <a:chOff x="7054920" y="2728800"/>
            <a:chExt cx="660240" cy="359280"/>
          </a:xfrm>
        </p:grpSpPr>
        <p:sp>
          <p:nvSpPr>
            <p:cNvPr id="936" name="Text Box 19"/>
            <p:cNvSpPr/>
            <p:nvPr/>
          </p:nvSpPr>
          <p:spPr>
            <a:xfrm>
              <a:off x="7164720" y="2857320"/>
              <a:ext cx="4399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NT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7" name="Picture 65" descr="7450_ESS"/>
            <p:cNvPicPr/>
            <p:nvPr/>
          </p:nvPicPr>
          <p:blipFill>
            <a:blip r:embed="rId6"/>
            <a:stretch/>
          </p:blipFill>
          <p:spPr>
            <a:xfrm>
              <a:off x="7054920" y="2728800"/>
              <a:ext cx="660240" cy="14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8" name="Oval 33"/>
          <p:cNvSpPr/>
          <p:nvPr/>
        </p:nvSpPr>
        <p:spPr>
          <a:xfrm>
            <a:off x="3785760" y="2261160"/>
            <a:ext cx="321480" cy="232200"/>
          </a:xfrm>
          <a:prstGeom prst="ellipse">
            <a:avLst/>
          </a:prstGeom>
          <a:solidFill>
            <a:srgbClr val="f03c9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V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Oval 34"/>
          <p:cNvSpPr/>
          <p:nvPr/>
        </p:nvSpPr>
        <p:spPr>
          <a:xfrm>
            <a:off x="3785760" y="3977280"/>
            <a:ext cx="321480" cy="232200"/>
          </a:xfrm>
          <a:prstGeom prst="ellipse">
            <a:avLst/>
          </a:prstGeom>
          <a:solidFill>
            <a:srgbClr val="f03c9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V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Oval 35"/>
          <p:cNvSpPr/>
          <p:nvPr/>
        </p:nvSpPr>
        <p:spPr>
          <a:xfrm>
            <a:off x="6287760" y="2702520"/>
            <a:ext cx="321480" cy="232200"/>
          </a:xfrm>
          <a:prstGeom prst="ellipse">
            <a:avLst/>
          </a:prstGeom>
          <a:solidFill>
            <a:srgbClr val="f03c9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V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77"/>
          <p:cNvSpPr/>
          <p:nvPr/>
        </p:nvSpPr>
        <p:spPr>
          <a:xfrm rot="21079800">
            <a:off x="2819160" y="2280960"/>
            <a:ext cx="90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03c91"/>
                </a:solidFill>
                <a:latin typeface="Trebuchet MS"/>
              </a:rPr>
              <a:t>Primary P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77"/>
          <p:cNvSpPr/>
          <p:nvPr/>
        </p:nvSpPr>
        <p:spPr>
          <a:xfrm rot="1798200">
            <a:off x="2832120" y="3832200"/>
            <a:ext cx="90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03c91"/>
                </a:solidFill>
                <a:latin typeface="Trebuchet MS"/>
              </a:rPr>
              <a:t>Standby P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Oval 40"/>
          <p:cNvSpPr/>
          <p:nvPr/>
        </p:nvSpPr>
        <p:spPr>
          <a:xfrm>
            <a:off x="1398600" y="2798640"/>
            <a:ext cx="216000" cy="135000"/>
          </a:xfrm>
          <a:prstGeom prst="ellipse">
            <a:avLst/>
          </a:prstGeom>
          <a:solidFill>
            <a:srgbClr val="f03c9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77"/>
          <p:cNvSpPr/>
          <p:nvPr/>
        </p:nvSpPr>
        <p:spPr>
          <a:xfrm rot="20748000">
            <a:off x="1714320" y="2346120"/>
            <a:ext cx="114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rebuchet MS"/>
              </a:rPr>
              <a:t>1. PW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77"/>
          <p:cNvSpPr/>
          <p:nvPr/>
        </p:nvSpPr>
        <p:spPr>
          <a:xfrm>
            <a:off x="5643720" y="1714680"/>
            <a:ext cx="171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4. Flush only MACs learned over </a:t>
            </a:r>
            <a:r>
              <a:rPr b="1" lang="en-US" sz="1200" spc="-1" strike="noStrike">
                <a:solidFill>
                  <a:srgbClr val="f03c81"/>
                </a:solidFill>
                <a:latin typeface="Trebuchet MS"/>
              </a:rPr>
              <a:t>PW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6" name="Straight Arrow Connector 54"/>
          <p:cNvCxnSpPr>
            <a:stCxn id="945" idx="2"/>
            <a:endCxn id="947" idx="7"/>
          </p:cNvCxnSpPr>
          <p:nvPr/>
        </p:nvCxnSpPr>
        <p:spPr>
          <a:xfrm flipH="1">
            <a:off x="6224040" y="2084040"/>
            <a:ext cx="276840" cy="39924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</p:cxnSp>
      <p:sp>
        <p:nvSpPr>
          <p:cNvPr id="948" name="Rectangle 3"/>
          <p:cNvSpPr/>
          <p:nvPr/>
        </p:nvSpPr>
        <p:spPr>
          <a:xfrm rot="21280800">
            <a:off x="2109960" y="2570040"/>
            <a:ext cx="583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07880" indent="-237960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  <a:ea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4560" indent="-164880">
              <a:lnSpc>
                <a:spcPts val="1998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Straight Connector 58"/>
          <p:cNvSpPr/>
          <p:nvPr/>
        </p:nvSpPr>
        <p:spPr>
          <a:xfrm flipV="1">
            <a:off x="6602400" y="2801880"/>
            <a:ext cx="452520" cy="1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0" name="Group 118"/>
          <p:cNvGrpSpPr/>
          <p:nvPr/>
        </p:nvGrpSpPr>
        <p:grpSpPr>
          <a:xfrm>
            <a:off x="1501920" y="3153600"/>
            <a:ext cx="1771560" cy="1192320"/>
            <a:chOff x="1501920" y="3153600"/>
            <a:chExt cx="1771560" cy="1192320"/>
          </a:xfrm>
        </p:grpSpPr>
        <p:sp>
          <p:nvSpPr>
            <p:cNvPr id="951" name="Rectangle 77"/>
            <p:cNvSpPr/>
            <p:nvPr/>
          </p:nvSpPr>
          <p:spPr>
            <a:xfrm rot="1717800">
              <a:off x="1477800" y="3566880"/>
              <a:ext cx="18190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rebuchet MS"/>
                </a:rPr>
                <a:t>1. T-LDP MAC Withdraw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rebuchet MS"/>
                </a:rPr>
                <a:t>with PE-ID1 TL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2" name="Straight Arrow Connector 56"/>
            <p:cNvCxnSpPr/>
            <p:nvPr/>
          </p:nvCxnSpPr>
          <p:spPr>
            <a:xfrm>
              <a:off x="1673640" y="3369960"/>
              <a:ext cx="1524600" cy="84492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arrow" w="med"/>
            </a:ln>
          </p:spPr>
        </p:cxnSp>
      </p:grpSp>
      <p:sp>
        <p:nvSpPr>
          <p:cNvPr id="953" name="Straight Connector 69"/>
          <p:cNvSpPr/>
          <p:nvPr/>
        </p:nvSpPr>
        <p:spPr>
          <a:xfrm>
            <a:off x="4100400" y="2376360"/>
            <a:ext cx="2238480" cy="352440"/>
          </a:xfrm>
          <a:prstGeom prst="line">
            <a:avLst/>
          </a:prstGeom>
          <a:ln w="19080">
            <a:solidFill>
              <a:srgbClr val="f03c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Straight Connector 70"/>
          <p:cNvSpPr/>
          <p:nvPr/>
        </p:nvSpPr>
        <p:spPr>
          <a:xfrm flipV="1">
            <a:off x="4100400" y="2908080"/>
            <a:ext cx="2238480" cy="1184040"/>
          </a:xfrm>
          <a:prstGeom prst="line">
            <a:avLst/>
          </a:prstGeom>
          <a:ln w="19080">
            <a:solidFill>
              <a:srgbClr val="f03c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Freeform 74"/>
          <p:cNvSpPr/>
          <p:nvPr/>
        </p:nvSpPr>
        <p:spPr>
          <a:xfrm>
            <a:off x="4000680" y="2455920"/>
            <a:ext cx="214200" cy="1544760"/>
          </a:xfrm>
          <a:custGeom>
            <a:avLst/>
            <a:gdLst>
              <a:gd name="textAreaLeft" fmla="*/ 0 w 214200"/>
              <a:gd name="textAreaRight" fmla="*/ 214560 w 214200"/>
              <a:gd name="textAreaTop" fmla="*/ 0 h 1544760"/>
              <a:gd name="textAreaBottom" fmla="*/ 1545120 h 1544760"/>
            </a:gdLst>
            <a:ahLst/>
            <a:rect l="textAreaLeft" t="textAreaTop" r="textAreaRight" b="textAreaBottom"/>
            <a:pathLst>
              <a:path w="261770" h="753036">
                <a:moveTo>
                  <a:pt x="0" y="0"/>
                </a:moveTo>
                <a:cubicBezTo>
                  <a:pt x="127299" y="66339"/>
                  <a:pt x="254598" y="132678"/>
                  <a:pt x="258184" y="258184"/>
                </a:cubicBezTo>
                <a:cubicBezTo>
                  <a:pt x="261770" y="383690"/>
                  <a:pt x="141642" y="568363"/>
                  <a:pt x="21515" y="753036"/>
                </a:cubicBezTo>
              </a:path>
            </a:pathLst>
          </a:custGeom>
          <a:noFill/>
          <a:ln w="19080">
            <a:solidFill>
              <a:srgbClr val="f03c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77"/>
          <p:cNvSpPr/>
          <p:nvPr/>
        </p:nvSpPr>
        <p:spPr>
          <a:xfrm>
            <a:off x="3571920" y="3094200"/>
            <a:ext cx="71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3c81"/>
                </a:solidFill>
                <a:latin typeface="Trebuchet MS"/>
              </a:rPr>
              <a:t>PW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77"/>
          <p:cNvSpPr/>
          <p:nvPr/>
        </p:nvSpPr>
        <p:spPr>
          <a:xfrm rot="19948800">
            <a:off x="4693680" y="3344760"/>
            <a:ext cx="71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3c81"/>
                </a:solidFill>
                <a:latin typeface="Trebuchet MS"/>
              </a:rPr>
              <a:t>PW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77"/>
          <p:cNvSpPr/>
          <p:nvPr/>
        </p:nvSpPr>
        <p:spPr>
          <a:xfrm rot="546600">
            <a:off x="4614840" y="2304720"/>
            <a:ext cx="71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3c81"/>
                </a:solidFill>
                <a:latin typeface="Trebuchet MS"/>
              </a:rPr>
              <a:t>PW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9" name="Group 119"/>
          <p:cNvGrpSpPr/>
          <p:nvPr/>
        </p:nvGrpSpPr>
        <p:grpSpPr>
          <a:xfrm>
            <a:off x="4500360" y="3135960"/>
            <a:ext cx="1819800" cy="1308960"/>
            <a:chOff x="4500360" y="3135960"/>
            <a:chExt cx="1819800" cy="1308960"/>
          </a:xfrm>
        </p:grpSpPr>
        <p:sp>
          <p:nvSpPr>
            <p:cNvPr id="960" name="Rectangle 77"/>
            <p:cNvSpPr/>
            <p:nvPr/>
          </p:nvSpPr>
          <p:spPr>
            <a:xfrm rot="19932600">
              <a:off x="4525920" y="3516480"/>
              <a:ext cx="17683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rebuchet MS"/>
                </a:rPr>
                <a:t>3. T-LDP MAC Withdraw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rebuchet MS"/>
                </a:rPr>
                <a:t>with PE-ID1 TL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1" name="Straight Arrow Connector 56"/>
            <p:cNvCxnSpPr/>
            <p:nvPr/>
          </p:nvCxnSpPr>
          <p:spPr>
            <a:xfrm flipV="1">
              <a:off x="4671720" y="3275280"/>
              <a:ext cx="1544400" cy="83916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arrow" w="med"/>
            </a:ln>
          </p:spPr>
        </p:cxnSp>
      </p:grpSp>
      <p:sp>
        <p:nvSpPr>
          <p:cNvPr id="947" name="Oval 92"/>
          <p:cNvSpPr/>
          <p:nvPr/>
        </p:nvSpPr>
        <p:spPr>
          <a:xfrm>
            <a:off x="5911920" y="2428920"/>
            <a:ext cx="366480" cy="366840"/>
          </a:xfrm>
          <a:prstGeom prst="ellipse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125"/>
          <p:cNvSpPr/>
          <p:nvPr/>
        </p:nvSpPr>
        <p:spPr>
          <a:xfrm>
            <a:off x="539640" y="541512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ble only to HVPLS resiliency using (A/S) PW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77"/>
          <p:cNvSpPr/>
          <p:nvPr/>
        </p:nvSpPr>
        <p:spPr>
          <a:xfrm>
            <a:off x="3786120" y="4559400"/>
            <a:ext cx="1785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2. Flush only MACs learned over </a:t>
            </a:r>
            <a:r>
              <a:rPr b="1" lang="en-US" sz="1200" spc="-1" strike="noStrike">
                <a:solidFill>
                  <a:srgbClr val="f03c81"/>
                </a:solidFill>
                <a:latin typeface="Trebuchet MS"/>
              </a:rPr>
              <a:t>PW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4" name="Straight Arrow Connector 54"/>
          <p:cNvCxnSpPr>
            <a:stCxn id="963" idx="0"/>
            <a:endCxn id="965" idx="5"/>
          </p:cNvCxnSpPr>
          <p:nvPr/>
        </p:nvCxnSpPr>
        <p:spPr>
          <a:xfrm flipH="1" flipV="1">
            <a:off x="4026600" y="3942720"/>
            <a:ext cx="653400" cy="61668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</p:cxnSp>
      <p:sp>
        <p:nvSpPr>
          <p:cNvPr id="965" name="Oval 128"/>
          <p:cNvSpPr/>
          <p:nvPr/>
        </p:nvSpPr>
        <p:spPr>
          <a:xfrm>
            <a:off x="3714840" y="3630600"/>
            <a:ext cx="366480" cy="366840"/>
          </a:xfrm>
          <a:prstGeom prst="ellipse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9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Picture 76" descr="Network_b"/>
          <p:cNvPicPr/>
          <p:nvPr/>
        </p:nvPicPr>
        <p:blipFill>
          <a:blip r:embed="rId1"/>
          <a:stretch/>
        </p:blipFill>
        <p:spPr>
          <a:xfrm>
            <a:off x="3429000" y="1643040"/>
            <a:ext cx="2889360" cy="2928960"/>
          </a:xfrm>
          <a:prstGeom prst="rect">
            <a:avLst/>
          </a:prstGeom>
          <a:ln w="0">
            <a:noFill/>
          </a:ln>
        </p:spPr>
      </p:pic>
      <p:sp>
        <p:nvSpPr>
          <p:cNvPr id="967" name="Rectangle 77"/>
          <p:cNvSpPr/>
          <p:nvPr/>
        </p:nvSpPr>
        <p:spPr>
          <a:xfrm>
            <a:off x="4214880" y="2928960"/>
            <a:ext cx="1433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IP/MP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28400" y="285840"/>
            <a:ext cx="83581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rebuchet MS"/>
              </a:rPr>
              <a:t>Native Ethernet use case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grpSp>
        <p:nvGrpSpPr>
          <p:cNvPr id="969" name="Group 6"/>
          <p:cNvGrpSpPr/>
          <p:nvPr/>
        </p:nvGrpSpPr>
        <p:grpSpPr>
          <a:xfrm>
            <a:off x="3699000" y="1995480"/>
            <a:ext cx="493560" cy="560520"/>
            <a:chOff x="3699000" y="1995480"/>
            <a:chExt cx="493560" cy="560520"/>
          </a:xfrm>
        </p:grpSpPr>
        <p:sp>
          <p:nvSpPr>
            <p:cNvPr id="970" name="Text Box 55"/>
            <p:cNvSpPr/>
            <p:nvPr/>
          </p:nvSpPr>
          <p:spPr>
            <a:xfrm>
              <a:off x="3732840" y="1995480"/>
              <a:ext cx="3985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E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1" name="Picture 60" descr="7450_ESS_b"/>
            <p:cNvPicPr/>
            <p:nvPr/>
          </p:nvPicPr>
          <p:blipFill>
            <a:blip r:embed="rId2"/>
            <a:stretch/>
          </p:blipFill>
          <p:spPr>
            <a:xfrm>
              <a:off x="3699000" y="2198880"/>
              <a:ext cx="49356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2" name="Group 9"/>
          <p:cNvGrpSpPr/>
          <p:nvPr/>
        </p:nvGrpSpPr>
        <p:grpSpPr>
          <a:xfrm>
            <a:off x="1125360" y="2795760"/>
            <a:ext cx="749520" cy="461160"/>
            <a:chOff x="1125360" y="2795760"/>
            <a:chExt cx="749520" cy="461160"/>
          </a:xfrm>
        </p:grpSpPr>
        <p:sp>
          <p:nvSpPr>
            <p:cNvPr id="973" name="Text Box 19"/>
            <p:cNvSpPr/>
            <p:nvPr/>
          </p:nvSpPr>
          <p:spPr>
            <a:xfrm>
              <a:off x="1125360" y="3026160"/>
              <a:ext cx="6937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MTU/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4" name="Picture 65" descr="7450_ESS"/>
            <p:cNvPicPr/>
            <p:nvPr/>
          </p:nvPicPr>
          <p:blipFill>
            <a:blip r:embed="rId3"/>
            <a:stretch/>
          </p:blipFill>
          <p:spPr>
            <a:xfrm>
              <a:off x="1214280" y="2795760"/>
              <a:ext cx="660600" cy="21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5" name="Group 12"/>
          <p:cNvGrpSpPr/>
          <p:nvPr/>
        </p:nvGrpSpPr>
        <p:grpSpPr>
          <a:xfrm>
            <a:off x="3699000" y="3938760"/>
            <a:ext cx="493560" cy="573120"/>
            <a:chOff x="3699000" y="3938760"/>
            <a:chExt cx="493560" cy="573120"/>
          </a:xfrm>
        </p:grpSpPr>
        <p:sp>
          <p:nvSpPr>
            <p:cNvPr id="976" name="Text Box 55"/>
            <p:cNvSpPr/>
            <p:nvPr/>
          </p:nvSpPr>
          <p:spPr>
            <a:xfrm>
              <a:off x="3727800" y="4281120"/>
              <a:ext cx="3985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E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7" name="Picture 60" descr="7450_ESS_b"/>
            <p:cNvPicPr/>
            <p:nvPr/>
          </p:nvPicPr>
          <p:blipFill>
            <a:blip r:embed="rId4"/>
            <a:stretch/>
          </p:blipFill>
          <p:spPr>
            <a:xfrm>
              <a:off x="3699000" y="3938760"/>
              <a:ext cx="493560" cy="35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8" name="Line 17"/>
          <p:cNvSpPr/>
          <p:nvPr/>
        </p:nvSpPr>
        <p:spPr>
          <a:xfrm flipV="1">
            <a:off x="1589040" y="2412720"/>
            <a:ext cx="2187720" cy="453960"/>
          </a:xfrm>
          <a:prstGeom prst="line">
            <a:avLst/>
          </a:prstGeom>
          <a:ln w="19080">
            <a:solidFill>
              <a:srgbClr val="f03c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18"/>
          <p:cNvSpPr/>
          <p:nvPr/>
        </p:nvSpPr>
        <p:spPr>
          <a:xfrm>
            <a:off x="1589040" y="2867040"/>
            <a:ext cx="2197080" cy="1204920"/>
          </a:xfrm>
          <a:prstGeom prst="line">
            <a:avLst/>
          </a:prstGeom>
          <a:ln w="19080">
            <a:solidFill>
              <a:srgbClr val="f03c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Group 19"/>
          <p:cNvGrpSpPr/>
          <p:nvPr/>
        </p:nvGrpSpPr>
        <p:grpSpPr>
          <a:xfrm>
            <a:off x="6200640" y="2652840"/>
            <a:ext cx="493920" cy="573480"/>
            <a:chOff x="6200640" y="2652840"/>
            <a:chExt cx="493920" cy="573480"/>
          </a:xfrm>
        </p:grpSpPr>
        <p:sp>
          <p:nvSpPr>
            <p:cNvPr id="981" name="Text Box 55"/>
            <p:cNvSpPr/>
            <p:nvPr/>
          </p:nvSpPr>
          <p:spPr>
            <a:xfrm>
              <a:off x="6228360" y="2995560"/>
              <a:ext cx="3985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E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2" name="Picture 60" descr="7450_ESS_b"/>
            <p:cNvPicPr/>
            <p:nvPr/>
          </p:nvPicPr>
          <p:blipFill>
            <a:blip r:embed="rId5"/>
            <a:stretch/>
          </p:blipFill>
          <p:spPr>
            <a:xfrm>
              <a:off x="6200640" y="2652840"/>
              <a:ext cx="49392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3" name="Group 25"/>
          <p:cNvGrpSpPr/>
          <p:nvPr/>
        </p:nvGrpSpPr>
        <p:grpSpPr>
          <a:xfrm>
            <a:off x="7054920" y="2728800"/>
            <a:ext cx="660240" cy="359280"/>
            <a:chOff x="7054920" y="2728800"/>
            <a:chExt cx="660240" cy="359280"/>
          </a:xfrm>
        </p:grpSpPr>
        <p:sp>
          <p:nvSpPr>
            <p:cNvPr id="984" name="Text Box 19"/>
            <p:cNvSpPr/>
            <p:nvPr/>
          </p:nvSpPr>
          <p:spPr>
            <a:xfrm>
              <a:off x="7164720" y="2857320"/>
              <a:ext cx="4399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NT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5" name="Picture 65" descr="7450_ESS"/>
            <p:cNvPicPr/>
            <p:nvPr/>
          </p:nvPicPr>
          <p:blipFill>
            <a:blip r:embed="rId6"/>
            <a:stretch/>
          </p:blipFill>
          <p:spPr>
            <a:xfrm>
              <a:off x="7054920" y="2728800"/>
              <a:ext cx="660240" cy="14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6" name="Oval 33"/>
          <p:cNvSpPr/>
          <p:nvPr/>
        </p:nvSpPr>
        <p:spPr>
          <a:xfrm>
            <a:off x="3785760" y="2261160"/>
            <a:ext cx="321480" cy="232200"/>
          </a:xfrm>
          <a:prstGeom prst="ellipse">
            <a:avLst/>
          </a:prstGeom>
          <a:solidFill>
            <a:srgbClr val="f03c9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V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34"/>
          <p:cNvSpPr/>
          <p:nvPr/>
        </p:nvSpPr>
        <p:spPr>
          <a:xfrm>
            <a:off x="3785760" y="3977280"/>
            <a:ext cx="321480" cy="232200"/>
          </a:xfrm>
          <a:prstGeom prst="ellipse">
            <a:avLst/>
          </a:prstGeom>
          <a:solidFill>
            <a:srgbClr val="f03c9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V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Oval 35"/>
          <p:cNvSpPr/>
          <p:nvPr/>
        </p:nvSpPr>
        <p:spPr>
          <a:xfrm>
            <a:off x="6287760" y="2702520"/>
            <a:ext cx="321480" cy="232200"/>
          </a:xfrm>
          <a:prstGeom prst="ellipse">
            <a:avLst/>
          </a:prstGeom>
          <a:solidFill>
            <a:srgbClr val="f03c9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V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77"/>
          <p:cNvSpPr/>
          <p:nvPr/>
        </p:nvSpPr>
        <p:spPr>
          <a:xfrm rot="20871600">
            <a:off x="2819160" y="2280960"/>
            <a:ext cx="90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03c91"/>
                </a:solidFill>
                <a:latin typeface="Trebuchet MS"/>
              </a:rPr>
              <a:t>Prim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77"/>
          <p:cNvSpPr/>
          <p:nvPr/>
        </p:nvSpPr>
        <p:spPr>
          <a:xfrm rot="1798200">
            <a:off x="2832120" y="3832200"/>
            <a:ext cx="90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03c91"/>
                </a:solidFill>
                <a:latin typeface="Trebuchet MS"/>
              </a:rPr>
              <a:t>Standb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Oval 40"/>
          <p:cNvSpPr/>
          <p:nvPr/>
        </p:nvSpPr>
        <p:spPr>
          <a:xfrm>
            <a:off x="1398600" y="2798640"/>
            <a:ext cx="216000" cy="135000"/>
          </a:xfrm>
          <a:prstGeom prst="ellipse">
            <a:avLst/>
          </a:prstGeom>
          <a:solidFill>
            <a:srgbClr val="f03c9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77"/>
          <p:cNvSpPr/>
          <p:nvPr/>
        </p:nvSpPr>
        <p:spPr>
          <a:xfrm rot="20720400">
            <a:off x="1714320" y="2346120"/>
            <a:ext cx="114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rebuchet MS"/>
              </a:rPr>
              <a:t>1. Link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3"/>
          <p:cNvSpPr/>
          <p:nvPr/>
        </p:nvSpPr>
        <p:spPr>
          <a:xfrm rot="21280800">
            <a:off x="2109960" y="2570040"/>
            <a:ext cx="583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07880" indent="-237960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  <a:ea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4560" indent="-164880">
              <a:lnSpc>
                <a:spcPts val="1998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traight Connector 58"/>
          <p:cNvSpPr/>
          <p:nvPr/>
        </p:nvSpPr>
        <p:spPr>
          <a:xfrm flipV="1">
            <a:off x="6602400" y="2801880"/>
            <a:ext cx="452520" cy="1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traight Connector 69"/>
          <p:cNvSpPr/>
          <p:nvPr/>
        </p:nvSpPr>
        <p:spPr>
          <a:xfrm>
            <a:off x="4100400" y="2376360"/>
            <a:ext cx="2238480" cy="352440"/>
          </a:xfrm>
          <a:prstGeom prst="line">
            <a:avLst/>
          </a:prstGeom>
          <a:ln w="19080">
            <a:solidFill>
              <a:srgbClr val="f03c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Straight Connector 70"/>
          <p:cNvSpPr/>
          <p:nvPr/>
        </p:nvSpPr>
        <p:spPr>
          <a:xfrm flipV="1">
            <a:off x="4100400" y="2908080"/>
            <a:ext cx="2238480" cy="1184040"/>
          </a:xfrm>
          <a:prstGeom prst="line">
            <a:avLst/>
          </a:prstGeom>
          <a:ln w="19080">
            <a:solidFill>
              <a:srgbClr val="f03c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74"/>
          <p:cNvSpPr/>
          <p:nvPr/>
        </p:nvSpPr>
        <p:spPr>
          <a:xfrm>
            <a:off x="4000680" y="2455920"/>
            <a:ext cx="214200" cy="1544760"/>
          </a:xfrm>
          <a:custGeom>
            <a:avLst/>
            <a:gdLst>
              <a:gd name="textAreaLeft" fmla="*/ 0 w 214200"/>
              <a:gd name="textAreaRight" fmla="*/ 214560 w 214200"/>
              <a:gd name="textAreaTop" fmla="*/ 0 h 1544760"/>
              <a:gd name="textAreaBottom" fmla="*/ 1545120 h 1544760"/>
            </a:gdLst>
            <a:ahLst/>
            <a:rect l="textAreaLeft" t="textAreaTop" r="textAreaRight" b="textAreaBottom"/>
            <a:pathLst>
              <a:path w="261770" h="753036">
                <a:moveTo>
                  <a:pt x="0" y="0"/>
                </a:moveTo>
                <a:cubicBezTo>
                  <a:pt x="127299" y="66339"/>
                  <a:pt x="254598" y="132678"/>
                  <a:pt x="258184" y="258184"/>
                </a:cubicBezTo>
                <a:cubicBezTo>
                  <a:pt x="261770" y="383690"/>
                  <a:pt x="141642" y="568363"/>
                  <a:pt x="21515" y="753036"/>
                </a:cubicBezTo>
              </a:path>
            </a:pathLst>
          </a:custGeom>
          <a:noFill/>
          <a:ln w="19080">
            <a:solidFill>
              <a:srgbClr val="f03c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77"/>
          <p:cNvSpPr/>
          <p:nvPr/>
        </p:nvSpPr>
        <p:spPr>
          <a:xfrm>
            <a:off x="4111560" y="3143160"/>
            <a:ext cx="71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3c81"/>
                </a:solidFill>
                <a:latin typeface="Trebuchet MS"/>
              </a:rPr>
              <a:t>PW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77"/>
          <p:cNvSpPr/>
          <p:nvPr/>
        </p:nvSpPr>
        <p:spPr>
          <a:xfrm rot="19948800">
            <a:off x="4725360" y="3660840"/>
            <a:ext cx="71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3c81"/>
                </a:solidFill>
                <a:latin typeface="Trebuchet MS"/>
              </a:rPr>
              <a:t>PW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77"/>
          <p:cNvSpPr/>
          <p:nvPr/>
        </p:nvSpPr>
        <p:spPr>
          <a:xfrm rot="546600">
            <a:off x="4581360" y="2555640"/>
            <a:ext cx="71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3c81"/>
                </a:solidFill>
                <a:latin typeface="Trebuchet MS"/>
              </a:rPr>
              <a:t>PW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125"/>
          <p:cNvSpPr/>
          <p:nvPr/>
        </p:nvSpPr>
        <p:spPr>
          <a:xfrm>
            <a:off x="1258920" y="4941720"/>
            <a:ext cx="678636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07880" indent="-237960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3232"/>
                </a:solidFill>
                <a:latin typeface="Arial"/>
                <a:ea typeface="Arial"/>
              </a:rPr>
              <a:t>Solution expanded to address the native Ethernet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3232"/>
                </a:solidFill>
                <a:latin typeface="Arial"/>
                <a:ea typeface="Arial"/>
              </a:rPr>
              <a:t>Applicable to any non-STP based resiliency scheme – ICCP, MC-LAG, BGP MH, G.80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77"/>
          <p:cNvSpPr/>
          <p:nvPr/>
        </p:nvSpPr>
        <p:spPr>
          <a:xfrm>
            <a:off x="2268360" y="2852640"/>
            <a:ext cx="1079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Ethernet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Picture 76" descr="Network_b"/>
          <p:cNvPicPr/>
          <p:nvPr/>
        </p:nvPicPr>
        <p:blipFill>
          <a:blip r:embed="rId1"/>
          <a:stretch/>
        </p:blipFill>
        <p:spPr>
          <a:xfrm>
            <a:off x="3303720" y="1273320"/>
            <a:ext cx="2889000" cy="2928960"/>
          </a:xfrm>
          <a:prstGeom prst="rect">
            <a:avLst/>
          </a:prstGeom>
          <a:ln w="0">
            <a:noFill/>
          </a:ln>
        </p:spPr>
      </p:pic>
      <p:sp>
        <p:nvSpPr>
          <p:cNvPr id="1004" name="Rectangle 77"/>
          <p:cNvSpPr/>
          <p:nvPr/>
        </p:nvSpPr>
        <p:spPr>
          <a:xfrm>
            <a:off x="4089240" y="2558880"/>
            <a:ext cx="1433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IP/MP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28400" y="285840"/>
            <a:ext cx="87152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rebuchet MS"/>
              </a:rPr>
              <a:t>MAC TLV based solution for “flush-all-from-me”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grpSp>
        <p:nvGrpSpPr>
          <p:cNvPr id="1006" name="Group 6"/>
          <p:cNvGrpSpPr/>
          <p:nvPr/>
        </p:nvGrpSpPr>
        <p:grpSpPr>
          <a:xfrm>
            <a:off x="3573360" y="1625760"/>
            <a:ext cx="493920" cy="559800"/>
            <a:chOff x="3573360" y="1625760"/>
            <a:chExt cx="493920" cy="559800"/>
          </a:xfrm>
        </p:grpSpPr>
        <p:sp>
          <p:nvSpPr>
            <p:cNvPr id="1007" name="Text Box 55"/>
            <p:cNvSpPr/>
            <p:nvPr/>
          </p:nvSpPr>
          <p:spPr>
            <a:xfrm>
              <a:off x="3607560" y="1625760"/>
              <a:ext cx="3985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E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8" name="Picture 60" descr="7450_ESS_b"/>
            <p:cNvPicPr/>
            <p:nvPr/>
          </p:nvPicPr>
          <p:blipFill>
            <a:blip r:embed="rId2"/>
            <a:stretch/>
          </p:blipFill>
          <p:spPr>
            <a:xfrm>
              <a:off x="3573360" y="1828800"/>
              <a:ext cx="493920" cy="356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9" name="Group 9"/>
          <p:cNvGrpSpPr/>
          <p:nvPr/>
        </p:nvGrpSpPr>
        <p:grpSpPr>
          <a:xfrm>
            <a:off x="1000080" y="2425680"/>
            <a:ext cx="749520" cy="461160"/>
            <a:chOff x="1000080" y="2425680"/>
            <a:chExt cx="749520" cy="461160"/>
          </a:xfrm>
        </p:grpSpPr>
        <p:sp>
          <p:nvSpPr>
            <p:cNvPr id="1010" name="Text Box 19"/>
            <p:cNvSpPr/>
            <p:nvPr/>
          </p:nvSpPr>
          <p:spPr>
            <a:xfrm>
              <a:off x="1000080" y="2656080"/>
              <a:ext cx="6937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MTU/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1" name="Picture 65" descr="7450_ESS"/>
            <p:cNvPicPr/>
            <p:nvPr/>
          </p:nvPicPr>
          <p:blipFill>
            <a:blip r:embed="rId3"/>
            <a:stretch/>
          </p:blipFill>
          <p:spPr>
            <a:xfrm>
              <a:off x="1089000" y="2425680"/>
              <a:ext cx="660600" cy="21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2" name="Group 12"/>
          <p:cNvGrpSpPr/>
          <p:nvPr/>
        </p:nvGrpSpPr>
        <p:grpSpPr>
          <a:xfrm>
            <a:off x="3573360" y="3568680"/>
            <a:ext cx="493920" cy="573480"/>
            <a:chOff x="3573360" y="3568680"/>
            <a:chExt cx="493920" cy="573480"/>
          </a:xfrm>
        </p:grpSpPr>
        <p:sp>
          <p:nvSpPr>
            <p:cNvPr id="1013" name="Text Box 55"/>
            <p:cNvSpPr/>
            <p:nvPr/>
          </p:nvSpPr>
          <p:spPr>
            <a:xfrm>
              <a:off x="3602520" y="3911400"/>
              <a:ext cx="3985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E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4" name="Picture 60" descr="7450_ESS_b"/>
            <p:cNvPicPr/>
            <p:nvPr/>
          </p:nvPicPr>
          <p:blipFill>
            <a:blip r:embed="rId4"/>
            <a:stretch/>
          </p:blipFill>
          <p:spPr>
            <a:xfrm>
              <a:off x="3573360" y="3568680"/>
              <a:ext cx="493920" cy="35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5" name="Line 17"/>
          <p:cNvSpPr/>
          <p:nvPr/>
        </p:nvSpPr>
        <p:spPr>
          <a:xfrm flipV="1">
            <a:off x="1463760" y="2042640"/>
            <a:ext cx="2187360" cy="453960"/>
          </a:xfrm>
          <a:prstGeom prst="line">
            <a:avLst/>
          </a:prstGeom>
          <a:ln w="19080">
            <a:solidFill>
              <a:srgbClr val="f03c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18"/>
          <p:cNvSpPr/>
          <p:nvPr/>
        </p:nvSpPr>
        <p:spPr>
          <a:xfrm>
            <a:off x="1463760" y="2496960"/>
            <a:ext cx="2197080" cy="1204920"/>
          </a:xfrm>
          <a:prstGeom prst="line">
            <a:avLst/>
          </a:prstGeom>
          <a:ln w="19080">
            <a:solidFill>
              <a:srgbClr val="f03c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7" name="Group 19"/>
          <p:cNvGrpSpPr/>
          <p:nvPr/>
        </p:nvGrpSpPr>
        <p:grpSpPr>
          <a:xfrm>
            <a:off x="6075360" y="2282760"/>
            <a:ext cx="493560" cy="573480"/>
            <a:chOff x="6075360" y="2282760"/>
            <a:chExt cx="493560" cy="573480"/>
          </a:xfrm>
        </p:grpSpPr>
        <p:sp>
          <p:nvSpPr>
            <p:cNvPr id="1018" name="Text Box 55"/>
            <p:cNvSpPr/>
            <p:nvPr/>
          </p:nvSpPr>
          <p:spPr>
            <a:xfrm>
              <a:off x="6102720" y="2625480"/>
              <a:ext cx="3985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E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9" name="Picture 60" descr="7450_ESS_b"/>
            <p:cNvPicPr/>
            <p:nvPr/>
          </p:nvPicPr>
          <p:blipFill>
            <a:blip r:embed="rId5"/>
            <a:stretch/>
          </p:blipFill>
          <p:spPr>
            <a:xfrm>
              <a:off x="6075360" y="2282760"/>
              <a:ext cx="49356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0" name="Group 25"/>
          <p:cNvGrpSpPr/>
          <p:nvPr/>
        </p:nvGrpSpPr>
        <p:grpSpPr>
          <a:xfrm>
            <a:off x="6929280" y="2360520"/>
            <a:ext cx="660600" cy="359280"/>
            <a:chOff x="6929280" y="2360520"/>
            <a:chExt cx="660600" cy="359280"/>
          </a:xfrm>
        </p:grpSpPr>
        <p:sp>
          <p:nvSpPr>
            <p:cNvPr id="1021" name="Text Box 19"/>
            <p:cNvSpPr/>
            <p:nvPr/>
          </p:nvSpPr>
          <p:spPr>
            <a:xfrm>
              <a:off x="7039440" y="2489040"/>
              <a:ext cx="4399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NT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2" name="Picture 65" descr="7450_ESS"/>
            <p:cNvPicPr/>
            <p:nvPr/>
          </p:nvPicPr>
          <p:blipFill>
            <a:blip r:embed="rId6"/>
            <a:stretch/>
          </p:blipFill>
          <p:spPr>
            <a:xfrm>
              <a:off x="6929280" y="2360520"/>
              <a:ext cx="660600" cy="14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Oval 33"/>
          <p:cNvSpPr/>
          <p:nvPr/>
        </p:nvSpPr>
        <p:spPr>
          <a:xfrm>
            <a:off x="3660480" y="1891440"/>
            <a:ext cx="321480" cy="232200"/>
          </a:xfrm>
          <a:prstGeom prst="ellipse">
            <a:avLst/>
          </a:prstGeom>
          <a:solidFill>
            <a:srgbClr val="f03c9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V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Oval 34"/>
          <p:cNvSpPr/>
          <p:nvPr/>
        </p:nvSpPr>
        <p:spPr>
          <a:xfrm>
            <a:off x="3660480" y="3607200"/>
            <a:ext cx="321480" cy="232200"/>
          </a:xfrm>
          <a:prstGeom prst="ellipse">
            <a:avLst/>
          </a:prstGeom>
          <a:solidFill>
            <a:srgbClr val="f03c9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V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Oval 35"/>
          <p:cNvSpPr/>
          <p:nvPr/>
        </p:nvSpPr>
        <p:spPr>
          <a:xfrm>
            <a:off x="6162480" y="2332440"/>
            <a:ext cx="321480" cy="232200"/>
          </a:xfrm>
          <a:prstGeom prst="ellipse">
            <a:avLst/>
          </a:prstGeom>
          <a:solidFill>
            <a:srgbClr val="f03c9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V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77"/>
          <p:cNvSpPr/>
          <p:nvPr/>
        </p:nvSpPr>
        <p:spPr>
          <a:xfrm rot="20871600">
            <a:off x="2693520" y="1910880"/>
            <a:ext cx="900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03c91"/>
                </a:solidFill>
                <a:latin typeface="Trebuchet MS"/>
              </a:rPr>
              <a:t>Prim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77"/>
          <p:cNvSpPr/>
          <p:nvPr/>
        </p:nvSpPr>
        <p:spPr>
          <a:xfrm rot="1798200">
            <a:off x="2707200" y="3462480"/>
            <a:ext cx="90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03c91"/>
                </a:solidFill>
                <a:latin typeface="Trebuchet MS"/>
              </a:rPr>
              <a:t>Standb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Oval 40"/>
          <p:cNvSpPr/>
          <p:nvPr/>
        </p:nvSpPr>
        <p:spPr>
          <a:xfrm>
            <a:off x="1273320" y="2428920"/>
            <a:ext cx="215640" cy="135000"/>
          </a:xfrm>
          <a:prstGeom prst="ellipse">
            <a:avLst/>
          </a:prstGeom>
          <a:solidFill>
            <a:srgbClr val="f03c9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77"/>
          <p:cNvSpPr/>
          <p:nvPr/>
        </p:nvSpPr>
        <p:spPr>
          <a:xfrm rot="20720400">
            <a:off x="1588320" y="1976040"/>
            <a:ext cx="114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rebuchet MS"/>
              </a:rPr>
              <a:t>1. Link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77"/>
          <p:cNvSpPr/>
          <p:nvPr/>
        </p:nvSpPr>
        <p:spPr>
          <a:xfrm>
            <a:off x="5875200" y="1273320"/>
            <a:ext cx="1554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2. Flush only MACs learned over </a:t>
            </a:r>
            <a:r>
              <a:rPr b="1" lang="en-US" sz="1200" spc="-1" strike="noStrike">
                <a:solidFill>
                  <a:srgbClr val="f03c81"/>
                </a:solidFill>
                <a:latin typeface="Trebuchet MS"/>
              </a:rPr>
              <a:t>PW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1" name="Straight Arrow Connector 54"/>
          <p:cNvCxnSpPr>
            <a:stCxn id="1030" idx="2"/>
            <a:endCxn id="1032" idx="7"/>
          </p:cNvCxnSpPr>
          <p:nvPr/>
        </p:nvCxnSpPr>
        <p:spPr>
          <a:xfrm flipH="1">
            <a:off x="6098400" y="1642680"/>
            <a:ext cx="554760" cy="47052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</p:cxnSp>
      <p:sp>
        <p:nvSpPr>
          <p:cNvPr id="1033" name="Rectangle 3"/>
          <p:cNvSpPr/>
          <p:nvPr/>
        </p:nvSpPr>
        <p:spPr>
          <a:xfrm rot="21280800">
            <a:off x="1984320" y="2199960"/>
            <a:ext cx="584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07880" indent="-237960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  <a:ea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4560" indent="-164880">
              <a:lnSpc>
                <a:spcPts val="1998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traight Connector 58"/>
          <p:cNvSpPr/>
          <p:nvPr/>
        </p:nvSpPr>
        <p:spPr>
          <a:xfrm flipV="1">
            <a:off x="6477120" y="2433600"/>
            <a:ext cx="452160" cy="1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Straight Connector 69"/>
          <p:cNvSpPr/>
          <p:nvPr/>
        </p:nvSpPr>
        <p:spPr>
          <a:xfrm>
            <a:off x="3975120" y="2008080"/>
            <a:ext cx="2238480" cy="352440"/>
          </a:xfrm>
          <a:prstGeom prst="line">
            <a:avLst/>
          </a:prstGeom>
          <a:ln w="19080">
            <a:solidFill>
              <a:srgbClr val="f03c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Straight Connector 70"/>
          <p:cNvSpPr/>
          <p:nvPr/>
        </p:nvSpPr>
        <p:spPr>
          <a:xfrm flipV="1">
            <a:off x="3975120" y="2538360"/>
            <a:ext cx="2238480" cy="1185840"/>
          </a:xfrm>
          <a:prstGeom prst="line">
            <a:avLst/>
          </a:prstGeom>
          <a:ln w="19080">
            <a:solidFill>
              <a:srgbClr val="f03c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Freeform 74"/>
          <p:cNvSpPr/>
          <p:nvPr/>
        </p:nvSpPr>
        <p:spPr>
          <a:xfrm>
            <a:off x="3875040" y="2085840"/>
            <a:ext cx="214200" cy="1544760"/>
          </a:xfrm>
          <a:custGeom>
            <a:avLst/>
            <a:gdLst>
              <a:gd name="textAreaLeft" fmla="*/ 0 w 214200"/>
              <a:gd name="textAreaRight" fmla="*/ 214560 w 214200"/>
              <a:gd name="textAreaTop" fmla="*/ 0 h 1544760"/>
              <a:gd name="textAreaBottom" fmla="*/ 1545120 h 1544760"/>
            </a:gdLst>
            <a:ahLst/>
            <a:rect l="textAreaLeft" t="textAreaTop" r="textAreaRight" b="textAreaBottom"/>
            <a:pathLst>
              <a:path w="261770" h="753036">
                <a:moveTo>
                  <a:pt x="0" y="0"/>
                </a:moveTo>
                <a:cubicBezTo>
                  <a:pt x="127299" y="66339"/>
                  <a:pt x="254598" y="132678"/>
                  <a:pt x="258184" y="258184"/>
                </a:cubicBezTo>
                <a:cubicBezTo>
                  <a:pt x="261770" y="383690"/>
                  <a:pt x="141642" y="568363"/>
                  <a:pt x="21515" y="753036"/>
                </a:cubicBezTo>
              </a:path>
            </a:pathLst>
          </a:custGeom>
          <a:noFill/>
          <a:ln w="19080">
            <a:solidFill>
              <a:srgbClr val="f03c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77"/>
          <p:cNvSpPr/>
          <p:nvPr/>
        </p:nvSpPr>
        <p:spPr>
          <a:xfrm>
            <a:off x="3946680" y="2773440"/>
            <a:ext cx="71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3c81"/>
                </a:solidFill>
                <a:latin typeface="Trebuchet MS"/>
              </a:rPr>
              <a:t>PW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77"/>
          <p:cNvSpPr/>
          <p:nvPr/>
        </p:nvSpPr>
        <p:spPr>
          <a:xfrm rot="19948800">
            <a:off x="4568400" y="2976120"/>
            <a:ext cx="71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3c81"/>
                </a:solidFill>
                <a:latin typeface="Trebuchet MS"/>
              </a:rPr>
              <a:t>PW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77"/>
          <p:cNvSpPr/>
          <p:nvPr/>
        </p:nvSpPr>
        <p:spPr>
          <a:xfrm rot="546600">
            <a:off x="4456080" y="2185560"/>
            <a:ext cx="71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3c81"/>
                </a:solidFill>
                <a:latin typeface="Trebuchet MS"/>
              </a:rPr>
              <a:t>PW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Group 119"/>
          <p:cNvGrpSpPr/>
          <p:nvPr/>
        </p:nvGrpSpPr>
        <p:grpSpPr>
          <a:xfrm>
            <a:off x="2295000" y="1608840"/>
            <a:ext cx="3557520" cy="1250280"/>
            <a:chOff x="2295000" y="1608840"/>
            <a:chExt cx="3557520" cy="1250280"/>
          </a:xfrm>
        </p:grpSpPr>
        <p:sp>
          <p:nvSpPr>
            <p:cNvPr id="1042" name="Rectangle 77"/>
            <p:cNvSpPr/>
            <p:nvPr/>
          </p:nvSpPr>
          <p:spPr>
            <a:xfrm rot="507600">
              <a:off x="4030200" y="1716120"/>
              <a:ext cx="14893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rebuchet MS"/>
                </a:rPr>
                <a:t>1. T-LDP MAC Withdraw (N=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3" name="Straight Arrow Connector 56"/>
            <p:cNvCxnSpPr/>
            <p:nvPr/>
          </p:nvCxnSpPr>
          <p:spPr>
            <a:xfrm>
              <a:off x="4112640" y="1813680"/>
              <a:ext cx="1740240" cy="23616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arrow" w="med"/>
            </a:ln>
          </p:spPr>
        </p:cxnSp>
        <p:sp>
          <p:nvSpPr>
            <p:cNvPr id="1044" name="Rectangle 77"/>
            <p:cNvSpPr/>
            <p:nvPr/>
          </p:nvSpPr>
          <p:spPr>
            <a:xfrm>
              <a:off x="2295000" y="2493720"/>
              <a:ext cx="14893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rebuchet MS"/>
                </a:rPr>
                <a:t>1. T-LDP MAC Withdraw (N=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2" name="Oval 92"/>
          <p:cNvSpPr/>
          <p:nvPr/>
        </p:nvSpPr>
        <p:spPr>
          <a:xfrm>
            <a:off x="5786280" y="2058840"/>
            <a:ext cx="366840" cy="366840"/>
          </a:xfrm>
          <a:prstGeom prst="ellipse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77"/>
          <p:cNvSpPr/>
          <p:nvPr/>
        </p:nvSpPr>
        <p:spPr>
          <a:xfrm>
            <a:off x="3732120" y="4202280"/>
            <a:ext cx="1625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2. Flush only MACs learned over </a:t>
            </a:r>
            <a:r>
              <a:rPr b="1" lang="en-US" sz="1200" spc="-1" strike="noStrike">
                <a:solidFill>
                  <a:srgbClr val="f03c81"/>
                </a:solidFill>
                <a:latin typeface="Trebuchet MS"/>
              </a:rPr>
              <a:t>PW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6" name="Straight Arrow Connector 54"/>
          <p:cNvCxnSpPr>
            <a:stCxn id="1045" idx="0"/>
            <a:endCxn id="1047" idx="5"/>
          </p:cNvCxnSpPr>
          <p:nvPr/>
        </p:nvCxnSpPr>
        <p:spPr>
          <a:xfrm flipH="1" flipV="1">
            <a:off x="3972960" y="3585600"/>
            <a:ext cx="572040" cy="61668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</p:cxnSp>
      <p:sp>
        <p:nvSpPr>
          <p:cNvPr id="1047" name="Oval 47"/>
          <p:cNvSpPr/>
          <p:nvPr/>
        </p:nvSpPr>
        <p:spPr>
          <a:xfrm>
            <a:off x="3660840" y="3273480"/>
            <a:ext cx="366480" cy="366480"/>
          </a:xfrm>
          <a:prstGeom prst="ellipse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8" name="Straight Arrow Connector 56"/>
          <p:cNvCxnSpPr/>
          <p:nvPr/>
        </p:nvCxnSpPr>
        <p:spPr>
          <a:xfrm flipH="1">
            <a:off x="3588840" y="2130480"/>
            <a:ext cx="54720" cy="120204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</p:cxnSp>
      <p:sp>
        <p:nvSpPr>
          <p:cNvPr id="1049" name="Rectangle 3"/>
          <p:cNvSpPr/>
          <p:nvPr/>
        </p:nvSpPr>
        <p:spPr>
          <a:xfrm>
            <a:off x="468360" y="4869000"/>
            <a:ext cx="85010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Use the N-Flag from MAC Flush parameters TLV: 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  <a:ea typeface="Arial"/>
              </a:rPr>
              <a:t>N=1 indicates “flush-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all-from-me” is required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  <a:ea typeface="Arial"/>
              </a:rPr>
              <a:t> – re-uses the 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method proposed before for PBB-VP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Arial"/>
              </a:rPr>
              <a:t>Same procedure for both Ethernet and PW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7:44:14Z</dcterms:created>
  <dc:creator>Kireeti Kompella</dc:creator>
  <dc:description/>
  <dc:language>en-US</dc:language>
  <cp:lastModifiedBy>fbalus</cp:lastModifiedBy>
  <dcterms:modified xsi:type="dcterms:W3CDTF">2011-07-28T03:44:51Z</dcterms:modified>
  <cp:revision>85</cp:revision>
  <dc:subject/>
  <dc:title>BGP VPLS Multi-hom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55955896</vt:r8>
  </property>
  <property fmtid="{D5CDD505-2E9C-101B-9397-08002B2CF9AE}" pid="3" name="_AuthorEmail">
    <vt:lpwstr>florin.balus@alcatel-lucent.com</vt:lpwstr>
  </property>
  <property fmtid="{D5CDD505-2E9C-101B-9397-08002B2CF9AE}" pid="4" name="_AuthorEmailDisplayName">
    <vt:lpwstr>Balus, Florin Stelian (Florin)</vt:lpwstr>
  </property>
  <property fmtid="{D5CDD505-2E9C-101B-9397-08002B2CF9AE}" pid="5" name="_EmailSubject">
    <vt:lpwstr>[l2vpn] Presenters' slides for the L2VPN WG session at IETF-81 Quebec City by Wednesday 07/27/2011 9PM</vt:lpwstr>
  </property>
  <property fmtid="{D5CDD505-2E9C-101B-9397-08002B2CF9AE}" pid="6" name="_NewReviewCycle">
    <vt:lpwstr/>
  </property>
</Properties>
</file>