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E452-5FD2-4485-A5C0-2E87217EF6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D3E4-820C-4DCA-8C4C-6400538C1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B8D8-FFCE-4988-BF23-E480C31C6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AA38-A522-402E-AC6C-9192B6EBE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9A5B-17E4-406F-A8DC-D696A9D38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46D-C3A0-4D7E-ADFB-69BCBF27B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AF78-64FF-4933-A377-C65416F6DF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0A9B-0699-4157-98AB-388DA61E3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C7C-7DDC-4852-A0CC-AE47CE4D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5EF-BD26-40B4-A118-5D34EA3E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E8923-CD0B-44C7-9658-2FA117EE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CCF42-AA6D-43AC-8701-4277D489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4D11E-A315-42E7-B75B-2EEC8D7F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FBBF5-2507-4343-AA48-B8DD1D9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E5FE8-6C28-4D44-A700-A794EEF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429C7-08CD-4112-8C09-47E2D665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5203F-3F19-4418-9921-896641FF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08FBC-8DD1-40C0-AB6E-87A8CB1C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0098D-25DE-4A14-B230-13C11EFA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41200-36B2-4AF7-AB9F-AF4F5837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6F9-617F-4821-ACC6-3D9B249D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9A912-8CFB-4070-9F51-6B80AB7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3DAB4-3354-402F-A756-6418711D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2F972-7545-4228-9240-BD39CE09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08310-766B-48B8-92E2-998B7C01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18DBF-FC5C-4173-95FC-1911ADA2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0EE01-9FB3-4058-98F9-043DD019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E6EDA-8C92-447D-87FA-B394F07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781D0-C309-462E-9417-66E59E7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89C9F-356B-46D2-AC35-3546F8EA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47E6B-8821-4D3D-97B3-45EC6E53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491-EBF0-4E2D-B96D-A3023FAA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BB991-34BA-4020-A78B-8246A15C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F77BC-CF0B-44DB-AEEC-C58774C1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1B64-5AB9-46D6-94D3-CF79939B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47F89-E0D0-4272-8A4F-3D4547DF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53132-23D0-4447-9F5D-F77AEB14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CB05E-B4D7-41D9-AE83-CE0985D7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849FA-BA18-41B2-88CE-7F524105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C9EA6-DB3F-4EE9-8E94-92BD8BA7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C0004-2CDD-47A5-9C67-61B9CACC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DB0C8-C3A4-47DA-B382-1CA95FBA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30A9-16DF-4848-B68E-B46C87BE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3C80B-95F3-413F-80CA-C30C3A04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34946-C64C-4CF6-A338-88595003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3E20F-DC5B-49F8-9B14-09F97223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39332-4DFB-4E91-B7CF-3E8DA31E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30F84-32DB-4E05-8A34-F4F816F7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F9F94-B9B4-4EB0-8F19-35F547FD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32405-0FC9-413C-BF69-8F9B400C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A3688-434F-41EC-8366-CA686703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19628-91F2-4CD2-B4AD-0F49E0B4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9142D-7AA4-44AB-BD2E-04E973A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34A4-28EB-4FB2-BB2F-EA2E4265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FAA56-B6AF-4321-9617-E96111AB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38B8A-84EE-43CD-B26D-8C837542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98F7E-70DC-4676-96C8-B645A239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4EB8C-CACA-45CD-BB0F-C98BC15A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094E7-D97A-4B9F-9DB6-D6DA4138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B9706-A9CF-4EB1-A0AD-4D6E2021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79086-BD06-4544-BD29-289E20AF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F5421-92B6-4709-ABEE-4F42FA5F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7E601-E580-438A-947D-67C5F886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B53F4-EB7F-461C-8639-2ADB05A4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2E2C-BF22-49D3-B3BD-86AC036D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72B2F-80E8-4C43-BAA1-0460619E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85D56-7CF7-4E32-A389-75CE3181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2FAED-886D-4668-B6CF-D69C9EFE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CFDF6-F24A-414E-9DEE-BD6A7BE4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9F591-DDDB-47FE-B749-4A4A4D0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8DDB6-7DFA-4A29-ADEC-E3C29CC8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F127A-83EC-41AD-8419-E32E0E2B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80DE7-EDCF-44EA-A8BA-FBDEAC8E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8BAF8-1F8C-4BCB-B514-15AEF42B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F03C2-1A35-4BD0-9A99-110980AF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AA2-125A-4189-BABC-F78BB3CE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BA0CB-556B-4356-B734-17E98AAE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90C3E-7D09-4824-8C34-CA5B1928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3895F-C582-46E3-95E8-AE94C727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19165-82CF-41BE-8C3E-F34EC39F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9D7D9-145D-49A9-BF3F-79EF7D4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AA6C2-C84D-44E6-B76E-727B3685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5EBFE-B6D5-488B-9D1D-648B8F09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B198C-6529-4415-BF0E-08434617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F0CD0-66BB-4200-AA07-6E825DDC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A5276-80C2-4186-95ED-9EB605B4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B24A-06AE-4217-8186-865C63CF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C3D3A-214E-4BC1-A709-BA1CF0A0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05ED2-C41A-47C1-B9BA-231B1FB5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544D5-154C-46D6-BD75-87338B7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25D5F-C16E-4C28-B0C5-B08A0D87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9BF8B-527D-4462-8A0F-393BF881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61C61-397B-48E6-BFFB-47BE54B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F0902-2A52-4B1F-BF9D-08A9264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B0BBC-67B0-402E-919B-6D009D8A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E6082-1892-499C-8715-33E67B18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54E07-7661-440D-846D-B1DEAD54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B9F0-402F-4604-81D4-FEE7BE44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88083-BEFA-4D74-874D-4F54987E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9CF0-0E3F-4A72-8CAC-FC2963D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403-FB89-4619-A76C-B2573871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EF94-CCE0-4101-8178-09CDBC2F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5DE2-7252-47A2-9E57-6C4BD0C9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CA80-9DE9-4151-8939-54BC9EDB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1C63-BDF2-4B6F-BE6A-57448808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431C-B602-4A4F-B4A5-6804401A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C843-E39D-4752-A1DD-D9AD30B1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2EF8-64FE-496F-96AD-B792E7F0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79CE-2269-4BD3-A94D-0F63AE37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0DE3-DEFE-4565-9CF3-04769177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A282-2B7F-481D-A367-C797DFE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A46-4EFE-4D23-B1F6-90F523BF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2B63-BD46-44F3-A9AB-082B395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CBB9-C814-459F-8043-4F5D998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3757-EE5E-4A5E-A908-4EE2514E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C732-6C98-47D4-948A-D8D26AFF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D280-1298-4D76-8F89-4E267973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400C-CB67-4A28-B900-A064AFC3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D5C9-CA7F-493F-9D71-1078954F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FEEB-C3F1-47D1-AF65-FB5A8999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0F0A5-BAA6-43D7-99DD-CD3E541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78007-C5D9-49ED-B07E-F14BCBA2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3AF-02B0-4541-AFC8-81B7F144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39DA7-F39B-44EA-B873-5787F8CA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D907A-F438-4A30-836F-0F53B476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E1A97-6C24-4276-8176-61BFD1DA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9D101-3501-4D9B-B9A6-94816CB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B78C-1487-4E0C-B229-C5F681DC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AB334-6DF1-4D0C-B7EE-E54E37C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95B3B-4B4C-405F-9AFA-EAD99D9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CFF34-68FD-4F53-8240-6723DB13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7EC9-E8A8-4A00-89C5-66DD34AC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755CD-AC30-4221-9B32-1A03E5FC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100-7E43-4B3A-814E-92D18314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F7BDD-43D6-42F1-A363-6845019F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AC9F-D952-4AC6-886A-D60204BC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FFFC-64E1-4044-8D4A-0AAE7C64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1F12-14D6-48EA-952B-2C494719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066DC-0FAD-4015-8BA6-2F22C3D1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20E4-6009-4BEE-BA1F-F1C7F482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D7BE7-DC12-4DC1-B656-150C2DB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F90DD-05B0-483B-9FF1-ACC573B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FB56D-79E7-488D-9F94-2ADCC06C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B805-3305-43F9-916A-FE6D5049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0A3-2C92-41D7-86F8-94E97CC6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4E30C-1B0F-40EF-AB32-6C75C4B5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35BC3-C5A8-4D95-A4FC-7FF65759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876B8-4FBA-4B4D-82D2-452CDD4E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4F1C7-A9FE-4F16-B4F7-D573A90D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80FE-9D6C-4354-9BF5-94985E8B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F048B-EC2F-497C-8874-ED2FDD8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8F37-0EC3-498D-A9DB-FF064847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940C2-8719-41D1-B556-E7E5290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ADF4-9B0E-4D67-B671-2DD8C270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D3E5E-6DBE-4186-AF61-087F6D59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AE7-0DD8-4B6D-8702-1408FAE5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208AD-946E-4776-8A2E-3A1450B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8818-3AC1-4EC1-95F8-51D8B7C3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9AE00-80FB-4197-AFA0-BF993BD0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63F22-B86F-48DE-BD21-FCB75EA8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49D4-FDD1-42F5-886D-5ED876A8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2ACB-6832-4C16-874A-A89998EA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96BA-8887-4C5E-8C6B-62E1B996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30D0E-852E-4330-9F5E-88551AD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3D892-61A3-4B13-B5A6-943603C2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0B799-C500-4183-B804-9186D6B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66E-277E-41C5-8E09-D2115AC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EF395-7AC6-40BC-A70C-77A513E7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BFBDE-922E-45CF-B363-D4574C94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26A97-BC53-4E69-99F2-10E4F714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A29A3-FE72-40E9-8453-8D720F0E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B59B-6823-479F-9D02-2D497AC8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50361-70E9-4DEE-A439-611F4B0B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0F3D6-EAB1-4ADD-AE98-3914D25B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ED6F-1517-4B63-AA70-F279ED54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58FF9-E568-41F7-A3C2-8DE34538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AD653-62A5-482F-9ADE-BC158E10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485-ABEE-497C-AC09-0468B69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0BF1D-B524-43BA-A6AD-BA70125E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ECE47-9828-4AB1-87F0-5930ED6A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9997-F612-4E99-B8AF-B53E8A45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609B6-985A-4A5E-AAAF-2FF2D42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75AD0-F6E5-457A-87D8-BF6CDC35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4726D-B622-4C3B-AF61-2C4893F9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C15B-98E1-47AB-A3C5-A55869CB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83688-0B37-4314-BB2B-A168270D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0D30F-972E-4170-95BB-16249426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ABCB7-9DF6-425F-9780-21A2C716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73FD-EA0A-435D-B5CD-73F872D8E8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518-78CA-45D6-B67C-D11745C4747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FDE4-19D5-4788-B26E-B5E82E70A7B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891F-CCCD-4D28-AEBC-7A0F784A04F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2236-A896-4177-8174-6FFF306C651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506D-512C-47FC-A304-7305F93DE3D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543D-C166-4C55-8891-33A533640BC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6FC9-0A74-466F-8E7E-797406F5B35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FE6-568F-4A92-9947-6840EE439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09AF-708F-4749-8709-9F34126038A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EF94-DFAE-4784-801F-50DCCF34591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F54B-1CB5-4A79-873E-3F5937F0610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52EB-E366-41E9-AC61-2E4481B49A0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2B19-14DD-4D5D-84EE-682A80658F6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FF0B-C148-4A05-A76A-D613538515C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uidance for Light-Weight Implementations of the Internet Protocol Su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arsten Bormann, 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tributor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laf Bergman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Tero Kivin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arl Willi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Mitsuru Ka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LoWPAN Implementation Tricks: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gment Forwarding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LoWPA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ation layer fragmentation can be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-Over happens above adaptation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have to reassemble at each 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cache entry on initial fra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initial fragment immedi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each non-initial frag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cached IP header inf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1680" y="272880"/>
            <a:ext cx="84344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ed Application Protocol (Co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ibutor : Olaf Bergmann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niversität Bremen TZ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rgmann@tzi.or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94000"/>
          </a:bodyPr>
          <a:p>
            <a:pPr marL="366840" indent="-2761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y CoAP matter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2M communication in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onstrained networ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nect smart objects to the Interne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HTTP 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WSNs (RES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6840" indent="-2761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1 devices: ~10 KiB RAM, ~100 KiB Flas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rver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bustness/latency vs. resource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power, dynamic memory needs, static code siz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ep mandatory (to recognize) protocol feat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Layer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99000"/>
          </a:bodyPr>
          <a:p>
            <a:pPr marL="386640" indent="-2905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void fragmentation, retransmiss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05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ize state maintenance and power usage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especially server sid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6640" indent="-2905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ust have send buffer and tick counter (or RT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6640" indent="-2905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 generate separate responses, servers must keep client's transport address and Tok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6640" indent="-2905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leepy nod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05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up clock if interrupts are disabled during sl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05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sleep for the first 1 or 2 retransmission cy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5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usual parsing strateg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pose bit-vector for type-decod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 options are allowed more than once (Uri-Path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uld make last segment unique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 collect while you par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P Token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P: Tokens used for request-response matching in non-piggybacked respo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s space in packet and 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default value of 0 while not 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non-zero values (or separate port numbers) with multiple outstanding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How to) Proceed From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36320" y="1484280"/>
            <a:ext cx="82278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edback from mailing li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rify which roles are talked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 implementation cost for server and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-coded parameters (e.g. max. payload size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bout gateways and prox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urity implementatio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al: should be covered in the general security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ther docu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-arkko-core-sleepy-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this the right information to put in this documen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ral considerations about Application Programming Interfac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PI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thor: Carl Will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f the roles of the API can be exactly to hide the detail of the transport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IP application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nt driven API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ard multi-threaded model not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ny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blocking A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pplication interface sends a message the routine would return immediately (before msg is s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l-back facility notifies app when sending is do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t:  no code runs for long periods of time; otherwise, pkt is dropp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thering implementation experiences from IPSO develop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dance of IPSO late Mar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ith API implementers in IPSO all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ing the landsca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q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LoW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ance for Lightweight Security Protoco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thor: Mitsuru K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enter: Yoshihiro Oh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tocol for Carrying Authentication for Network Access defined between PaC (PANA Client) and PAA (PANA Authentication Age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C may be sl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PaC-initiate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eping device  can’t process an unsolicited PAA-initiated session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NA ‘Ping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 not use PANA ‘Ping’ for mutual liveness che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PaC Initiated re-authent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eping  device can’t process an unsolicited PAA-initiated re-authentication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NA message optimization (reduce number of messag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Piggybacking EAP techn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send a PTR message for PANA session lifetime expi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l PANA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more organized text on security and other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culate a Questionnaire for implementers to collect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e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col specs: 6LoWPAN, 6LoWPAN_ND, RPL, CoAP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in ne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ques to implement these optimized protoco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dance to make the implementation small and interoper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ect experiences from implementers of IP stacks on constrained de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the art of the literature, helpful for future practi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ormance with the relevant spe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software engineering best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内容占位符 3" descr="wanted~1.gif"/>
          <p:cNvPicPr/>
          <p:nvPr/>
        </p:nvPicPr>
        <p:blipFill>
          <a:blip r:embed="rId1"/>
          <a:stretch/>
        </p:blipFill>
        <p:spPr>
          <a:xfrm>
            <a:off x="1835280" y="61920"/>
            <a:ext cx="5400720" cy="675180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7" descr="rman8969l.jpg"/>
          <p:cNvPicPr/>
          <p:nvPr/>
        </p:nvPicPr>
        <p:blipFill>
          <a:blip r:embed="rId2"/>
          <a:stretch/>
        </p:blipFill>
        <p:spPr>
          <a:xfrm>
            <a:off x="2700360" y="256536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es of “Constrained”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inguish 2 rough classes of constrained no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each case, make clear which class is being targ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hese are a starting point for making sure we discuss from the same requirements, not exact classes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971640" y="2492280"/>
          <a:ext cx="6840360" cy="1152720"/>
        </p:xfrm>
        <a:graphic>
          <a:graphicData uri="http://schemas.openxmlformats.org/drawingml/2006/table">
            <a:tbl>
              <a:tblPr/>
              <a:tblGrid>
                <a:gridCol w="2279520"/>
                <a:gridCol w="2281320"/>
                <a:gridCol w="22795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10 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100 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50 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250 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sty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-threaded/giant main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-driven vs. threaded/blo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/multiple processing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eparate radio/network proces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nd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echniques may be applicable only to some of these styl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les of n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strained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leepy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des talking to constrained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leepy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rmally always al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teways/Prox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leepy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uld be always al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cument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P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LoW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P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1680" y="272880"/>
            <a:ext cx="8434440" cy="1146240"/>
          </a:xfrm>
          <a:prstGeom prst="rect">
            <a:avLst/>
          </a:prstGeom>
          <a:noFill/>
          <a:ln w="0">
            <a:noFill/>
          </a:ln>
        </p:spPr>
        <p:txBody>
          <a:bodyPr tIns="3204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LoWPAN Route-Over Fragment Forwar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3212640"/>
            <a:ext cx="8228160" cy="29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or: Carsten Borman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ät Bremen T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bo@tzi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21:07:49Z</dcterms:created>
  <dc:creator>曹振</dc:creator>
  <dc:description/>
  <dc:language>en-US</dc:language>
  <cp:lastModifiedBy>曹振</cp:lastModifiedBy>
  <dcterms:modified xsi:type="dcterms:W3CDTF">2011-07-29T12:43:13Z</dcterms:modified>
  <cp:revision>45</cp:revision>
  <dc:subject/>
  <dc:title>Guidance for Light-Weight Implementations of the Internet Protocol Suite</dc:title>
</cp:coreProperties>
</file>