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EFEE-5E2C-4117-8434-3EF956E9FB5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82D6-A78E-47E7-8FFA-2816B3036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E4A6-49A4-4070-9E4D-3E1A49C49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148B-B338-471D-8D08-AF309FED2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54D1-EFAE-4BF8-B87E-2DA7B970F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A826-9C31-4843-8F39-F00087FE2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D682-9994-45D6-A35D-D27B952B54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72B4-6900-44D7-B801-9C5D54798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9DA-C89D-437B-80EE-A3F1D8F8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2F86-9199-4AC9-9054-80236DBE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30C45-94DF-4C88-B058-4F0FF849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4662F-F541-4C50-A11A-BFD9D41B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9B7F1-D0E3-405D-9545-FAD50602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5474D-00F7-45B4-993C-DBF91EF8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030B3-DFFA-45F1-800A-0857F2A5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D3D87-8DB6-4FF4-AE6E-CEB7D07E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49A7A-0713-4135-B13D-FE3BB428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382AA-188C-470E-AFE1-66CD256E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23277-AA4C-44ED-8B98-F0B2EDFD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3D875-4CDC-4C94-85B6-950F02D9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E7EA-0A64-403F-A20F-31321294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C761F-0639-42EE-8F41-4A160519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6D717-CDDC-444B-BBC1-2DF71C50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65C55-AAEF-4478-9732-D613C60E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15BB1-21BA-4CD1-AA7F-942B7322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DEA65-5DF3-4B15-B60C-604A999E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B50F3-9ED8-434E-BB2A-B4AC386D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3C7F5-FAC1-4D63-BEFE-ED17B38C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04424-06C7-4249-A7D1-489B334B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6F25D-E585-46E1-905F-3CE57F64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E1022-347C-4DE5-85C6-8886400C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0439-4F07-4BD0-B9D4-F040DD1D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417BD-FD10-41C5-8343-00564745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854C4-54D3-45D1-958F-BE4DCF31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44E8A-0753-419D-AED8-900CD0B4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6864C-1212-4892-8A2D-99C413AD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853BD-C94A-45AD-8006-8F66AC05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C2B71-5B52-4B2D-822E-9A991212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1860B-C2E8-47B8-9FB5-68706AD7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A845B-FFCC-4C21-A242-40C34980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4910E-B1A5-4D4E-B555-D9B70A1B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5DB54-25AB-4602-9393-2200B363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EDA4-9350-48D7-AB07-321301AB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48F33-C92E-4594-9028-384D976D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1A755-0586-4DED-838C-E0B01088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F2360-D2DA-41E5-8245-CA11F92A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A59DE-1473-444B-B638-4E00F484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310AD-6E13-423F-9F87-76E3A602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45587-AB35-46E6-A8B9-96337C2D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8940B-8BE2-4BB4-B5BF-2C3907FB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C7316-B3D7-4AA6-99B8-E70088F9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547C3-178B-4F0F-A590-4376D435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4C114-6711-4824-B5F2-637F9CD4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1C0C-A2CD-4057-B373-624F2288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15B31-A05B-47F9-B226-40429504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A9EE1-DA05-47C0-8B76-8BC51FEB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45743-3BF6-4DD2-9ECF-BC379A86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A715A-83D8-4B07-B5F2-130E2C7E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E0779-16E0-4E08-92E5-1F2544BD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FB18E-5916-4628-B3BC-58C55634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CCB14-5C7E-4A02-96A8-2CC97A78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91B39-72E5-4CA1-92AE-FB78D2EA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DF02E-C32A-47C6-9518-F16F211E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637B0-26D8-4092-BC02-27305CE8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91B4-3059-4AF7-8999-616C301B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29481F-61D1-4381-B09F-33453C50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73E11-83A9-4E66-BA0F-D3B5EC96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7BFD9-0EF0-4A78-994A-A46B1297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863BE3-5EEB-473B-A0DE-5BE29F51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CF510A-123D-4B41-BBE4-E46FED3F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1ADB63-EE82-4EFC-B966-FD763613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646DC-5394-4ECA-B595-37BB5972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7BA3C9-6212-4D2D-B1BB-BD0112D0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7DEF63-7BE1-4883-BFA8-EF642B4C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4F277A-771E-4108-B017-6838BCF3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34BA-3A9F-4872-8418-D8FFD099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F51B72-808A-4920-A4EC-769FB294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E0B3D-F704-48E0-AAFD-D8DDBAEE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7ACE82-7C90-4DCE-848F-C34406DE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4B8978-58D9-46F7-B8AA-AB55A3A5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F92E7F-F99F-4EF3-80F3-60061213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35CFF8-720C-4984-9745-85231542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D7FF25-9402-4EEE-BDBD-7CC6B028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BF5A71-7DF1-4BD9-BBCA-2F5FB6C3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E3FF89-44C1-4B2A-8AB7-8C29C279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C965C7-0F64-47E3-B69B-CFE57544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5D5A-AE9B-496E-B510-6E128CA6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9F6E18-F404-465B-A64F-14C96F99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337EB6-D808-4692-B768-6633CB09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63BE28-7380-48C2-AD95-DDA693E9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191C1C-A07B-48D8-9CE2-BC1221BF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360331-E996-4C35-9D8B-CFFC2AAA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449615-7FF5-4B1F-870F-D80BA4C4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AC68E3-5F7B-4157-932C-34C8F356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2F5099-2E39-4248-9C2D-18CA5161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DED0F4-B048-4DAD-B3A5-4F30FBCC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B7908C-F0A3-4B4B-8AE8-7A84D25C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94A5-2695-4C8C-AE73-CC132958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038B55-C129-4B6C-9A29-4ABD6284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8BAB-6406-442B-AE58-B6B294DB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FD6C-A9D9-4EEC-9B08-4B7163AB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ACA7-B639-449F-BBE9-C2465A61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FEA3-0CDD-4D41-9D81-3D5D45E0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50E1-203B-45E8-8E95-B7BB7959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FE26-6BC2-404D-BEED-11EE37C8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3D8D-75B8-4B5B-A830-484DCBCE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CCCCF-5010-40DE-A45E-F7FFAC79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4539E-EA7C-432E-95D2-B936277B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49401-0389-4882-8D0E-11B3F675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6251F-9BA1-406E-8485-2B86498B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D758C-29FF-4983-9AC7-E914D6C4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63D-60D7-4932-830E-142D4479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02DD3-B0ED-4076-8614-609381B7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8BE7E-216C-49D9-BD8B-3C8F7235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39A11-795C-4597-9FE5-B1B7EE2F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C8711-6C8F-42E6-A366-5EF0C9E0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99DB6-5642-4362-822A-5EE5F31E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45AA9-BD5C-4C16-9BAF-4B3E07C5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40F05-1A79-4E16-8C9A-75A91D46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24FC6-4B0B-4979-B3C9-2AD0BA96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408FD-506A-4F55-AB7C-F3762A87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7C25D-A4F1-428F-9412-8F591267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53F0-8D4F-4D57-B11F-FD562022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72C7F-93D3-4B6D-9F4A-FD9DBFBF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D8327-B87D-4EC1-91D6-7B38951E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8130C-E001-44EE-95B2-B05A2932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C5EF3-2546-4278-B543-B69E9877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37DA2-7969-4B7D-B491-DB761624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C989B-C1E2-4FFB-8B2C-188EF829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0441A-9850-43A0-9ABD-E7025479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1AFE8-F543-4BE8-ABDD-34025849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E635F-7136-4C1F-8939-7EE4F31A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AB624-8DBF-4538-8441-BB10456E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6CA-0386-43A1-9ACC-268434F0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1F039-2EFA-4068-BB65-DA1CAD3F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3B612-B8D0-481D-B89C-549A858A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BBCEF-C2AE-436B-B69C-C59AE99A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86CC1-EBDE-4DE6-B85A-C1A89D31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B228B-0B8B-4ABF-8C2B-6602BCB4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DC02F-D423-4641-B3FB-C919E194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00229-2CA2-4CBE-BF58-9EFD363B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72800-9AE0-4CF6-AF47-D37D75FF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20F45-D08E-44D1-9D61-66150D93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3AD4B-CB9E-4434-962C-832935A5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95E6-7062-491F-AD7D-5BF375AF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2ECB1-D53F-48B2-8020-D6B2BBE0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A8755-BB84-48B8-B4F8-CAC92E9F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FB7E2-9265-4AF7-A230-3C2C368B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2457D-FE07-4706-8E55-E4094B1C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5A119-56C3-42DF-8228-7FC9F3C7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7FCAE-85D3-4E96-A99C-B1E550EF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A4638-7203-46CA-AC54-A7A8C8D8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3EC2B-403B-442D-8556-3BEA02BD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19CA9-615F-43B7-95CA-7370CDF6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24D67-0240-4928-9A4B-68E37771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92D4-FBFD-471E-B5D6-118F49C0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D773A-6077-4897-A410-BA6514A6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44BC0-0D18-4CE5-816E-1E474A12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88B3D-D04C-479E-9544-703E9A23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73961-990A-49E3-8EA5-AEC8CEB7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19A8D-D2DB-41CD-BE06-AB13DDA0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1A103-EF0A-49BF-9451-9596CA10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76424-5271-4528-9413-95E426C1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424BD-899C-47A3-83DA-462FBCD8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F4311-6ECA-4582-8396-6BBDD48C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C35A7-2BB2-45EE-8377-522F9056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D014-E01B-4359-A591-987B212A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292DD-E1CA-485B-B2AE-A4120C61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881CD-4F32-48C9-8956-BBF6EE79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9D621-88AA-437D-9D27-439082E8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0AA7D-721C-4E75-8645-E6B25B05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B9160-2E03-4DB7-986A-266E75EC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A3932-59A0-41E5-8FDD-CDC5B6FB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12CE2-CE05-4BC4-9382-F9EB7114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D1397-5211-4F61-B6E7-5BE3F718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818EB-A3BA-46EC-8C98-502F5929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9785B-95D2-40A2-8A2A-85F20216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4DF4-9B47-4D97-850D-E097C5C4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8E4D1-BCDB-4C10-9309-5E715F7C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24359-02DA-4507-A15A-DE917F3E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49B2A-6459-4774-A1CD-E7C042CC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90092-60B4-4595-B704-18ADC32C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AC035-B7B5-4DAF-9912-E3543EC3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FE5A3-156B-4BBB-9922-7B2F1832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B3B53-225F-4D4A-B5E7-2FAD5784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8BB92-55DC-49F3-959F-D4DD2315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7A847-4ECC-42B0-B0DB-A9CC73F4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B2C04-0C7C-4A69-B626-8D97B055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A06C-FC65-461E-9F08-99319CE8E8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EF96-0098-4877-A34F-D54051E4FC7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649F-37B2-4338-B380-5572202D22A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A653-D984-4D82-8B88-B04056ED91D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074C-E99C-415B-ABD2-9C261D7507A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8729-3A3B-44B5-B724-29AA24FBC14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5493-B7C2-4EC1-A55A-EF95D8FEB27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7CAB-F3A8-413D-9279-05B781A0946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1994-6319-4535-AEA3-1E68871A3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7AE9-1675-4B37-A4DC-CB4E3BA3D0A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B17F-D7FB-4732-9A59-DE021CABC74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F56A-262B-428F-ABAF-6ACE9F60349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AD32-E9FB-45D8-A02F-9C1978E72C6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FDAE-F3CE-4386-A9C9-9712C10E3F5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F9C2-EF99-49B9-B170-188A960767F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uidance for Light-Weight Implementations of the Internet Protocol Sui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Carsten Bormann, 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Contributor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Olaf Bergman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Tero Kivin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Carl Willi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Mitsuru Kan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LoWPAN Implementation Tricks: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gment Forwarding Tech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LoWPA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ptation layer fragmentation can be n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e-Over happens above adaptation l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have to reassemble at each 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 cache entry on initial frag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initial fragment immedi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each non-initial frag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cached IP header inf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91680" y="272880"/>
            <a:ext cx="84344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ained Application Protocol (CoA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tributor : Olaf Bergmann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Universität Bremen TZ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ergmann@tzi.or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 fontScale="94000"/>
          </a:bodyPr>
          <a:p>
            <a:pPr marL="366840" indent="-27612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y CoAP matter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7612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2M communication in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constrained networ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7612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nect smart objects to the Interne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7612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HTTP equival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for WSNs (REST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6840" indent="-27612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7612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1 devices: ~10 KiB RAM, ~100 KiB Flas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7612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rver applic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7612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obustness/latency vs. resources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power, dynamic memory needs, static code siz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7612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eep mandatory (to recognize) protocol featu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ssage Layer Proces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 fontScale="99000"/>
          </a:bodyPr>
          <a:p>
            <a:pPr marL="386640" indent="-29052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void fragmentation, retransmissi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9052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nimize state maintenance and power usage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especially server sid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6640" indent="-29052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ust have send buffer and tick counter (or RTC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86640" indent="-29052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 generate separate responses, servers must keep client's transport address and Tok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86640" indent="-29052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leepy nod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9052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up clock if interrupts are disabled during slee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9052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sleep for the first 1 or 2 retransmission cyc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ssage Par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520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90600" indent="-29376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usual parsing strateg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0600" indent="-29376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opose bit-vector for type-decod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0600" indent="-29376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ome options are allowed more than once (Uri-Path)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uld make last segment unique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r collect while you par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P Token Hand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P: Tokens used for request-response matching in non-piggybacked respon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s space in packet and n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default value of 0 while not pipel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non-zero values (or separate port numbers) with multiple outstanding requ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How to) Proceed From 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36320" y="1484280"/>
            <a:ext cx="822780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90600" indent="-29376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eedback from mailing li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rify which roles are talked ab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ze implementation cost for server and 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-coded parameters (e.g. max. payload size?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bout gateways and proxi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0600" indent="-29376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urity implementation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osal: should be covered in the general security 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0600" indent="-29376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ther docu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lnSpc>
                <a:spcPct val="93000"/>
              </a:lnSpc>
              <a:spcAft>
                <a:spcPts val="10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ft-arkko-core-sleepy-sens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0600" indent="-29376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87860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this the right information to put in this document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ral considerations about Application Programming Interfac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API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uthor: Carl Willi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of the roles of the API can be exactly to hide the detail of the transport protoc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IP application 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nt driven API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ndard multi-threaded model not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ny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blocking A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application interface sends a message the routine would return immediately (before msg is s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l-back facility notifies app when sending is do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nefit:  no code runs for long periods of time; otherwise, pkt is dropp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 in 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thering implementation experiences from IPSO develop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dance of IPSO late Mar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with API implementers in IPSO alli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ing the landscap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ument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iqu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LoWP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dance for Lightweight Security Protoco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uthor: Mitsuru Ka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esenter: Yoshihiro Oh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tocol for Carrying Authentication for Network Access defined between PaC (PANA Client) and PAA (PANA Authentication Agen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C may be sl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PaC-initiated s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leeping device  can’t process an unsolicited PAA-initiated session me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NA ‘Ping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 not use PANA ‘Ping’ for mutual liveness che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PaC Initiated re-authent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leeping  device can’t process an unsolicited PAA-initiated re-authentication me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NA message optimization (reduce number of messag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Piggybacking EAP techn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n’t send a PTR message for PANA session lifetime expi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nimal PANA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 more organized text on security and other 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rculate a Questionnaire for implementers to collect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we ha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tocol specs: 6LoWPAN, 6LoWPAN_ND, RPL, CoAP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in ne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ques to implement these optimized protoco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uidance to make the implementation small and interoperab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ect experiences from implementers of IP stacks on constrained de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of the art of the literature, helpful for future practi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ormance with the relevant spe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software engineering best pract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内容占位符 3" descr="wanted~1.gif"/>
          <p:cNvPicPr/>
          <p:nvPr/>
        </p:nvPicPr>
        <p:blipFill>
          <a:blip r:embed="rId1"/>
          <a:stretch/>
        </p:blipFill>
        <p:spPr>
          <a:xfrm>
            <a:off x="1835280" y="61920"/>
            <a:ext cx="5400720" cy="6751800"/>
          </a:xfrm>
          <a:prstGeom prst="rect">
            <a:avLst/>
          </a:prstGeom>
          <a:ln w="0">
            <a:noFill/>
          </a:ln>
        </p:spPr>
      </p:pic>
      <p:pic>
        <p:nvPicPr>
          <p:cNvPr id="629" name="图片 7" descr="rman8969l.jpg"/>
          <p:cNvPicPr/>
          <p:nvPr/>
        </p:nvPicPr>
        <p:blipFill>
          <a:blip r:embed="rId2"/>
          <a:stretch/>
        </p:blipFill>
        <p:spPr>
          <a:xfrm>
            <a:off x="2700360" y="2565360"/>
            <a:ext cx="38098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es of “Constrained”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inguish 2 rough classes of constrained no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each case, make clear which class is being targ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hese are a starting point for making sure we discuss from the same requirements, not exact classes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971640" y="2492280"/>
          <a:ext cx="6840360" cy="1152720"/>
        </p:xfrm>
        <a:graphic>
          <a:graphicData uri="http://schemas.openxmlformats.org/drawingml/2006/table">
            <a:tbl>
              <a:tblPr/>
              <a:tblGrid>
                <a:gridCol w="2279520"/>
                <a:gridCol w="2281320"/>
                <a:gridCol w="227952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10 K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 100 K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50 K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 250 K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 sty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-threaded/giant mainl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t-driven vs. threaded/blo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/multiple processing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separate radio/network proces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ind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techniques may be applicable only to some of these styl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oles of n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strained n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leepy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des talking to constrained n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leepy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rmally always ali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ateways/Prox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leepy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uld be always al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cument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Pl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LoWP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 Pl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P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1680" y="272880"/>
            <a:ext cx="8434440" cy="1146240"/>
          </a:xfrm>
          <a:prstGeom prst="rect">
            <a:avLst/>
          </a:prstGeom>
          <a:noFill/>
          <a:ln w="0">
            <a:noFill/>
          </a:ln>
        </p:spPr>
        <p:txBody>
          <a:bodyPr tIns="3204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6LoWPAN Route-Over Fragment Forwar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3212640"/>
            <a:ext cx="8228160" cy="29178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ibutor: Carsten Borman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ität Bremen TZ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bo@tzi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21:07:49Z</dcterms:created>
  <dc:creator>曹振</dc:creator>
  <dc:description/>
  <dc:language>en-US</dc:language>
  <cp:lastModifiedBy>曹振</cp:lastModifiedBy>
  <dcterms:modified xsi:type="dcterms:W3CDTF">2011-07-29T12:43:13Z</dcterms:modified>
  <cp:revision>45</cp:revision>
  <dc:subject/>
  <dc:title>Guidance for Light-Weight Implementations of the Internet Protocol Suite</dc:title>
</cp:coreProperties>
</file>