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97ADC-E439-4516-8ECA-690CE6C48684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CCD0C-9A5E-4259-88BB-F504D721E540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B9424-C090-499F-92DC-7B3F6F1A98D8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342-8345-4450-91C8-F57224B9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439640"/>
            <a:ext cx="906948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53480"/>
            <a:ext cx="906948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F90C-B258-43A0-B2F2-97F8DD5B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439640"/>
            <a:ext cx="442584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439640"/>
            <a:ext cx="442584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53480"/>
            <a:ext cx="442584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53480"/>
            <a:ext cx="442584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1CD7-EEB0-4075-9EE7-D2735E6C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439640"/>
            <a:ext cx="291996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439640"/>
            <a:ext cx="291996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439640"/>
            <a:ext cx="291996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53480"/>
            <a:ext cx="291996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53480"/>
            <a:ext cx="291996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53480"/>
            <a:ext cx="291996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CC2-39D8-4E0B-B80A-09B4B5D2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439640"/>
            <a:ext cx="906948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9D4-8D42-4253-99A9-23B7DE65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439640"/>
            <a:ext cx="906948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7E7-07D0-49E2-A6F7-CA6E60C9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439640"/>
            <a:ext cx="442584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439640"/>
            <a:ext cx="442584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BB0-9657-4C9B-9093-28CA6D50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96F-93EC-49EC-A7E9-53F47F06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23B6-0F42-43A0-9C32-B257B27A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439640"/>
            <a:ext cx="442584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439640"/>
            <a:ext cx="442584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53480"/>
            <a:ext cx="442584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4A25-5869-421D-9509-FA63BE16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439640"/>
            <a:ext cx="442584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439640"/>
            <a:ext cx="442584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53480"/>
            <a:ext cx="442584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635-DBA2-4689-8774-8C2852B7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439640"/>
            <a:ext cx="442584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439640"/>
            <a:ext cx="442584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53480"/>
            <a:ext cx="906948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D4B-4DA9-464A-B744-90C5F3B2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439640"/>
            <a:ext cx="906948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40000"/>
            <a:ext cx="234612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198920"/>
            <a:ext cx="319392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7198920"/>
            <a:ext cx="234648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xx</a:t>
            </a:r>
            <a:fld id="{8FA6FE9E-08FA-4E8F-AFEF-F2CE9138E118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1350720"/>
            <a:ext cx="907092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MT</a:t>
            </a:r>
            <a:br>
              <a:rPr sz="48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mboned-auto-multi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2789280" y="7056360"/>
            <a:ext cx="450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ETF 81 – Quebec City– mboned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440000"/>
            <a:ext cx="907092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g Bumgard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Mo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172200" y="928800"/>
            <a:ext cx="18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958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T Draft Specification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440000"/>
            <a:ext cx="907092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WG draft: 10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WG Last-Call in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11 posted 2011-07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revision will be requi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11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2920" y="1439640"/>
            <a:ext cx="906948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itled “Automatic Multicast Tunnel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support for multicast sour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optional gateway source address field to membership query mes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use of the same port for all request and update messages sent during a “sess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 that a gateway should repeat discovery process before starting a new “session” (when anycast addressing is us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zero checksum for IPv6 data pac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11 Change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2920" y="1439640"/>
            <a:ext cx="906948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 indicate that no state allocation should occur during disco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to Security Considerations s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edits to accommodate changes described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2920" y="1439640"/>
            <a:ext cx="906948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version field to the mess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539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1 2 3 4 5 6 7 8 9 0 1 2 3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539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539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Version| Type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539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current version using zero (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requirement that gateway send complete state report following address change (or for every request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easily resolved outstanding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er Protocol Desig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2920" y="1439640"/>
            <a:ext cx="906948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 relay determine which protocol to use in the membership query mess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 gateway send IGMP &amp; MLD reports in the same “session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transmission/timeout behavior should be required if a gateway does not receive a response to a requ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r Protocol Desig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2920" y="1439640"/>
            <a:ext cx="906948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account for update message loss, reordering or rej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DoS attacks on gateways though update/teardown message spoofing/forg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potential delivery of duplicate data message streams as a result of gateway address changes (even if tempora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the transmission of a request message to report a new data destination address. Unsolicited update messages from a new address are ign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allow for the gathering of per-gateway statistics on a relay in the presence of gateway address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2920" y="1439640"/>
            <a:ext cx="906948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ve outstanding issues that can be addressed within the current protocol de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 new draft that includes necessary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ether there is interest in solving larger issues, by either making changes to existing protocol design, or pursuing development of an alternativ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3:56:36Z</dcterms:created>
  <dc:creator>Thomas Morin</dc:creator>
  <dc:description/>
  <dc:language>en-US</dc:language>
  <cp:lastModifiedBy>Greg Bumgardner</cp:lastModifiedBy>
  <dcterms:modified xsi:type="dcterms:W3CDTF">2011-07-26T18:07:09Z</dcterms:modified>
  <cp:revision>13</cp:revision>
  <dc:subject/>
  <dc:title>AMT draft-ietf-mboned-auto-multicast</dc:title>
</cp:coreProperties>
</file>