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27C3A-7812-41FF-B232-3B3F7FD8336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4C28C-47F7-42A1-B198-3635C1F95E2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28249-87C4-4726-B72A-A3785AF84CE6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811-50A5-45EC-8A5E-A4BBF6C3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906948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53480"/>
            <a:ext cx="906948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CB3-3BCB-451B-980E-0FAAC23F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5348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5348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E98-DAD9-4807-B0B6-96A8CEDE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43964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43964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5348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5348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53480"/>
            <a:ext cx="291996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AC0-B98C-46DD-96C7-6C1A77BD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36C-0F0D-4E99-8B75-F05B2965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780-9C57-4C5E-9B29-35D13F9A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898-7871-4AD9-AEDD-ED1FB757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53E-4916-457F-82D5-91A45458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AAC-87E9-454C-AC6D-ED81C606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5348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22D-3175-427A-8294-387B0170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5348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890-2AEC-4205-AA7B-E625C53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439640"/>
            <a:ext cx="442584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53480"/>
            <a:ext cx="906948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505-BD1F-4BB4-BA75-AD1F0DB3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40000"/>
            <a:ext cx="23461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98920"/>
            <a:ext cx="31939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7198920"/>
            <a:ext cx="234648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xx</a:t>
            </a:r>
            <a:fld id="{4BDB930F-1CA4-489F-A3FD-F2162A5E712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350720"/>
            <a:ext cx="90709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T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mboned-auto-multi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2789280" y="7056360"/>
            <a:ext cx="450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ETF 81 – Quebec City– mboned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440000"/>
            <a:ext cx="90709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 Bumgar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172200" y="928800"/>
            <a:ext cx="18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T Draft Specificatio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440000"/>
            <a:ext cx="90709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WG draft: 1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G Last-Call 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11 posted 2011-07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vision will be requi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11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itled “Automatic Multicast Tunne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pport for multicast sou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optional gateway source address field to membership query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use of the same port for all request and update messages sent during a “sess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that a gateway should repeat discovery process before starting a new “session” (when anycast addressing is us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zero checksum for IPv6 data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11 Chang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indicate that no state allocation should occur during disco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to Security Considerations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edits to accommodate changes described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version field to the mess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1 2 3 4 5 6 7 8 9 0 1 2 3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Version| Type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539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+-+-+-+-+-+-+-+-+-+-+-+-+-+-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current version using zero (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requirement that gateway send complete state report following address change (or for every request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easily resolved outstanding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er Protocol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relay determine which protocol to use in the membership query me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gateway send IGMP &amp; MLD reports in the same “sess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transmission/timeout behavior should be required if a gateway does not receive a response to a re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r Protocol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ccount for update message loss, reordering or rej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DoS attacks on gateways though update/teardown message spoofing/forg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potential delivery of duplicate data message streams as a result of gateway address changes (even if tempor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e transmission of a request message to report a new data destination address. Unsolicited update messages from a new address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llow for the gathering of per-gateway statistics on a relay in the presence of gateway address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439640"/>
            <a:ext cx="906948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 outstanding issues that can be addressed within the current protocol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new draft that includes necessary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re is interest in solving larger issues, by either making changes to existing protocol design, or pursuing development of an alternativ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3:56:36Z</dcterms:created>
  <dc:creator>Thomas Morin</dc:creator>
  <dc:description/>
  <dc:language>en-US</dc:language>
  <cp:lastModifiedBy>Greg Bumgardner</cp:lastModifiedBy>
  <dcterms:modified xsi:type="dcterms:W3CDTF">2011-07-26T18:07:09Z</dcterms:modified>
  <cp:revision>13</cp:revision>
  <dc:subject/>
  <dc:title>AMT draft-ietf-mboned-auto-multicast</dc:title>
</cp:coreProperties>
</file>