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D78F-AAD4-4857-BFEE-C610B996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DAEA-CFBB-41C2-A48C-34EDBB1E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6A15-F966-4174-96EB-920E4F42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A8CA-7DDA-4AAF-9852-A9700D2D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53EF-9FB8-495D-9BAB-2F4B17F8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AB3B-C7F9-4B3C-A1B4-BD3BB4ED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901C-9284-4FAE-907A-028DC17B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6D4B-16B2-4816-8765-6BA1EDDE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0875-C474-424D-89DF-861E962A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9A5A-F8A0-4E42-B825-ED8D6741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3788-A01B-41C0-9B5F-257ED5B0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63CD-BE6F-4AA0-B28B-8828D243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0940-684C-4F92-BA7F-15E45ADC3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ppy Eyeballs Extension for Multiple Interface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chen-mif-happy-eyeballs-extension-0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ETF 81-Quebec,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4220640"/>
            <a:ext cx="8209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g Chen chengang@chinamobil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l Williams carlw@mcsr-lab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 Wing dwing@cisc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ew Yourtchenko ayourtch@cisc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500" spc="-1" strike="noStrike">
                <a:solidFill>
                  <a:srgbClr val="000000"/>
                </a:solidFill>
                <a:latin typeface="Arial"/>
              </a:rPr>
              <a:t>Changes since IETF#8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and categorized multiple criteria to judge which interface is opt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Content Placeholder 4" descr="gegdbffj.png"/>
          <p:cNvPicPr/>
          <p:nvPr/>
        </p:nvPicPr>
        <p:blipFill>
          <a:blip r:embed="rId1"/>
          <a:stretch/>
        </p:blipFill>
        <p:spPr>
          <a:xfrm>
            <a:off x="3851280" y="3068640"/>
            <a:ext cx="4321080" cy="32400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gegdbffj.png"/>
          <p:cNvPicPr/>
          <p:nvPr/>
        </p:nvPicPr>
        <p:blipFill>
          <a:blip r:embed="rId2"/>
          <a:stretch/>
        </p:blipFill>
        <p:spPr>
          <a:xfrm>
            <a:off x="969840" y="3340080"/>
            <a:ext cx="2638440" cy="254808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4" descr="gegdbffj.png"/>
          <p:cNvPicPr/>
          <p:nvPr/>
        </p:nvPicPr>
        <p:blipFill>
          <a:blip r:embed="rId3"/>
          <a:stretch/>
        </p:blipFill>
        <p:spPr>
          <a:xfrm>
            <a:off x="1170000" y="5175360"/>
            <a:ext cx="3189240" cy="9079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4" descr="gegdbffj.png"/>
          <p:cNvPicPr/>
          <p:nvPr/>
        </p:nvPicPr>
        <p:blipFill>
          <a:blip r:embed="rId4"/>
          <a:stretch/>
        </p:blipFill>
        <p:spPr>
          <a:xfrm>
            <a:off x="2236680" y="4181400"/>
            <a:ext cx="182880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Arial"/>
              </a:rPr>
              <a:t>H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User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No 3G while ro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Only use free Wi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Operator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No 2.484GHz WiFi (channel 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2060"/>
                </a:solidFill>
                <a:uFillTx/>
                <a:latin typeface="Arial"/>
              </a:rPr>
              <a:t>So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Best”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draft-ietf-mif-dhcpv6-route-option-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draft-ietf-mif-dns-server-selection-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Bandwidth/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Optimal data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Stag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0000"/>
                </a:solidFill>
                <a:latin typeface="Arial"/>
              </a:rPr>
              <a:t>Filter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Stag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2060"/>
                </a:solidFill>
                <a:latin typeface="Arial"/>
              </a:rPr>
              <a:t>Sor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61128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 go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est” interface selection with fall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rge the p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o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more pre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how to handle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focus: requirements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MCC</cp:lastModifiedBy>
  <dcterms:modified xsi:type="dcterms:W3CDTF">2011-07-26T19:02:31Z</dcterms:modified>
  <cp:revision>56</cp:revision>
  <dc:subject/>
  <dc:title>HE-MIF</dc:title>
</cp:coreProperties>
</file>