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059-7703-4E1C-9727-487FDAE6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418-8F0A-4C5D-AF14-BCD709B0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973-DB2C-4A05-86E4-7A9AF3AD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336-BE15-482C-9A60-EB1BDD29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8DC-E24E-45E0-8E06-A92F1D09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71B-517B-41FD-9F5B-9ACBD930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805-4CA7-4DFD-B994-7411504C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D60F-406C-47F9-8976-79EBE645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100-0DD4-4432-91A3-58867649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DFB-E956-454E-8F1C-385DEC05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B56-6E33-4193-B2D4-4F55A49B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0C8-88BC-4AD8-AEB4-E1E98E85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AEDD-6CA9-4F2B-B129-313E1EAEB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ppy Eyeballs Extension for Multiple Interface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chen-mif-happy-eyeballs-extension-0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1-Quebec,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4220640"/>
            <a:ext cx="820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g Chen chengang@chinamobi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l Williams carlw@mcsr-lab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 Wing dwing@cisc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w Yourtchenko ayourtch@cisc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500" spc="-1" strike="noStrike">
                <a:solidFill>
                  <a:srgbClr val="000000"/>
                </a:solidFill>
                <a:latin typeface="Arial"/>
              </a:rPr>
              <a:t>Changes since IETF#8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and categorized multiple criteria to judge which interface is opt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Content Placeholder 4" descr="gegdbffj.png"/>
          <p:cNvPicPr/>
          <p:nvPr/>
        </p:nvPicPr>
        <p:blipFill>
          <a:blip r:embed="rId1"/>
          <a:stretch/>
        </p:blipFill>
        <p:spPr>
          <a:xfrm>
            <a:off x="3851280" y="306864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gegdbffj.png"/>
          <p:cNvPicPr/>
          <p:nvPr/>
        </p:nvPicPr>
        <p:blipFill>
          <a:blip r:embed="rId2"/>
          <a:stretch/>
        </p:blipFill>
        <p:spPr>
          <a:xfrm>
            <a:off x="969840" y="3340080"/>
            <a:ext cx="2638440" cy="25480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4" descr="gegdbffj.png"/>
          <p:cNvPicPr/>
          <p:nvPr/>
        </p:nvPicPr>
        <p:blipFill>
          <a:blip r:embed="rId3"/>
          <a:stretch/>
        </p:blipFill>
        <p:spPr>
          <a:xfrm>
            <a:off x="1170000" y="5175360"/>
            <a:ext cx="3189240" cy="9079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4" descr="gegdbffj.png"/>
          <p:cNvPicPr/>
          <p:nvPr/>
        </p:nvPicPr>
        <p:blipFill>
          <a:blip r:embed="rId4"/>
          <a:stretch/>
        </p:blipFill>
        <p:spPr>
          <a:xfrm>
            <a:off x="2236680" y="4181400"/>
            <a:ext cx="18288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"/>
              </a:rPr>
              <a:t>H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User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No 3G while ro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Only use free Wi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Operator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No 2.484GHz WiFi (channel 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2060"/>
                </a:solidFill>
                <a:uFillTx/>
                <a:latin typeface="Arial"/>
              </a:rPr>
              <a:t>So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Best”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draft-ietf-mif-dhcpv6-route-option-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draft-ietf-mif-dns-server-selection-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Bandwidth/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Optimal data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St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Arial"/>
              </a:rPr>
              <a:t>Filter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Stag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Arial"/>
              </a:rPr>
              <a:t>Sor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1128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st” interface selection with fall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rge the p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o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more pre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how to handl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ocus: requirements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MCC</cp:lastModifiedBy>
  <dcterms:modified xsi:type="dcterms:W3CDTF">2011-07-26T19:02:31Z</dcterms:modified>
  <cp:revision>56</cp:revision>
  <dc:subject/>
  <dc:title>HE-MIF</dc:title>
</cp:coreProperties>
</file>