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46AC8-41DE-4207-9A3F-328719517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B335-1FBE-4A06-97ED-20C406091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129F0-E9F3-4D34-A4C5-A2D52DC24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7B499-52D9-4EDD-9B2F-A1EC0399A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333FC-E83D-40F5-970F-7BC5A4C8C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4580A-DB3D-4772-9E4C-35480D4C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DF70B-E764-4979-8F48-345C7F307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DCF3-AAFF-4210-BD0A-6331F5FC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D37A0-01D2-40CA-87F4-0CE6A2E14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59093-0E3C-4935-8287-BBBB1C79C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DBA2-55CE-4A5F-865F-2FDA2292A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48A9-BBA4-4C5B-BB56-995A85B7D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0632-96DC-4C11-B8D5-560E99BBE0A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kame.ne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pplications Test Results in MIF environment</a:t>
            </a:r>
            <a:br>
              <a:rPr sz="4000"/>
            </a:br>
            <a:r>
              <a:rPr b="0" lang="en-US" sz="3200" spc="-1" strike="noStrike">
                <a:solidFill>
                  <a:srgbClr val="000000"/>
                </a:solidFill>
                <a:latin typeface="Arial"/>
                <a:ea typeface="宋体"/>
              </a:rPr>
              <a:t>draft-zheng-mif-apps-test-02.txt</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ETF 81 Quebec City</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64 impacts on applications and sugges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97280" indent="-219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 Messenger uses IPv6 to login to the server, but the IPv6 client did not send the same application layer message as the IPv4 client, so the IPv6 client (behind NAT64) failed to get reply from IPv4 server. Therefore, the application layer of Live Messenger should be IP version independent.</a:t>
            </a:r>
            <a:endParaRPr b="0" lang="en-US" sz="1400" spc="-1" strike="noStrike">
              <a:solidFill>
                <a:srgbClr val="000000"/>
              </a:solidFill>
              <a:latin typeface="Arial"/>
            </a:endParaRPr>
          </a:p>
          <a:p>
            <a:pPr lvl="2" marL="1097280" indent="-219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need for P2P applications behind NAT64 to learn the NAT64's prefix, so that IPv6 peer can talk with IPv4 peers via NAT64. Otherwise, IPv4 connectivity is required to support remaining  access to IPv4 peer</a:t>
            </a:r>
            <a:endParaRPr b="0" lang="en-US" sz="14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Picture 2" descr=""/>
          <p:cNvPicPr/>
          <p:nvPr/>
        </p:nvPicPr>
        <p:blipFill>
          <a:blip r:embed="rId1"/>
          <a:stretch/>
        </p:blipFill>
        <p:spPr>
          <a:xfrm>
            <a:off x="1571760" y="2000160"/>
            <a:ext cx="4071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in a both NAT64 and DS-Lite accessible network and sugges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2" descr=""/>
          <p:cNvPicPr/>
          <p:nvPr/>
        </p:nvPicPr>
        <p:blipFill>
          <a:blip r:embed="rId1"/>
          <a:stretch/>
        </p:blipFill>
        <p:spPr>
          <a:xfrm>
            <a:off x="1357200" y="2286000"/>
            <a:ext cx="4638960" cy="284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  BitComet, which although issues both A and AAAA quires, ignores AAAA RR and only uses IPv4 to initiate communication, all the other  applications first try A RR to initiate IPv6 communications, and if it fails A RR is used to initiate IPv4 communica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 messenger first fails IPv6 due to DNS64 translation, so it is suggested to avoid that translation when the application uses DNS64, as described in [I-D.wing-behave-dns64-config].  Yet, after failing IPv6 Live messenger automatically switches to IPv4 by which all the rest of communication were don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layer should be IP version agnostic in order to decrease impacts introduced by IPv6 transition sol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a:t>
            </a: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ic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indows 7: ping, IE 9, Live Messenger 2009, Skype 5.1, Firefox 3.6, Google Earth 6</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edora 13: ping and ping6, Skype 2.2, Firefox 3.6, Google Earth 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cenari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ost has one network adapter with dual sta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ost has two network adapters respectively with IPv6 and IPv4</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ransition sol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plusP [I-D.ymbk-aplus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S-Lite [I-D.ietf-softwire-dual-stack-li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AT64[RFC6145]/DNS64 [RFC 6147]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combinations of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Scenario 1: One network adapter with dual stack</a:t>
            </a:r>
            <a:endParaRPr b="0" lang="en-US" sz="4000" spc="-1" strike="noStrike">
              <a:solidFill>
                <a:srgbClr val="000000"/>
              </a:solidFill>
              <a:latin typeface="Arial"/>
            </a:endParaRPr>
          </a:p>
        </p:txBody>
      </p:sp>
      <p:sp>
        <p:nvSpPr>
          <p:cNvPr id="46" name="PlaceHolder 2"/>
          <p:cNvSpPr>
            <a:spLocks noGrp="1"/>
          </p:cNvSpPr>
          <p:nvPr>
            <p:ph/>
          </p:nvPr>
        </p:nvSpPr>
        <p:spPr>
          <a:xfrm>
            <a:off x="457200" y="4221000"/>
            <a:ext cx="8229600" cy="1905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results on Window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g, IE and Firefox: IPv6 has high priority if AAAA resource record is avail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Earth: IPv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ype and Live Messenger: IPv4 (because AAAA resource record is unavailable)</a:t>
            </a:r>
            <a:endParaRPr b="0" lang="en-US" sz="2000" spc="-1" strike="noStrike">
              <a:solidFill>
                <a:srgbClr val="000000"/>
              </a:solidFill>
              <a:latin typeface="Arial"/>
            </a:endParaRPr>
          </a:p>
        </p:txBody>
      </p:sp>
      <p:pic>
        <p:nvPicPr>
          <p:cNvPr id="47" name="Picture 5" descr=""/>
          <p:cNvPicPr/>
          <p:nvPr/>
        </p:nvPicPr>
        <p:blipFill>
          <a:blip r:embed="rId1"/>
          <a:stretch/>
        </p:blipFill>
        <p:spPr>
          <a:xfrm>
            <a:off x="1500120" y="1428840"/>
            <a:ext cx="6408720" cy="278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cenario 1: One network adapter with dual stack</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s and suggestions on Windows 7</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7 always first queries a host name's A record, and if it receives an NXDOMAIN it will not query for an AAAA recor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7 should ask for both type records in each DNS lookup or a host name that has only an AAAA record should have a CNAME which points to the AAAA.</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results on Fedora</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dresses of DNS Servers are configured in /etc/resolv.conf. The configured order decides which DNS Server has high priority. Analysis of how Fedora orders its DNS servers when it is DHCP-configured is for future stu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cenario 1: One network adapter with dual stack</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6 DNS Server has high priority</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 Skype: IPv4 (just sending A quer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6, Google Earth: IPv6 (just sending AAAA quer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fox: IPv6 has high priority if AAAA resource record availabl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 DNS Server has high priority</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 Google Earth, Skype: IPv4 (just sending A quer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6: IPv6</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fox: IPv4, IPv6 only in the case: the AAAA record of the queried host name can be returned in the additional records section in the A query respons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and suggestions on Fedor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Pv6 DNS Server should be configured with high priority or the AAAA record of the queried host name can be returned in the additional records section in the A query response if IPv6 is wished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2: Two network adapters respectively with IPv6 and IPv4 connections</a:t>
            </a:r>
            <a:endParaRPr b="0" lang="en-US" sz="3200" spc="-1" strike="noStrike">
              <a:solidFill>
                <a:srgbClr val="000000"/>
              </a:solidFill>
              <a:latin typeface="Arial"/>
            </a:endParaRPr>
          </a:p>
        </p:txBody>
      </p:sp>
      <p:sp>
        <p:nvSpPr>
          <p:cNvPr id="53" name=""/>
          <p:cNvSpPr txBox="1"/>
          <p:nvPr/>
        </p:nvSpPr>
        <p:spPr>
          <a:xfrm>
            <a:off x="457200" y="3786120"/>
            <a:ext cx="8229600" cy="2340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results on Window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two adapters in which they can be accessed can be configured in Windows system. However, in our test, the order of adapters had no impact on the priority of DNS Serv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The two interfaces of IPv6 and IPv4 all with IPv6 and IPv4 dual protocol stacks</a:t>
            </a:r>
            <a:endParaRPr b="0" lang="en-US" sz="18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sults are same as in scenario 1</a:t>
            </a:r>
            <a:endParaRPr b="0" lang="en-US" sz="1500" spc="-1" strike="noStrike">
              <a:solidFill>
                <a:srgbClr val="000000"/>
              </a:solidFill>
              <a:latin typeface="Arial"/>
            </a:endParaRPr>
          </a:p>
        </p:txBody>
      </p:sp>
      <p:pic>
        <p:nvPicPr>
          <p:cNvPr id="54" name="Picture 2" descr=""/>
          <p:cNvPicPr/>
          <p:nvPr/>
        </p:nvPicPr>
        <p:blipFill>
          <a:blip r:embed="rId1"/>
          <a:stretch/>
        </p:blipFill>
        <p:spPr>
          <a:xfrm>
            <a:off x="1571760" y="1357200"/>
            <a:ext cx="599436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2: Two network adapters respectively with IPv6 and IPv4 connections</a:t>
            </a:r>
            <a:endParaRPr b="0" lang="en-US" sz="32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2: IPv6 interface with IPv6-only protocol stack and IPv4 interface with IPv4-only protocol stack</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 IE and Firefox: IPv4 (most of websites), IPv6 only when the AAAA record of the queried host name can be returned in the additional records section in the A query response, such as   </a:t>
            </a:r>
            <a:r>
              <a:rPr b="0" lang="en-US" sz="1600" spc="-1" strike="noStrike" u="sng">
                <a:solidFill>
                  <a:srgbClr val="009999"/>
                </a:solidFill>
                <a:uFillTx/>
                <a:latin typeface="Arial"/>
                <a:hlinkClick r:id="rId1"/>
              </a:rPr>
              <a:t>www.kame.net</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 Earth: IPv4 (because only A record is got from IPv4 DNS Server);</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ype and Live Messenger: IPv4 (because AAAA resource record is unavailable)</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and suggestions on Window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Pv6 is wished for, the configuration of case 2 should be avoi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results on Fedor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in scenario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58" name=""/>
          <p:cNvSpPr txBox="1"/>
          <p:nvPr/>
        </p:nvSpPr>
        <p:spPr>
          <a:xfrm>
            <a:off x="214200" y="1599840"/>
            <a:ext cx="4400640" cy="3999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1: AplusP and IPv6 provisioned Ho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Content Placeholder 2"/>
          <p:cNvSpPr/>
          <p:nvPr/>
        </p:nvSpPr>
        <p:spPr>
          <a:xfrm>
            <a:off x="4572000" y="1600200"/>
            <a:ext cx="4429080" cy="399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2: DS-Lite and IPv6 provisioned Host</a:t>
            </a:r>
            <a:endParaRPr b="0" lang="en-US" sz="1600" spc="-1" strike="noStrike">
              <a:solidFill>
                <a:srgbClr val="000000"/>
              </a:solidFill>
              <a:latin typeface="Arial"/>
            </a:endParaRPr>
          </a:p>
        </p:txBody>
      </p:sp>
      <p:pic>
        <p:nvPicPr>
          <p:cNvPr id="60" name="Picture 2" descr=""/>
          <p:cNvPicPr/>
          <p:nvPr/>
        </p:nvPicPr>
        <p:blipFill>
          <a:blip r:embed="rId1"/>
          <a:stretch/>
        </p:blipFill>
        <p:spPr>
          <a:xfrm>
            <a:off x="428760" y="2048040"/>
            <a:ext cx="4162320" cy="3381120"/>
          </a:xfrm>
          <a:prstGeom prst="rect">
            <a:avLst/>
          </a:prstGeom>
          <a:ln w="0">
            <a:noFill/>
          </a:ln>
        </p:spPr>
      </p:pic>
      <p:pic>
        <p:nvPicPr>
          <p:cNvPr id="61" name="Picture 3" descr=""/>
          <p:cNvPicPr/>
          <p:nvPr/>
        </p:nvPicPr>
        <p:blipFill>
          <a:blip r:embed="rId2"/>
          <a:stretch/>
        </p:blipFill>
        <p:spPr>
          <a:xfrm>
            <a:off x="4714920" y="2057400"/>
            <a:ext cx="4172040" cy="3371760"/>
          </a:xfrm>
          <a:prstGeom prst="rect">
            <a:avLst/>
          </a:prstGeom>
          <a:ln w="0">
            <a:noFill/>
          </a:ln>
        </p:spPr>
      </p:pic>
      <p:sp>
        <p:nvSpPr>
          <p:cNvPr id="62" name="Content Placeholder 2"/>
          <p:cNvSpPr/>
          <p:nvPr/>
        </p:nvSpPr>
        <p:spPr>
          <a:xfrm>
            <a:off x="457200" y="5500800"/>
            <a:ext cx="8229600" cy="62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results and suggestion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me as in scenario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64" name=""/>
          <p:cNvSpPr txBox="1"/>
          <p:nvPr/>
        </p:nvSpPr>
        <p:spPr>
          <a:xfrm>
            <a:off x="457200" y="1600200"/>
            <a:ext cx="41148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3: NAT64 and DS-Lite provisioned Host</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host which contains both wifi and wireless interfaces.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t connects a dual-stack network provided by a B4 element via wifi and also connects to an IPv6-only network via 3G/4G provided by a wireless ISP. The wireless IPv6-only networks has NAT64/DNS64 deployed.</a:t>
            </a:r>
            <a:endParaRPr b="0" lang="en-US" sz="2000" spc="-1" strike="noStrike">
              <a:solidFill>
                <a:srgbClr val="000000"/>
              </a:solidFill>
              <a:latin typeface="Arial"/>
            </a:endParaRPr>
          </a:p>
        </p:txBody>
      </p:sp>
      <p:pic>
        <p:nvPicPr>
          <p:cNvPr id="65" name="Picture 2" descr=""/>
          <p:cNvPicPr/>
          <p:nvPr/>
        </p:nvPicPr>
        <p:blipFill>
          <a:blip r:embed="rId1"/>
          <a:stretch/>
        </p:blipFill>
        <p:spPr>
          <a:xfrm>
            <a:off x="4429080" y="1785960"/>
            <a:ext cx="432756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09:25:37Z</dcterms:created>
  <dc:creator>ZHENG Tao</dc:creator>
  <dc:description/>
  <dc:language>en-US</dc:language>
  <cp:lastModifiedBy>ZHENG Tao</cp:lastModifiedBy>
  <dcterms:modified xsi:type="dcterms:W3CDTF">2011-07-19T08:51:09Z</dcterms:modified>
  <cp:revision>11</cp:revision>
  <dc:subject/>
  <dc:title>Applications Test Results in MIF environment draft-zheng-mif-apps-test-00.txt</dc:title>
</cp:coreProperties>
</file>