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D08B-6FB2-4EE1-A244-D6733B1F5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EAF-C55B-46FC-BD0F-08EF6CCC8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A06-8CFE-4A48-B114-FE406E6C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A2B-9368-48D5-979D-CEED377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A3B-13B6-42C2-8DF9-C855CFBA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48A-3CCB-4461-826D-0CC695EE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EEE-E7CA-4EAA-8F91-B01E45FE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0E8-1848-47A3-BAB1-6CA26278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D0D-5F84-49E8-8183-56D6571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5AA-552A-47C9-9A81-3933CE2B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DEA-8769-4A4D-8685-FB779BE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F3E-A7CC-4B66-9E0B-CF5D069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795-AC68-4461-955C-F7BC46C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1E7-E8B9-4D3F-A70C-FE49DB9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FEF1-F119-4425-832F-1A52C6146A1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8D63-6A47-40B2-BADB-A6DA18B7AE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draft-greevenbosch-mmusic-parallax-attribute/" TargetMode="External"/><Relationship Id="rId2" Type="http://schemas.openxmlformats.org/officeDocument/2006/relationships/hyperlink" Target="https://datatracker.ietf.org/doc/draft-greevenbosch-mmusic-signal-3d-format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atus 3D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 Greevenbo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.greevenbosch@huawe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simulcast of L- and R-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only one of the streams, the offerer MAY initiate streaming as agr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both streams, the offerer MAY update its offer, offering only one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FD3A-09D6-4AD7-9A77-712AA04332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atatracker.ietf.org/doc/draft-greevenbosch-mmusic-parallax-attribut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atatracker.ietf.org/doc/draft-greevenbosch-mmusic-signal-3d-forma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5EB0-C09B-4014-8FE3-F8B56C21F6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ve both drafts to WG draft stat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35D-9895-4E22-94F6-A5100F0B0A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961920" y="2205000"/>
            <a:ext cx="331164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849920" y="2205000"/>
            <a:ext cx="3313080" cy="23792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41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D9E-891D-4F81-949C-80C90D4887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3D draf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greevenbosch-mmusic-parallax-attribute-v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greevenbosch-mmusic-signal-3d-format-v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drafts extend SDP to signal stereoscopic 3D strea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one is for static positioning of 2D objects, such as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ond is for signaling the format of the stereoscopic 3D video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87A6-20E6-4C8F-AE27-9A33C917A6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draft-greevenbosch-mmusic-parallax-attribute-v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unit of the ParallaxInfo attribute value has been normalised to "pixels on a screen with a width of 11520 pixels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allows adjusting the parallax for various screen sizes, often by dividing through an integer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86A-95BB-49FA-AEEE-2E6B47A887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draft-greevenbosch-mmusic-signal-3d-format-v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ded two sections for the SDP offer/answer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tion 7 considers behaviour for the compliant de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tion 8 considers backward compatibility with a legacy de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lly, the system will fall back to 2D strea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sometimes requires re-negot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A259-21FC-4FD4-B9C2-8041DEC5C3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iant answer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T NOT omit "3dFormat" attribute for accepted stre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caters for identification of legacy answer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T NOT change value of "3dFormat" attribu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es only offered formats can be accep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elect to receive 2D only, by selecting one of L/R views or only the 2D stream (rejecting auxiliary strea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select only one 3D format, but if it selects multiple MUST be capable to receive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F859-3DC0-4323-ADFF-90AEAF8FD4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n-compliant answer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anticipated that a non-compliant answerer will omit the "3dFormat" attribu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used by the offerer to deduct that the answerer is a legacy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offerer is given much freedom for its response, hence the optional nature of section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general, when the answer "makes sense", the streaming MAY proceed as agr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therwise, an updated the offer MAY be requ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90A9-E4EF-415F-97D4-4D1DE3793F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frame p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frame packing stream is selected by a legacy answerer, the offerer MAY update the offer offering only a 2D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ternatively, it MAY stream the frame packed video as it is, anticipating that the legacy answerer has other means to process the frame packed 3D vid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ght be user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8F30-D363-486C-B9E4-04A42C15F4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2D + aux, single 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offerer MAY update the offer by offering only a 2D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67DE-6833-4CD6-B39D-F8B3363EAC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to legacy answerer in case of 2D + aux, separate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only the 2D stream, streaming can proceed as agr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only the auxiliary stream, the offerer SHOULD update its of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answerer selected both streams, the server MAY update its of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F57-EADE-43FB-9C41-885EC67D2A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1:22Z</dcterms:created>
  <dc:creator>Bert Greevenbosch</dc:creator>
  <dc:description/>
  <dc:language>en-US</dc:language>
  <cp:lastModifiedBy>Bert Greevenbosch</cp:lastModifiedBy>
  <dcterms:modified xsi:type="dcterms:W3CDTF">2011-06-15T02:10:24Z</dcterms:modified>
  <cp:revision>108</cp:revision>
  <dc:subject/>
  <dc:title>Overview of 3D TV draf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8100449</vt:lpwstr>
  </property>
</Properties>
</file>