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7DF1-B591-40C4-8B72-C97205EB5C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363B-ABA2-4870-A92A-D6D3AAB37B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BE9-90D3-4CF3-868C-B9040BB0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A2E-B2A0-403F-AE0F-95A99C06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E81-DAE5-496C-9D3B-C5EEFC16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404-D189-437B-8253-A2689F5E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15A-1115-4EEA-9F0B-121E6248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A60-A9DC-42EF-9D67-7530EDFA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F9B-A2CD-48B1-AD2B-D940F8D9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A32-8218-4858-8BF9-57F22431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871-A72E-48C1-95C3-6D128569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413-36D5-49CB-9DEA-473CBB53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9DC-5840-471A-95C6-ED47A2FC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45D-B3C6-4711-8077-CFD0100A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14AB-8794-449F-9968-9E8F68A6CF4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811A-A3DD-4469-86A4-32531BF4A8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datatracker.ietf.org/doc/draft-greevenbosch-mmusic-parallax-attribute/" TargetMode="External"/><Relationship Id="rId2" Type="http://schemas.openxmlformats.org/officeDocument/2006/relationships/hyperlink" Target="https://datatracker.ietf.org/doc/draft-greevenbosch-mmusic-signal-3d-format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urrent status 3D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ert Greevenbo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ert.greevenbosch@huawei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to legacy answerer in case of simulcast of L- and R-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answerer selected only one of the streams, the offerer MAY initiate streaming as agre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answerer selected both streams, the offerer MAY update its offer, offering only one str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39AE-0FA8-420D-BB35-DF38AC5D05A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datatracker.ietf.org/doc/draft-greevenbosch-mmusic-parallax-attribut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datatracker.ietf.org/doc/draft-greevenbosch-mmusic-signal-3d-forma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756C-ECC8-4397-9925-F440937562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ve both drafts to WG draft stat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EABC-F6DF-4566-AC22-AE44FC9DF10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961920" y="2205000"/>
            <a:ext cx="3311640" cy="23792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4849920" y="2205000"/>
            <a:ext cx="3313080" cy="23792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41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697F-CE67-4D68-BB0C-5B212AF5F45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3D draf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greevenbosch-mmusic-parallax-attribute-v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greevenbosch-mmusic-signal-3d-format-v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drafts extend SDP to signal stereoscopic 3D strea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one is for static positioning of 2D objects, such as 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cond is for signaling the format of the stereoscopic 3D video str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42AC-A79C-4DF2-B956-FE4C3EFF99F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in draft-greevenbosch-mmusic-parallax-attribute-v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unit of the ParallaxInfo attribute value has been normalised to "pixels on a screen with a width of 11520 pixels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allows adjusting the parallax for various screen sizes, often by dividing through an integer nu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8DDF-4229-4A91-A1AB-8325BE52A8D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in draft-greevenbosch-mmusic-signal-3d-format-v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dded two sections for the SDP offer/answer mo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ction 7 considers behaviour for the compliant dev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ction 8 considers backward compatibility with a legacy dev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nerally, the system will fall back to 2D stream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sometimes requires re-negot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45A5-1569-45B7-A54B-DE5E3B3B125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liant answer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ST NOT omit "3dFormat" attribute for accepted stre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caters for identification of legacy answer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ST NOT change value of "3dFormat" attribu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sures only offered formats can be accep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Y elect to receive 2D only, by selecting one of L/R views or only the 2D stream (rejecting auxiliary strea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ULD select only one 3D format, but if it selects multiple MUST be capable to receive 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F20A-AAB7-438B-8D17-BFAA0D59AE5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n-compliant answer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anticipated that a non-compliant answerer will omit the "3dFormat" attribu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is used by the offerer to deduct that the answerer is a legacy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offerer is given much freedom for its response, hence the optional nature of section 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general, when the answer "makes sense", the streaming MAY proceed as agre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therwise, an updated the offer MAY be requi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0401-0EB5-496D-896F-B49CBEF50E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to legacy answerer in case of frame pa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frame packing stream is selected by a legacy answerer, the offerer MAY update the offer offering only a 2D str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ternatively, it MAY stream the frame packed video as it is, anticipating that the legacy answerer has other means to process the frame packed 3D vide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ight be user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E6A0-CA30-4B4C-9B69-39BE7C1E57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to legacy answerer in case of 2D + aux, single 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offerer MAY update the offer by offering only a 2D str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90F4-6509-46EA-B243-2B8A11323A8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to legacy answerer in case of 2D + aux, separate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answerer selected only the 2D stream, streaming can proceed as agre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answerer selected only the auxiliary stream, the offerer SHOULD update its off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answerer selected both streams, the server MAY update its off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44C4-E079-45E0-AB04-A13D953D4B0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1:21:22Z</dcterms:created>
  <dc:creator>Bert Greevenbosch</dc:creator>
  <dc:description/>
  <dc:language>en-US</dc:language>
  <cp:lastModifiedBy>Bert Greevenbosch</cp:lastModifiedBy>
  <dcterms:modified xsi:type="dcterms:W3CDTF">2011-06-15T02:10:24Z</dcterms:modified>
  <cp:revision>108</cp:revision>
  <dc:subject/>
  <dc:title>Overview of 3D TV draf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08100449</vt:lpwstr>
  </property>
</Properties>
</file>