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04C66-364C-4889-9BDF-EFC410E59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51C5-2468-4631-B982-1D3F17D4D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B46A6-DA0A-43B5-906A-B08093E2D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289FA-ED9B-4772-AD2C-B47F1653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8AB66-CDDC-4E18-A454-4DB33111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11EF-71F1-43B9-B8B0-3D5E42ED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752C-65E4-492C-AA55-F567956C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7130-6A1C-4E0B-A38F-C0A3C712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AA61-37E4-4A3C-8A33-25D8C1ECE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47AC-25B2-4E5D-B912-0C6DC8947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BCCC-C01D-4B11-B9E9-E50D623C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451A-D2E3-4F1C-8105-1425368EB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8218-46FE-4C14-BDA4-9181AC2DE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draft-boucadair-mmusic-altc/" TargetMode="External"/><Relationship Id="rId2" Type="http://schemas.openxmlformats.org/officeDocument/2006/relationships/hyperlink" Target="https://datatracker.ietf.org/doc/draft-hutton-mmusic-icemicrolite/"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TF 81 MMUSIC WG</a:t>
            </a:r>
            <a:br>
              <a:rPr sz="4400"/>
            </a:br>
            <a:r>
              <a:rPr b="0" lang="en-GB" sz="3600" spc="-1" strike="noStrike">
                <a:solidFill>
                  <a:srgbClr val="000000"/>
                </a:solidFill>
                <a:latin typeface="Arial"/>
              </a:rPr>
              <a:t>draft-elwell-mmusic-ice-updated-offer</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Stach</a:t>
            </a:r>
            <a:br>
              <a:rPr sz="3200"/>
            </a:br>
            <a:r>
              <a:rPr b="0" lang="en-GB" sz="3200" spc="-1" strike="noStrike">
                <a:solidFill>
                  <a:srgbClr val="000000"/>
                </a:solidFill>
                <a:latin typeface="Arial"/>
              </a:rPr>
              <a:t>John Elwell</a:t>
            </a:r>
            <a:br>
              <a:rPr sz="3200"/>
            </a:br>
            <a:r>
              <a:rPr b="0" lang="en-GB" sz="3200" spc="-1" strike="noStrike">
                <a:solidFill>
                  <a:srgbClr val="000000"/>
                </a:solidFill>
                <a:latin typeface="Arial"/>
              </a:rPr>
              <a:t>Andy Hutt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8FDB54-79C2-4B6D-B9C8-436AB8C03B5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ion during last year on barriers to implementing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ernative proposals for IPv4/IPv6 negoti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https://datatracker.ietf.org/doc/draft-boucadair-mmusic-altc/</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s://datatracker.ietf.org/doc/draft-hutton-mmusic-icemicrolit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r BoF at IETF#7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 discusses a couple of issues not raised at the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 to get feedback on whether these issues need to be addressed and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ed at IETF#8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1 contains updates reflecting that discu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4F01D1-FEF8-469F-99E5-E6D63CF827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ext step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esent draft concludes:</a:t>
            </a:r>
            <a:br>
              <a:rPr sz="2800"/>
            </a:br>
            <a:r>
              <a:rPr b="0" lang="en-GB" sz="2800" spc="-1" strike="noStrike">
                <a:solidFill>
                  <a:srgbClr val="000000"/>
                </a:solidFill>
                <a:latin typeface="Arial"/>
              </a:rPr>
              <a:t>“According to discussions in Section 4, it seems to be the case that the updated offer is needed, in practice, in very few environments, and therefore consideration should be given to relaxing the requirement in [RFC52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we do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so, are there any other updates to RFC 5245 in the pipeline, which this could be combined with?</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CEA1D3-8445-4E64-9DE1-5D481B2DC479}"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51:16Z</dcterms:created>
  <dc:creator>John Elwell</dc:creator>
  <dc:description/>
  <dc:language>en-US</dc:language>
  <cp:lastModifiedBy>John Elwell</cp:lastModifiedBy>
  <dcterms:modified xsi:type="dcterms:W3CDTF">2011-07-28T22:20:45Z</dcterms:modified>
  <cp:revision>50</cp:revision>
  <dc:subject/>
  <dc:title>IETF 74 SIP WG meeting</dc:title>
</cp:coreProperties>
</file>