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737-31AF-4F26-948D-18D37F78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D37-41DA-492B-AF1D-DBE8DA88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1AD-A2D5-4A38-A9C1-A58A5481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7A9-833D-4D05-A5A4-BBED5412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D24-BB0C-41C7-A166-0D670FA7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2B7-DAA6-4D52-B1BC-FC213AF4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705-953D-45CA-B05F-4DBDA8D2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506-E87E-484C-97B6-C3C7BFC7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40C-DF0D-467B-A265-E00CA949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4B1-9430-4F90-B4B5-91F5C77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0ED-158B-41FE-ABC3-B93EF4DE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BC6-035B-4E76-A7DA-C4739618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5960" y="6384960"/>
            <a:ext cx="34290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23B-5F2D-4BEE-9F26-2C5E70F7D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polk-mmusic-traffic-class-for-sdp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July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P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ha Dhes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is Draft is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Classification attribute of session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CP marking (individual or in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W pool allocations (per traffic type or per ma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resource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specific types of traffic acro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with labels created by RFC 45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 are now proposing new labels an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not just RTP, but which type of vide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VP App-ID Object defined in RFC 28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VWG ID defines pro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 hummed 100% for this, but not yet an official WG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419-D037-4B02-B199-B2A96A187F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changed in -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framework of traffic label, 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ed (human readable) category (based on characteristics) with applicatio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or optional application ‘adjectives’ to further describe traff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pt the flag for whether traffic is CAC admitted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not understood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9600" y="553392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trafficclass Category.application.adjective(s)._foo._bar.ad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120760" y="5065560"/>
            <a:ext cx="5118120" cy="497160"/>
            <a:chOff x="2120760" y="5065560"/>
            <a:chExt cx="5118120" cy="497160"/>
          </a:xfrm>
        </p:grpSpPr>
        <p:sp>
          <p:nvSpPr>
            <p:cNvPr id="49" name=""/>
            <p:cNvSpPr/>
            <p:nvPr/>
          </p:nvSpPr>
          <p:spPr>
            <a:xfrm>
              <a:off x="2120760" y="50655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5257800"/>
              <a:ext cx="4038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053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057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38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356640" y="5881680"/>
            <a:ext cx="3577680" cy="444240"/>
            <a:chOff x="3356640" y="5881680"/>
            <a:chExt cx="3577680" cy="444240"/>
          </a:xfrm>
        </p:grpSpPr>
        <p:sp>
          <p:nvSpPr>
            <p:cNvPr id="57" name=""/>
            <p:cNvSpPr/>
            <p:nvPr/>
          </p:nvSpPr>
          <p:spPr>
            <a:xfrm>
              <a:off x="3356640" y="5957640"/>
              <a:ext cx="22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roprietary 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62720" y="5881680"/>
              <a:ext cx="1371600" cy="304560"/>
              <a:chOff x="5562720" y="5881680"/>
              <a:chExt cx="1371600" cy="304560"/>
            </a:xfrm>
          </p:grpSpPr>
          <p:sp>
            <p:nvSpPr>
              <p:cNvPr id="59" name=""/>
              <p:cNvSpPr/>
              <p:nvPr/>
            </p:nvSpPr>
            <p:spPr>
              <a:xfrm>
                <a:off x="5562720" y="6186240"/>
                <a:ext cx="1371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69343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62485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B8D-6D2E-4FAF-B90D-EC14A2157F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Attribute Format/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component now breaks from RFC 45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y” for audio, and “multimedia-conferencing” fo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al” does most interactive 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-streaming” can be buffered (a l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” (no longer “Broadcast-video”) is not buffered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omponent defines (hey)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Adjective components further differentiate individu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nd proprietary delimiter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00" y="553392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trafficclass Category.application.adjective(s)._foo._bar.ad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120760" y="5065560"/>
            <a:ext cx="5118120" cy="497160"/>
            <a:chOff x="2120760" y="5065560"/>
            <a:chExt cx="5118120" cy="497160"/>
          </a:xfrm>
        </p:grpSpPr>
        <p:sp>
          <p:nvSpPr>
            <p:cNvPr id="66" name=""/>
            <p:cNvSpPr/>
            <p:nvPr/>
          </p:nvSpPr>
          <p:spPr>
            <a:xfrm>
              <a:off x="2120760" y="50655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0400" y="5257800"/>
              <a:ext cx="4038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053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060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5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0572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8880" y="5257800"/>
              <a:ext cx="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356640" y="5881680"/>
            <a:ext cx="3577680" cy="444240"/>
            <a:chOff x="3356640" y="5881680"/>
            <a:chExt cx="3577680" cy="444240"/>
          </a:xfrm>
        </p:grpSpPr>
        <p:sp>
          <p:nvSpPr>
            <p:cNvPr id="74" name=""/>
            <p:cNvSpPr/>
            <p:nvPr/>
          </p:nvSpPr>
          <p:spPr>
            <a:xfrm>
              <a:off x="3356640" y="5957640"/>
              <a:ext cx="22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roprietary deli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5562720" y="5881680"/>
              <a:ext cx="1371600" cy="304560"/>
              <a:chOff x="5562720" y="5881680"/>
              <a:chExt cx="1371600" cy="304560"/>
            </a:xfrm>
          </p:grpSpPr>
          <p:sp>
            <p:nvSpPr>
              <p:cNvPr id="76" name=""/>
              <p:cNvSpPr/>
              <p:nvPr/>
            </p:nvSpPr>
            <p:spPr>
              <a:xfrm>
                <a:off x="5562720" y="6186240"/>
                <a:ext cx="1371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69343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6248520" y="58816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8E9-5556-40CA-8623-9AFBC1FD8B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781680" y="1600200"/>
            <a:ext cx="213372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600200"/>
            <a:ext cx="441936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600200"/>
            <a:ext cx="2210040" cy="3048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Component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media Confer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-Time Inte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media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ation-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teboa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(conference) chat/instant mess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-desktop (interac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-desk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metry (e.g., NORAD missil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1600200"/>
            <a:ext cx="2133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d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me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time-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x (i.e., combined strea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hing to cover theater quality Netflix mov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hing to cover YouTu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-events (though not the buffered 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934-0651-4625-9ACD-E7B0DD3E20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n 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ssue: label now defined, but do folks agree with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help to reach consensus within RAI/MMU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Area doesn’t like specific guidance of series of strings put together defining a single DSCP for everyone to use (i.e., “a servic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n RAI think the opposite (is anyone surpris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provide a default that can be overridden within any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5F7-935E-4E5D-829D-24EC291FDF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how this has been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am I bleeding too much right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aid, Transport Area (TSVWG) plans to continu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uld be nice to synchronize the two areas on the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polk-mmusic-traffic-class-for-sdp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EB1-114E-485C-B29A-50FEE8FB38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mes Polk</cp:lastModifiedBy>
  <dcterms:modified xsi:type="dcterms:W3CDTF">2011-07-29T05:16:39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