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DF2-B3E8-4F2B-B85F-F31EC5C9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4CA-5293-43E7-A5C0-A2EB7B9F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C9E-2F2E-4B83-8240-DBF29789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BD3-B3AC-422D-A7CC-530D77BE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3F0-1284-4B74-BC9A-6338BC7B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1B-FD76-4D34-8045-3286727D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1B4-6EA3-4979-9623-3F83F755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0D8-0E6B-4448-A00A-6FAB802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195-8BB5-446C-AB8D-5D55675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DBE-231C-4D03-A1B3-06DD45A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F2F-ADE8-4CEA-BE5F-7B68281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39D-81BA-4A2E-89D4-B262BA5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5960" y="638496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A57-F618-4205-914A-093765485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polk-mmusic-traffic-class-for-sdp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July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Draft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ification attribute of sess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CP marking (individual or in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pool allocations (per traffic type or per ma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resourc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specific types of traffic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with labels created by RFC 4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 are now proposing new labels an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not just RTP, but which type of vide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VP App-ID Object defined in RFC 28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VWG ID defines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 hummed 100% for this, but not yet an official WG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F9C-CC40-47E1-BF54-49181A728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changed in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ramework of traffic label,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(human readable) category (based on characteristics) with applic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optional application ‘adjectives’ to further describe traff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t the flag for whether traffic is CAC admitt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not understood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49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57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C29-25C2-406A-9415-28E3943CE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Attribute Format/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component now breaks from RFC 45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” for audio, and “multimedia-conferencing” fo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al” does most interactive 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-streaming” can be buffered (a 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” (no longer “Broadcast-video”) is not buffered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mponent defines (hey)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Adjective components further differentiate individu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proprietary delimiter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66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74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76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63A-25C8-4744-87C3-7665F1291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781680" y="1600200"/>
            <a:ext cx="213372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441936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00200"/>
            <a:ext cx="221004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Component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Confer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-Time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-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(conference) chat/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-desktop (interac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-desk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(e.g., NORAD missil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600200"/>
            <a:ext cx="2133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me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time-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 (i.e., combined str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theater quality Netflix mov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YouTu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-events (though not the buffere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9ED-8366-48A2-B5C4-94B7718D1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ssue: label now defined, but do folks agree with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help to reach consensus within RAI/M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Area doesn’t like specific guidance of series of strings put together defining a single DSCP for everyone to use (i.e., “a servi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 RAI think the opposite (is anyone surpri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provide a default that can be overridden within an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7E4-F104-45CC-A5EC-38D939750A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this has been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m I bleeding too much righ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aid, Transport Area (TSVWG) plans to continu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be nice to synchronize the two areas on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1E1-AB76-4272-82F1-BDCBA0289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Polk</cp:lastModifiedBy>
  <dcterms:modified xsi:type="dcterms:W3CDTF">2011-07-29T05:16:3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