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292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292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292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292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728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292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292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2" marL="1168560" indent="-2653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3" marL="1447920" indent="-763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4" marL="1627200" indent="20160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5" marL="1627200" indent="2016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6" marL="1627200" indent="2016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395280" y="634536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924-DAC4-4DBF-80E5-1FF7B1578157}" type="slidenum">
              <a:rPr b="0" lang="en-GB" sz="1200" spc="-1" strike="noStrike">
                <a:solidFill>
                  <a:srgbClr val="919191"/>
                </a:solidFill>
                <a:latin typeface="Arial Narrow"/>
              </a:rPr>
              <a:t>&lt;number&gt;</a:t>
            </a:fld>
            <a:r>
              <a:rPr b="0" lang="de-DE" sz="1200" spc="-1" strike="noStrike">
                <a:solidFill>
                  <a:srgbClr val="919191"/>
                </a:solidFill>
                <a:latin typeface="Arial Narrow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955440"/>
            <a:ext cx="8991720" cy="30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Mobility Support by the Common API for Transparent Hybrid Multicast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irtf-samrg-common-api-03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ject http://hamcast.realmv6.org</a:t>
            </a:r>
            <a:endParaRPr b="0" lang="en-US" sz="28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0" name="Rectangle 9"/>
          <p:cNvSpPr/>
          <p:nvPr/>
        </p:nvSpPr>
        <p:spPr>
          <a:xfrm>
            <a:off x="1619280" y="3645000"/>
            <a:ext cx="622944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Matthias Wählisch, Thomas C. Schmidt, Stig Vena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{waehlisch, t.schmidt}@ieee.org, stig@cisco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1168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13" descr="HAW-logo-hq"/>
          <p:cNvPicPr/>
          <p:nvPr/>
        </p:nvPicPr>
        <p:blipFill>
          <a:blip r:embed="rId1"/>
          <a:stretch/>
        </p:blipFill>
        <p:spPr>
          <a:xfrm>
            <a:off x="844560" y="6237360"/>
            <a:ext cx="1539720" cy="46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link-lab_logo_standard_2-M"/>
          <p:cNvPicPr/>
          <p:nvPr/>
        </p:nvPicPr>
        <p:blipFill>
          <a:blip r:embed="rId2"/>
          <a:stretch/>
        </p:blipFill>
        <p:spPr>
          <a:xfrm>
            <a:off x="5392800" y="6273720"/>
            <a:ext cx="1662120" cy="432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Logo_RGB_300dpi"/>
          <p:cNvPicPr/>
          <p:nvPr/>
        </p:nvPicPr>
        <p:blipFill>
          <a:blip r:embed="rId3"/>
          <a:stretch/>
        </p:blipFill>
        <p:spPr>
          <a:xfrm>
            <a:off x="3081240" y="6273720"/>
            <a:ext cx="1633680" cy="43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9" descr="http://www.cisco.com/web/fw/i/logo.gif"/>
          <p:cNvPicPr/>
          <p:nvPr/>
        </p:nvPicPr>
        <p:blipFill>
          <a:blip r:embed="rId4"/>
          <a:stretch/>
        </p:blipFill>
        <p:spPr>
          <a:xfrm>
            <a:off x="7520040" y="6081840"/>
            <a:ext cx="10476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Implementation: The HAMcast stack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pplication library: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2" marL="711360" indent="-26676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Maps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 API calls &amp; ‘signaling’ to OS layer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2" marL="711360" indent="-26676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Easily integrates new programming languages (C++, Java)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OS Middleware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Separates generic multicast logic from technology-specific instantiations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User-space process, runs once per host (C++ )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rvice Modul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Specific to multicast technologies, </a:t>
            </a:r>
            <a:br>
              <a:rPr sz="2200"/>
            </a:b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currently </a:t>
            </a:r>
            <a:r>
              <a:rPr b="0" lang="de-DE" sz="2200" spc="-1" strike="noStrike">
                <a:solidFill>
                  <a:srgbClr val="490092"/>
                </a:solidFill>
                <a:latin typeface="Tahoma"/>
              </a:rPr>
              <a:t>IPv4, IPv6, and Scribe-ALM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HAMcast Stack Overview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pic>
        <p:nvPicPr>
          <p:cNvPr id="72" name="Inhaltsplatzhalter 4" descr="middleware.tif"/>
          <p:cNvPicPr/>
          <p:nvPr/>
        </p:nvPicPr>
        <p:blipFill>
          <a:blip r:embed="rId1"/>
          <a:stretch/>
        </p:blipFill>
        <p:spPr>
          <a:xfrm>
            <a:off x="2355840" y="1449360"/>
            <a:ext cx="491652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Mobility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53080" indent="-25308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pplication transparent due to ID-locator spli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53080" indent="-25308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obility managemen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within service module (horizontal handover)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at generic middleware (vertical + horizontal handovers)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53080" indent="-25308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iddleware mobilit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Holds abstract group logic (pub/sub states) 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Can dynamically add/remove technology modules 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Mobility is merely a task of the service selection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687600" indent="-263880">
              <a:lnSpc>
                <a:spcPct val="110000"/>
              </a:lnSpc>
              <a:spcBef>
                <a:spcPts val="825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Generic approach: Find &amp; improve group connectivity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Thank you …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ore about this in the meeting of SAMRG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oday 17:40 – 19:40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ject Website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490092"/>
                </a:solidFill>
                <a:latin typeface="Tahoma"/>
              </a:rPr>
              <a:t>http://hamcast.realmv6.org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totype for Download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2" marL="116856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490092"/>
                </a:solidFill>
                <a:latin typeface="Tahoma"/>
              </a:rPr>
              <a:t>Now</a:t>
            </a: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490092"/>
                </a:solidFill>
                <a:latin typeface="Tahoma"/>
              </a:rPr>
              <a:t>version 0.3 </a:t>
            </a: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(mobility yet to come)</a:t>
            </a:r>
            <a:br>
              <a:rPr sz="2200"/>
            </a:br>
            <a:r>
              <a:rPr b="0" lang="en-US" sz="2200" spc="-1" strike="noStrike">
                <a:solidFill>
                  <a:srgbClr val="490092"/>
                </a:solidFill>
                <a:latin typeface="Tahoma"/>
              </a:rPr>
              <a:t>Check for updates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Problem: Group Communication 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ere are many forms of group communication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SM, SSM, (restricted) Broadcast, Multi-destination Routing (XCast), Content-centric Pull …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wo basic services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825"/>
              </a:spcBef>
              <a:spcAft>
                <a:spcPts val="550"/>
              </a:spcAft>
              <a:buClr>
                <a:srgbClr val="ca1a1e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1a1e"/>
                </a:solidFill>
                <a:latin typeface="Tahoma"/>
              </a:rPr>
              <a:t>Scalable packet distribution to a receiver group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825"/>
              </a:spcBef>
              <a:spcAft>
                <a:spcPts val="550"/>
              </a:spcAft>
              <a:buClr>
                <a:srgbClr val="ca1a1e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1a1e"/>
                </a:solidFill>
                <a:latin typeface="Tahoma"/>
              </a:rPr>
              <a:t>Publish/Subscribe option with rendezvous process</a:t>
            </a:r>
            <a:endParaRPr b="0" lang="en-US" sz="22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Universal, easy access requires an abstract not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5904000" y="620640"/>
          <a:ext cx="316692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0" y="620640"/>
                    <a:ext cx="31669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e3a88"/>
                </a:solidFill>
                <a:latin typeface="Tahoma"/>
              </a:rPr>
              <a:t>Problem: </a:t>
            </a:r>
            <a:br>
              <a:rPr sz="3200"/>
            </a:br>
            <a:r>
              <a:rPr b="0" lang="en-GB" sz="3200" spc="-1" strike="noStrike">
                <a:solidFill>
                  <a:srgbClr val="ce3a88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e3a88"/>
                </a:solidFill>
                <a:latin typeface="Tahoma"/>
              </a:rPr>
              <a:t>Multicast Technologies</a:t>
            </a:r>
            <a:endParaRPr b="0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65360"/>
            <a:ext cx="557856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ere are many multicast technologi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2160" indent="-2761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on different layer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2160" indent="-2761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on the same layer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grammers decide on its use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2160" indent="-27612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not even DNS help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obility bound to technolog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spcBef>
                <a:spcPts val="901"/>
              </a:spcBef>
              <a:buClr>
                <a:srgbClr val="c00000"/>
              </a:buClr>
              <a:buSzPct val="80000"/>
              <a:buFont typeface="Tahoma"/>
              <a:buChar char="!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Problem: Identify same group in different technologi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834160" y="3465360"/>
          <a:ext cx="3166920" cy="24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4160" y="3465360"/>
                    <a:ext cx="31669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Objectives 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98984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rovide a solution for group apps to be </a:t>
            </a:r>
            <a:r>
              <a:rPr b="0" lang="en-US" sz="2400" spc="-1" strike="noStrike">
                <a:solidFill>
                  <a:srgbClr val="ca1a1e"/>
                </a:solidFill>
                <a:latin typeface="Tahoma"/>
              </a:rPr>
              <a:t>compiled once and run everywhere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Make use of multicast technologies if available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Allow for hybrid / pluralistic network condition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ca1a1e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1a1e"/>
                </a:solidFill>
                <a:latin typeface="Tahoma"/>
              </a:rPr>
              <a:t>Provide a universal service acces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Decouple application success from infrastructure deployment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10000"/>
              </a:lnSpc>
              <a:spcBef>
                <a:spcPts val="751"/>
              </a:spcBef>
              <a:buClr>
                <a:srgbClr val="c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Support “vertical” mobility across service instantiations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Naming and Addressing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4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"Multicast addresses are a set of distributed application names"</a:t>
            </a:r>
            <a:r>
              <a:rPr b="0" lang="en-GB" sz="1600" spc="-1" strike="noStrike">
                <a:solidFill>
                  <a:srgbClr val="490092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lvl="4" marL="14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490092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490092"/>
                </a:solidFill>
                <a:latin typeface="Tahoma"/>
              </a:rPr>
              <a:t>John Day (Patterns in Network Architecture)</a:t>
            </a: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0092"/>
                </a:solidFill>
                <a:latin typeface="Tahoma"/>
              </a:rPr>
              <a:t>Just use any application name?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Problem of mapping to network addresses: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out of control without namespace support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Domains may run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same </a:t>
            </a: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technology</a:t>
            </a: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 but remain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isolated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Domains may run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distinct</a:t>
            </a:r>
            <a:r>
              <a:rPr b="0" lang="en-GB" sz="1800" spc="-1" strike="noStrike">
                <a:solidFill>
                  <a:srgbClr val="fc0128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technologies</a:t>
            </a: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but host members of the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same group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High-level </a:t>
            </a:r>
            <a:r>
              <a:rPr b="0" lang="en-GB" sz="1800" spc="-1" strike="noStrike">
                <a:solidFill>
                  <a:srgbClr val="ca1a1e"/>
                </a:solidFill>
                <a:latin typeface="Tahoma"/>
              </a:rPr>
              <a:t>meta data type</a:t>
            </a: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 easy for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programmers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-245160">
              <a:lnSpc>
                <a:spcPct val="100000"/>
              </a:lnSpc>
              <a:spcBef>
                <a:spcPts val="675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Proposal: Use abstract, </a:t>
            </a:r>
            <a:br>
              <a:rPr sz="1800"/>
            </a:br>
            <a:r>
              <a:rPr b="0" lang="en-GB" sz="1800" spc="-1" strike="noStrike">
                <a:solidFill>
                  <a:srgbClr val="490092"/>
                </a:solidFill>
                <a:latin typeface="Tahoma"/>
              </a:rPr>
              <a:t>namespace-aware data type -  </a:t>
            </a: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URIs for late binding + new API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245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5040360" y="2554200"/>
          <a:ext cx="413208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2554200"/>
                    <a:ext cx="413208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Proposed URI Scheme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795492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a1a1e"/>
                </a:solidFill>
                <a:latin typeface="Courier New"/>
              </a:rPr>
              <a:t>scheme "://" group "@" instantiation </a:t>
            </a:r>
            <a:br>
              <a:rPr sz="2400"/>
            </a:br>
            <a:r>
              <a:rPr b="1" lang="en-US" sz="2400" spc="-1" strike="noStrike">
                <a:solidFill>
                  <a:srgbClr val="ca1a1e"/>
                </a:solidFill>
                <a:latin typeface="Courier New"/>
              </a:rPr>
              <a:t>":" port "/" sec-credential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scheme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specification of assigned ID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group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identifies the group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instantiation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ID of the entity that generates the instance of the group (SSM source, RP, overlay node)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ID of a specific application at a group instance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sec-credentials</a:t>
            </a:r>
            <a:r>
              <a:rPr b="0" lang="en-US" sz="2000" spc="-1" strike="noStrike">
                <a:solidFill>
                  <a:srgbClr val="490092"/>
                </a:solidFill>
                <a:latin typeface="Tahoma"/>
              </a:rPr>
              <a:t>: optional authentication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Examples: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ip://224.10.20.30@1.2.3.4:5000/groupkey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lvl="1" marL="723960" indent="-277920">
              <a:lnSpc>
                <a:spcPct val="100000"/>
              </a:lnSpc>
              <a:spcBef>
                <a:spcPts val="751"/>
              </a:spcBef>
              <a:buClr>
                <a:srgbClr val="490092"/>
              </a:buClr>
              <a:buSzPct val="80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opaque://mygroup.org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Common Multicast API Draft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Idea: Move complexity from application to the </a:t>
            </a:r>
            <a:br>
              <a:rPr sz="2400"/>
            </a:b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ystem level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The current draft provides …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 common multicast API on app. layer that abstracts group communication from distribution technologie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bstract naming and addressing by multicast URI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canonical mapping between naming and addressing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ition of protocol interaction to bridge multicast data between overlay and underla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259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e3a88"/>
                </a:solidFill>
                <a:latin typeface="Tahoma"/>
              </a:rPr>
              <a:t>Example: SIP conferencing (SSM)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809928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INVITE sips:lucy@peanuts.com SIP/2.0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Contact: maddr=sip://hypnotic-talks@psychic.org</a:t>
            </a:r>
            <a:r>
              <a:rPr b="0" lang="en-US" sz="2400" spc="-1" strike="noStrike">
                <a:solidFill>
                  <a:srgbClr val="490092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Application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ms=createMSocket() 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ms.join(URI(“sip://hypnotic-talks@psychic.org”))</a:t>
            </a:r>
            <a:endParaRPr b="0" lang="en-US" sz="20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Aside: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0092"/>
                </a:solidFill>
                <a:latin typeface="Tahoma"/>
                <a:ea typeface="Tahoma"/>
              </a:rPr>
              <a:t>allows extension for aggregation: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490092"/>
                </a:solidFill>
                <a:latin typeface="Courier New"/>
              </a:rPr>
              <a:t>*-talks@psychic.org</a:t>
            </a:r>
            <a:r>
              <a:rPr b="0" lang="en-US" sz="2400" spc="-1" strike="noStrike">
                <a:solidFill>
                  <a:srgbClr val="490092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3a88"/>
                </a:solidFill>
                <a:latin typeface="Tahoma"/>
              </a:rPr>
              <a:t>Common Multicast API &amp; Middleware</a:t>
            </a:r>
            <a:endParaRPr b="0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250920" y="1989000"/>
          <a:ext cx="8628120" cy="27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8628120" cy="27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508464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pping of names to technologies at run-time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490092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Late binding by ID Locator Split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1T23:12:04Z</dcterms:created>
  <dc:creator>Thomas c. Schmidt</dc:creator>
  <dc:description/>
  <cp:keywords>Universal Multicast Mobile Multicast Naming &amp; Adressing</cp:keywords>
  <dc:language>en-US</dc:language>
  <cp:lastModifiedBy>thomas</cp:lastModifiedBy>
  <cp:lastPrinted>2002-10-06T22:32:19Z</cp:lastPrinted>
  <dcterms:modified xsi:type="dcterms:W3CDTF">2011-07-28T00:33:46Z</dcterms:modified>
  <cp:revision>722</cp:revision>
  <dc:subject>Future Internet</dc:subject>
  <dc:title>Hybrid Adaptive Mobile Multicast - HAMcast</dc:title>
</cp:coreProperties>
</file>