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777-7FFE-4FC6-A354-1E5FA546F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6D8-2FD1-479A-BEDE-EB15D2DA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nimize direct kernel chang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tfilter API to hook into IP stack without modifying an IP stack code. Use netlink API for kernel/user-level communication. Implement as loadable kernel mo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tect for robust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ut only what is required for the data-plane in the kernel. All else goes in user-level dae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nimize network stack complexit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irtual network device driver, no modifications to transport-layer protocols. Uses normal routing table to achieve EID address sourcing, encapsulation escape on local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 for flexibil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oks for ipv6 as we go along, underlying table API abstracted away, simple and extensible message passing between kernel and dae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3E1-69E8-40A6-BD15-76686397B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87D-68CC-4F19-8789-A587FE34A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E75-EEB9-4899-BCF1-2C94A7CA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4F1-FC11-4E06-9C7F-F7DF79A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C59C-EAF2-4D9A-957E-EE68471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5892F-CECF-4229-A3FC-26D42C8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6C188-E378-4CF9-93F7-A94F83C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B91BD-4546-440F-B6CA-9C7AD68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86BA-9BA1-46DB-990C-B1E92F8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CCF09-59BE-44EA-9BF6-62AED92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7EDD-A682-47C4-9426-F71A14E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9C942-A801-4050-80DC-F1958994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8B278-D739-4B9D-8A94-71C75184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C5366-28B9-4E08-BE80-8556BD2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AC0-EAEF-4DE1-9105-B25276A7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66029-BB16-440D-B465-25C23F91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D0EA8-741F-4429-8C6A-5C7971A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41BC5-E554-4912-B974-7E4ADE0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48965-EE1A-429D-9BFA-C61CB244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26EC-E597-40DC-AA05-9E4B243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3D5BC-AFB6-433F-97B5-F67025C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B0DF7-ACF6-4816-92BF-320596A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3B184-D91B-4692-9E4E-47EDCB8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FD388-B6C7-432D-ADEF-5F956F9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A6CE4-7178-4053-996B-FA98044D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D9F-F20B-4D8C-810C-7916FDFD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59E69-1D08-4D47-AE3B-A70E801C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2A426-D4FE-41F0-AAFD-027ADDF6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94B6-77CC-49A7-830D-5211447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02B4D-19CC-4A8E-A5D5-F8D9F38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1830A-757F-4151-85E9-CAB02330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2587-6A96-4952-954E-3AA9E660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E9DC-18AC-4795-BB12-1173AEF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E3C55-EACC-4C30-ABAD-95C8BAF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83BD2-44C8-4B22-8124-CA15406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BBB1-7A37-4731-BA64-210E48E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BCFF-90D6-46F5-A07D-CAB115BA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6F3B-4B0D-4F70-A3A4-598FB60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0671-1367-4AF6-9FFD-35424D89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948E-9790-4A74-9A18-483EC987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937F1-F1B5-4CBE-9B90-7FFF9DBC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57FBF-44A1-4616-8358-43A8C1DA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E8271-510F-4C3D-B75B-1C35A9F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FC32C-9476-4C95-BFFB-17D1F7AA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6ACE1-A9A1-41CB-BB69-3427625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4D2A-569D-46CA-8F36-875F0E53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7EC94-E77C-4298-8D8A-2DDEBC8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6057-4437-4624-8E48-97FC17B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A38EC-3F06-46D7-A853-1AE45FB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C5496-E313-45F9-97D8-2B9828D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8B67-4362-4A7A-8129-46BB596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5B9A8-5E86-40D2-9579-F76A44A0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3DB3E-7400-41E1-BB02-63646DA1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504-DAFF-4271-A26D-4E63974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251-5004-44EC-9B48-CB77E061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DC44-AF7E-4297-B504-C54B6A32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63C0-72E8-4464-934E-1814F78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B591-C2AA-4BBB-94F7-38255C8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006-EBB9-40DD-8AA8-6C3114D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17EA-7610-408A-B8B8-6634475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2B3C-7878-4EFE-9FA8-2AC28D8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97F6-C532-4EC0-8150-30F6809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46C-306D-4E81-93AD-60261C4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46F1-AD8B-40FC-9756-9BD38950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B671-84F8-4FE3-AC51-810A062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DA13-4A67-456B-99E6-6C2F6796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BE69-F29C-44BA-81CD-C17795FF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7860-6DE5-4639-8453-4013811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E622-95AD-40E1-8695-6B1B1AA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4B4-6BBF-4EB0-B417-4C3ACBA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98B0-74A1-4036-B349-5BFD0AC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1E3A-4F45-4537-AA00-C8F11A4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A427-72D4-4DAF-9B3B-4785001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0778-FFE4-43D7-B673-620F684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9E84-BA0A-47D1-9869-31EA9AB7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40D6-348C-4D5E-A988-AC1ED6F0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0F7C-B1F2-48FD-85C5-FEE2FBAB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BB98-9DA4-4DE5-B3CD-A5A82730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0B61-981D-4C1D-A440-AD9DDB4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C39B-A2FB-4337-8B43-07D7AE72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3A7-7645-4588-BC20-C70C1633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50DC-E9E1-41A0-8C86-4009EA5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06B2-11A9-4C5B-9F87-B2332CCD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C8B4-2277-4D3D-8B01-6E8B708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E164-58F3-409E-A679-B3C89C6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6778-5A44-45FF-A291-FE0EF02D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75EF-20D8-48A5-B6A9-E54F0FE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275E-12C4-44FA-9CC2-DDEBF11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AD17-6CDD-4FA2-9BA3-D89C418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7AB2-18A9-4DB2-8FE1-CA8D22A6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3C5E-3D25-47DD-8E58-A804B1F8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A2E-A4D0-4A9B-8EB2-5E450A1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95E5-7829-4DE6-98F3-34B4BB5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1DA6-74F8-4D0F-BA47-B1FA422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89EA7-0CCC-4242-ABF6-0F30859B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8679-D9E4-4C47-83B1-1310910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2BD0-0230-49D2-9D68-2282AB8B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610A-17FC-4DF6-831C-D5C102D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3DAC-B71C-40DD-9974-6D7890C9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9DC36-F103-4D2D-B839-0642AB7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8E35-82EF-4D7B-8EDD-BA122F95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A1AB-5AF7-4908-9C4E-4530CB2D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C95-2ED1-44BC-BD93-DFDF7B7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23AD-E655-43E8-B161-445998D6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7742-7C20-471F-BEF9-603C395A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F5A1-66AF-434F-B9FF-8A6DC432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D0CB-C656-41C1-9624-4BA6CF6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1D89-62DE-44DB-A9C7-70DC91C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D188-127F-4364-931F-2ED7742F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BE67-3070-4CBB-A4FB-ECC1E065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F3E9-BE3B-4BB6-BD9C-D0811DD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7037-D1F4-47B3-B8BB-015BB31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2AB7-F66B-4023-AA69-833CA22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BB3-6C68-4077-985B-6FEF408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1C83-BD33-4CB9-BB0D-5644E96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17412-2473-4433-B41B-B3EDFEF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3A65-6945-423B-8631-B3FB5F8D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FC13-F6EC-435C-9633-233C7FEA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0A54-C80D-4744-A4E8-50029E0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646F-BC53-48B9-8CF2-DE5E32D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F8B2D-9F39-4425-B1EB-2FA8C3CA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164F-4D51-4640-80DF-F8DE493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1AED-EE29-4BE0-8C83-48AE2949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450EF-D96D-4ECF-B0EC-352749C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2F-F193-4730-B5A8-655EFFF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E70C-E91F-431E-A3AC-1FC4E00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0505-A658-45E8-9AE2-BBCFCCE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F2484-A09B-495F-B5B0-8A95EE49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36468-6A48-4068-9405-EE110F90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C9954-18BE-4FAC-B935-A37F1F13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3E01C-6187-4324-9BFF-D6B16FBC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60DB-3C01-4080-A66E-B856227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F13AD-0465-4D86-93A5-ECD7A29F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C4C0E-FE12-4A5F-943C-DC0C19D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9C792-0388-4434-8849-1E6808E3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83B-8825-4431-8927-466C0AE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9717-6497-4670-A9AC-066E2F89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72103-3420-4F66-B09B-303A9BA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94F15-818D-4631-A3CD-DF4C23D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9DEE4-AE31-402F-9241-EF384A9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38E81-6D0D-45E6-B188-F217A9A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0A5E-82BB-48F3-AC0B-C9A6D681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54CF-FED2-48A4-853B-CB36211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58359-77B4-4857-B4B8-63917B0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8763-F2A5-493C-ADB2-68E4B586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C1E45-BAAB-4F3A-B0C0-4FE3E664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A37F7017-C14E-47DE-A497-3983E601847C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0710B0A4-42E1-48E6-AFF1-6C95E8F626B3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9CB4D63-E9D6-42B1-885C-66433FF932E5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15A1F6C4-AD4C-43CA-964F-1A4E11F59B41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P-MN for MobO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/IR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BCC3355-0A71-4A54-A289-6B03EBE1135E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634E510-92DD-4E10-AAAB-FC50B24DF272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5D958B5-9D91-4BFB-AFE0-2FD017BD675A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AD0C6616-16A3-4332-8E73-AE459AB3789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CB04B1AE-4C5F-4EF3-AE23-536A62C5B1FC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96D385E-92AD-48EB-8AFA-3156D791FB3C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CB60C393-43CA-41CE-A91F-EAF5443AB119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0.png"/><Relationship Id="rId3" Type="http://schemas.openxmlformats.org/officeDocument/2006/relationships/image" Target="../media/image5.pct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Mobile-Nod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meyer-lisp-mn-05.txt</a:t>
            </a:r>
            <a:br>
              <a:rPr sz="2800"/>
            </a:b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ris White, Darrel Lewis, Dave Meyer, Dino Farinacci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sco Systems</a:t>
            </a:r>
            <a:endParaRPr b="0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EID: dino@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LOC: IRTF MobOpts – Quebec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ly 28 2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 Multi-Homed LISP Sit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A31EB234-53E8-4660-9067-5B8EB3270777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6" descr=""/>
          <p:cNvPicPr/>
          <p:nvPr/>
        </p:nvPicPr>
        <p:blipFill>
          <a:blip r:embed="rId1"/>
          <a:stretch/>
        </p:blipFill>
        <p:spPr>
          <a:xfrm>
            <a:off x="685800" y="1876320"/>
            <a:ext cx="7391520" cy="396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804" name="Line 14"/>
          <p:cNvSpPr/>
          <p:nvPr/>
        </p:nvSpPr>
        <p:spPr>
          <a:xfrm flipV="1">
            <a:off x="5999040" y="1676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5"/>
          <p:cNvSpPr/>
          <p:nvPr/>
        </p:nvSpPr>
        <p:spPr>
          <a:xfrm flipV="1">
            <a:off x="3417840" y="1703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6"/>
          <p:cNvSpPr/>
          <p:nvPr/>
        </p:nvSpPr>
        <p:spPr>
          <a:xfrm>
            <a:off x="2622600" y="18842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7"/>
          <p:cNvSpPr/>
          <p:nvPr/>
        </p:nvSpPr>
        <p:spPr>
          <a:xfrm>
            <a:off x="5130720" y="18288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LOC 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22"/>
          <p:cNvGrpSpPr/>
          <p:nvPr/>
        </p:nvGrpSpPr>
        <p:grpSpPr>
          <a:xfrm>
            <a:off x="5486400" y="2133720"/>
            <a:ext cx="1111320" cy="803160"/>
            <a:chOff x="5486400" y="2133720"/>
            <a:chExt cx="1111320" cy="803160"/>
          </a:xfrm>
        </p:grpSpPr>
        <p:sp>
          <p:nvSpPr>
            <p:cNvPr id="809" name="Rectangle 23"/>
            <p:cNvSpPr/>
            <p:nvPr/>
          </p:nvSpPr>
          <p:spPr>
            <a:xfrm>
              <a:off x="5486400" y="2133720"/>
              <a:ext cx="1111320" cy="80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24"/>
            <p:cNvSpPr/>
            <p:nvPr/>
          </p:nvSpPr>
          <p:spPr>
            <a:xfrm>
              <a:off x="5794560" y="2201760"/>
              <a:ext cx="593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Group 25"/>
          <p:cNvGrpSpPr/>
          <p:nvPr/>
        </p:nvGrpSpPr>
        <p:grpSpPr>
          <a:xfrm>
            <a:off x="2851200" y="2168640"/>
            <a:ext cx="1111320" cy="803160"/>
            <a:chOff x="2851200" y="2168640"/>
            <a:chExt cx="1111320" cy="803160"/>
          </a:xfrm>
        </p:grpSpPr>
        <p:sp>
          <p:nvSpPr>
            <p:cNvPr id="812" name="Rectangle 26"/>
            <p:cNvSpPr/>
            <p:nvPr/>
          </p:nvSpPr>
          <p:spPr>
            <a:xfrm>
              <a:off x="2851200" y="2168640"/>
              <a:ext cx="1111320" cy="80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3157200" y="2236680"/>
              <a:ext cx="5054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4" name="Picture 52" descr="imgres.jpeg"/>
          <p:cNvPicPr/>
          <p:nvPr/>
        </p:nvPicPr>
        <p:blipFill>
          <a:blip r:embed="rId2"/>
          <a:stretch/>
        </p:blipFill>
        <p:spPr>
          <a:xfrm>
            <a:off x="4038480" y="3137040"/>
            <a:ext cx="533520" cy="4442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3378240" y="3809880"/>
            <a:ext cx="355680" cy="5130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4140360" y="3809880"/>
            <a:ext cx="355320" cy="513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"/>
          <p:cNvPicPr/>
          <p:nvPr/>
        </p:nvPicPr>
        <p:blipFill>
          <a:blip r:embed="rId5"/>
          <a:stretch/>
        </p:blipFill>
        <p:spPr>
          <a:xfrm>
            <a:off x="4978440" y="3809880"/>
            <a:ext cx="355680" cy="513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6"/>
          <a:stretch/>
        </p:blipFill>
        <p:spPr>
          <a:xfrm>
            <a:off x="5740560" y="3809880"/>
            <a:ext cx="355320" cy="5130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8" descr="imgres.jpeg"/>
          <p:cNvPicPr/>
          <p:nvPr/>
        </p:nvPicPr>
        <p:blipFill>
          <a:blip r:embed="rId7"/>
          <a:stretch/>
        </p:blipFill>
        <p:spPr>
          <a:xfrm>
            <a:off x="4876920" y="3137040"/>
            <a:ext cx="533160" cy="4442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9" descr="imgres"/>
          <p:cNvPicPr/>
          <p:nvPr/>
        </p:nvPicPr>
        <p:blipFill>
          <a:blip r:embed="rId8"/>
          <a:stretch/>
        </p:blipFill>
        <p:spPr>
          <a:xfrm>
            <a:off x="19112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1" descr="imgres"/>
          <p:cNvPicPr/>
          <p:nvPr/>
        </p:nvPicPr>
        <p:blipFill>
          <a:blip r:embed="rId9"/>
          <a:stretch/>
        </p:blipFill>
        <p:spPr>
          <a:xfrm>
            <a:off x="259092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2" descr="imgres"/>
          <p:cNvPicPr/>
          <p:nvPr/>
        </p:nvPicPr>
        <p:blipFill>
          <a:blip r:embed="rId10"/>
          <a:stretch/>
        </p:blipFill>
        <p:spPr>
          <a:xfrm>
            <a:off x="32828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3" descr="imgres"/>
          <p:cNvPicPr/>
          <p:nvPr/>
        </p:nvPicPr>
        <p:blipFill>
          <a:blip r:embed="rId11"/>
          <a:stretch/>
        </p:blipFill>
        <p:spPr>
          <a:xfrm>
            <a:off x="39686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74" descr="imgres"/>
          <p:cNvPicPr/>
          <p:nvPr/>
        </p:nvPicPr>
        <p:blipFill>
          <a:blip r:embed="rId12"/>
          <a:stretch/>
        </p:blipFill>
        <p:spPr>
          <a:xfrm>
            <a:off x="488952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75" descr="imgres"/>
          <p:cNvPicPr/>
          <p:nvPr/>
        </p:nvPicPr>
        <p:blipFill>
          <a:blip r:embed="rId13"/>
          <a:stretch/>
        </p:blipFill>
        <p:spPr>
          <a:xfrm>
            <a:off x="55688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76" descr="imgres"/>
          <p:cNvPicPr/>
          <p:nvPr/>
        </p:nvPicPr>
        <p:blipFill>
          <a:blip r:embed="rId14"/>
          <a:stretch/>
        </p:blipFill>
        <p:spPr>
          <a:xfrm>
            <a:off x="6254640" y="4495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7" descr="imgres"/>
          <p:cNvPicPr/>
          <p:nvPr/>
        </p:nvPicPr>
        <p:blipFill>
          <a:blip r:embed="rId15"/>
          <a:stretch/>
        </p:blipFill>
        <p:spPr>
          <a:xfrm>
            <a:off x="6940440" y="4495680"/>
            <a:ext cx="527040" cy="52704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16"/>
          <p:cNvSpPr/>
          <p:nvPr/>
        </p:nvSpPr>
        <p:spPr>
          <a:xfrm>
            <a:off x="1733760" y="35812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EID-pref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lationship betwe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IDs and RLOC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9367074-70CA-4D48-8739-C45A0E6E83F8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609480" y="2232000"/>
          <a:ext cx="8001000" cy="1693800"/>
        </p:xfrm>
        <a:graphic>
          <a:graphicData uri="http://schemas.openxmlformats.org/drawingml/2006/table">
            <a:tbl>
              <a:tblPr/>
              <a:tblGrid>
                <a:gridCol w="1957680"/>
                <a:gridCol w="1276200"/>
                <a:gridCol w="1192320"/>
                <a:gridCol w="3574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e-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ard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R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ly configu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M Mo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TRs discover “dynamic-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EID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P-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EI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tched to device while radios get DHCPable “dynamic-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LO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Hand-Set Mo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8D9CFA21-02DB-40D5-8F00-C9CFB767F7A3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11" descr=""/>
          <p:cNvPicPr/>
          <p:nvPr/>
        </p:nvPicPr>
        <p:blipFill>
          <a:blip r:embed="rId1"/>
          <a:stretch/>
        </p:blipFill>
        <p:spPr>
          <a:xfrm>
            <a:off x="2114640" y="1468440"/>
            <a:ext cx="1950840" cy="129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39" name="Picture 287" descr="Picture 4"/>
          <p:cNvPicPr/>
          <p:nvPr/>
        </p:nvPicPr>
        <p:blipFill>
          <a:blip r:embed="rId2"/>
          <a:stretch/>
        </p:blipFill>
        <p:spPr>
          <a:xfrm rot="20076600">
            <a:off x="3400200" y="2803320"/>
            <a:ext cx="688680" cy="522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1" descr=""/>
          <p:cNvPicPr/>
          <p:nvPr/>
        </p:nvPicPr>
        <p:blipFill>
          <a:blip r:embed="rId3"/>
          <a:stretch/>
        </p:blipFill>
        <p:spPr>
          <a:xfrm>
            <a:off x="4992840" y="1447920"/>
            <a:ext cx="1949400" cy="129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41" name="Picture 287" descr="Picture 4"/>
          <p:cNvPicPr/>
          <p:nvPr/>
        </p:nvPicPr>
        <p:blipFill>
          <a:blip r:embed="rId4"/>
          <a:stretch/>
        </p:blipFill>
        <p:spPr>
          <a:xfrm rot="1764000">
            <a:off x="5117760" y="2806560"/>
            <a:ext cx="6411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4" descr=""/>
          <p:cNvPicPr/>
          <p:nvPr/>
        </p:nvPicPr>
        <p:blipFill>
          <a:blip r:embed="rId5"/>
          <a:stretch/>
        </p:blipFill>
        <p:spPr>
          <a:xfrm>
            <a:off x="3924360" y="2978280"/>
            <a:ext cx="1392120" cy="22953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8"/>
          <p:cNvSpPr/>
          <p:nvPr/>
        </p:nvSpPr>
        <p:spPr>
          <a:xfrm>
            <a:off x="2392200" y="194796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G/4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9"/>
          <p:cNvSpPr/>
          <p:nvPr/>
        </p:nvSpPr>
        <p:spPr>
          <a:xfrm>
            <a:off x="5381640" y="19782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Fi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2843280" y="508644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D: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610:00d0:xxxx::1/128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050640" y="3289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5226480" y="3279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5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41"/>
          <p:cNvGrpSpPr/>
          <p:nvPr/>
        </p:nvGrpSpPr>
        <p:grpSpPr>
          <a:xfrm>
            <a:off x="5943240" y="3704760"/>
            <a:ext cx="2536920" cy="729720"/>
            <a:chOff x="5943240" y="3704760"/>
            <a:chExt cx="2536920" cy="729720"/>
          </a:xfrm>
        </p:grpSpPr>
        <p:sp>
          <p:nvSpPr>
            <p:cNvPr id="849" name="Rectangle 29"/>
            <p:cNvSpPr/>
            <p:nvPr/>
          </p:nvSpPr>
          <p:spPr>
            <a:xfrm>
              <a:off x="6635520" y="40662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ynamic 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RLO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03"/>
            <p:cNvSpPr/>
            <p:nvPr/>
          </p:nvSpPr>
          <p:spPr>
            <a:xfrm flipH="1" flipV="1">
              <a:off x="5943240" y="3704760"/>
              <a:ext cx="696600" cy="553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40"/>
          <p:cNvGrpSpPr/>
          <p:nvPr/>
        </p:nvGrpSpPr>
        <p:grpSpPr>
          <a:xfrm>
            <a:off x="6445080" y="5029200"/>
            <a:ext cx="2039040" cy="368280"/>
            <a:chOff x="6445080" y="5029200"/>
            <a:chExt cx="2039040" cy="368280"/>
          </a:xfrm>
        </p:grpSpPr>
        <p:sp>
          <p:nvSpPr>
            <p:cNvPr id="852" name="Line 189"/>
            <p:cNvSpPr/>
            <p:nvPr/>
          </p:nvSpPr>
          <p:spPr>
            <a:xfrm flipH="1">
              <a:off x="6445080" y="5244840"/>
              <a:ext cx="6732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35"/>
            <p:cNvSpPr/>
            <p:nvPr/>
          </p:nvSpPr>
          <p:spPr>
            <a:xfrm>
              <a:off x="7300440" y="50292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tic </a:t>
              </a: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38"/>
          <p:cNvGrpSpPr/>
          <p:nvPr/>
        </p:nvGrpSpPr>
        <p:grpSpPr>
          <a:xfrm>
            <a:off x="1256040" y="3978360"/>
            <a:ext cx="2100960" cy="1062000"/>
            <a:chOff x="1256040" y="3978360"/>
            <a:chExt cx="2100960" cy="1062000"/>
          </a:xfrm>
        </p:grpSpPr>
        <p:sp>
          <p:nvSpPr>
            <p:cNvPr id="855" name="Rectangle 36"/>
            <p:cNvSpPr/>
            <p:nvPr/>
          </p:nvSpPr>
          <p:spPr>
            <a:xfrm>
              <a:off x="1256040" y="397836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no.cisc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89"/>
            <p:cNvSpPr/>
            <p:nvPr/>
          </p:nvSpPr>
          <p:spPr>
            <a:xfrm>
              <a:off x="2243160" y="4374720"/>
              <a:ext cx="717480" cy="66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Rectangle 17"/>
          <p:cNvSpPr/>
          <p:nvPr/>
        </p:nvSpPr>
        <p:spPr>
          <a:xfrm>
            <a:off x="2362320" y="5638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hone is a LISP si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04F1188C-52AC-4CAA-832E-597D95FF41AF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Mobile-Node Mo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862" name="Picture 7" descr=""/>
          <p:cNvPicPr/>
          <p:nvPr/>
        </p:nvPicPr>
        <p:blipFill>
          <a:blip r:embed="rId1"/>
          <a:stretch/>
        </p:blipFill>
        <p:spPr>
          <a:xfrm>
            <a:off x="230040" y="19051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16"/>
          <p:cNvSpPr/>
          <p:nvPr/>
        </p:nvSpPr>
        <p:spPr>
          <a:xfrm>
            <a:off x="78120" y="3276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4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18" descr="Picture 4"/>
          <p:cNvPicPr/>
          <p:nvPr/>
        </p:nvPicPr>
        <p:blipFill>
          <a:blip r:embed="rId2"/>
          <a:stretch/>
        </p:blipFill>
        <p:spPr>
          <a:xfrm flipH="1" rot="16171800">
            <a:off x="842040" y="3197520"/>
            <a:ext cx="609840" cy="4622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9" descr="Picture 4"/>
          <p:cNvPicPr/>
          <p:nvPr/>
        </p:nvPicPr>
        <p:blipFill>
          <a:blip r:embed="rId3"/>
          <a:stretch/>
        </p:blipFill>
        <p:spPr>
          <a:xfrm flipH="1" rot="16171800">
            <a:off x="842040" y="3883320"/>
            <a:ext cx="609840" cy="46224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20"/>
          <p:cNvSpPr/>
          <p:nvPr/>
        </p:nvSpPr>
        <p:spPr>
          <a:xfrm>
            <a:off x="78120" y="39625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5.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2"/>
          <p:cNvSpPr/>
          <p:nvPr/>
        </p:nvSpPr>
        <p:spPr>
          <a:xfrm>
            <a:off x="947520" y="327672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1013040" y="3962520"/>
            <a:ext cx="3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4"/>
          <p:cNvSpPr/>
          <p:nvPr/>
        </p:nvSpPr>
        <p:spPr>
          <a:xfrm>
            <a:off x="3505320" y="2492280"/>
            <a:ext cx="5562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1) 2 MNs can roam and stay conn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2) MNs can b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3) MNs roam without changing DNS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4) MNs can use multipl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5) MNs can control ingress packet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6) Faster hand-o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7) Low battery use by MS proxy-repl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8) And most importantly, packets have  stretch of 1 so latency is best for delay sensitiv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5"/>
          <p:cNvSpPr/>
          <p:nvPr/>
        </p:nvSpPr>
        <p:spPr>
          <a:xfrm>
            <a:off x="3561480" y="5181480"/>
            <a:ext cx="49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P-MN can scale to 1 billion hand-se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1"/>
          <p:cNvSpPr/>
          <p:nvPr/>
        </p:nvSpPr>
        <p:spPr>
          <a:xfrm>
            <a:off x="1321560" y="200484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p-Server: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64.1.1.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671760" y="1752480"/>
            <a:ext cx="29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ID-prefix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2610:00d0:xxxx::1/128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lementation Detai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roid and Linux LISP-MN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upports IPv4 or IPv6 E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ze direct kernel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chitect for robustnes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ze network stack complex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for 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D85754B-2A86-4E2F-B435-D7E6CEBAF25C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u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7617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er Hando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LISP-SEC to LISP-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o Coordinates for RLOC s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multi-homing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P-MN roaming in and out of LISP s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P-MN with NAT-Travers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gment pilot network for LISP-M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with concurrent end-point roa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with new mapping databas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205868A-3494-4DC1-BB4A-E2B59F4BA9D2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8A37D9B7-0CEE-4C28-A3FE-15341C29172D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SP is here now!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9140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implementation experienc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deployment experienc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real customer engagem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been that way for several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http://www.lisp{4,6}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http://lisp.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isp@ietf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isp-support@cisc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f . . .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could be serv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did not depend on any carri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bile device could roam across different types of radios without dropping sess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mobile device keeps the same IP address no matter where go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93DDB2F1-5E19-4059-99D3-A71C95EC1C2D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1A9DD2D-D7B6-4E07-B632-A14584D7527F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Locator/ID S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LIS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LISP-M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380A7672-E11B-43D0-8FA0-AE9022976DF4}" type="slidenum">
              <a:rPr b="1" lang="en-US" sz="11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oday – No ID/Locator Separ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70960" y="40957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mbers.cisc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1"/>
          <p:cNvSpPr/>
          <p:nvPr/>
        </p:nvSpPr>
        <p:spPr>
          <a:xfrm>
            <a:off x="3192480" y="1897200"/>
            <a:ext cx="509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the location ‘cisco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location ‘home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this John at ‘Starbucks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"/>
          <p:cNvSpPr/>
          <p:nvPr/>
        </p:nvSpPr>
        <p:spPr>
          <a:xfrm>
            <a:off x="3100320" y="3205080"/>
            <a:ext cx="57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I have a connection to John does it break because he changed loc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3"/>
          <p:cNvSpPr/>
          <p:nvPr/>
        </p:nvSpPr>
        <p:spPr>
          <a:xfrm>
            <a:off x="3774240" y="4302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8.133.219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29"/>
          <p:cNvGrpSpPr/>
          <p:nvPr/>
        </p:nvGrpSpPr>
        <p:grpSpPr>
          <a:xfrm>
            <a:off x="837000" y="4785840"/>
            <a:ext cx="1690920" cy="1097640"/>
            <a:chOff x="837000" y="4785840"/>
            <a:chExt cx="1690920" cy="1097640"/>
          </a:xfrm>
        </p:grpSpPr>
        <p:sp>
          <p:nvSpPr>
            <p:cNvPr id="520" name="Rectangle 12"/>
            <p:cNvSpPr/>
            <p:nvPr/>
          </p:nvSpPr>
          <p:spPr>
            <a:xfrm>
              <a:off x="837000" y="551520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Application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1" name="Straight Arrow Connector 16"/>
            <p:cNvCxnSpPr/>
            <p:nvPr/>
          </p:nvCxnSpPr>
          <p:spPr>
            <a:xfrm flipH="1" flipV="1">
              <a:off x="1558800" y="4785840"/>
              <a:ext cx="10440" cy="6825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22" name="Group 31"/>
          <p:cNvGrpSpPr/>
          <p:nvPr/>
        </p:nvGrpSpPr>
        <p:grpSpPr>
          <a:xfrm>
            <a:off x="5467320" y="4898880"/>
            <a:ext cx="2079720" cy="962280"/>
            <a:chOff x="5467320" y="4898880"/>
            <a:chExt cx="2079720" cy="962280"/>
          </a:xfrm>
        </p:grpSpPr>
        <p:sp>
          <p:nvSpPr>
            <p:cNvPr id="523" name="Rectangle 14"/>
            <p:cNvSpPr/>
            <p:nvPr/>
          </p:nvSpPr>
          <p:spPr>
            <a:xfrm>
              <a:off x="5467320" y="5492880"/>
              <a:ext cx="20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etwork 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Straight Arrow Connector 21"/>
            <p:cNvCxnSpPr/>
            <p:nvPr/>
          </p:nvCxnSpPr>
          <p:spPr>
            <a:xfrm>
              <a:off x="5544000" y="4898880"/>
              <a:ext cx="424080" cy="579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25" name="Group 30"/>
          <p:cNvGrpSpPr/>
          <p:nvPr/>
        </p:nvGrpSpPr>
        <p:grpSpPr>
          <a:xfrm>
            <a:off x="3388680" y="4897080"/>
            <a:ext cx="1406160" cy="987840"/>
            <a:chOff x="3388680" y="4897080"/>
            <a:chExt cx="1406160" cy="987840"/>
          </a:xfrm>
        </p:grpSpPr>
        <p:sp>
          <p:nvSpPr>
            <p:cNvPr id="526" name="Rectangle 13"/>
            <p:cNvSpPr/>
            <p:nvPr/>
          </p:nvSpPr>
          <p:spPr>
            <a:xfrm>
              <a:off x="3388680" y="5516640"/>
              <a:ext cx="14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Comic Sans MS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Straight Arrow Connector 27"/>
            <p:cNvCxnSpPr/>
            <p:nvPr/>
          </p:nvCxnSpPr>
          <p:spPr>
            <a:xfrm flipH="1">
              <a:off x="4336560" y="4897080"/>
              <a:ext cx="442800" cy="5922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528" name="Picture 27" descr="directory photo of John Chambers if avalable.jpeg"/>
          <p:cNvPicPr/>
          <p:nvPr/>
        </p:nvPicPr>
        <p:blipFill>
          <a:blip r:embed="rId1"/>
          <a:stretch/>
        </p:blipFill>
        <p:spPr>
          <a:xfrm>
            <a:off x="782640" y="1587600"/>
            <a:ext cx="1819440" cy="242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4" descr="Picture 2.png"/>
          <p:cNvPicPr/>
          <p:nvPr/>
        </p:nvPicPr>
        <p:blipFill>
          <a:blip r:embed="rId2"/>
          <a:stretch/>
        </p:blipFill>
        <p:spPr>
          <a:xfrm>
            <a:off x="703440" y="1562040"/>
            <a:ext cx="1936440" cy="2503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5" descr="Picture 4.png"/>
          <p:cNvPicPr/>
          <p:nvPr/>
        </p:nvPicPr>
        <p:blipFill>
          <a:blip r:embed="rId3"/>
          <a:stretch/>
        </p:blipFill>
        <p:spPr>
          <a:xfrm>
            <a:off x="695160" y="1389240"/>
            <a:ext cx="1947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61A6B185-9B90-4835-A4D6-74048A413681}" type="slidenum">
              <a:rPr b="1" lang="en-US" sz="11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6468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uture – With ID/Locator Separ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2692440" y="1774800"/>
            <a:ext cx="638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ervice binds to an Application Name (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DN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Application Name binds to a Endpoint ID (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EI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EID binds dynamically to a Routing Locator (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LO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680" y="44449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mbers.cisc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934360" y="43718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98.133.219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918000" y="4014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DN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6899400" y="4002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4046400" y="39956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172920" y="4375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4.100.10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31"/>
          <p:cNvGrpSpPr/>
          <p:nvPr/>
        </p:nvGrpSpPr>
        <p:grpSpPr>
          <a:xfrm>
            <a:off x="1351800" y="4979880"/>
            <a:ext cx="2608920" cy="956520"/>
            <a:chOff x="1351800" y="4979880"/>
            <a:chExt cx="2608920" cy="956520"/>
          </a:xfrm>
        </p:grpSpPr>
        <p:sp>
          <p:nvSpPr>
            <p:cNvPr id="543" name="Freeform 22"/>
            <p:cNvSpPr/>
            <p:nvPr/>
          </p:nvSpPr>
          <p:spPr>
            <a:xfrm>
              <a:off x="1560600" y="4979880"/>
              <a:ext cx="2400120" cy="53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5"/>
            <p:cNvSpPr/>
            <p:nvPr/>
          </p:nvSpPr>
          <p:spPr>
            <a:xfrm>
              <a:off x="1987920" y="51066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tatic bi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7"/>
            <p:cNvSpPr/>
            <p:nvPr/>
          </p:nvSpPr>
          <p:spPr>
            <a:xfrm>
              <a:off x="1351800" y="5629320"/>
              <a:ext cx="25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ovided by the </a:t>
              </a:r>
              <a:r>
                <a:rPr b="0" lang="en-US" sz="1400" spc="-1" strike="noStrike">
                  <a:solidFill>
                    <a:srgbClr val="008000"/>
                  </a:solidFill>
                  <a:latin typeface="Comic Sans MS"/>
                </a:rPr>
                <a:t>DNS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33"/>
          <p:cNvGrpSpPr/>
          <p:nvPr/>
        </p:nvGrpSpPr>
        <p:grpSpPr>
          <a:xfrm>
            <a:off x="4386600" y="4962600"/>
            <a:ext cx="3202920" cy="946800"/>
            <a:chOff x="4386600" y="4962600"/>
            <a:chExt cx="3202920" cy="946800"/>
          </a:xfrm>
        </p:grpSpPr>
        <p:sp>
          <p:nvSpPr>
            <p:cNvPr id="547" name="Freeform 23"/>
            <p:cNvSpPr/>
            <p:nvPr/>
          </p:nvSpPr>
          <p:spPr>
            <a:xfrm>
              <a:off x="4751280" y="4962600"/>
              <a:ext cx="2400480" cy="53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26"/>
            <p:cNvSpPr/>
            <p:nvPr/>
          </p:nvSpPr>
          <p:spPr>
            <a:xfrm>
              <a:off x="5156640" y="5110200"/>
              <a:ext cx="157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ynamic bi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8"/>
            <p:cNvSpPr/>
            <p:nvPr/>
          </p:nvSpPr>
          <p:spPr>
            <a:xfrm>
              <a:off x="4386600" y="5602320"/>
              <a:ext cx="32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ovided by the LISP 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routing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31" descr="directory photo of John Chambers if avalable.jpeg"/>
          <p:cNvPicPr/>
          <p:nvPr/>
        </p:nvPicPr>
        <p:blipFill>
          <a:blip r:embed="rId1"/>
          <a:stretch/>
        </p:blipFill>
        <p:spPr>
          <a:xfrm>
            <a:off x="743040" y="1617840"/>
            <a:ext cx="1819080" cy="242568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33"/>
          <p:cNvGrpSpPr/>
          <p:nvPr/>
        </p:nvGrpSpPr>
        <p:grpSpPr>
          <a:xfrm>
            <a:off x="297000" y="1566720"/>
            <a:ext cx="8797680" cy="2478240"/>
            <a:chOff x="297000" y="1566720"/>
            <a:chExt cx="8797680" cy="2478240"/>
          </a:xfrm>
        </p:grpSpPr>
        <p:sp>
          <p:nvSpPr>
            <p:cNvPr id="552" name="Rectangle 29"/>
            <p:cNvSpPr/>
            <p:nvPr/>
          </p:nvSpPr>
          <p:spPr>
            <a:xfrm>
              <a:off x="2714760" y="2938320"/>
              <a:ext cx="637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s use 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DNS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human “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who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s use 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EIDs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network “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who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outing uses 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LOCs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the network “</a:t>
              </a: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w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3" name="Picture 32" descr="imgres-1.jpeg"/>
            <p:cNvPicPr/>
            <p:nvPr/>
          </p:nvPicPr>
          <p:blipFill>
            <a:blip r:embed="rId2"/>
            <a:stretch/>
          </p:blipFill>
          <p:spPr>
            <a:xfrm>
              <a:off x="297000" y="1566720"/>
              <a:ext cx="2417040" cy="24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LISP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ew addressing architecture and protocol 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separating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d-point ID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-based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hanges to hosts whatsoe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addressing changes to site and core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few configuration file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erative to be incrementally deploy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family agno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428696E9-E0D6-44FF-B305-40979F4964E7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LISP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P is completely op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ed in the IRT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ly has an IETF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n IP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s of Researchers and Operators Contributed to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Vendors Intere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lot Network up for nearly 4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1 nodes in 25 count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ing a LISP-MN Pilot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server capabilities on Android ph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ing new mapping database systems and security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DD0CA186-E24F-4836-A30D-10FB0777FEC0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-Plane Flow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92784259-9857-4735-9731-C6F75E6D2464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3"/>
          <a:stretch/>
        </p:blipFill>
        <p:spPr>
          <a:xfrm>
            <a:off x="7010280" y="2209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Line 8"/>
          <p:cNvSpPr/>
          <p:nvPr/>
        </p:nvSpPr>
        <p:spPr>
          <a:xfrm flipV="1">
            <a:off x="2133720" y="236196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2133720" y="3124080"/>
            <a:ext cx="1218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6019920" y="2438280"/>
            <a:ext cx="1371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1"/>
          <p:cNvSpPr/>
          <p:nvPr/>
        </p:nvSpPr>
        <p:spPr>
          <a:xfrm flipV="1">
            <a:off x="6019920" y="3200040"/>
            <a:ext cx="1371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2" descr=""/>
          <p:cNvPicPr/>
          <p:nvPr/>
        </p:nvPicPr>
        <p:blipFill>
          <a:blip r:embed="rId4"/>
          <a:stretch/>
        </p:blipFill>
        <p:spPr>
          <a:xfrm>
            <a:off x="3200400" y="1981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3" descr=""/>
          <p:cNvPicPr/>
          <p:nvPr/>
        </p:nvPicPr>
        <p:blipFill>
          <a:blip r:embed="rId5"/>
          <a:stretch/>
        </p:blipFill>
        <p:spPr>
          <a:xfrm>
            <a:off x="3124080" y="29242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4"/>
          <p:cNvSpPr/>
          <p:nvPr/>
        </p:nvSpPr>
        <p:spPr>
          <a:xfrm>
            <a:off x="3566520" y="223848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0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484800" y="3184560"/>
            <a:ext cx="8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1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6"/>
          <p:cNvGrpSpPr/>
          <p:nvPr/>
        </p:nvGrpSpPr>
        <p:grpSpPr>
          <a:xfrm>
            <a:off x="771480" y="2700360"/>
            <a:ext cx="324000" cy="347400"/>
            <a:chOff x="771480" y="2700360"/>
            <a:chExt cx="324000" cy="347400"/>
          </a:xfrm>
        </p:grpSpPr>
        <p:sp>
          <p:nvSpPr>
            <p:cNvPr id="580" name="Oval 17"/>
            <p:cNvSpPr/>
            <p:nvPr/>
          </p:nvSpPr>
          <p:spPr>
            <a:xfrm>
              <a:off x="771480" y="2727360"/>
              <a:ext cx="324000" cy="293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8"/>
            <p:cNvSpPr/>
            <p:nvPr/>
          </p:nvSpPr>
          <p:spPr>
            <a:xfrm>
              <a:off x="783720" y="2700360"/>
              <a:ext cx="299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Text Box 19"/>
          <p:cNvSpPr/>
          <p:nvPr/>
        </p:nvSpPr>
        <p:spPr>
          <a:xfrm>
            <a:off x="1759320" y="22194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0"/>
          <p:cNvGrpSpPr/>
          <p:nvPr/>
        </p:nvGrpSpPr>
        <p:grpSpPr>
          <a:xfrm>
            <a:off x="8286840" y="2743200"/>
            <a:ext cx="323640" cy="347400"/>
            <a:chOff x="8286840" y="2743200"/>
            <a:chExt cx="323640" cy="347400"/>
          </a:xfrm>
        </p:grpSpPr>
        <p:sp>
          <p:nvSpPr>
            <p:cNvPr id="584" name="Oval 21"/>
            <p:cNvSpPr/>
            <p:nvPr/>
          </p:nvSpPr>
          <p:spPr>
            <a:xfrm>
              <a:off x="8286840" y="2770200"/>
              <a:ext cx="323640" cy="293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2"/>
            <p:cNvSpPr/>
            <p:nvPr/>
          </p:nvSpPr>
          <p:spPr>
            <a:xfrm>
              <a:off x="8299080" y="2743200"/>
              <a:ext cx="311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Text Box 23"/>
          <p:cNvSpPr/>
          <p:nvPr/>
        </p:nvSpPr>
        <p:spPr>
          <a:xfrm>
            <a:off x="1759320" y="2744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7252560" y="22096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5"/>
          <p:cNvSpPr/>
          <p:nvPr/>
        </p:nvSpPr>
        <p:spPr>
          <a:xfrm>
            <a:off x="7281360" y="28335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26" descr=""/>
          <p:cNvPicPr/>
          <p:nvPr/>
        </p:nvPicPr>
        <p:blipFill>
          <a:blip r:embed="rId6"/>
          <a:stretch/>
        </p:blipFill>
        <p:spPr>
          <a:xfrm>
            <a:off x="4724280" y="3124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7" descr=""/>
          <p:cNvPicPr/>
          <p:nvPr/>
        </p:nvPicPr>
        <p:blipFill>
          <a:blip r:embed="rId7"/>
          <a:stretch/>
        </p:blipFill>
        <p:spPr>
          <a:xfrm>
            <a:off x="4681440" y="19810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8"/>
          <p:cNvSpPr/>
          <p:nvPr/>
        </p:nvSpPr>
        <p:spPr>
          <a:xfrm>
            <a:off x="5087880" y="3352680"/>
            <a:ext cx="83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3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5006520" y="2238480"/>
            <a:ext cx="83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rovider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2.0.0.0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30"/>
          <p:cNvGrpSpPr/>
          <p:nvPr/>
        </p:nvGrpSpPr>
        <p:grpSpPr>
          <a:xfrm>
            <a:off x="1755720" y="2438280"/>
            <a:ext cx="380520" cy="307080"/>
            <a:chOff x="1755720" y="2438280"/>
            <a:chExt cx="380520" cy="307080"/>
          </a:xfrm>
        </p:grpSpPr>
        <p:sp>
          <p:nvSpPr>
            <p:cNvPr id="594" name="Rectangle 31"/>
            <p:cNvSpPr/>
            <p:nvPr/>
          </p:nvSpPr>
          <p:spPr>
            <a:xfrm>
              <a:off x="1795320" y="24382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2"/>
            <p:cNvSpPr/>
            <p:nvPr/>
          </p:nvSpPr>
          <p:spPr>
            <a:xfrm>
              <a:off x="1755720" y="243828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33"/>
          <p:cNvGrpSpPr/>
          <p:nvPr/>
        </p:nvGrpSpPr>
        <p:grpSpPr>
          <a:xfrm>
            <a:off x="1770120" y="2971800"/>
            <a:ext cx="380520" cy="307080"/>
            <a:chOff x="1770120" y="2971800"/>
            <a:chExt cx="380520" cy="307080"/>
          </a:xfrm>
        </p:grpSpPr>
        <p:sp>
          <p:nvSpPr>
            <p:cNvPr id="597" name="Rectangle 34"/>
            <p:cNvSpPr/>
            <p:nvPr/>
          </p:nvSpPr>
          <p:spPr>
            <a:xfrm>
              <a:off x="1795320" y="29718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35"/>
            <p:cNvSpPr/>
            <p:nvPr/>
          </p:nvSpPr>
          <p:spPr>
            <a:xfrm>
              <a:off x="1770120" y="297180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36"/>
          <p:cNvGrpSpPr/>
          <p:nvPr/>
        </p:nvGrpSpPr>
        <p:grpSpPr>
          <a:xfrm>
            <a:off x="7305120" y="2438280"/>
            <a:ext cx="412200" cy="307080"/>
            <a:chOff x="7305120" y="2438280"/>
            <a:chExt cx="412200" cy="307080"/>
          </a:xfrm>
        </p:grpSpPr>
        <p:sp>
          <p:nvSpPr>
            <p:cNvPr id="600" name="Rectangle 37"/>
            <p:cNvSpPr/>
            <p:nvPr/>
          </p:nvSpPr>
          <p:spPr>
            <a:xfrm>
              <a:off x="7358040" y="24382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38"/>
            <p:cNvSpPr/>
            <p:nvPr/>
          </p:nvSpPr>
          <p:spPr>
            <a:xfrm>
              <a:off x="7305120" y="243828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39"/>
          <p:cNvGrpSpPr/>
          <p:nvPr/>
        </p:nvGrpSpPr>
        <p:grpSpPr>
          <a:xfrm>
            <a:off x="7319520" y="3048120"/>
            <a:ext cx="412200" cy="307080"/>
            <a:chOff x="7319520" y="3048120"/>
            <a:chExt cx="412200" cy="307080"/>
          </a:xfrm>
        </p:grpSpPr>
        <p:sp>
          <p:nvSpPr>
            <p:cNvPr id="603" name="Rectangle 40"/>
            <p:cNvSpPr/>
            <p:nvPr/>
          </p:nvSpPr>
          <p:spPr>
            <a:xfrm>
              <a:off x="7358040" y="30481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41"/>
            <p:cNvSpPr/>
            <p:nvPr/>
          </p:nvSpPr>
          <p:spPr>
            <a:xfrm>
              <a:off x="7319520" y="304812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42"/>
          <p:cNvSpPr/>
          <p:nvPr/>
        </p:nvSpPr>
        <p:spPr>
          <a:xfrm>
            <a:off x="628200" y="1752480"/>
            <a:ext cx="22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I EID-prefix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1.0.0.0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3"/>
          <p:cNvSpPr/>
          <p:nvPr/>
        </p:nvSpPr>
        <p:spPr>
          <a:xfrm>
            <a:off x="6588360" y="1797120"/>
            <a:ext cx="22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I EID-prefix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2.0.0.0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4"/>
          <p:cNvSpPr/>
          <p:nvPr/>
        </p:nvSpPr>
        <p:spPr>
          <a:xfrm>
            <a:off x="152280" y="4419720"/>
            <a:ext cx="25146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S ent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.abc.com  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2.0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45"/>
          <p:cNvGrpSpPr/>
          <p:nvPr/>
        </p:nvGrpSpPr>
        <p:grpSpPr>
          <a:xfrm>
            <a:off x="1982880" y="3276720"/>
            <a:ext cx="4679280" cy="2913840"/>
            <a:chOff x="1982880" y="3276720"/>
            <a:chExt cx="4679280" cy="2913840"/>
          </a:xfrm>
        </p:grpSpPr>
        <p:sp>
          <p:nvSpPr>
            <p:cNvPr id="609" name="Line 46"/>
            <p:cNvSpPr/>
            <p:nvPr/>
          </p:nvSpPr>
          <p:spPr>
            <a:xfrm>
              <a:off x="1982880" y="3276720"/>
              <a:ext cx="9903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Group 47"/>
            <p:cNvGrpSpPr/>
            <p:nvPr/>
          </p:nvGrpSpPr>
          <p:grpSpPr>
            <a:xfrm>
              <a:off x="2480400" y="4910400"/>
              <a:ext cx="4181760" cy="1280160"/>
              <a:chOff x="2480400" y="4910400"/>
              <a:chExt cx="4181760" cy="1280160"/>
            </a:xfrm>
          </p:grpSpPr>
          <p:sp>
            <p:nvSpPr>
              <p:cNvPr id="611" name="Text Box 48"/>
              <p:cNvSpPr/>
              <p:nvPr/>
            </p:nvSpPr>
            <p:spPr>
              <a:xfrm>
                <a:off x="3494520" y="4910400"/>
                <a:ext cx="316764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EID-prefix:  </a:t>
                </a: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2.0.0.0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Locator-set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2.0.0.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, priority: 1, weight: 50 (D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3.0.0.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, priority: 1, weight: 50 (D2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AutoShape 49"/>
              <p:cNvSpPr/>
              <p:nvPr/>
            </p:nvSpPr>
            <p:spPr>
              <a:xfrm>
                <a:off x="3297240" y="495324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Text Box 50"/>
              <p:cNvSpPr/>
              <p:nvPr/>
            </p:nvSpPr>
            <p:spPr>
              <a:xfrm>
                <a:off x="2480400" y="5253120"/>
                <a:ext cx="9273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Ent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51"/>
          <p:cNvGrpSpPr/>
          <p:nvPr/>
        </p:nvGrpSpPr>
        <p:grpSpPr>
          <a:xfrm>
            <a:off x="28440" y="2743200"/>
            <a:ext cx="1600200" cy="1392840"/>
            <a:chOff x="28440" y="2743200"/>
            <a:chExt cx="1600200" cy="1392840"/>
          </a:xfrm>
        </p:grpSpPr>
        <p:grpSp>
          <p:nvGrpSpPr>
            <p:cNvPr id="615" name="Group 52"/>
            <p:cNvGrpSpPr/>
            <p:nvPr/>
          </p:nvGrpSpPr>
          <p:grpSpPr>
            <a:xfrm>
              <a:off x="28440" y="3810240"/>
              <a:ext cx="1600200" cy="325800"/>
              <a:chOff x="28440" y="3810240"/>
              <a:chExt cx="1600200" cy="325800"/>
            </a:xfrm>
          </p:grpSpPr>
          <p:sp>
            <p:nvSpPr>
              <p:cNvPr id="616" name="AutoShape 53"/>
              <p:cNvSpPr/>
              <p:nvPr/>
            </p:nvSpPr>
            <p:spPr>
              <a:xfrm>
                <a:off x="28440" y="381024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Text Box 54"/>
              <p:cNvSpPr/>
              <p:nvPr/>
            </p:nvSpPr>
            <p:spPr>
              <a:xfrm>
                <a:off x="93240" y="3828960"/>
                <a:ext cx="153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1.0.0.1 -&gt; 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Line 55"/>
            <p:cNvSpPr/>
            <p:nvPr/>
          </p:nvSpPr>
          <p:spPr>
            <a:xfrm flipV="1">
              <a:off x="1066680" y="2971440"/>
              <a:ext cx="228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56" descr=""/>
            <p:cNvPicPr/>
            <p:nvPr/>
          </p:nvPicPr>
          <p:blipFill>
            <a:blip r:embed="rId8"/>
            <a:stretch/>
          </p:blipFill>
          <p:spPr>
            <a:xfrm>
              <a:off x="1143000" y="27432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57"/>
          <p:cNvGrpSpPr/>
          <p:nvPr/>
        </p:nvGrpSpPr>
        <p:grpSpPr>
          <a:xfrm>
            <a:off x="1837800" y="3209760"/>
            <a:ext cx="1736640" cy="1602360"/>
            <a:chOff x="1837800" y="3209760"/>
            <a:chExt cx="1736640" cy="1602360"/>
          </a:xfrm>
        </p:grpSpPr>
        <p:sp>
          <p:nvSpPr>
            <p:cNvPr id="621" name="AutoShape 58"/>
            <p:cNvSpPr/>
            <p:nvPr/>
          </p:nvSpPr>
          <p:spPr>
            <a:xfrm>
              <a:off x="1890720" y="4124160"/>
              <a:ext cx="16002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59"/>
            <p:cNvGrpSpPr/>
            <p:nvPr/>
          </p:nvGrpSpPr>
          <p:grpSpPr>
            <a:xfrm>
              <a:off x="1837800" y="3209760"/>
              <a:ext cx="1736640" cy="1602360"/>
              <a:chOff x="1837800" y="3209760"/>
              <a:chExt cx="1736640" cy="1602360"/>
            </a:xfrm>
          </p:grpSpPr>
          <p:sp>
            <p:nvSpPr>
              <p:cNvPr id="623" name="Line 60"/>
              <p:cNvSpPr/>
              <p:nvPr/>
            </p:nvSpPr>
            <p:spPr>
              <a:xfrm flipV="1">
                <a:off x="2286000" y="3361680"/>
                <a:ext cx="22860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4" name="Picture 61" descr=""/>
              <p:cNvPicPr/>
              <p:nvPr/>
            </p:nvPicPr>
            <p:blipFill>
              <a:blip r:embed="rId9"/>
              <a:stretch/>
            </p:blipFill>
            <p:spPr>
              <a:xfrm>
                <a:off x="2362320" y="320976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5" name="Group 62"/>
              <p:cNvGrpSpPr/>
              <p:nvPr/>
            </p:nvGrpSpPr>
            <p:grpSpPr>
              <a:xfrm>
                <a:off x="1905120" y="4485960"/>
                <a:ext cx="1600200" cy="326160"/>
                <a:chOff x="1905120" y="4485960"/>
                <a:chExt cx="1600200" cy="326160"/>
              </a:xfrm>
            </p:grpSpPr>
            <p:sp>
              <p:nvSpPr>
                <p:cNvPr id="626" name="AutoShape 63"/>
                <p:cNvSpPr/>
                <p:nvPr/>
              </p:nvSpPr>
              <p:spPr>
                <a:xfrm>
                  <a:off x="1905120" y="4485960"/>
                  <a:ext cx="1600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64"/>
                <p:cNvSpPr/>
                <p:nvPr/>
              </p:nvSpPr>
              <p:spPr>
                <a:xfrm>
                  <a:off x="1969920" y="4505040"/>
                  <a:ext cx="153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cc99"/>
                      </a:solidFill>
                      <a:latin typeface="Comic Sans MS"/>
                    </a:rPr>
                    <a:t>1.0.0.1 -&gt; 2.0.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Text Box 65"/>
              <p:cNvSpPr/>
              <p:nvPr/>
            </p:nvSpPr>
            <p:spPr>
              <a:xfrm>
                <a:off x="1837800" y="4143240"/>
                <a:ext cx="17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1.0.0.1 -&gt; 1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29" name="Picture 67" descr=""/>
          <p:cNvPicPr/>
          <p:nvPr/>
        </p:nvPicPr>
        <p:blipFill>
          <a:blip r:embed="rId10"/>
          <a:stretch/>
        </p:blipFill>
        <p:spPr>
          <a:xfrm>
            <a:off x="4191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8" descr=""/>
          <p:cNvPicPr/>
          <p:nvPr/>
        </p:nvPicPr>
        <p:blipFill>
          <a:blip r:embed="rId11"/>
          <a:stretch/>
        </p:blipFill>
        <p:spPr>
          <a:xfrm>
            <a:off x="4724280" y="23623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69"/>
          <p:cNvGrpSpPr/>
          <p:nvPr/>
        </p:nvGrpSpPr>
        <p:grpSpPr>
          <a:xfrm>
            <a:off x="5731920" y="2590920"/>
            <a:ext cx="1736640" cy="2363400"/>
            <a:chOff x="5731920" y="2590920"/>
            <a:chExt cx="1736640" cy="2363400"/>
          </a:xfrm>
        </p:grpSpPr>
        <p:sp>
          <p:nvSpPr>
            <p:cNvPr id="632" name="Line 70"/>
            <p:cNvSpPr/>
            <p:nvPr/>
          </p:nvSpPr>
          <p:spPr>
            <a:xfrm flipV="1">
              <a:off x="6595920" y="2742480"/>
              <a:ext cx="1098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71" descr=""/>
            <p:cNvPicPr/>
            <p:nvPr/>
          </p:nvPicPr>
          <p:blipFill>
            <a:blip r:embed="rId12"/>
            <a:stretch/>
          </p:blipFill>
          <p:spPr>
            <a:xfrm>
              <a:off x="6553080" y="2590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Group 72"/>
            <p:cNvGrpSpPr/>
            <p:nvPr/>
          </p:nvGrpSpPr>
          <p:grpSpPr>
            <a:xfrm>
              <a:off x="5731920" y="4267080"/>
              <a:ext cx="1736640" cy="687240"/>
              <a:chOff x="5731920" y="4267080"/>
              <a:chExt cx="1736640" cy="687240"/>
            </a:xfrm>
          </p:grpSpPr>
          <p:sp>
            <p:nvSpPr>
              <p:cNvPr id="635" name="AutoShape 73"/>
              <p:cNvSpPr/>
              <p:nvPr/>
            </p:nvSpPr>
            <p:spPr>
              <a:xfrm>
                <a:off x="5784840" y="426708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6" name="Group 74"/>
              <p:cNvGrpSpPr/>
              <p:nvPr/>
            </p:nvGrpSpPr>
            <p:grpSpPr>
              <a:xfrm>
                <a:off x="5799240" y="4628520"/>
                <a:ext cx="1600200" cy="325800"/>
                <a:chOff x="5799240" y="4628520"/>
                <a:chExt cx="1600200" cy="325800"/>
              </a:xfrm>
            </p:grpSpPr>
            <p:sp>
              <p:nvSpPr>
                <p:cNvPr id="637" name="AutoShape 75"/>
                <p:cNvSpPr/>
                <p:nvPr/>
              </p:nvSpPr>
              <p:spPr>
                <a:xfrm>
                  <a:off x="5799240" y="4628520"/>
                  <a:ext cx="1600200" cy="304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Text Box 76"/>
                <p:cNvSpPr/>
                <p:nvPr/>
              </p:nvSpPr>
              <p:spPr>
                <a:xfrm>
                  <a:off x="5864040" y="4647240"/>
                  <a:ext cx="153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cc99"/>
                      </a:solidFill>
                      <a:latin typeface="Comic Sans MS"/>
                    </a:rPr>
                    <a:t>1.0.0.1 -&gt; 2.0.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Text Box 77"/>
              <p:cNvSpPr/>
              <p:nvPr/>
            </p:nvSpPr>
            <p:spPr>
              <a:xfrm>
                <a:off x="5731920" y="4285800"/>
                <a:ext cx="17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11.0.0.1 -&gt; 1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" name="Group 78"/>
          <p:cNvGrpSpPr/>
          <p:nvPr/>
        </p:nvGrpSpPr>
        <p:grpSpPr>
          <a:xfrm>
            <a:off x="7391520" y="2743200"/>
            <a:ext cx="1600200" cy="1392840"/>
            <a:chOff x="7391520" y="2743200"/>
            <a:chExt cx="1600200" cy="1392840"/>
          </a:xfrm>
        </p:grpSpPr>
        <p:grpSp>
          <p:nvGrpSpPr>
            <p:cNvPr id="641" name="Group 79"/>
            <p:cNvGrpSpPr/>
            <p:nvPr/>
          </p:nvGrpSpPr>
          <p:grpSpPr>
            <a:xfrm>
              <a:off x="7391520" y="3810240"/>
              <a:ext cx="1600200" cy="325800"/>
              <a:chOff x="7391520" y="3810240"/>
              <a:chExt cx="1600200" cy="325800"/>
            </a:xfrm>
          </p:grpSpPr>
          <p:sp>
            <p:nvSpPr>
              <p:cNvPr id="642" name="AutoShape 80"/>
              <p:cNvSpPr/>
              <p:nvPr/>
            </p:nvSpPr>
            <p:spPr>
              <a:xfrm>
                <a:off x="7391520" y="3810240"/>
                <a:ext cx="1600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81"/>
              <p:cNvSpPr/>
              <p:nvPr/>
            </p:nvSpPr>
            <p:spPr>
              <a:xfrm>
                <a:off x="7456320" y="3828960"/>
                <a:ext cx="153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cc99"/>
                    </a:solidFill>
                    <a:latin typeface="Comic Sans MS"/>
                  </a:rPr>
                  <a:t>1.0.0.1 -&gt; 2.0.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82"/>
            <p:cNvSpPr/>
            <p:nvPr/>
          </p:nvSpPr>
          <p:spPr>
            <a:xfrm flipH="1" flipV="1">
              <a:off x="8076960" y="2971440"/>
              <a:ext cx="1522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Picture 83" descr=""/>
            <p:cNvPicPr/>
            <p:nvPr/>
          </p:nvPicPr>
          <p:blipFill>
            <a:blip r:embed="rId13"/>
            <a:stretch/>
          </p:blipFill>
          <p:spPr>
            <a:xfrm>
              <a:off x="7896240" y="27432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Rectangle 84"/>
          <p:cNvSpPr/>
          <p:nvPr/>
        </p:nvSpPr>
        <p:spPr>
          <a:xfrm rot="461400">
            <a:off x="6773400" y="25254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2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85"/>
          <p:cNvSpPr/>
          <p:nvPr/>
        </p:nvSpPr>
        <p:spPr>
          <a:xfrm rot="20890200">
            <a:off x="6772680" y="30348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3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86"/>
          <p:cNvSpPr/>
          <p:nvPr/>
        </p:nvSpPr>
        <p:spPr>
          <a:xfrm rot="21053400">
            <a:off x="2050200" y="253656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7"/>
          <p:cNvSpPr/>
          <p:nvPr/>
        </p:nvSpPr>
        <p:spPr>
          <a:xfrm rot="354000">
            <a:off x="2052360" y="294588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11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88"/>
          <p:cNvGrpSpPr/>
          <p:nvPr/>
        </p:nvGrpSpPr>
        <p:grpSpPr>
          <a:xfrm>
            <a:off x="6832440" y="5591160"/>
            <a:ext cx="1930320" cy="533520"/>
            <a:chOff x="6832440" y="5591160"/>
            <a:chExt cx="1930320" cy="533520"/>
          </a:xfrm>
        </p:grpSpPr>
        <p:sp>
          <p:nvSpPr>
            <p:cNvPr id="651" name="AutoShape 89"/>
            <p:cNvSpPr/>
            <p:nvPr/>
          </p:nvSpPr>
          <p:spPr>
            <a:xfrm>
              <a:off x="6832440" y="5591160"/>
              <a:ext cx="152280" cy="533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90"/>
            <p:cNvSpPr/>
            <p:nvPr/>
          </p:nvSpPr>
          <p:spPr>
            <a:xfrm>
              <a:off x="7022880" y="5707080"/>
              <a:ext cx="173988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licy contro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y destination 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apping Database Syste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LISP-MN for Mob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IETF/IR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Slide </a:t>
            </a:r>
            <a:fld id="{567C2757-B46C-4454-89E2-11FC63EDFAC1}" type="slidenum">
              <a:rPr b="1" lang="en-US" sz="12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4" descr=""/>
          <p:cNvPicPr/>
          <p:nvPr/>
        </p:nvPicPr>
        <p:blipFill>
          <a:blip r:embed="rId1"/>
          <a:stretch/>
        </p:blipFill>
        <p:spPr>
          <a:xfrm>
            <a:off x="2209680" y="1903320"/>
            <a:ext cx="4800600" cy="3810240"/>
          </a:xfrm>
          <a:prstGeom prst="rect">
            <a:avLst/>
          </a:prstGeom>
          <a:ln w="0">
            <a:noFill/>
          </a:ln>
        </p:spPr>
      </p:pic>
      <p:sp>
        <p:nvSpPr>
          <p:cNvPr id="658" name="Line 78"/>
          <p:cNvSpPr/>
          <p:nvPr/>
        </p:nvSpPr>
        <p:spPr>
          <a:xfrm>
            <a:off x="40384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7"/>
          <p:cNvSpPr/>
          <p:nvPr/>
        </p:nvSpPr>
        <p:spPr>
          <a:xfrm>
            <a:off x="548640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75"/>
          <p:cNvSpPr/>
          <p:nvPr/>
        </p:nvSpPr>
        <p:spPr>
          <a:xfrm>
            <a:off x="40384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77"/>
          <p:cNvSpPr/>
          <p:nvPr/>
        </p:nvSpPr>
        <p:spPr>
          <a:xfrm>
            <a:off x="403848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79"/>
          <p:cNvSpPr/>
          <p:nvPr/>
        </p:nvSpPr>
        <p:spPr>
          <a:xfrm>
            <a:off x="548640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74"/>
          <p:cNvSpPr/>
          <p:nvPr/>
        </p:nvSpPr>
        <p:spPr>
          <a:xfrm>
            <a:off x="548640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260280" y="41148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665" name="Line 7"/>
          <p:cNvSpPr/>
          <p:nvPr/>
        </p:nvSpPr>
        <p:spPr>
          <a:xfrm>
            <a:off x="4191120" y="34383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9"/>
          <p:cNvGrpSpPr/>
          <p:nvPr/>
        </p:nvGrpSpPr>
        <p:grpSpPr>
          <a:xfrm>
            <a:off x="870120" y="4114800"/>
            <a:ext cx="533160" cy="307080"/>
            <a:chOff x="870120" y="4114800"/>
            <a:chExt cx="533160" cy="307080"/>
          </a:xfrm>
        </p:grpSpPr>
        <p:sp>
          <p:nvSpPr>
            <p:cNvPr id="667" name="Rectangle 14"/>
            <p:cNvSpPr/>
            <p:nvPr/>
          </p:nvSpPr>
          <p:spPr>
            <a:xfrm>
              <a:off x="870120" y="4114800"/>
              <a:ext cx="5331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5"/>
            <p:cNvSpPr/>
            <p:nvPr/>
          </p:nvSpPr>
          <p:spPr>
            <a:xfrm>
              <a:off x="889920" y="41148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31"/>
          <p:cNvGrpSpPr/>
          <p:nvPr/>
        </p:nvGrpSpPr>
        <p:grpSpPr>
          <a:xfrm>
            <a:off x="1022400" y="4267080"/>
            <a:ext cx="533520" cy="307080"/>
            <a:chOff x="1022400" y="4267080"/>
            <a:chExt cx="533520" cy="307080"/>
          </a:xfrm>
        </p:grpSpPr>
        <p:sp>
          <p:nvSpPr>
            <p:cNvPr id="670" name="Rectangle 32"/>
            <p:cNvSpPr/>
            <p:nvPr/>
          </p:nvSpPr>
          <p:spPr>
            <a:xfrm>
              <a:off x="1022400" y="42670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1042560" y="42670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58"/>
          <p:cNvGrpSpPr/>
          <p:nvPr/>
        </p:nvGrpSpPr>
        <p:grpSpPr>
          <a:xfrm>
            <a:off x="3735360" y="3276720"/>
            <a:ext cx="533520" cy="307080"/>
            <a:chOff x="3735360" y="3276720"/>
            <a:chExt cx="533520" cy="307080"/>
          </a:xfrm>
        </p:grpSpPr>
        <p:sp>
          <p:nvSpPr>
            <p:cNvPr id="673" name="Rectangle 59"/>
            <p:cNvSpPr/>
            <p:nvPr/>
          </p:nvSpPr>
          <p:spPr>
            <a:xfrm>
              <a:off x="3735360" y="3276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60"/>
            <p:cNvSpPr/>
            <p:nvPr/>
          </p:nvSpPr>
          <p:spPr>
            <a:xfrm>
              <a:off x="3756960" y="3276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67"/>
          <p:cNvGrpSpPr/>
          <p:nvPr/>
        </p:nvGrpSpPr>
        <p:grpSpPr>
          <a:xfrm>
            <a:off x="5180040" y="3276720"/>
            <a:ext cx="533520" cy="307080"/>
            <a:chOff x="5180040" y="3276720"/>
            <a:chExt cx="533520" cy="307080"/>
          </a:xfrm>
        </p:grpSpPr>
        <p:sp>
          <p:nvSpPr>
            <p:cNvPr id="676" name="Rectangle 68"/>
            <p:cNvSpPr/>
            <p:nvPr/>
          </p:nvSpPr>
          <p:spPr>
            <a:xfrm>
              <a:off x="5180040" y="3276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69"/>
            <p:cNvSpPr/>
            <p:nvPr/>
          </p:nvSpPr>
          <p:spPr>
            <a:xfrm>
              <a:off x="5201640" y="3276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Rectangle 73"/>
          <p:cNvSpPr/>
          <p:nvPr/>
        </p:nvSpPr>
        <p:spPr>
          <a:xfrm>
            <a:off x="4358160" y="2133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Comic Sans MS"/>
              </a:rPr>
              <a:t>LISP-AL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Comic Sans MS"/>
              </a:rPr>
              <a:t>BGP-over-G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86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4"/>
          <p:cNvSpPr/>
          <p:nvPr/>
        </p:nvSpPr>
        <p:spPr>
          <a:xfrm>
            <a:off x="556272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43"/>
          <p:cNvGrpSpPr/>
          <p:nvPr/>
        </p:nvGrpSpPr>
        <p:grpSpPr>
          <a:xfrm>
            <a:off x="6032520" y="4343400"/>
            <a:ext cx="439920" cy="307080"/>
            <a:chOff x="6032520" y="4343400"/>
            <a:chExt cx="439920" cy="307080"/>
          </a:xfrm>
        </p:grpSpPr>
        <p:sp>
          <p:nvSpPr>
            <p:cNvPr id="682" name="Rectangle 44"/>
            <p:cNvSpPr/>
            <p:nvPr/>
          </p:nvSpPr>
          <p:spPr>
            <a:xfrm>
              <a:off x="6093000" y="43434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45"/>
            <p:cNvSpPr/>
            <p:nvPr/>
          </p:nvSpPr>
          <p:spPr>
            <a:xfrm>
              <a:off x="6032520" y="434340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46"/>
          <p:cNvGrpSpPr/>
          <p:nvPr/>
        </p:nvGrpSpPr>
        <p:grpSpPr>
          <a:xfrm>
            <a:off x="6184800" y="4495680"/>
            <a:ext cx="439920" cy="307080"/>
            <a:chOff x="6184800" y="4495680"/>
            <a:chExt cx="439920" cy="307080"/>
          </a:xfrm>
        </p:grpSpPr>
        <p:sp>
          <p:nvSpPr>
            <p:cNvPr id="685" name="Rectangle 47"/>
            <p:cNvSpPr/>
            <p:nvPr/>
          </p:nvSpPr>
          <p:spPr>
            <a:xfrm>
              <a:off x="6245280" y="44956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48"/>
            <p:cNvSpPr/>
            <p:nvPr/>
          </p:nvSpPr>
          <p:spPr>
            <a:xfrm>
              <a:off x="6184800" y="449568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88"/>
          <p:cNvGrpSpPr/>
          <p:nvPr/>
        </p:nvGrpSpPr>
        <p:grpSpPr>
          <a:xfrm>
            <a:off x="5182920" y="4419720"/>
            <a:ext cx="533520" cy="307080"/>
            <a:chOff x="5182920" y="4419720"/>
            <a:chExt cx="533520" cy="307080"/>
          </a:xfrm>
        </p:grpSpPr>
        <p:sp>
          <p:nvSpPr>
            <p:cNvPr id="688" name="Rectangle 89"/>
            <p:cNvSpPr/>
            <p:nvPr/>
          </p:nvSpPr>
          <p:spPr>
            <a:xfrm>
              <a:off x="5182920" y="4419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90"/>
            <p:cNvSpPr/>
            <p:nvPr/>
          </p:nvSpPr>
          <p:spPr>
            <a:xfrm>
              <a:off x="5204520" y="4419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Line 96"/>
          <p:cNvSpPr/>
          <p:nvPr/>
        </p:nvSpPr>
        <p:spPr>
          <a:xfrm>
            <a:off x="3200400" y="4529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70"/>
          <p:cNvGrpSpPr/>
          <p:nvPr/>
        </p:nvGrpSpPr>
        <p:grpSpPr>
          <a:xfrm>
            <a:off x="3735360" y="4419720"/>
            <a:ext cx="533520" cy="307080"/>
            <a:chOff x="3735360" y="4419720"/>
            <a:chExt cx="533520" cy="307080"/>
          </a:xfrm>
        </p:grpSpPr>
        <p:sp>
          <p:nvSpPr>
            <p:cNvPr id="692" name="Rectangle 71"/>
            <p:cNvSpPr/>
            <p:nvPr/>
          </p:nvSpPr>
          <p:spPr>
            <a:xfrm>
              <a:off x="3735360" y="4419720"/>
              <a:ext cx="5335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72"/>
            <p:cNvSpPr/>
            <p:nvPr/>
          </p:nvSpPr>
          <p:spPr>
            <a:xfrm>
              <a:off x="3756960" y="4419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08080" y="4267080"/>
            <a:ext cx="439920" cy="307080"/>
            <a:chOff x="2908080" y="4267080"/>
            <a:chExt cx="439920" cy="307080"/>
          </a:xfrm>
        </p:grpSpPr>
        <p:sp>
          <p:nvSpPr>
            <p:cNvPr id="695" name="Rectangle 17"/>
            <p:cNvSpPr/>
            <p:nvPr/>
          </p:nvSpPr>
          <p:spPr>
            <a:xfrm>
              <a:off x="2968560" y="42670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8"/>
            <p:cNvSpPr/>
            <p:nvPr/>
          </p:nvSpPr>
          <p:spPr>
            <a:xfrm>
              <a:off x="2908080" y="426708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34"/>
          <p:cNvGrpSpPr/>
          <p:nvPr/>
        </p:nvGrpSpPr>
        <p:grpSpPr>
          <a:xfrm>
            <a:off x="3060720" y="4419720"/>
            <a:ext cx="439920" cy="307080"/>
            <a:chOff x="3060720" y="4419720"/>
            <a:chExt cx="439920" cy="307080"/>
          </a:xfrm>
        </p:grpSpPr>
        <p:sp>
          <p:nvSpPr>
            <p:cNvPr id="698" name="Rectangle 35"/>
            <p:cNvSpPr/>
            <p:nvPr/>
          </p:nvSpPr>
          <p:spPr>
            <a:xfrm>
              <a:off x="3121200" y="44197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36"/>
            <p:cNvSpPr/>
            <p:nvPr/>
          </p:nvSpPr>
          <p:spPr>
            <a:xfrm>
              <a:off x="3060720" y="4419720"/>
              <a:ext cx="4399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Line 105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49"/>
          <p:cNvGrpSpPr/>
          <p:nvPr/>
        </p:nvGrpSpPr>
        <p:grpSpPr>
          <a:xfrm>
            <a:off x="6019200" y="2743200"/>
            <a:ext cx="453600" cy="307080"/>
            <a:chOff x="6019200" y="2743200"/>
            <a:chExt cx="453600" cy="307080"/>
          </a:xfrm>
        </p:grpSpPr>
        <p:sp>
          <p:nvSpPr>
            <p:cNvPr id="702" name="Rectangle 50"/>
            <p:cNvSpPr/>
            <p:nvPr/>
          </p:nvSpPr>
          <p:spPr>
            <a:xfrm>
              <a:off x="6092640" y="2743200"/>
              <a:ext cx="3045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51"/>
            <p:cNvSpPr/>
            <p:nvPr/>
          </p:nvSpPr>
          <p:spPr>
            <a:xfrm>
              <a:off x="6019200" y="274320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52"/>
          <p:cNvGrpSpPr/>
          <p:nvPr/>
        </p:nvGrpSpPr>
        <p:grpSpPr>
          <a:xfrm>
            <a:off x="6171840" y="2895480"/>
            <a:ext cx="453600" cy="307080"/>
            <a:chOff x="6171840" y="2895480"/>
            <a:chExt cx="453600" cy="307080"/>
          </a:xfrm>
        </p:grpSpPr>
        <p:sp>
          <p:nvSpPr>
            <p:cNvPr id="705" name="Rectangle 53"/>
            <p:cNvSpPr/>
            <p:nvPr/>
          </p:nvSpPr>
          <p:spPr>
            <a:xfrm>
              <a:off x="6245280" y="28954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54"/>
            <p:cNvSpPr/>
            <p:nvPr/>
          </p:nvSpPr>
          <p:spPr>
            <a:xfrm>
              <a:off x="6171840" y="289548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80"/>
          <p:cNvGrpSpPr/>
          <p:nvPr/>
        </p:nvGrpSpPr>
        <p:grpSpPr>
          <a:xfrm>
            <a:off x="3735360" y="2743200"/>
            <a:ext cx="533520" cy="307080"/>
            <a:chOff x="3735360" y="2743200"/>
            <a:chExt cx="533520" cy="307080"/>
          </a:xfrm>
        </p:grpSpPr>
        <p:sp>
          <p:nvSpPr>
            <p:cNvPr id="708" name="Rectangle 81"/>
            <p:cNvSpPr/>
            <p:nvPr/>
          </p:nvSpPr>
          <p:spPr>
            <a:xfrm>
              <a:off x="373536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82"/>
            <p:cNvSpPr/>
            <p:nvPr/>
          </p:nvSpPr>
          <p:spPr>
            <a:xfrm>
              <a:off x="3756960" y="274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83"/>
          <p:cNvGrpSpPr/>
          <p:nvPr/>
        </p:nvGrpSpPr>
        <p:grpSpPr>
          <a:xfrm>
            <a:off x="5181480" y="2743200"/>
            <a:ext cx="533520" cy="307080"/>
            <a:chOff x="5181480" y="2743200"/>
            <a:chExt cx="533520" cy="307080"/>
          </a:xfrm>
        </p:grpSpPr>
        <p:sp>
          <p:nvSpPr>
            <p:cNvPr id="711" name="Rectangle 84"/>
            <p:cNvSpPr/>
            <p:nvPr/>
          </p:nvSpPr>
          <p:spPr>
            <a:xfrm>
              <a:off x="518148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85"/>
            <p:cNvSpPr/>
            <p:nvPr/>
          </p:nvSpPr>
          <p:spPr>
            <a:xfrm>
              <a:off x="5203080" y="274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99"/>
          <p:cNvGrpSpPr/>
          <p:nvPr/>
        </p:nvGrpSpPr>
        <p:grpSpPr>
          <a:xfrm>
            <a:off x="2971440" y="2743200"/>
            <a:ext cx="453600" cy="307080"/>
            <a:chOff x="2971440" y="2743200"/>
            <a:chExt cx="453600" cy="307080"/>
          </a:xfrm>
        </p:grpSpPr>
        <p:sp>
          <p:nvSpPr>
            <p:cNvPr id="714" name="Rectangle 100"/>
            <p:cNvSpPr/>
            <p:nvPr/>
          </p:nvSpPr>
          <p:spPr>
            <a:xfrm>
              <a:off x="3044880" y="274320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01"/>
            <p:cNvSpPr/>
            <p:nvPr/>
          </p:nvSpPr>
          <p:spPr>
            <a:xfrm>
              <a:off x="2971440" y="274320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102"/>
          <p:cNvGrpSpPr/>
          <p:nvPr/>
        </p:nvGrpSpPr>
        <p:grpSpPr>
          <a:xfrm>
            <a:off x="3123720" y="2895480"/>
            <a:ext cx="453600" cy="307080"/>
            <a:chOff x="3123720" y="2895480"/>
            <a:chExt cx="453600" cy="307080"/>
          </a:xfrm>
        </p:grpSpPr>
        <p:sp>
          <p:nvSpPr>
            <p:cNvPr id="717" name="Rectangle 103"/>
            <p:cNvSpPr/>
            <p:nvPr/>
          </p:nvSpPr>
          <p:spPr>
            <a:xfrm>
              <a:off x="3197160" y="289548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104"/>
            <p:cNvSpPr/>
            <p:nvPr/>
          </p:nvSpPr>
          <p:spPr>
            <a:xfrm>
              <a:off x="3123720" y="2895480"/>
              <a:ext cx="453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9" name="Picture 106" descr=""/>
          <p:cNvPicPr/>
          <p:nvPr/>
        </p:nvPicPr>
        <p:blipFill>
          <a:blip r:embed="rId3"/>
          <a:stretch/>
        </p:blipFill>
        <p:spPr>
          <a:xfrm>
            <a:off x="7162920" y="411480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107"/>
          <p:cNvGrpSpPr/>
          <p:nvPr/>
        </p:nvGrpSpPr>
        <p:grpSpPr>
          <a:xfrm>
            <a:off x="7772400" y="4114800"/>
            <a:ext cx="533520" cy="307080"/>
            <a:chOff x="7772400" y="4114800"/>
            <a:chExt cx="533520" cy="307080"/>
          </a:xfrm>
        </p:grpSpPr>
        <p:sp>
          <p:nvSpPr>
            <p:cNvPr id="721" name="Rectangle 108"/>
            <p:cNvSpPr/>
            <p:nvPr/>
          </p:nvSpPr>
          <p:spPr>
            <a:xfrm>
              <a:off x="7772400" y="41148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109"/>
            <p:cNvSpPr/>
            <p:nvPr/>
          </p:nvSpPr>
          <p:spPr>
            <a:xfrm>
              <a:off x="7792560" y="41148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110"/>
          <p:cNvGrpSpPr/>
          <p:nvPr/>
        </p:nvGrpSpPr>
        <p:grpSpPr>
          <a:xfrm>
            <a:off x="7924680" y="4267080"/>
            <a:ext cx="533520" cy="307080"/>
            <a:chOff x="7924680" y="4267080"/>
            <a:chExt cx="533520" cy="307080"/>
          </a:xfrm>
        </p:grpSpPr>
        <p:sp>
          <p:nvSpPr>
            <p:cNvPr id="724" name="Rectangle 111"/>
            <p:cNvSpPr/>
            <p:nvPr/>
          </p:nvSpPr>
          <p:spPr>
            <a:xfrm>
              <a:off x="7924680" y="42670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112"/>
            <p:cNvSpPr/>
            <p:nvPr/>
          </p:nvSpPr>
          <p:spPr>
            <a:xfrm>
              <a:off x="7944840" y="42670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6" name="Picture 113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16765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14"/>
          <p:cNvGrpSpPr/>
          <p:nvPr/>
        </p:nvGrpSpPr>
        <p:grpSpPr>
          <a:xfrm>
            <a:off x="1066680" y="2666880"/>
            <a:ext cx="533520" cy="307080"/>
            <a:chOff x="1066680" y="2666880"/>
            <a:chExt cx="533520" cy="307080"/>
          </a:xfrm>
        </p:grpSpPr>
        <p:sp>
          <p:nvSpPr>
            <p:cNvPr id="728" name="Rectangle 115"/>
            <p:cNvSpPr/>
            <p:nvPr/>
          </p:nvSpPr>
          <p:spPr>
            <a:xfrm>
              <a:off x="1066680" y="26668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16"/>
            <p:cNvSpPr/>
            <p:nvPr/>
          </p:nvSpPr>
          <p:spPr>
            <a:xfrm>
              <a:off x="1107360" y="266688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117"/>
          <p:cNvGrpSpPr/>
          <p:nvPr/>
        </p:nvGrpSpPr>
        <p:grpSpPr>
          <a:xfrm>
            <a:off x="1219320" y="2819520"/>
            <a:ext cx="533160" cy="307080"/>
            <a:chOff x="1219320" y="2819520"/>
            <a:chExt cx="533160" cy="307080"/>
          </a:xfrm>
        </p:grpSpPr>
        <p:sp>
          <p:nvSpPr>
            <p:cNvPr id="731" name="Rectangle 118"/>
            <p:cNvSpPr/>
            <p:nvPr/>
          </p:nvSpPr>
          <p:spPr>
            <a:xfrm>
              <a:off x="1219320" y="2819520"/>
              <a:ext cx="5331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119"/>
            <p:cNvSpPr/>
            <p:nvPr/>
          </p:nvSpPr>
          <p:spPr>
            <a:xfrm>
              <a:off x="1259280" y="281952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20" descr=""/>
          <p:cNvPicPr/>
          <p:nvPr/>
        </p:nvPicPr>
        <p:blipFill>
          <a:blip r:embed="rId5"/>
          <a:stretch/>
        </p:blipFill>
        <p:spPr>
          <a:xfrm>
            <a:off x="7162920" y="190512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21"/>
          <p:cNvGrpSpPr/>
          <p:nvPr/>
        </p:nvGrpSpPr>
        <p:grpSpPr>
          <a:xfrm>
            <a:off x="7848720" y="2057400"/>
            <a:ext cx="533160" cy="307080"/>
            <a:chOff x="7848720" y="2057400"/>
            <a:chExt cx="533160" cy="307080"/>
          </a:xfrm>
        </p:grpSpPr>
        <p:sp>
          <p:nvSpPr>
            <p:cNvPr id="735" name="Rectangle 122"/>
            <p:cNvSpPr/>
            <p:nvPr/>
          </p:nvSpPr>
          <p:spPr>
            <a:xfrm>
              <a:off x="7848720" y="2057400"/>
              <a:ext cx="5331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123"/>
            <p:cNvSpPr/>
            <p:nvPr/>
          </p:nvSpPr>
          <p:spPr>
            <a:xfrm>
              <a:off x="7888680" y="20574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124"/>
          <p:cNvGrpSpPr/>
          <p:nvPr/>
        </p:nvGrpSpPr>
        <p:grpSpPr>
          <a:xfrm>
            <a:off x="8001000" y="2209680"/>
            <a:ext cx="533520" cy="307080"/>
            <a:chOff x="8001000" y="2209680"/>
            <a:chExt cx="533520" cy="307080"/>
          </a:xfrm>
        </p:grpSpPr>
        <p:sp>
          <p:nvSpPr>
            <p:cNvPr id="738" name="Rectangle 125"/>
            <p:cNvSpPr/>
            <p:nvPr/>
          </p:nvSpPr>
          <p:spPr>
            <a:xfrm>
              <a:off x="8001000" y="22096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126"/>
            <p:cNvSpPr/>
            <p:nvPr/>
          </p:nvSpPr>
          <p:spPr>
            <a:xfrm>
              <a:off x="8041680" y="220968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Rectangle 130"/>
          <p:cNvSpPr/>
          <p:nvPr/>
        </p:nvSpPr>
        <p:spPr>
          <a:xfrm>
            <a:off x="3163680" y="251460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Comic Sans MS"/>
              </a:rPr>
              <a:t>Map-Request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31"/>
          <p:cNvSpPr/>
          <p:nvPr/>
        </p:nvSpPr>
        <p:spPr>
          <a:xfrm>
            <a:off x="3181320" y="480060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Comic Sans MS"/>
              </a:rPr>
              <a:t>&lt;-- Map-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32"/>
          <p:cNvSpPr/>
          <p:nvPr/>
        </p:nvSpPr>
        <p:spPr>
          <a:xfrm>
            <a:off x="4191120" y="4038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1"/>
          <p:cNvGrpSpPr/>
          <p:nvPr/>
        </p:nvGrpSpPr>
        <p:grpSpPr>
          <a:xfrm>
            <a:off x="3735360" y="3886200"/>
            <a:ext cx="533520" cy="307080"/>
            <a:chOff x="3735360" y="3886200"/>
            <a:chExt cx="533520" cy="307080"/>
          </a:xfrm>
        </p:grpSpPr>
        <p:sp>
          <p:nvSpPr>
            <p:cNvPr id="744" name="Rectangle 62"/>
            <p:cNvSpPr/>
            <p:nvPr/>
          </p:nvSpPr>
          <p:spPr>
            <a:xfrm>
              <a:off x="3735360" y="3886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63"/>
            <p:cNvSpPr/>
            <p:nvPr/>
          </p:nvSpPr>
          <p:spPr>
            <a:xfrm>
              <a:off x="375696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64"/>
          <p:cNvGrpSpPr/>
          <p:nvPr/>
        </p:nvGrpSpPr>
        <p:grpSpPr>
          <a:xfrm>
            <a:off x="5180040" y="3886200"/>
            <a:ext cx="533520" cy="307080"/>
            <a:chOff x="5180040" y="3886200"/>
            <a:chExt cx="533520" cy="307080"/>
          </a:xfrm>
        </p:grpSpPr>
        <p:sp>
          <p:nvSpPr>
            <p:cNvPr id="747" name="Rectangle 65"/>
            <p:cNvSpPr/>
            <p:nvPr/>
          </p:nvSpPr>
          <p:spPr>
            <a:xfrm>
              <a:off x="5180040" y="3886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66"/>
            <p:cNvSpPr/>
            <p:nvPr/>
          </p:nvSpPr>
          <p:spPr>
            <a:xfrm>
              <a:off x="520164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39"/>
          <p:cNvGrpSpPr/>
          <p:nvPr/>
        </p:nvGrpSpPr>
        <p:grpSpPr>
          <a:xfrm>
            <a:off x="7315200" y="2743200"/>
            <a:ext cx="533520" cy="307080"/>
            <a:chOff x="7315200" y="2743200"/>
            <a:chExt cx="533520" cy="307080"/>
          </a:xfrm>
        </p:grpSpPr>
        <p:sp>
          <p:nvSpPr>
            <p:cNvPr id="750" name="Rectangle 140"/>
            <p:cNvSpPr/>
            <p:nvPr/>
          </p:nvSpPr>
          <p:spPr>
            <a:xfrm>
              <a:off x="7315200" y="274320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41"/>
            <p:cNvSpPr/>
            <p:nvPr/>
          </p:nvSpPr>
          <p:spPr>
            <a:xfrm>
              <a:off x="7335360" y="274320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42"/>
          <p:cNvGrpSpPr/>
          <p:nvPr/>
        </p:nvGrpSpPr>
        <p:grpSpPr>
          <a:xfrm>
            <a:off x="7467480" y="2895480"/>
            <a:ext cx="533520" cy="307080"/>
            <a:chOff x="7467480" y="2895480"/>
            <a:chExt cx="533520" cy="307080"/>
          </a:xfrm>
        </p:grpSpPr>
        <p:sp>
          <p:nvSpPr>
            <p:cNvPr id="753" name="Rectangle 143"/>
            <p:cNvSpPr/>
            <p:nvPr/>
          </p:nvSpPr>
          <p:spPr>
            <a:xfrm>
              <a:off x="7467480" y="2895480"/>
              <a:ext cx="5335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144"/>
            <p:cNvSpPr/>
            <p:nvPr/>
          </p:nvSpPr>
          <p:spPr>
            <a:xfrm>
              <a:off x="7487640" y="28954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212"/>
          <p:cNvGrpSpPr/>
          <p:nvPr/>
        </p:nvGrpSpPr>
        <p:grpSpPr>
          <a:xfrm>
            <a:off x="1509480" y="3276720"/>
            <a:ext cx="6599880" cy="1373400"/>
            <a:chOff x="1509480" y="3276720"/>
            <a:chExt cx="6599880" cy="1373400"/>
          </a:xfrm>
        </p:grpSpPr>
        <p:grpSp>
          <p:nvGrpSpPr>
            <p:cNvPr id="756" name="Group 165"/>
            <p:cNvGrpSpPr/>
            <p:nvPr/>
          </p:nvGrpSpPr>
          <p:grpSpPr>
            <a:xfrm>
              <a:off x="6629400" y="3276720"/>
              <a:ext cx="1479960" cy="990720"/>
              <a:chOff x="6629400" y="3276720"/>
              <a:chExt cx="1479960" cy="990720"/>
            </a:xfrm>
          </p:grpSpPr>
          <p:sp>
            <p:nvSpPr>
              <p:cNvPr id="757" name="Rectangle 145"/>
              <p:cNvSpPr/>
              <p:nvPr/>
            </p:nvSpPr>
            <p:spPr>
              <a:xfrm>
                <a:off x="7084440" y="327672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149"/>
              <p:cNvSpPr/>
              <p:nvPr/>
            </p:nvSpPr>
            <p:spPr>
              <a:xfrm flipH="1">
                <a:off x="6629400" y="3505320"/>
                <a:ext cx="914400" cy="762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163"/>
            <p:cNvGrpSpPr/>
            <p:nvPr/>
          </p:nvGrpSpPr>
          <p:grpSpPr>
            <a:xfrm>
              <a:off x="1509480" y="4311720"/>
              <a:ext cx="1352880" cy="246240"/>
              <a:chOff x="1509480" y="4311720"/>
              <a:chExt cx="1352880" cy="246240"/>
            </a:xfrm>
          </p:grpSpPr>
          <p:sp>
            <p:nvSpPr>
              <p:cNvPr id="760" name="Rectangle 128"/>
              <p:cNvSpPr/>
              <p:nvPr/>
            </p:nvSpPr>
            <p:spPr>
              <a:xfrm>
                <a:off x="1509480" y="431172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61"/>
              <p:cNvSpPr/>
              <p:nvPr/>
            </p:nvSpPr>
            <p:spPr>
              <a:xfrm>
                <a:off x="2481120" y="4430880"/>
                <a:ext cx="381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167"/>
            <p:cNvGrpSpPr/>
            <p:nvPr/>
          </p:nvGrpSpPr>
          <p:grpSpPr>
            <a:xfrm>
              <a:off x="6653160" y="4403880"/>
              <a:ext cx="1350000" cy="246240"/>
              <a:chOff x="6653160" y="4403880"/>
              <a:chExt cx="1350000" cy="246240"/>
            </a:xfrm>
          </p:grpSpPr>
          <p:sp>
            <p:nvSpPr>
              <p:cNvPr id="763" name="Rectangle 129"/>
              <p:cNvSpPr/>
              <p:nvPr/>
            </p:nvSpPr>
            <p:spPr>
              <a:xfrm>
                <a:off x="6978240" y="4403880"/>
                <a:ext cx="102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gi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166"/>
              <p:cNvSpPr/>
              <p:nvPr/>
            </p:nvSpPr>
            <p:spPr>
              <a:xfrm flipH="1">
                <a:off x="6653160" y="45277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Group 170"/>
          <p:cNvGrpSpPr/>
          <p:nvPr/>
        </p:nvGrpSpPr>
        <p:grpSpPr>
          <a:xfrm>
            <a:off x="285480" y="5418000"/>
            <a:ext cx="2295360" cy="451080"/>
            <a:chOff x="285480" y="5418000"/>
            <a:chExt cx="2295360" cy="451080"/>
          </a:xfrm>
        </p:grpSpPr>
        <p:sp>
          <p:nvSpPr>
            <p:cNvPr id="766" name="Rectangle 157"/>
            <p:cNvSpPr/>
            <p:nvPr/>
          </p:nvSpPr>
          <p:spPr>
            <a:xfrm>
              <a:off x="546480" y="5622840"/>
              <a:ext cx="203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    </a:t>
              </a: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169"/>
            <p:cNvSpPr/>
            <p:nvPr/>
          </p:nvSpPr>
          <p:spPr>
            <a:xfrm>
              <a:off x="285480" y="541800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227"/>
          <p:cNvGrpSpPr/>
          <p:nvPr/>
        </p:nvGrpSpPr>
        <p:grpSpPr>
          <a:xfrm>
            <a:off x="6592320" y="5418000"/>
            <a:ext cx="2352240" cy="451080"/>
            <a:chOff x="6592320" y="5418000"/>
            <a:chExt cx="2352240" cy="451080"/>
          </a:xfrm>
        </p:grpSpPr>
        <p:sp>
          <p:nvSpPr>
            <p:cNvPr id="769" name="Rectangle 172"/>
            <p:cNvSpPr/>
            <p:nvPr/>
          </p:nvSpPr>
          <p:spPr>
            <a:xfrm>
              <a:off x="7044480" y="5622840"/>
              <a:ext cx="19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1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3.3.3.3, 4.4.4.4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73"/>
            <p:cNvSpPr/>
            <p:nvPr/>
          </p:nvSpPr>
          <p:spPr>
            <a:xfrm>
              <a:off x="6592320" y="541800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210"/>
          <p:cNvGrpSpPr/>
          <p:nvPr/>
        </p:nvGrpSpPr>
        <p:grpSpPr>
          <a:xfrm>
            <a:off x="1704240" y="2857680"/>
            <a:ext cx="1310400" cy="398520"/>
            <a:chOff x="1704240" y="2857680"/>
            <a:chExt cx="1310400" cy="398520"/>
          </a:xfrm>
        </p:grpSpPr>
        <p:grpSp>
          <p:nvGrpSpPr>
            <p:cNvPr id="772" name="Group 162"/>
            <p:cNvGrpSpPr/>
            <p:nvPr/>
          </p:nvGrpSpPr>
          <p:grpSpPr>
            <a:xfrm>
              <a:off x="1704240" y="2857680"/>
              <a:ext cx="1310400" cy="246240"/>
              <a:chOff x="1704240" y="2857680"/>
              <a:chExt cx="1310400" cy="246240"/>
            </a:xfrm>
          </p:grpSpPr>
          <p:sp>
            <p:nvSpPr>
              <p:cNvPr id="773" name="Rectangle 127"/>
              <p:cNvSpPr/>
              <p:nvPr/>
            </p:nvSpPr>
            <p:spPr>
              <a:xfrm>
                <a:off x="1704240" y="2857680"/>
                <a:ext cx="101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160"/>
              <p:cNvSpPr/>
              <p:nvPr/>
            </p:nvSpPr>
            <p:spPr>
              <a:xfrm>
                <a:off x="2633760" y="298296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99"/>
            <p:cNvSpPr/>
            <p:nvPr/>
          </p:nvSpPr>
          <p:spPr>
            <a:xfrm>
              <a:off x="1872720" y="300996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226"/>
          <p:cNvGrpSpPr/>
          <p:nvPr/>
        </p:nvGrpSpPr>
        <p:grpSpPr>
          <a:xfrm>
            <a:off x="544320" y="3260880"/>
            <a:ext cx="1933560" cy="855720"/>
            <a:chOff x="544320" y="3260880"/>
            <a:chExt cx="1933560" cy="855720"/>
          </a:xfrm>
        </p:grpSpPr>
        <p:grpSp>
          <p:nvGrpSpPr>
            <p:cNvPr id="777" name="Group 135"/>
            <p:cNvGrpSpPr/>
            <p:nvPr/>
          </p:nvGrpSpPr>
          <p:grpSpPr>
            <a:xfrm>
              <a:off x="986400" y="3260880"/>
              <a:ext cx="846720" cy="855720"/>
              <a:chOff x="986400" y="3260880"/>
              <a:chExt cx="846720" cy="855720"/>
            </a:xfrm>
          </p:grpSpPr>
          <p:sp>
            <p:nvSpPr>
              <p:cNvPr id="778" name="Rectangle 133"/>
              <p:cNvSpPr/>
              <p:nvPr/>
            </p:nvSpPr>
            <p:spPr>
              <a:xfrm>
                <a:off x="986400" y="3870360"/>
                <a:ext cx="84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9411b"/>
                    </a:solidFill>
                    <a:latin typeface="Comic Sans MS"/>
                  </a:rPr>
                  <a:t>Map-Re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134"/>
              <p:cNvSpPr/>
              <p:nvPr/>
            </p:nvSpPr>
            <p:spPr>
              <a:xfrm>
                <a:off x="1371600" y="326088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Rectangle 200"/>
            <p:cNvSpPr/>
            <p:nvPr/>
          </p:nvSpPr>
          <p:spPr>
            <a:xfrm>
              <a:off x="544320" y="3504960"/>
              <a:ext cx="19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202"/>
          <p:cNvGrpSpPr/>
          <p:nvPr/>
        </p:nvGrpSpPr>
        <p:grpSpPr>
          <a:xfrm>
            <a:off x="439560" y="2133720"/>
            <a:ext cx="2205360" cy="451080"/>
            <a:chOff x="439560" y="2133720"/>
            <a:chExt cx="2205360" cy="451080"/>
          </a:xfrm>
        </p:grpSpPr>
        <p:sp>
          <p:nvSpPr>
            <p:cNvPr id="782" name="Rectangle 203"/>
            <p:cNvSpPr/>
            <p:nvPr/>
          </p:nvSpPr>
          <p:spPr>
            <a:xfrm>
              <a:off x="677880" y="2338560"/>
              <a:ext cx="196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  </a:t>
              </a: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1.1.1.1, 2.2.2.2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204"/>
            <p:cNvSpPr/>
            <p:nvPr/>
          </p:nvSpPr>
          <p:spPr>
            <a:xfrm>
              <a:off x="439560" y="2133720"/>
              <a:ext cx="183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pping Cache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13"/>
          <p:cNvGrpSpPr/>
          <p:nvPr/>
        </p:nvGrpSpPr>
        <p:grpSpPr>
          <a:xfrm>
            <a:off x="2676960" y="4038480"/>
            <a:ext cx="4012200" cy="307440"/>
            <a:chOff x="2676960" y="4038480"/>
            <a:chExt cx="4012200" cy="307440"/>
          </a:xfrm>
        </p:grpSpPr>
        <p:sp>
          <p:nvSpPr>
            <p:cNvPr id="785" name="Rectangle 206"/>
            <p:cNvSpPr/>
            <p:nvPr/>
          </p:nvSpPr>
          <p:spPr>
            <a:xfrm>
              <a:off x="2676960" y="403848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Ser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207"/>
            <p:cNvSpPr/>
            <p:nvPr/>
          </p:nvSpPr>
          <p:spPr>
            <a:xfrm>
              <a:off x="5801400" y="411480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Ser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14"/>
          <p:cNvGrpSpPr/>
          <p:nvPr/>
        </p:nvGrpSpPr>
        <p:grpSpPr>
          <a:xfrm>
            <a:off x="2658240" y="3189240"/>
            <a:ext cx="4070520" cy="242280"/>
            <a:chOff x="2658240" y="3189240"/>
            <a:chExt cx="4070520" cy="242280"/>
          </a:xfrm>
        </p:grpSpPr>
        <p:sp>
          <p:nvSpPr>
            <p:cNvPr id="788" name="Rectangle 208"/>
            <p:cNvSpPr/>
            <p:nvPr/>
          </p:nvSpPr>
          <p:spPr>
            <a:xfrm>
              <a:off x="5717520" y="318924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Resol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9"/>
            <p:cNvSpPr/>
            <p:nvPr/>
          </p:nvSpPr>
          <p:spPr>
            <a:xfrm>
              <a:off x="2658240" y="320040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Comic Sans MS"/>
                </a:rPr>
                <a:t>Map-Resolv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21"/>
          <p:cNvGrpSpPr/>
          <p:nvPr/>
        </p:nvGrpSpPr>
        <p:grpSpPr>
          <a:xfrm>
            <a:off x="1523880" y="4784760"/>
            <a:ext cx="1339200" cy="398520"/>
            <a:chOff x="1523880" y="4784760"/>
            <a:chExt cx="1339200" cy="398520"/>
          </a:xfrm>
        </p:grpSpPr>
        <p:sp>
          <p:nvSpPr>
            <p:cNvPr id="791" name="Rectangle 218"/>
            <p:cNvSpPr/>
            <p:nvPr/>
          </p:nvSpPr>
          <p:spPr>
            <a:xfrm>
              <a:off x="1850400" y="4784760"/>
              <a:ext cx="101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9411b"/>
                  </a:solidFill>
                  <a:latin typeface="Comic Sans MS"/>
                </a:rPr>
                <a:t>Map-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19"/>
            <p:cNvSpPr/>
            <p:nvPr/>
          </p:nvSpPr>
          <p:spPr>
            <a:xfrm flipH="1">
              <a:off x="1523880" y="4903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20"/>
            <p:cNvSpPr/>
            <p:nvPr/>
          </p:nvSpPr>
          <p:spPr>
            <a:xfrm>
              <a:off x="2018520" y="49370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0.0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22"/>
          <p:cNvGrpSpPr/>
          <p:nvPr/>
        </p:nvGrpSpPr>
        <p:grpSpPr>
          <a:xfrm>
            <a:off x="6594120" y="1447920"/>
            <a:ext cx="2350440" cy="451080"/>
            <a:chOff x="6594120" y="1447920"/>
            <a:chExt cx="2350440" cy="451080"/>
          </a:xfrm>
        </p:grpSpPr>
        <p:sp>
          <p:nvSpPr>
            <p:cNvPr id="795" name="Rectangle 223"/>
            <p:cNvSpPr/>
            <p:nvPr/>
          </p:nvSpPr>
          <p:spPr>
            <a:xfrm>
              <a:off x="7044480" y="1652760"/>
              <a:ext cx="19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Comic Sans MS"/>
                </a:rPr>
                <a:t>12.0.0.0/8 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-&gt; (</a:t>
              </a: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5.5.5.5, 6.6.6.6</a:t>
              </a: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224"/>
            <p:cNvSpPr/>
            <p:nvPr/>
          </p:nvSpPr>
          <p:spPr>
            <a:xfrm>
              <a:off x="6594120" y="144792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atabase Mapping Entr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30"/>
          <p:cNvSpPr/>
          <p:nvPr/>
        </p:nvSpPr>
        <p:spPr>
          <a:xfrm>
            <a:off x="4032000" y="3048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Map-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30"/>
          <p:cNvSpPr/>
          <p:nvPr/>
        </p:nvSpPr>
        <p:spPr>
          <a:xfrm>
            <a:off x="4030560" y="4191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Map-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       </a:t>
            </a:r>
            <a:r>
              <a:rPr b="1" lang="en-US" sz="900" spc="-1" strike="noStrike">
                <a:solidFill>
                  <a:srgbClr val="00cc99"/>
                </a:solidFill>
                <a:latin typeface="Comic Sans MS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7:39:44Z</dcterms:created>
  <dc:creator>Dino Farinacci</dc:creator>
  <dc:description/>
  <dc:language>en-US</dc:language>
  <cp:lastModifiedBy>Dino Farinacci</cp:lastModifiedBy>
  <dcterms:modified xsi:type="dcterms:W3CDTF">2011-07-28T13:56:13Z</dcterms:modified>
  <cp:revision>467</cp:revision>
  <dc:subject/>
  <dc:title>MRIB Design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dino@prock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