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3B67-BA41-416A-9D26-D4FD6843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5AF9-4351-4E8A-90A6-656B5226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7B9-4746-4A79-96E4-93364251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D324-9419-4181-AD6F-1AA64E3F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C62-59EB-4B9F-AF09-69694309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5A0B-CFD9-4463-824C-8035551E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B6BE-44A8-4E29-AD2F-7A51D975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96DC-7725-42D9-8981-D1A6CE6C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C0FD-B1EF-4DFB-AD21-5BF89B99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B65D-BB4B-4E65-804C-DF2FAED9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9C5C-AE6D-4136-BF94-D744113B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212A-B112-4497-BDC6-6A3F4F5A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3E3F-90E9-4458-BA05-549F4366086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afir@orcki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aft-rkhd-mpls-tp-sd-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3048120"/>
            <a:ext cx="10058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TF 81          Jul 2011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fi Ram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afir@orckit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iel Cohn (danielc@orckit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ahiro Daikoku (ms-daikoku@kddi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 Yuxia (ma.yuxia@zte.com.c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ng Jian (yang.jian@zte.com.c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ssandro D’Alessandr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lessandro.dalessandro@telecomitalia.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raft provides guidelines for signal degrade fault condit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 is a trigger for transport path (LSP, PW)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 detection from server/sub-layer M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s using MPLS-TP OAM message to indicate SD condit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tended status to inform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LSP references to “transport pat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text to explain that common purpose of the SD detection guidelines is that SD should reflect physical error conditions (e.g. low rx power, dispersion, bad connections), rather than non-physical error conditions (e.g. congestion, CPU overlo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D detectio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degrade conditions MUST be monitored by the lowest server layer or sub-layer that is not terminated between monitoring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for determining signal degrade SHOULD allow to localize links that contribute to signal de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for determining signal degrade MUST be able to exit signal degrade condition when error rate returns to normal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for determining signal degrade condition MUST be sca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changes to other SD detectio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scenario where the lower-layer BER in each link traversed by the transport path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D threshold, but the accumulated BER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b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for lower-layer technologies where errored information is discarded (e.g. Ether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upport SD detection in these scenarios, nodes detecting high error rate MAY optionally include measured BER in link degradation fault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path client MEP declares SD based on the sum of received BER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 using encapsulation and mechanism defined in draft-ietf-mpls-tp-fault to send link degradation fault indication when SD is de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input into next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ormat and encapsulation of link degradation fault indication, based on draft-ietf-mpls-tp-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working group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? Comment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11:19:14Z</dcterms:created>
  <dc:creator>Corrigent</dc:creator>
  <dc:description/>
  <dc:language>en-US</dc:language>
  <cp:lastModifiedBy>Daniel Cohn</cp:lastModifiedBy>
  <dcterms:modified xsi:type="dcterms:W3CDTF">2011-07-20T07:50:35Z</dcterms:modified>
  <cp:revision>37</cp:revision>
  <dc:subject/>
  <dc:title>draft-rkhd-mpls-tp-sd-00</dc:title>
</cp:coreProperties>
</file>