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678-194A-4463-9DF8-DF85C79F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1B7-A44D-441D-BFD6-502E6C8E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CA8-BFAE-4A32-8561-7394A0DF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BF7-FAD4-43BD-AC8D-1436866A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16A-1B24-400C-8437-ED962B1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367-99F2-4547-9B0A-FB2EF5BF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6BC-0CF6-492C-AFA2-45645FCF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A62-BBF4-4A70-A733-40474354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D0D-A7F8-497A-A423-37022852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EA2-9618-400E-9C70-23B45D8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97D-2D27-48DB-BF11-CBDD88C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6D6-6FA0-452A-A172-7395307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740C-82BB-4CED-AF46-5D3E9AFA17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fir@orcki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ft-rkhd-mpls-tp-sd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1005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81          Jul 201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 Ram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fir@orcki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Cohn (danielc@orcki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hiro Daikoku (ms-daikoku@kddi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Yuxia (ma.yuxia@zte.com.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Jian (yang.jian@zte.com.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ssandro D’Alessandr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essandro.dalessandro@telecomitalia.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raft provides guidelines for signal degrade fault condi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 is a trigger for transport path (LSP, PW)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 detection from server/sub-layer M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s using MPLS-TP OAM message to indicate SD condi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tended status to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LSP references to “transport pa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ext to explain that common purpose of the SD detection guidelines is that SD should reflect physical error conditions (e.g. low rx power, dispersion, bad connections), rather than non-physical error conditions (e.g. congestion, CPU overl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D detec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degrade conditions MUST be monitored by the lowest server layer or sub-layer that is not terminated between monitor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determining signal degrade SHOULD allow to localize links that contribute to signal de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determining signal degrade MUST be able to exit signal degrade condition when error rate returns to norm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determining signal degrade condition MUST be 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changes to other SD detec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cenario where the lower-layer BER in each link traversed by the transport path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D threshold, but the accumulated BER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for lower-layer technologies where errored information is discarded (e.g. Eth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pport SD detection in these scenarios, nodes detecting high error rate MAY optionally include measured BER in link degradation faul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path client MEP declares SD based on the sum of received B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using encapsulation and mechanism defined in draft-ietf-mpls-tp-fault to send link degradation fault indication when SD i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input into next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ormat and encapsulation of link degradation fault indication, based on draft-ietf-mpls-tp-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working group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? Comm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1:19:14Z</dcterms:created>
  <dc:creator>Corrigent</dc:creator>
  <dc:description/>
  <dc:language>en-US</dc:language>
  <cp:lastModifiedBy>Daniel Cohn</cp:lastModifiedBy>
  <dcterms:modified xsi:type="dcterms:W3CDTF">2011-07-20T07:50:35Z</dcterms:modified>
  <cp:revision>37</cp:revision>
  <dc:subject/>
  <dc:title>draft-rkhd-mpls-tp-sd-00</dc:title>
</cp:coreProperties>
</file>