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6238800" y="858528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7240" y="8761320"/>
            <a:ext cx="261468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3, Cisco Systems, Inc. All rights reserved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52280" y="8775720"/>
            <a:ext cx="664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Num" idx="3"/>
          </p:nvPr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0003E1E-4E54-4FF9-B521-621C0A1BBF1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874440" y="244080"/>
            <a:ext cx="5306760" cy="397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3754534-ADC5-4DC4-9395-EB7EC366E8F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412009C-E239-4CA1-8C25-5F070D04FB9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F7BDA28-3531-48B4-907A-845665D70D8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34F00C7-380D-479B-9FC6-0DD90F1670F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7EA019C-5002-4BDE-A83F-745457C6935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B661408-4987-4785-9AD8-2CC9183A33D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83E41F6-2190-4FE1-B5CD-0C7E3A53BDD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50F73D2-7231-4F27-B62A-F14480ECF2C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DE4D557-4C1B-4087-A1CD-ABF4E40AB73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2323723-304C-4F86-B6CE-B72042E571E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0760" y="-17784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20760" y="-17784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0760" y="-17784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1592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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1640" indent="11592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150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D5323C8-890F-404F-B4E4-13E49226C60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15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2E21AED-3BB7-4240-9FB9-9314523EC76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157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4401F4D-F707-4DB2-9D6B-6E1719A7B77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6243"/>
          <p:cNvSpPr/>
          <p:nvPr/>
        </p:nvSpPr>
        <p:spPr>
          <a:xfrm>
            <a:off x="-3240" y="681120"/>
            <a:ext cx="9147240" cy="242640"/>
          </a:xfrm>
          <a:custGeom>
            <a:avLst/>
            <a:gdLst>
              <a:gd name="textAreaLeft" fmla="*/ 0 w 9147240"/>
              <a:gd name="textAreaRight" fmla="*/ 9147600 w 9147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727280" y="6590880"/>
            <a:ext cx="56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77th IETF, CCAMP WG, Anaheim, CA, USA</a:t>
            </a:r>
            <a:r>
              <a:rPr b="0" lang="en-US" sz="1400" spc="-1" strike="noStrike">
                <a:solidFill>
                  <a:srgbClr val="5f5f5f"/>
                </a:solidFill>
                <a:latin typeface="Times New Roman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9"/>
          <p:cNvSpPr/>
          <p:nvPr/>
        </p:nvSpPr>
        <p:spPr>
          <a:xfrm>
            <a:off x="0" y="223056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D037490-7F05-439C-A53F-BBB2C109E56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01"/>
          <p:cNvSpPr/>
          <p:nvPr/>
        </p:nvSpPr>
        <p:spPr>
          <a:xfrm>
            <a:off x="-6480" y="2039760"/>
            <a:ext cx="9147240" cy="243000"/>
          </a:xfrm>
          <a:custGeom>
            <a:avLst/>
            <a:gdLst>
              <a:gd name="textAreaLeft" fmla="*/ 0 w 9147240"/>
              <a:gd name="textAreaRight" fmla="*/ 9147600 w 91472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09"/>
          <p:cNvSpPr/>
          <p:nvPr/>
        </p:nvSpPr>
        <p:spPr>
          <a:xfrm>
            <a:off x="1892160" y="662940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ETF-81, MPLS WG, Quebec City, Canada, July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1592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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1640" indent="11592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150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0D65C9B-F88A-43E7-86CC-BDA3C9C8FAF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5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AE6F445-D8A4-4DA1-8227-ED41D335685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157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D7B6105-23B4-43B6-9EEA-1F6095BD11D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243"/>
          <p:cNvSpPr/>
          <p:nvPr/>
        </p:nvSpPr>
        <p:spPr>
          <a:xfrm>
            <a:off x="-3240" y="681120"/>
            <a:ext cx="9147240" cy="242640"/>
          </a:xfrm>
          <a:custGeom>
            <a:avLst/>
            <a:gdLst>
              <a:gd name="textAreaLeft" fmla="*/ 0 w 9147240"/>
              <a:gd name="textAreaRight" fmla="*/ 9147600 w 9147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1592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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1640" indent="11592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1727280" y="6590880"/>
            <a:ext cx="56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ETF-81, MPLS WG, Quebec City, Canada, July,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ali@cisco.com" TargetMode="External"/><Relationship Id="rId2" Type="http://schemas.openxmlformats.org/officeDocument/2006/relationships/hyperlink" Target="mailto:rgandhi@cisco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920" y="2463840"/>
            <a:ext cx="8380440" cy="2039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-ali-mpls-inter-domain-p2mp-rsvp-te-lsp-06.txt</a:t>
            </a:r>
            <a:br>
              <a:rPr sz="2700"/>
            </a:br>
            <a:br>
              <a:rPr sz="27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LS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F-81 Quebec City, Canad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,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6720" y="4721040"/>
            <a:ext cx="7312320" cy="1603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r: Rakesh Gand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s: Zafar Ali, Rakesh Gandh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 u="sng">
                <a:solidFill>
                  <a:srgbClr val="9999cc"/>
                </a:solidFill>
                <a:uFillTx/>
                <a:latin typeface="Times New Roman"/>
                <a:ea typeface="Times New Roman"/>
                <a:hlinkClick r:id="rId1"/>
              </a:rPr>
              <a:t>zali@cisco.c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 u="sng">
                <a:solidFill>
                  <a:srgbClr val="9999cc"/>
                </a:solidFill>
                <a:uFillTx/>
                <a:latin typeface="Times New Roman"/>
                <a:ea typeface="Times New Roman"/>
                <a:hlinkClick r:id="rId2"/>
              </a:rPr>
              <a:t>rgandhi@cisco.c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0360" y="-152280"/>
            <a:ext cx="8466120" cy="92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MP-TE Remer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4"/>
          <p:cNvCxnSpPr>
            <a:stCxn id="154" idx="10"/>
            <a:endCxn id="155" idx="10"/>
          </p:cNvCxnSpPr>
          <p:nvPr/>
        </p:nvCxnSpPr>
        <p:spPr>
          <a:xfrm flipH="1" flipV="1">
            <a:off x="1442160" y="1703160"/>
            <a:ext cx="381960" cy="39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Straight Arrow Connector 5"/>
          <p:cNvCxnSpPr>
            <a:stCxn id="157" idx="10"/>
            <a:endCxn id="158" idx="10"/>
          </p:cNvCxnSpPr>
          <p:nvPr/>
        </p:nvCxnSpPr>
        <p:spPr>
          <a:xfrm flipH="1" flipV="1">
            <a:off x="3881160" y="2222280"/>
            <a:ext cx="7624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Straight Arrow Connector 6"/>
          <p:cNvCxnSpPr>
            <a:stCxn id="160" idx="10"/>
            <a:endCxn id="155" idx="11"/>
          </p:cNvCxnSpPr>
          <p:nvPr/>
        </p:nvCxnSpPr>
        <p:spPr>
          <a:xfrm flipV="1">
            <a:off x="1366560" y="1702800"/>
            <a:ext cx="76680" cy="9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Straight Arrow Connector 7"/>
          <p:cNvCxnSpPr>
            <a:stCxn id="162" idx="10"/>
            <a:endCxn id="163" idx="10"/>
          </p:cNvCxnSpPr>
          <p:nvPr/>
        </p:nvCxnSpPr>
        <p:spPr>
          <a:xfrm flipH="1">
            <a:off x="2576160" y="1995480"/>
            <a:ext cx="434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Straight Arrow Connector 8"/>
          <p:cNvCxnSpPr>
            <a:stCxn id="165" idx="10"/>
            <a:endCxn id="166" idx="10"/>
          </p:cNvCxnSpPr>
          <p:nvPr/>
        </p:nvCxnSpPr>
        <p:spPr>
          <a:xfrm flipV="1">
            <a:off x="2538360" y="1493640"/>
            <a:ext cx="71208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Straight Arrow Connector 9"/>
          <p:cNvCxnSpPr>
            <a:stCxn id="166" idx="11"/>
            <a:endCxn id="168" idx="10"/>
          </p:cNvCxnSpPr>
          <p:nvPr/>
        </p:nvCxnSpPr>
        <p:spPr>
          <a:xfrm>
            <a:off x="3239640" y="1474560"/>
            <a:ext cx="24372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Straight Arrow Connector 10"/>
          <p:cNvCxnSpPr>
            <a:stCxn id="163" idx="11"/>
            <a:endCxn id="154" idx="11"/>
          </p:cNvCxnSpPr>
          <p:nvPr/>
        </p:nvCxnSpPr>
        <p:spPr>
          <a:xfrm flipH="1" flipV="1">
            <a:off x="1823760" y="2099880"/>
            <a:ext cx="7624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Straight Arrow Connector 11"/>
          <p:cNvCxnSpPr>
            <a:stCxn id="171" idx="10"/>
            <a:endCxn id="157" idx="11"/>
          </p:cNvCxnSpPr>
          <p:nvPr/>
        </p:nvCxnSpPr>
        <p:spPr>
          <a:xfrm flipH="1" flipV="1">
            <a:off x="4595400" y="2318760"/>
            <a:ext cx="8294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Straight Arrow Connector 12"/>
          <p:cNvCxnSpPr>
            <a:stCxn id="173" idx="10"/>
            <a:endCxn id="171" idx="11"/>
          </p:cNvCxnSpPr>
          <p:nvPr/>
        </p:nvCxnSpPr>
        <p:spPr>
          <a:xfrm flipH="1">
            <a:off x="5471280" y="2160720"/>
            <a:ext cx="1143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Straight Arrow Connector 13"/>
          <p:cNvCxnSpPr>
            <a:stCxn id="158" idx="11"/>
            <a:endCxn id="175" idx="10"/>
          </p:cNvCxnSpPr>
          <p:nvPr/>
        </p:nvCxnSpPr>
        <p:spPr>
          <a:xfrm>
            <a:off x="3881520" y="222228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Straight Arrow Connector 14"/>
          <p:cNvCxnSpPr>
            <a:stCxn id="158" idx="12"/>
            <a:endCxn id="177" idx="10"/>
          </p:cNvCxnSpPr>
          <p:nvPr/>
        </p:nvCxnSpPr>
        <p:spPr>
          <a:xfrm flipV="1">
            <a:off x="3881160" y="1745640"/>
            <a:ext cx="214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Straight Arrow Connector 15"/>
          <p:cNvCxnSpPr>
            <a:stCxn id="173" idx="11"/>
            <a:endCxn id="179" idx="10"/>
          </p:cNvCxnSpPr>
          <p:nvPr/>
        </p:nvCxnSpPr>
        <p:spPr>
          <a:xfrm flipH="1" flipV="1">
            <a:off x="5562000" y="1931400"/>
            <a:ext cx="10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Straight Arrow Connector 16"/>
          <p:cNvCxnSpPr>
            <a:stCxn id="181" idx="10"/>
            <a:endCxn id="173" idx="12"/>
          </p:cNvCxnSpPr>
          <p:nvPr/>
        </p:nvCxnSpPr>
        <p:spPr>
          <a:xfrm flipV="1">
            <a:off x="6372360" y="2160360"/>
            <a:ext cx="24336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Straight Arrow Connector 17"/>
          <p:cNvCxnSpPr>
            <a:stCxn id="183" idx="10"/>
            <a:endCxn id="179" idx="11"/>
          </p:cNvCxnSpPr>
          <p:nvPr/>
        </p:nvCxnSpPr>
        <p:spPr>
          <a:xfrm>
            <a:off x="4595400" y="1785960"/>
            <a:ext cx="9183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" name="Flowchart: Connector 33"/>
          <p:cNvSpPr/>
          <p:nvPr/>
        </p:nvSpPr>
        <p:spPr>
          <a:xfrm>
            <a:off x="264960" y="302256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19"/>
          <p:cNvCxnSpPr>
            <a:stCxn id="186" idx="10"/>
            <a:endCxn id="187" idx="10"/>
          </p:cNvCxnSpPr>
          <p:nvPr/>
        </p:nvCxnSpPr>
        <p:spPr>
          <a:xfrm flipV="1">
            <a:off x="518760" y="2928240"/>
            <a:ext cx="57204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Straight Arrow Connector 20"/>
          <p:cNvCxnSpPr>
            <a:stCxn id="189" idx="10"/>
            <a:endCxn id="186" idx="11"/>
          </p:cNvCxnSpPr>
          <p:nvPr/>
        </p:nvCxnSpPr>
        <p:spPr>
          <a:xfrm flipH="1" flipV="1">
            <a:off x="518760" y="3698640"/>
            <a:ext cx="12578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Flowchart: Connector 70"/>
          <p:cNvSpPr/>
          <p:nvPr/>
        </p:nvSpPr>
        <p:spPr>
          <a:xfrm>
            <a:off x="3084480" y="134604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traight Arrow Connector 22"/>
          <p:cNvCxnSpPr>
            <a:stCxn id="160" idx="11"/>
            <a:endCxn id="187" idx="11"/>
          </p:cNvCxnSpPr>
          <p:nvPr/>
        </p:nvCxnSpPr>
        <p:spPr>
          <a:xfrm flipH="1">
            <a:off x="1137600" y="2727360"/>
            <a:ext cx="1530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Straight Arrow Connector 23"/>
          <p:cNvCxnSpPr>
            <a:stCxn id="193" idx="10"/>
            <a:endCxn id="158" idx="13"/>
          </p:cNvCxnSpPr>
          <p:nvPr/>
        </p:nvCxnSpPr>
        <p:spPr>
          <a:xfrm flipV="1">
            <a:off x="3424320" y="222192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Straight Arrow Connector 24"/>
          <p:cNvCxnSpPr>
            <a:stCxn id="158" idx="14"/>
            <a:endCxn id="183" idx="11"/>
          </p:cNvCxnSpPr>
          <p:nvPr/>
        </p:nvCxnSpPr>
        <p:spPr>
          <a:xfrm flipV="1">
            <a:off x="3881520" y="1855080"/>
            <a:ext cx="76248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Straight Arrow Connector 25"/>
          <p:cNvCxnSpPr>
            <a:stCxn id="162" idx="11"/>
            <a:endCxn id="168" idx="11"/>
          </p:cNvCxnSpPr>
          <p:nvPr/>
        </p:nvCxnSpPr>
        <p:spPr>
          <a:xfrm flipV="1">
            <a:off x="3000240" y="1936440"/>
            <a:ext cx="51192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Straight Arrow Connector 26"/>
          <p:cNvCxnSpPr>
            <a:stCxn id="168" idx="12"/>
            <a:endCxn id="158" idx="15"/>
          </p:cNvCxnSpPr>
          <p:nvPr/>
        </p:nvCxnSpPr>
        <p:spPr>
          <a:xfrm>
            <a:off x="3530160" y="1977840"/>
            <a:ext cx="35136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Freeform 27"/>
          <p:cNvSpPr/>
          <p:nvPr/>
        </p:nvSpPr>
        <p:spPr>
          <a:xfrm>
            <a:off x="4532400" y="1727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28"/>
          <p:cNvSpPr/>
          <p:nvPr/>
        </p:nvSpPr>
        <p:spPr>
          <a:xfrm>
            <a:off x="3419640" y="1849320"/>
            <a:ext cx="244440" cy="243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9"/>
          <p:cNvSpPr/>
          <p:nvPr/>
        </p:nvSpPr>
        <p:spPr>
          <a:xfrm>
            <a:off x="449280" y="3632040"/>
            <a:ext cx="272880" cy="27324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0"/>
          <p:cNvSpPr/>
          <p:nvPr/>
        </p:nvSpPr>
        <p:spPr>
          <a:xfrm>
            <a:off x="3770280" y="2092320"/>
            <a:ext cx="244440" cy="2444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1"/>
          <p:cNvSpPr/>
          <p:nvPr/>
        </p:nvSpPr>
        <p:spPr>
          <a:xfrm>
            <a:off x="2884320" y="1908000"/>
            <a:ext cx="358920" cy="35892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2"/>
          <p:cNvSpPr/>
          <p:nvPr/>
        </p:nvSpPr>
        <p:spPr>
          <a:xfrm>
            <a:off x="3313080" y="2641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3"/>
          <p:cNvSpPr/>
          <p:nvPr/>
        </p:nvSpPr>
        <p:spPr>
          <a:xfrm>
            <a:off x="4227480" y="2641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4"/>
          <p:cNvSpPr/>
          <p:nvPr/>
        </p:nvSpPr>
        <p:spPr>
          <a:xfrm>
            <a:off x="1027080" y="2870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5"/>
          <p:cNvSpPr/>
          <p:nvPr/>
        </p:nvSpPr>
        <p:spPr>
          <a:xfrm>
            <a:off x="1712880" y="3784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6"/>
          <p:cNvSpPr/>
          <p:nvPr/>
        </p:nvSpPr>
        <p:spPr>
          <a:xfrm>
            <a:off x="3983040" y="1558800"/>
            <a:ext cx="244440" cy="2444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owchart: Connector 387"/>
          <p:cNvSpPr/>
          <p:nvPr/>
        </p:nvSpPr>
        <p:spPr>
          <a:xfrm>
            <a:off x="5452920" y="148284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8"/>
          <p:cNvSpPr/>
          <p:nvPr/>
        </p:nvSpPr>
        <p:spPr>
          <a:xfrm>
            <a:off x="5450040" y="1803240"/>
            <a:ext cx="244440" cy="24480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9"/>
          <p:cNvSpPr/>
          <p:nvPr/>
        </p:nvSpPr>
        <p:spPr>
          <a:xfrm>
            <a:off x="6504120" y="2031840"/>
            <a:ext cx="244440" cy="24480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40"/>
          <p:cNvSpPr/>
          <p:nvPr/>
        </p:nvSpPr>
        <p:spPr>
          <a:xfrm>
            <a:off x="6259680" y="2549520"/>
            <a:ext cx="244440" cy="2444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1"/>
          <p:cNvSpPr/>
          <p:nvPr/>
        </p:nvSpPr>
        <p:spPr>
          <a:xfrm>
            <a:off x="5361120" y="233676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2"/>
          <p:cNvSpPr/>
          <p:nvPr/>
        </p:nvSpPr>
        <p:spPr>
          <a:xfrm>
            <a:off x="4532400" y="2260440"/>
            <a:ext cx="244440" cy="24480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lowchart: Connector 123"/>
          <p:cNvSpPr/>
          <p:nvPr/>
        </p:nvSpPr>
        <p:spPr>
          <a:xfrm>
            <a:off x="1027080" y="122400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44"/>
          <p:cNvCxnSpPr>
            <a:stCxn id="160" idx="12"/>
            <a:endCxn id="154" idx="12"/>
          </p:cNvCxnSpPr>
          <p:nvPr/>
        </p:nvCxnSpPr>
        <p:spPr>
          <a:xfrm flipV="1">
            <a:off x="1366920" y="209952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Straight Arrow Connector 45"/>
          <p:cNvCxnSpPr>
            <a:stCxn id="155" idx="12"/>
            <a:endCxn id="165" idx="11"/>
          </p:cNvCxnSpPr>
          <p:nvPr/>
        </p:nvCxnSpPr>
        <p:spPr>
          <a:xfrm>
            <a:off x="1395000" y="1633320"/>
            <a:ext cx="113436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Freeform 46"/>
          <p:cNvSpPr/>
          <p:nvPr/>
        </p:nvSpPr>
        <p:spPr>
          <a:xfrm>
            <a:off x="2465280" y="16048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7"/>
          <p:cNvSpPr/>
          <p:nvPr/>
        </p:nvSpPr>
        <p:spPr>
          <a:xfrm>
            <a:off x="1712880" y="1971720"/>
            <a:ext cx="244440" cy="243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48"/>
          <p:cNvSpPr/>
          <p:nvPr/>
        </p:nvSpPr>
        <p:spPr>
          <a:xfrm>
            <a:off x="1255680" y="2519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9"/>
          <p:cNvSpPr/>
          <p:nvPr/>
        </p:nvSpPr>
        <p:spPr>
          <a:xfrm>
            <a:off x="2475000" y="213840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50"/>
          <p:cNvSpPr/>
          <p:nvPr/>
        </p:nvSpPr>
        <p:spPr>
          <a:xfrm>
            <a:off x="1332000" y="1574640"/>
            <a:ext cx="244440" cy="2448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51"/>
          <p:cNvSpPr/>
          <p:nvPr/>
        </p:nvSpPr>
        <p:spPr>
          <a:xfrm>
            <a:off x="3132000" y="1392120"/>
            <a:ext cx="452520" cy="34308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2"/>
          <p:cNvSpPr/>
          <p:nvPr/>
        </p:nvSpPr>
        <p:spPr>
          <a:xfrm>
            <a:off x="1879560" y="4632480"/>
            <a:ext cx="70153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6520" indent="-236520">
              <a:lnSpc>
                <a:spcPct val="9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VP-TE signaling based solutions to address these requirements are not defined in RFC4875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ove mentioned situation can even lead to infinite signaling loop, some destinations will never receive traffi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52"/>
          <p:cNvSpPr/>
          <p:nvPr/>
        </p:nvSpPr>
        <p:spPr>
          <a:xfrm>
            <a:off x="3392640" y="1612800"/>
            <a:ext cx="601560" cy="527040"/>
          </a:xfrm>
          <a:custGeom>
            <a:avLst/>
            <a:gdLst>
              <a:gd name="textAreaLeft" fmla="*/ 0 w 601560"/>
              <a:gd name="textAreaRight" fmla="*/ 601920 w 6015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250" h="195">
                <a:moveTo>
                  <a:pt x="0" y="0"/>
                </a:moveTo>
                <a:cubicBezTo>
                  <a:pt x="21" y="30"/>
                  <a:pt x="42" y="60"/>
                  <a:pt x="61" y="83"/>
                </a:cubicBezTo>
                <a:cubicBezTo>
                  <a:pt x="80" y="106"/>
                  <a:pt x="97" y="118"/>
                  <a:pt x="114" y="136"/>
                </a:cubicBezTo>
                <a:cubicBezTo>
                  <a:pt x="131" y="154"/>
                  <a:pt x="137" y="195"/>
                  <a:pt x="160" y="189"/>
                </a:cubicBezTo>
                <a:cubicBezTo>
                  <a:pt x="183" y="183"/>
                  <a:pt x="216" y="140"/>
                  <a:pt x="250" y="9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3"/>
          <p:cNvSpPr/>
          <p:nvPr/>
        </p:nvSpPr>
        <p:spPr>
          <a:xfrm>
            <a:off x="3249720" y="1974960"/>
            <a:ext cx="2165400" cy="444240"/>
          </a:xfrm>
          <a:custGeom>
            <a:avLst/>
            <a:gdLst>
              <a:gd name="textAreaLeft" fmla="*/ 0 w 2165400"/>
              <a:gd name="textAreaRight" fmla="*/ 2165400 w 216540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1364" h="280">
                <a:moveTo>
                  <a:pt x="0" y="105"/>
                </a:moveTo>
                <a:cubicBezTo>
                  <a:pt x="49" y="91"/>
                  <a:pt x="99" y="77"/>
                  <a:pt x="144" y="90"/>
                </a:cubicBezTo>
                <a:cubicBezTo>
                  <a:pt x="189" y="103"/>
                  <a:pt x="232" y="151"/>
                  <a:pt x="272" y="181"/>
                </a:cubicBezTo>
                <a:cubicBezTo>
                  <a:pt x="312" y="211"/>
                  <a:pt x="323" y="280"/>
                  <a:pt x="386" y="272"/>
                </a:cubicBezTo>
                <a:cubicBezTo>
                  <a:pt x="449" y="264"/>
                  <a:pt x="561" y="178"/>
                  <a:pt x="651" y="135"/>
                </a:cubicBezTo>
                <a:cubicBezTo>
                  <a:pt x="741" y="92"/>
                  <a:pt x="805" y="28"/>
                  <a:pt x="924" y="14"/>
                </a:cubicBezTo>
                <a:cubicBezTo>
                  <a:pt x="1043" y="0"/>
                  <a:pt x="1291" y="46"/>
                  <a:pt x="1364" y="52"/>
                </a:cubicBezTo>
              </a:path>
            </a:pathLst>
          </a:custGeom>
          <a:noFill/>
          <a:ln w="38160">
            <a:solidFill>
              <a:srgbClr val="3399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4"/>
          <p:cNvGrpSpPr/>
          <p:nvPr/>
        </p:nvGrpSpPr>
        <p:grpSpPr>
          <a:xfrm>
            <a:off x="758880" y="2255760"/>
            <a:ext cx="2558880" cy="1449360"/>
            <a:chOff x="758880" y="2255760"/>
            <a:chExt cx="2558880" cy="1449360"/>
          </a:xfrm>
        </p:grpSpPr>
        <p:sp>
          <p:nvSpPr>
            <p:cNvPr id="205" name="Freeform 55"/>
            <p:cNvSpPr/>
            <p:nvPr/>
          </p:nvSpPr>
          <p:spPr>
            <a:xfrm>
              <a:off x="758880" y="2255760"/>
              <a:ext cx="2222640" cy="1449360"/>
            </a:xfrm>
            <a:custGeom>
              <a:avLst/>
              <a:gdLst>
                <a:gd name="textAreaLeft" fmla="*/ 0 w 2222640"/>
                <a:gd name="textAreaRight" fmla="*/ 2223000 w 2222640"/>
                <a:gd name="textAreaTop" fmla="*/ 0 h 1449360"/>
                <a:gd name="textAreaBottom" fmla="*/ 1449360 h 1449360"/>
              </a:gdLst>
              <a:ahLst/>
              <a:rect l="textAreaLeft" t="textAreaTop" r="textAreaRight" b="textAreaBottom"/>
              <a:pathLst>
                <a:path w="1530" h="952">
                  <a:moveTo>
                    <a:pt x="0" y="952"/>
                  </a:moveTo>
                  <a:cubicBezTo>
                    <a:pt x="118" y="798"/>
                    <a:pt x="237" y="644"/>
                    <a:pt x="318" y="536"/>
                  </a:cubicBezTo>
                  <a:cubicBezTo>
                    <a:pt x="399" y="428"/>
                    <a:pt x="427" y="386"/>
                    <a:pt x="485" y="301"/>
                  </a:cubicBezTo>
                  <a:cubicBezTo>
                    <a:pt x="543" y="216"/>
                    <a:pt x="565" y="56"/>
                    <a:pt x="667" y="28"/>
                  </a:cubicBezTo>
                  <a:cubicBezTo>
                    <a:pt x="769" y="0"/>
                    <a:pt x="967" y="128"/>
                    <a:pt x="1099" y="134"/>
                  </a:cubicBezTo>
                  <a:cubicBezTo>
                    <a:pt x="1231" y="140"/>
                    <a:pt x="1394" y="82"/>
                    <a:pt x="1462" y="66"/>
                  </a:cubicBezTo>
                  <a:cubicBezTo>
                    <a:pt x="1530" y="50"/>
                    <a:pt x="1502" y="39"/>
                    <a:pt x="1508" y="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56"/>
            <p:cNvSpPr/>
            <p:nvPr/>
          </p:nvSpPr>
          <p:spPr>
            <a:xfrm>
              <a:off x="2329200" y="25509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RO-L (D1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57"/>
          <p:cNvGrpSpPr/>
          <p:nvPr/>
        </p:nvGrpSpPr>
        <p:grpSpPr>
          <a:xfrm>
            <a:off x="433440" y="1239840"/>
            <a:ext cx="3039840" cy="2356920"/>
            <a:chOff x="433440" y="1239840"/>
            <a:chExt cx="3039840" cy="2356920"/>
          </a:xfrm>
        </p:grpSpPr>
        <p:sp>
          <p:nvSpPr>
            <p:cNvPr id="208" name="Freeform 58"/>
            <p:cNvSpPr/>
            <p:nvPr/>
          </p:nvSpPr>
          <p:spPr>
            <a:xfrm>
              <a:off x="433440" y="1447560"/>
              <a:ext cx="2719440" cy="2149200"/>
            </a:xfrm>
            <a:custGeom>
              <a:avLst/>
              <a:gdLst>
                <a:gd name="textAreaLeft" fmla="*/ 0 w 2719440"/>
                <a:gd name="textAreaRight" fmla="*/ 2719800 w 27194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1713" h="1354">
                  <a:moveTo>
                    <a:pt x="0" y="1354"/>
                  </a:moveTo>
                  <a:cubicBezTo>
                    <a:pt x="155" y="1189"/>
                    <a:pt x="310" y="1025"/>
                    <a:pt x="387" y="899"/>
                  </a:cubicBezTo>
                  <a:cubicBezTo>
                    <a:pt x="464" y="773"/>
                    <a:pt x="446" y="694"/>
                    <a:pt x="462" y="596"/>
                  </a:cubicBezTo>
                  <a:cubicBezTo>
                    <a:pt x="478" y="498"/>
                    <a:pt x="477" y="389"/>
                    <a:pt x="485" y="308"/>
                  </a:cubicBezTo>
                  <a:cubicBezTo>
                    <a:pt x="493" y="227"/>
                    <a:pt x="469" y="160"/>
                    <a:pt x="508" y="111"/>
                  </a:cubicBezTo>
                  <a:cubicBezTo>
                    <a:pt x="547" y="62"/>
                    <a:pt x="652" y="26"/>
                    <a:pt x="720" y="13"/>
                  </a:cubicBezTo>
                  <a:cubicBezTo>
                    <a:pt x="788" y="0"/>
                    <a:pt x="848" y="30"/>
                    <a:pt x="917" y="35"/>
                  </a:cubicBezTo>
                  <a:cubicBezTo>
                    <a:pt x="986" y="40"/>
                    <a:pt x="1079" y="37"/>
                    <a:pt x="1137" y="43"/>
                  </a:cubicBezTo>
                  <a:cubicBezTo>
                    <a:pt x="1195" y="49"/>
                    <a:pt x="1224" y="67"/>
                    <a:pt x="1266" y="73"/>
                  </a:cubicBezTo>
                  <a:cubicBezTo>
                    <a:pt x="1308" y="79"/>
                    <a:pt x="1313" y="88"/>
                    <a:pt x="1387" y="81"/>
                  </a:cubicBezTo>
                  <a:cubicBezTo>
                    <a:pt x="1461" y="74"/>
                    <a:pt x="1657" y="38"/>
                    <a:pt x="1713" y="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9"/>
            <p:cNvSpPr/>
            <p:nvPr/>
          </p:nvSpPr>
          <p:spPr>
            <a:xfrm>
              <a:off x="2484720" y="123984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RO-L (D2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Oval 60"/>
          <p:cNvSpPr/>
          <p:nvPr/>
        </p:nvSpPr>
        <p:spPr>
          <a:xfrm>
            <a:off x="2043000" y="1803240"/>
            <a:ext cx="354240" cy="198720"/>
          </a:xfrm>
          <a:prstGeom prst="ellipse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1"/>
          <p:cNvSpPr/>
          <p:nvPr/>
        </p:nvSpPr>
        <p:spPr>
          <a:xfrm flipV="1">
            <a:off x="1935000" y="1944360"/>
            <a:ext cx="131760" cy="982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2"/>
          <p:cNvSpPr/>
          <p:nvPr/>
        </p:nvSpPr>
        <p:spPr>
          <a:xfrm>
            <a:off x="914400" y="1285920"/>
            <a:ext cx="312840" cy="222120"/>
          </a:xfrm>
          <a:prstGeom prst="ellipse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3"/>
          <p:cNvSpPr/>
          <p:nvPr/>
        </p:nvSpPr>
        <p:spPr>
          <a:xfrm flipH="1" flipV="1">
            <a:off x="1193400" y="1467000"/>
            <a:ext cx="190440" cy="1634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8"/>
          <p:cNvSpPr/>
          <p:nvPr/>
        </p:nvSpPr>
        <p:spPr>
          <a:xfrm>
            <a:off x="4352760" y="1062000"/>
            <a:ext cx="1371600" cy="457200"/>
          </a:xfrm>
          <a:prstGeom prst="borderCallout1">
            <a:avLst>
              <a:gd name="adj1" fmla="val 18750"/>
              <a:gd name="adj2" fmla="val -8333"/>
              <a:gd name="adj3" fmla="val 176388"/>
              <a:gd name="adj4" fmla="val -54166"/>
            </a:avLst>
          </a:prstGeom>
          <a:solidFill>
            <a:srgbClr val="ff0000">
              <a:alpha val="54000"/>
            </a:srgbClr>
          </a:solidFill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rge happens at (C) in domain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5"/>
          <p:cNvSpPr/>
          <p:nvPr/>
        </p:nvSpPr>
        <p:spPr>
          <a:xfrm>
            <a:off x="664560" y="4237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6"/>
          <p:cNvSpPr/>
          <p:nvPr/>
        </p:nvSpPr>
        <p:spPr>
          <a:xfrm>
            <a:off x="1404360" y="113364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7"/>
          <p:cNvSpPr/>
          <p:nvPr/>
        </p:nvSpPr>
        <p:spPr>
          <a:xfrm>
            <a:off x="3485880" y="288144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8"/>
          <p:cNvSpPr/>
          <p:nvPr/>
        </p:nvSpPr>
        <p:spPr>
          <a:xfrm>
            <a:off x="5836680" y="281448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0720" y="1440000"/>
            <a:ext cx="7940880" cy="378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10000"/>
              </a:lnSpc>
              <a:spcBef>
                <a:spcPts val="10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domain P2MP-TE - Problem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10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4875 - P2MP-TE Remerge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10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-plane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10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-plane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10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-177840"/>
            <a:ext cx="8466120" cy="92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domain P2MP-TE - Problem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9360" y="1079280"/>
            <a:ext cx="8483760" cy="5491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5000"/>
          </a:bodyPr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requirement for P2MP-TE LSP is to avoid re-merges as these are inefficient and result in duplication of traffi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"re-merge" refers to the situation when two S2L sub-LSPs branch at some point in the P2MP-TE Tree, and then merge back at another downstream n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inter-domain P2MP-TE LSP, re-merges can happen as different border nodes performing loose-hop ERO expansions do not have knowledge of the entire P2MP-TE LS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4875 (RSVP-TE extensions for P2MP-TE) does not address inter-domain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FC5151 (Inter-domain RSVP-TE extensions) does not address P2MP-T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FC4920 (Crankback signaling extensions) does not address P2MP-TE sign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0360" y="-177840"/>
            <a:ext cx="8466120" cy="92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4875 - P2MP-TE Remerge Handl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0720" y="1100160"/>
            <a:ext cx="8128080" cy="4883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4875 specifies two methods to handle P2MP-TE re-merge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plane method: the re-merge node initiate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mo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re-merge branch(es) by sending a Path Error messag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lane method: the re-merge nod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llo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e-merge to persist, but data from all but one incoming interface is dropped at the node. This ensures that duplicate data is not sent on any outgoing interfa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0360" y="-12744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-plane Method Exten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4160" y="1015920"/>
            <a:ext cx="856584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s selects th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me doma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r node for ERO expansion for all siblings transiting a given domain. Domain border nodes expand EROs for all siblings S2L such that the overall path taken by these siblings in the domain is remerge fre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nkback Signaling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nkback procedures defined in RFC 4920 can be applied to P2MP-TE LSPs to handle re-merge cond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require selection of same domain border node for all siblings transiting a given domai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blings that have failed the LSP setup, on receipt of a Path Error a domain border node may hold the Path Error for re-merg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omain border node may try to signal an alternate path through the domain, for siblings that have failed the LSP setup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subsequent attempt is successful, the domain border node discards the held Path Error messag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subsequent attempts are unsuccessful, the domain border node forwards the Path Error to the head-end nod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360" y="-1656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-plane Method Extension - Path Messa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4160" y="1015920"/>
            <a:ext cx="8565840" cy="5461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indicate transit nodes that P2MP-TE Re-merge Recording is requested, a new flag in the Attribute Flags TLV of the LSP_ATTRIBUTES object defined in [RFC 5420] is defined as follow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Number (to be assigned by IANA):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2MP-TE Re-merge Recording Request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2MP-TE Remerge Recording Request flag is meaningful on a Path message and can be inserted by the ingress node or a border nod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s the P2MP-TE Re-merge Present Flag (next slide)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O Attributes Sub-objec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3680" y="-1904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-plane Method Extension - Resv Messa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68200" y="1030320"/>
            <a:ext cx="8328240" cy="5484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node understands the "P2MP-TE Re-merge Recording Request” in the Attribute Flags TLV of the LSP_ATTRIBUTES object of the Path message, the node SHOULD set the newly defined "P2MP-TE Re-merge Present" flag in the RRO Attributes sub-object defined in [RFC 5420] in RR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Number (same bit number assigned for P2MP-TE Re-merge Recording Request flag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P2MP-TE Re-merge Present fla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ence of P2MP-TE Re-merge Present flag indicates that the S2L is causing a re-merge. The re-merge has been accepted but the incoming traffic on this S2L is dropped by the reporting nod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extension allows a border node and/or a head-end to optimize bandwidth at some later time in future while immediately starting the traffic to all possible destinations of the inter-area P2MP-TE LS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0360" y="-1656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68200" y="1890720"/>
            <a:ext cx="8142480" cy="3005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ould like to make this document a WG Docum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509840" y="1890720"/>
            <a:ext cx="6208560" cy="3005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20:17:15Z</dcterms:created>
  <dc:creator>Cisco User</dc:creator>
  <dc:description/>
  <dc:language>en-US</dc:language>
  <cp:lastModifiedBy>Zafar Ali (zali)</cp:lastModifiedBy>
  <cp:lastPrinted>1999-01-27T00:54:54Z</cp:lastPrinted>
  <dcterms:modified xsi:type="dcterms:W3CDTF">2011-07-21T18:13:21Z</dcterms:modified>
  <cp:revision>792</cp:revision>
  <dc:subject>Guide for Creating Powerpoint Presentations</dc:subject>
  <dc:title>PRESENTATION TITLE/SIZE 30</dc:title>
</cp:coreProperties>
</file>