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6238800" y="8585280"/>
            <a:ext cx="449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57240" y="8761320"/>
            <a:ext cx="261468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3, Cisco Systems, Inc. All rights reserved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sentation_ID.sc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152280" y="8775720"/>
            <a:ext cx="664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Num" idx="3"/>
          </p:nvPr>
        </p:nvSpPr>
        <p:spPr>
          <a:xfrm>
            <a:off x="5918040" y="8656560"/>
            <a:ext cx="812880" cy="287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746FB871-1487-4978-AB13-C25B63880F81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ldImg"/>
          </p:nvPr>
        </p:nvSpPr>
        <p:spPr>
          <a:xfrm>
            <a:off x="874440" y="244080"/>
            <a:ext cx="5306760" cy="397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body"/>
          </p:nvPr>
        </p:nvSpPr>
        <p:spPr>
          <a:xfrm>
            <a:off x="402840" y="4365360"/>
            <a:ext cx="6110280" cy="4241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74800" y="244440"/>
            <a:ext cx="5306760" cy="39798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02840" y="4365360"/>
            <a:ext cx="611028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5918040" y="8656560"/>
            <a:ext cx="812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B8AA2C65-EC0A-4556-A465-C27B0688B11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74800" y="244440"/>
            <a:ext cx="5306760" cy="39798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02840" y="4365360"/>
            <a:ext cx="611028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5918040" y="8656560"/>
            <a:ext cx="812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BD3BA11F-679A-44C2-8E6B-879B9A92A2A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874800" y="244440"/>
            <a:ext cx="5306760" cy="39798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02840" y="4365360"/>
            <a:ext cx="611028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5918040" y="8656560"/>
            <a:ext cx="812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823D60E5-CBE5-464D-84A5-3F178A9DEBE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74800" y="244440"/>
            <a:ext cx="5306760" cy="3979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02840" y="4365360"/>
            <a:ext cx="611028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5918040" y="8656560"/>
            <a:ext cx="812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561B51A6-21E9-4C44-8330-A211BC5B2F2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74800" y="244440"/>
            <a:ext cx="5306760" cy="39798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02840" y="4365360"/>
            <a:ext cx="611028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5918040" y="8656560"/>
            <a:ext cx="812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BD9A6477-1BBD-4F3E-AE92-4DAED348C2E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74800" y="244440"/>
            <a:ext cx="5306760" cy="39798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02840" y="4365360"/>
            <a:ext cx="611028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5918040" y="8656560"/>
            <a:ext cx="812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C46D6161-0308-4349-8848-9A73418B8F1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74800" y="244440"/>
            <a:ext cx="5306760" cy="39798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02840" y="4365360"/>
            <a:ext cx="611028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5918040" y="8656560"/>
            <a:ext cx="812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CC127A49-629A-4D10-8427-2DABD1D88C7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74800" y="244440"/>
            <a:ext cx="5306760" cy="39798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02840" y="4365360"/>
            <a:ext cx="611028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5918040" y="8656560"/>
            <a:ext cx="812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99981786-1D1C-4680-ABE1-7D3C9A74584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74800" y="244440"/>
            <a:ext cx="5306760" cy="39798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02840" y="4365360"/>
            <a:ext cx="611028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5918040" y="8656560"/>
            <a:ext cx="812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AA0F8011-4D8F-43AE-BC59-C8B0A37B455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74800" y="244440"/>
            <a:ext cx="5306760" cy="39798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02840" y="4365360"/>
            <a:ext cx="611028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5918040" y="8656560"/>
            <a:ext cx="812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835566B0-4D80-4125-AE5D-BBB5FAF25C6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20760" y="-177840"/>
            <a:ext cx="8145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20760" y="-177840"/>
            <a:ext cx="8145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0760" y="-177840"/>
            <a:ext cx="8145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34000" indent="-234000">
              <a:lnSpc>
                <a:spcPct val="110000"/>
              </a:lnSpc>
              <a:spcBef>
                <a:spcPts val="901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15920">
              <a:lnSpc>
                <a:spcPct val="110000"/>
              </a:lnSpc>
              <a:spcBef>
                <a:spcPts val="901"/>
              </a:spcBef>
              <a:buClr>
                <a:srgbClr val="2a547e"/>
              </a:buClr>
              <a:buFont typeface="Wingdings" charset="2"/>
              <a:buChar char="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lnSpc>
                <a:spcPct val="110000"/>
              </a:lnSpc>
              <a:spcBef>
                <a:spcPts val="901"/>
              </a:spcBef>
              <a:buClr>
                <a:srgbClr val="2a547e"/>
              </a:buClr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41640" indent="11592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88680" indent="22140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88680" indent="22140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88680" indent="22140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150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19CD9595-85C1-42AD-B23E-3D9C3AF20EDB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154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E611C2C7-8DFC-41F7-8951-FBA7B3413604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157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C3EAC8C-9D02-46A9-B3F6-634BAD6FF2A6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6243"/>
          <p:cNvSpPr/>
          <p:nvPr/>
        </p:nvSpPr>
        <p:spPr>
          <a:xfrm>
            <a:off x="-3240" y="681120"/>
            <a:ext cx="9147240" cy="242640"/>
          </a:xfrm>
          <a:custGeom>
            <a:avLst/>
            <a:gdLst>
              <a:gd name="textAreaLeft" fmla="*/ 0 w 9147240"/>
              <a:gd name="textAreaRight" fmla="*/ 9147600 w 914724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5762" h="153">
                <a:moveTo>
                  <a:pt x="0" y="153"/>
                </a:moveTo>
                <a:lnTo>
                  <a:pt x="0" y="72"/>
                </a:lnTo>
                <a:lnTo>
                  <a:pt x="3846" y="71"/>
                </a:lnTo>
                <a:lnTo>
                  <a:pt x="3913" y="0"/>
                </a:lnTo>
                <a:lnTo>
                  <a:pt x="5762" y="0"/>
                </a:lnTo>
                <a:lnTo>
                  <a:pt x="5761" y="153"/>
                </a:lnTo>
                <a:lnTo>
                  <a:pt x="0" y="153"/>
                </a:lnTo>
                <a:close/>
              </a:path>
            </a:pathLst>
          </a:cu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1727280" y="6590880"/>
            <a:ext cx="5689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77th IETF, CCAMP WG, Anaheim, CA, USA</a:t>
            </a:r>
            <a:r>
              <a:rPr b="0" lang="en-US" sz="1400" spc="-1" strike="noStrike">
                <a:solidFill>
                  <a:srgbClr val="5f5f5f"/>
                </a:solidFill>
                <a:latin typeface="Times New Roman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March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59"/>
          <p:cNvSpPr/>
          <p:nvPr/>
        </p:nvSpPr>
        <p:spPr>
          <a:xfrm>
            <a:off x="0" y="2230560"/>
            <a:ext cx="9144000" cy="4653000"/>
          </a:xfrm>
          <a:prstGeom prst="rect">
            <a:avLst/>
          </a:prstGeom>
          <a:solidFill>
            <a:srgbClr val="dce4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F13975E-A889-42AF-80D1-F85A42B88110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201"/>
          <p:cNvSpPr/>
          <p:nvPr/>
        </p:nvSpPr>
        <p:spPr>
          <a:xfrm>
            <a:off x="-6480" y="2039760"/>
            <a:ext cx="9147240" cy="243000"/>
          </a:xfrm>
          <a:custGeom>
            <a:avLst/>
            <a:gdLst>
              <a:gd name="textAreaLeft" fmla="*/ 0 w 9147240"/>
              <a:gd name="textAreaRight" fmla="*/ 9147600 w 914724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5762" h="153">
                <a:moveTo>
                  <a:pt x="0" y="153"/>
                </a:moveTo>
                <a:lnTo>
                  <a:pt x="0" y="72"/>
                </a:lnTo>
                <a:lnTo>
                  <a:pt x="3846" y="71"/>
                </a:lnTo>
                <a:lnTo>
                  <a:pt x="3913" y="0"/>
                </a:lnTo>
                <a:lnTo>
                  <a:pt x="5762" y="0"/>
                </a:lnTo>
                <a:lnTo>
                  <a:pt x="5761" y="153"/>
                </a:lnTo>
                <a:lnTo>
                  <a:pt x="0" y="153"/>
                </a:lnTo>
                <a:close/>
              </a:path>
            </a:pathLst>
          </a:cu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09"/>
          <p:cNvSpPr/>
          <p:nvPr/>
        </p:nvSpPr>
        <p:spPr>
          <a:xfrm>
            <a:off x="1892160" y="6629400"/>
            <a:ext cx="5257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IETF-81, MPLS WG, Quebec City, Canada, July,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34000" indent="-234000">
              <a:lnSpc>
                <a:spcPct val="110000"/>
              </a:lnSpc>
              <a:spcBef>
                <a:spcPts val="901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15920">
              <a:lnSpc>
                <a:spcPct val="110000"/>
              </a:lnSpc>
              <a:spcBef>
                <a:spcPts val="901"/>
              </a:spcBef>
              <a:buClr>
                <a:srgbClr val="2a547e"/>
              </a:buClr>
              <a:buFont typeface="Wingdings" charset="2"/>
              <a:buChar char="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lnSpc>
                <a:spcPct val="110000"/>
              </a:lnSpc>
              <a:spcBef>
                <a:spcPts val="901"/>
              </a:spcBef>
              <a:buClr>
                <a:srgbClr val="2a547e"/>
              </a:buClr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41640" indent="11592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88680" indent="22140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88680" indent="22140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88680" indent="22140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150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836C4577-806E-4E68-909F-CD6FEFABE244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154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3EB918D-68F7-4A49-A838-AF7280A20950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157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9DA2FF5F-CCA2-414B-BA5C-6C03FB02A428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6243"/>
          <p:cNvSpPr/>
          <p:nvPr/>
        </p:nvSpPr>
        <p:spPr>
          <a:xfrm>
            <a:off x="-3240" y="681120"/>
            <a:ext cx="9147240" cy="242640"/>
          </a:xfrm>
          <a:custGeom>
            <a:avLst/>
            <a:gdLst>
              <a:gd name="textAreaLeft" fmla="*/ 0 w 9147240"/>
              <a:gd name="textAreaRight" fmla="*/ 9147600 w 914724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5762" h="153">
                <a:moveTo>
                  <a:pt x="0" y="153"/>
                </a:moveTo>
                <a:lnTo>
                  <a:pt x="0" y="72"/>
                </a:lnTo>
                <a:lnTo>
                  <a:pt x="3846" y="71"/>
                </a:lnTo>
                <a:lnTo>
                  <a:pt x="3913" y="0"/>
                </a:lnTo>
                <a:lnTo>
                  <a:pt x="5762" y="0"/>
                </a:lnTo>
                <a:lnTo>
                  <a:pt x="5761" y="153"/>
                </a:lnTo>
                <a:lnTo>
                  <a:pt x="0" y="153"/>
                </a:lnTo>
                <a:close/>
              </a:path>
            </a:pathLst>
          </a:cu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0760" y="-177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34000" indent="-234000">
              <a:lnSpc>
                <a:spcPct val="110000"/>
              </a:lnSpc>
              <a:spcBef>
                <a:spcPts val="901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15920">
              <a:lnSpc>
                <a:spcPct val="110000"/>
              </a:lnSpc>
              <a:spcBef>
                <a:spcPts val="901"/>
              </a:spcBef>
              <a:buClr>
                <a:srgbClr val="2a547e"/>
              </a:buClr>
              <a:buFont typeface="Wingdings" charset="2"/>
              <a:buChar char="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lnSpc>
                <a:spcPct val="110000"/>
              </a:lnSpc>
              <a:spcBef>
                <a:spcPts val="901"/>
              </a:spcBef>
              <a:buClr>
                <a:srgbClr val="2a547e"/>
              </a:buClr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41640" indent="11592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88680" indent="22140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88680" indent="22140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88680" indent="22140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1727280" y="6590880"/>
            <a:ext cx="5689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IETF-81, MPLS WG, Quebec City, Canada, July,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zali@cisco.com" TargetMode="External"/><Relationship Id="rId2" Type="http://schemas.openxmlformats.org/officeDocument/2006/relationships/hyperlink" Target="mailto:rgandhi@cisco.com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8920" y="2463840"/>
            <a:ext cx="8380440" cy="2039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-ali-mpls-inter-domain-p2mp-rsvp-te-lsp-06.txt</a:t>
            </a:r>
            <a:br>
              <a:rPr sz="2700"/>
            </a:br>
            <a:br>
              <a:rPr sz="27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LS W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TF-81 Quebec City, Canad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,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96720" y="4721040"/>
            <a:ext cx="7312320" cy="1603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er: Rakesh Gandh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rs: Zafar Ali, Rakesh Gandh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 u="sng">
                <a:solidFill>
                  <a:srgbClr val="9999cc"/>
                </a:solidFill>
                <a:uFillTx/>
                <a:latin typeface="Times New Roman"/>
                <a:ea typeface="Times New Roman"/>
                <a:hlinkClick r:id="rId1"/>
              </a:rPr>
              <a:t>zali@cisco.co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 u="sng">
                <a:solidFill>
                  <a:srgbClr val="9999cc"/>
                </a:solidFill>
                <a:uFillTx/>
                <a:latin typeface="Times New Roman"/>
                <a:ea typeface="Times New Roman"/>
                <a:hlinkClick r:id="rId2"/>
              </a:rPr>
              <a:t>rgandhi@cisco.co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0360" y="-152280"/>
            <a:ext cx="8466120" cy="922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2MP-TE Remer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Straight Arrow Connector 4"/>
          <p:cNvCxnSpPr>
            <a:stCxn id="154" idx="10"/>
            <a:endCxn id="155" idx="10"/>
          </p:cNvCxnSpPr>
          <p:nvPr/>
        </p:nvCxnSpPr>
        <p:spPr>
          <a:xfrm flipH="1" flipV="1">
            <a:off x="1442160" y="1703160"/>
            <a:ext cx="381960" cy="39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6" name="Straight Arrow Connector 5"/>
          <p:cNvCxnSpPr>
            <a:stCxn id="157" idx="10"/>
            <a:endCxn id="158" idx="10"/>
          </p:cNvCxnSpPr>
          <p:nvPr/>
        </p:nvCxnSpPr>
        <p:spPr>
          <a:xfrm flipH="1" flipV="1">
            <a:off x="3881160" y="2222280"/>
            <a:ext cx="762480" cy="167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" name="Straight Arrow Connector 6"/>
          <p:cNvCxnSpPr>
            <a:stCxn id="160" idx="10"/>
            <a:endCxn id="155" idx="11"/>
          </p:cNvCxnSpPr>
          <p:nvPr/>
        </p:nvCxnSpPr>
        <p:spPr>
          <a:xfrm flipV="1">
            <a:off x="1366560" y="1702800"/>
            <a:ext cx="76680" cy="945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" name="Straight Arrow Connector 7"/>
          <p:cNvCxnSpPr>
            <a:stCxn id="162" idx="10"/>
            <a:endCxn id="163" idx="10"/>
          </p:cNvCxnSpPr>
          <p:nvPr/>
        </p:nvCxnSpPr>
        <p:spPr>
          <a:xfrm flipH="1">
            <a:off x="2576160" y="1995480"/>
            <a:ext cx="434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4" name="Straight Arrow Connector 8"/>
          <p:cNvCxnSpPr>
            <a:stCxn id="165" idx="10"/>
            <a:endCxn id="166" idx="10"/>
          </p:cNvCxnSpPr>
          <p:nvPr/>
        </p:nvCxnSpPr>
        <p:spPr>
          <a:xfrm flipV="1">
            <a:off x="2538360" y="1493640"/>
            <a:ext cx="712080" cy="189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" name="Straight Arrow Connector 9"/>
          <p:cNvCxnSpPr>
            <a:stCxn id="166" idx="11"/>
            <a:endCxn id="168" idx="10"/>
          </p:cNvCxnSpPr>
          <p:nvPr/>
        </p:nvCxnSpPr>
        <p:spPr>
          <a:xfrm>
            <a:off x="3239640" y="1474560"/>
            <a:ext cx="243720" cy="433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Straight Arrow Connector 10"/>
          <p:cNvCxnSpPr>
            <a:stCxn id="163" idx="11"/>
            <a:endCxn id="154" idx="11"/>
          </p:cNvCxnSpPr>
          <p:nvPr/>
        </p:nvCxnSpPr>
        <p:spPr>
          <a:xfrm flipH="1" flipV="1">
            <a:off x="1823760" y="2099880"/>
            <a:ext cx="762480" cy="167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" name="Straight Arrow Connector 11"/>
          <p:cNvCxnSpPr>
            <a:stCxn id="171" idx="10"/>
            <a:endCxn id="157" idx="11"/>
          </p:cNvCxnSpPr>
          <p:nvPr/>
        </p:nvCxnSpPr>
        <p:spPr>
          <a:xfrm flipH="1" flipV="1">
            <a:off x="4595400" y="2318760"/>
            <a:ext cx="82944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2" name="Straight Arrow Connector 12"/>
          <p:cNvCxnSpPr>
            <a:stCxn id="173" idx="10"/>
            <a:endCxn id="171" idx="11"/>
          </p:cNvCxnSpPr>
          <p:nvPr/>
        </p:nvCxnSpPr>
        <p:spPr>
          <a:xfrm flipH="1">
            <a:off x="5471280" y="2160720"/>
            <a:ext cx="11437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4" name="Straight Arrow Connector 13"/>
          <p:cNvCxnSpPr>
            <a:stCxn id="158" idx="11"/>
            <a:endCxn id="175" idx="10"/>
          </p:cNvCxnSpPr>
          <p:nvPr/>
        </p:nvCxnSpPr>
        <p:spPr>
          <a:xfrm>
            <a:off x="3881520" y="2222280"/>
            <a:ext cx="457920" cy="548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" name="Straight Arrow Connector 14"/>
          <p:cNvCxnSpPr>
            <a:stCxn id="158" idx="12"/>
            <a:endCxn id="177" idx="10"/>
          </p:cNvCxnSpPr>
          <p:nvPr/>
        </p:nvCxnSpPr>
        <p:spPr>
          <a:xfrm flipV="1">
            <a:off x="3881160" y="1745640"/>
            <a:ext cx="21492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" name="Straight Arrow Connector 15"/>
          <p:cNvCxnSpPr>
            <a:stCxn id="173" idx="11"/>
            <a:endCxn id="179" idx="10"/>
          </p:cNvCxnSpPr>
          <p:nvPr/>
        </p:nvCxnSpPr>
        <p:spPr>
          <a:xfrm flipH="1" flipV="1">
            <a:off x="5562000" y="1931400"/>
            <a:ext cx="10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" name="Straight Arrow Connector 16"/>
          <p:cNvCxnSpPr>
            <a:stCxn id="181" idx="10"/>
            <a:endCxn id="173" idx="12"/>
          </p:cNvCxnSpPr>
          <p:nvPr/>
        </p:nvCxnSpPr>
        <p:spPr>
          <a:xfrm flipV="1">
            <a:off x="6372360" y="2160360"/>
            <a:ext cx="243360" cy="51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" name="Straight Arrow Connector 17"/>
          <p:cNvCxnSpPr>
            <a:stCxn id="183" idx="10"/>
            <a:endCxn id="179" idx="11"/>
          </p:cNvCxnSpPr>
          <p:nvPr/>
        </p:nvCxnSpPr>
        <p:spPr>
          <a:xfrm>
            <a:off x="4595400" y="1785960"/>
            <a:ext cx="91836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4" name="Flowchart: Connector 33"/>
          <p:cNvSpPr/>
          <p:nvPr/>
        </p:nvSpPr>
        <p:spPr>
          <a:xfrm>
            <a:off x="264960" y="3022560"/>
            <a:ext cx="1584360" cy="1646280"/>
          </a:xfrm>
          <a:prstGeom prst="flowChartConnector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Straight Arrow Connector 19"/>
          <p:cNvCxnSpPr>
            <a:stCxn id="186" idx="10"/>
            <a:endCxn id="187" idx="10"/>
          </p:cNvCxnSpPr>
          <p:nvPr/>
        </p:nvCxnSpPr>
        <p:spPr>
          <a:xfrm flipV="1">
            <a:off x="518760" y="2928240"/>
            <a:ext cx="572040" cy="770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" name="Straight Arrow Connector 20"/>
          <p:cNvCxnSpPr>
            <a:stCxn id="189" idx="10"/>
            <a:endCxn id="186" idx="11"/>
          </p:cNvCxnSpPr>
          <p:nvPr/>
        </p:nvCxnSpPr>
        <p:spPr>
          <a:xfrm flipH="1" flipV="1">
            <a:off x="518760" y="3698640"/>
            <a:ext cx="125784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0" name="Flowchart: Connector 70"/>
          <p:cNvSpPr/>
          <p:nvPr/>
        </p:nvSpPr>
        <p:spPr>
          <a:xfrm>
            <a:off x="3084480" y="1346040"/>
            <a:ext cx="1584360" cy="1646280"/>
          </a:xfrm>
          <a:prstGeom prst="flowChartConnector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Straight Arrow Connector 22"/>
          <p:cNvCxnSpPr>
            <a:stCxn id="160" idx="11"/>
            <a:endCxn id="187" idx="11"/>
          </p:cNvCxnSpPr>
          <p:nvPr/>
        </p:nvCxnSpPr>
        <p:spPr>
          <a:xfrm flipH="1">
            <a:off x="1137600" y="2727360"/>
            <a:ext cx="15300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2" name="Straight Arrow Connector 23"/>
          <p:cNvCxnSpPr>
            <a:stCxn id="193" idx="10"/>
            <a:endCxn id="158" idx="13"/>
          </p:cNvCxnSpPr>
          <p:nvPr/>
        </p:nvCxnSpPr>
        <p:spPr>
          <a:xfrm flipV="1">
            <a:off x="3424320" y="2221920"/>
            <a:ext cx="457920" cy="548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" name="Straight Arrow Connector 24"/>
          <p:cNvCxnSpPr>
            <a:stCxn id="158" idx="14"/>
            <a:endCxn id="183" idx="11"/>
          </p:cNvCxnSpPr>
          <p:nvPr/>
        </p:nvCxnSpPr>
        <p:spPr>
          <a:xfrm flipV="1">
            <a:off x="3881520" y="1855080"/>
            <a:ext cx="762480" cy="36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Straight Arrow Connector 25"/>
          <p:cNvCxnSpPr>
            <a:stCxn id="162" idx="11"/>
            <a:endCxn id="168" idx="11"/>
          </p:cNvCxnSpPr>
          <p:nvPr/>
        </p:nvCxnSpPr>
        <p:spPr>
          <a:xfrm flipV="1">
            <a:off x="3000240" y="1936440"/>
            <a:ext cx="511920" cy="8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" name="Straight Arrow Connector 26"/>
          <p:cNvCxnSpPr>
            <a:stCxn id="168" idx="12"/>
            <a:endCxn id="158" idx="15"/>
          </p:cNvCxnSpPr>
          <p:nvPr/>
        </p:nvCxnSpPr>
        <p:spPr>
          <a:xfrm>
            <a:off x="3530160" y="1977840"/>
            <a:ext cx="351360" cy="24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Freeform 27"/>
          <p:cNvSpPr/>
          <p:nvPr/>
        </p:nvSpPr>
        <p:spPr>
          <a:xfrm>
            <a:off x="4532400" y="1727280"/>
            <a:ext cx="244440" cy="24444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19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28"/>
          <p:cNvSpPr/>
          <p:nvPr/>
        </p:nvSpPr>
        <p:spPr>
          <a:xfrm>
            <a:off x="3419640" y="1849320"/>
            <a:ext cx="244440" cy="24300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29"/>
          <p:cNvSpPr/>
          <p:nvPr/>
        </p:nvSpPr>
        <p:spPr>
          <a:xfrm>
            <a:off x="449280" y="3632040"/>
            <a:ext cx="272880" cy="27324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0"/>
          <p:cNvSpPr/>
          <p:nvPr/>
        </p:nvSpPr>
        <p:spPr>
          <a:xfrm>
            <a:off x="3770280" y="2092320"/>
            <a:ext cx="244440" cy="24444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1"/>
          <p:cNvSpPr/>
          <p:nvPr/>
        </p:nvSpPr>
        <p:spPr>
          <a:xfrm>
            <a:off x="2884320" y="1908000"/>
            <a:ext cx="358920" cy="35892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23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32"/>
          <p:cNvSpPr/>
          <p:nvPr/>
        </p:nvSpPr>
        <p:spPr>
          <a:xfrm>
            <a:off x="3313080" y="2641680"/>
            <a:ext cx="244440" cy="24444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33"/>
          <p:cNvSpPr/>
          <p:nvPr/>
        </p:nvSpPr>
        <p:spPr>
          <a:xfrm>
            <a:off x="4227480" y="2641680"/>
            <a:ext cx="244440" cy="24444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2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34"/>
          <p:cNvSpPr/>
          <p:nvPr/>
        </p:nvSpPr>
        <p:spPr>
          <a:xfrm>
            <a:off x="1027080" y="2870280"/>
            <a:ext cx="244440" cy="24444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35"/>
          <p:cNvSpPr/>
          <p:nvPr/>
        </p:nvSpPr>
        <p:spPr>
          <a:xfrm>
            <a:off x="1712880" y="3784680"/>
            <a:ext cx="244440" cy="24444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36"/>
          <p:cNvSpPr/>
          <p:nvPr/>
        </p:nvSpPr>
        <p:spPr>
          <a:xfrm>
            <a:off x="3983040" y="1558800"/>
            <a:ext cx="244440" cy="24444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lowchart: Connector 387"/>
          <p:cNvSpPr/>
          <p:nvPr/>
        </p:nvSpPr>
        <p:spPr>
          <a:xfrm>
            <a:off x="5452920" y="1482840"/>
            <a:ext cx="1584360" cy="1646280"/>
          </a:xfrm>
          <a:prstGeom prst="flowChartConnector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38"/>
          <p:cNvSpPr/>
          <p:nvPr/>
        </p:nvSpPr>
        <p:spPr>
          <a:xfrm>
            <a:off x="5450040" y="1803240"/>
            <a:ext cx="244440" cy="24480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24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9"/>
          <p:cNvSpPr/>
          <p:nvPr/>
        </p:nvSpPr>
        <p:spPr>
          <a:xfrm>
            <a:off x="6504120" y="2031840"/>
            <a:ext cx="244440" cy="24480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40"/>
          <p:cNvSpPr/>
          <p:nvPr/>
        </p:nvSpPr>
        <p:spPr>
          <a:xfrm>
            <a:off x="6259680" y="2549520"/>
            <a:ext cx="244440" cy="24444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41"/>
          <p:cNvSpPr/>
          <p:nvPr/>
        </p:nvSpPr>
        <p:spPr>
          <a:xfrm>
            <a:off x="5361120" y="2336760"/>
            <a:ext cx="244440" cy="24444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2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42"/>
          <p:cNvSpPr/>
          <p:nvPr/>
        </p:nvSpPr>
        <p:spPr>
          <a:xfrm>
            <a:off x="4532400" y="2260440"/>
            <a:ext cx="244440" cy="24480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2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lowchart: Connector 123"/>
          <p:cNvSpPr/>
          <p:nvPr/>
        </p:nvSpPr>
        <p:spPr>
          <a:xfrm>
            <a:off x="1027080" y="1224000"/>
            <a:ext cx="1584360" cy="1646280"/>
          </a:xfrm>
          <a:prstGeom prst="flowChartConnector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Straight Arrow Connector 44"/>
          <p:cNvCxnSpPr>
            <a:stCxn id="160" idx="12"/>
            <a:endCxn id="154" idx="12"/>
          </p:cNvCxnSpPr>
          <p:nvPr/>
        </p:nvCxnSpPr>
        <p:spPr>
          <a:xfrm flipV="1">
            <a:off x="1366920" y="2099520"/>
            <a:ext cx="457920" cy="548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" name="Straight Arrow Connector 45"/>
          <p:cNvCxnSpPr>
            <a:stCxn id="155" idx="12"/>
            <a:endCxn id="165" idx="11"/>
          </p:cNvCxnSpPr>
          <p:nvPr/>
        </p:nvCxnSpPr>
        <p:spPr>
          <a:xfrm>
            <a:off x="1395000" y="1633320"/>
            <a:ext cx="1134360" cy="30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5" name="Freeform 46"/>
          <p:cNvSpPr/>
          <p:nvPr/>
        </p:nvSpPr>
        <p:spPr>
          <a:xfrm>
            <a:off x="2465280" y="1604880"/>
            <a:ext cx="244440" cy="24444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1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47"/>
          <p:cNvSpPr/>
          <p:nvPr/>
        </p:nvSpPr>
        <p:spPr>
          <a:xfrm>
            <a:off x="1712880" y="1971720"/>
            <a:ext cx="244440" cy="24300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48"/>
          <p:cNvSpPr/>
          <p:nvPr/>
        </p:nvSpPr>
        <p:spPr>
          <a:xfrm>
            <a:off x="1255680" y="2519280"/>
            <a:ext cx="244440" cy="24444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15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49"/>
          <p:cNvSpPr/>
          <p:nvPr/>
        </p:nvSpPr>
        <p:spPr>
          <a:xfrm>
            <a:off x="2475000" y="2138400"/>
            <a:ext cx="244440" cy="24444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17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50"/>
          <p:cNvSpPr/>
          <p:nvPr/>
        </p:nvSpPr>
        <p:spPr>
          <a:xfrm>
            <a:off x="1332000" y="1574640"/>
            <a:ext cx="244440" cy="24480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51"/>
          <p:cNvSpPr/>
          <p:nvPr/>
        </p:nvSpPr>
        <p:spPr>
          <a:xfrm>
            <a:off x="3132000" y="1392120"/>
            <a:ext cx="452520" cy="343080"/>
          </a:xfrm>
          <a:prstGeom prst="pi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18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ntent Placeholder 2"/>
          <p:cNvSpPr/>
          <p:nvPr/>
        </p:nvSpPr>
        <p:spPr>
          <a:xfrm>
            <a:off x="1879560" y="4632480"/>
            <a:ext cx="701532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6520" indent="-236520">
              <a:lnSpc>
                <a:spcPct val="90000"/>
              </a:lnSpc>
              <a:spcBef>
                <a:spcPts val="825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SVP-TE signaling based solutions to address these requirements are not defined in RFC4875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825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bove mentioned situation can even lead to infinite signaling loop, some destinations will never receive traffic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52"/>
          <p:cNvSpPr/>
          <p:nvPr/>
        </p:nvSpPr>
        <p:spPr>
          <a:xfrm>
            <a:off x="3392640" y="1612800"/>
            <a:ext cx="601560" cy="527040"/>
          </a:xfrm>
          <a:custGeom>
            <a:avLst/>
            <a:gdLst>
              <a:gd name="textAreaLeft" fmla="*/ 0 w 601560"/>
              <a:gd name="textAreaRight" fmla="*/ 601920 w 60156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250" h="195">
                <a:moveTo>
                  <a:pt x="0" y="0"/>
                </a:moveTo>
                <a:cubicBezTo>
                  <a:pt x="21" y="30"/>
                  <a:pt x="42" y="60"/>
                  <a:pt x="61" y="83"/>
                </a:cubicBezTo>
                <a:cubicBezTo>
                  <a:pt x="80" y="106"/>
                  <a:pt x="97" y="118"/>
                  <a:pt x="114" y="136"/>
                </a:cubicBezTo>
                <a:cubicBezTo>
                  <a:pt x="131" y="154"/>
                  <a:pt x="137" y="195"/>
                  <a:pt x="160" y="189"/>
                </a:cubicBezTo>
                <a:cubicBezTo>
                  <a:pt x="183" y="183"/>
                  <a:pt x="216" y="140"/>
                  <a:pt x="250" y="98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53"/>
          <p:cNvSpPr/>
          <p:nvPr/>
        </p:nvSpPr>
        <p:spPr>
          <a:xfrm>
            <a:off x="3249720" y="1974960"/>
            <a:ext cx="2165400" cy="444240"/>
          </a:xfrm>
          <a:custGeom>
            <a:avLst/>
            <a:gdLst>
              <a:gd name="textAreaLeft" fmla="*/ 0 w 2165400"/>
              <a:gd name="textAreaRight" fmla="*/ 2165400 w 216540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1364" h="280">
                <a:moveTo>
                  <a:pt x="0" y="105"/>
                </a:moveTo>
                <a:cubicBezTo>
                  <a:pt x="49" y="91"/>
                  <a:pt x="99" y="77"/>
                  <a:pt x="144" y="90"/>
                </a:cubicBezTo>
                <a:cubicBezTo>
                  <a:pt x="189" y="103"/>
                  <a:pt x="232" y="151"/>
                  <a:pt x="272" y="181"/>
                </a:cubicBezTo>
                <a:cubicBezTo>
                  <a:pt x="312" y="211"/>
                  <a:pt x="323" y="280"/>
                  <a:pt x="386" y="272"/>
                </a:cubicBezTo>
                <a:cubicBezTo>
                  <a:pt x="449" y="264"/>
                  <a:pt x="561" y="178"/>
                  <a:pt x="651" y="135"/>
                </a:cubicBezTo>
                <a:cubicBezTo>
                  <a:pt x="741" y="92"/>
                  <a:pt x="805" y="28"/>
                  <a:pt x="924" y="14"/>
                </a:cubicBezTo>
                <a:cubicBezTo>
                  <a:pt x="1043" y="0"/>
                  <a:pt x="1291" y="46"/>
                  <a:pt x="1364" y="52"/>
                </a:cubicBezTo>
              </a:path>
            </a:pathLst>
          </a:custGeom>
          <a:noFill/>
          <a:ln w="38160">
            <a:solidFill>
              <a:srgbClr val="3399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54"/>
          <p:cNvGrpSpPr/>
          <p:nvPr/>
        </p:nvGrpSpPr>
        <p:grpSpPr>
          <a:xfrm>
            <a:off x="758880" y="2255760"/>
            <a:ext cx="2558880" cy="1449360"/>
            <a:chOff x="758880" y="2255760"/>
            <a:chExt cx="2558880" cy="1449360"/>
          </a:xfrm>
        </p:grpSpPr>
        <p:sp>
          <p:nvSpPr>
            <p:cNvPr id="205" name="Freeform 55"/>
            <p:cNvSpPr/>
            <p:nvPr/>
          </p:nvSpPr>
          <p:spPr>
            <a:xfrm>
              <a:off x="758880" y="2255760"/>
              <a:ext cx="2222640" cy="1449360"/>
            </a:xfrm>
            <a:custGeom>
              <a:avLst/>
              <a:gdLst>
                <a:gd name="textAreaLeft" fmla="*/ 0 w 2222640"/>
                <a:gd name="textAreaRight" fmla="*/ 2223000 w 2222640"/>
                <a:gd name="textAreaTop" fmla="*/ 0 h 1449360"/>
                <a:gd name="textAreaBottom" fmla="*/ 1449360 h 1449360"/>
              </a:gdLst>
              <a:ahLst/>
              <a:rect l="textAreaLeft" t="textAreaTop" r="textAreaRight" b="textAreaBottom"/>
              <a:pathLst>
                <a:path w="1530" h="952">
                  <a:moveTo>
                    <a:pt x="0" y="952"/>
                  </a:moveTo>
                  <a:cubicBezTo>
                    <a:pt x="118" y="798"/>
                    <a:pt x="237" y="644"/>
                    <a:pt x="318" y="536"/>
                  </a:cubicBezTo>
                  <a:cubicBezTo>
                    <a:pt x="399" y="428"/>
                    <a:pt x="427" y="386"/>
                    <a:pt x="485" y="301"/>
                  </a:cubicBezTo>
                  <a:cubicBezTo>
                    <a:pt x="543" y="216"/>
                    <a:pt x="565" y="56"/>
                    <a:pt x="667" y="28"/>
                  </a:cubicBezTo>
                  <a:cubicBezTo>
                    <a:pt x="769" y="0"/>
                    <a:pt x="967" y="128"/>
                    <a:pt x="1099" y="134"/>
                  </a:cubicBezTo>
                  <a:cubicBezTo>
                    <a:pt x="1231" y="140"/>
                    <a:pt x="1394" y="82"/>
                    <a:pt x="1462" y="66"/>
                  </a:cubicBezTo>
                  <a:cubicBezTo>
                    <a:pt x="1530" y="50"/>
                    <a:pt x="1502" y="39"/>
                    <a:pt x="1508" y="35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56"/>
            <p:cNvSpPr/>
            <p:nvPr/>
          </p:nvSpPr>
          <p:spPr>
            <a:xfrm>
              <a:off x="2329200" y="255096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RO-L (D1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57"/>
          <p:cNvGrpSpPr/>
          <p:nvPr/>
        </p:nvGrpSpPr>
        <p:grpSpPr>
          <a:xfrm>
            <a:off x="433440" y="1239840"/>
            <a:ext cx="3039840" cy="2356920"/>
            <a:chOff x="433440" y="1239840"/>
            <a:chExt cx="3039840" cy="2356920"/>
          </a:xfrm>
        </p:grpSpPr>
        <p:sp>
          <p:nvSpPr>
            <p:cNvPr id="208" name="Freeform 58"/>
            <p:cNvSpPr/>
            <p:nvPr/>
          </p:nvSpPr>
          <p:spPr>
            <a:xfrm>
              <a:off x="433440" y="1447560"/>
              <a:ext cx="2719440" cy="2149200"/>
            </a:xfrm>
            <a:custGeom>
              <a:avLst/>
              <a:gdLst>
                <a:gd name="textAreaLeft" fmla="*/ 0 w 2719440"/>
                <a:gd name="textAreaRight" fmla="*/ 2719800 w 2719440"/>
                <a:gd name="textAreaTop" fmla="*/ 0 h 2149200"/>
                <a:gd name="textAreaBottom" fmla="*/ 2149560 h 2149200"/>
              </a:gdLst>
              <a:ahLst/>
              <a:rect l="textAreaLeft" t="textAreaTop" r="textAreaRight" b="textAreaBottom"/>
              <a:pathLst>
                <a:path w="1713" h="1354">
                  <a:moveTo>
                    <a:pt x="0" y="1354"/>
                  </a:moveTo>
                  <a:cubicBezTo>
                    <a:pt x="155" y="1189"/>
                    <a:pt x="310" y="1025"/>
                    <a:pt x="387" y="899"/>
                  </a:cubicBezTo>
                  <a:cubicBezTo>
                    <a:pt x="464" y="773"/>
                    <a:pt x="446" y="694"/>
                    <a:pt x="462" y="596"/>
                  </a:cubicBezTo>
                  <a:cubicBezTo>
                    <a:pt x="478" y="498"/>
                    <a:pt x="477" y="389"/>
                    <a:pt x="485" y="308"/>
                  </a:cubicBezTo>
                  <a:cubicBezTo>
                    <a:pt x="493" y="227"/>
                    <a:pt x="469" y="160"/>
                    <a:pt x="508" y="111"/>
                  </a:cubicBezTo>
                  <a:cubicBezTo>
                    <a:pt x="547" y="62"/>
                    <a:pt x="652" y="26"/>
                    <a:pt x="720" y="13"/>
                  </a:cubicBezTo>
                  <a:cubicBezTo>
                    <a:pt x="788" y="0"/>
                    <a:pt x="848" y="30"/>
                    <a:pt x="917" y="35"/>
                  </a:cubicBezTo>
                  <a:cubicBezTo>
                    <a:pt x="986" y="40"/>
                    <a:pt x="1079" y="37"/>
                    <a:pt x="1137" y="43"/>
                  </a:cubicBezTo>
                  <a:cubicBezTo>
                    <a:pt x="1195" y="49"/>
                    <a:pt x="1224" y="67"/>
                    <a:pt x="1266" y="73"/>
                  </a:cubicBezTo>
                  <a:cubicBezTo>
                    <a:pt x="1308" y="79"/>
                    <a:pt x="1313" y="88"/>
                    <a:pt x="1387" y="81"/>
                  </a:cubicBezTo>
                  <a:cubicBezTo>
                    <a:pt x="1461" y="74"/>
                    <a:pt x="1657" y="38"/>
                    <a:pt x="1713" y="2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59"/>
            <p:cNvSpPr/>
            <p:nvPr/>
          </p:nvSpPr>
          <p:spPr>
            <a:xfrm>
              <a:off x="2484720" y="123984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RO-L (D2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Oval 60"/>
          <p:cNvSpPr/>
          <p:nvPr/>
        </p:nvSpPr>
        <p:spPr>
          <a:xfrm>
            <a:off x="2043000" y="1803240"/>
            <a:ext cx="354240" cy="198720"/>
          </a:xfrm>
          <a:prstGeom prst="ellipse">
            <a:avLst/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61"/>
          <p:cNvSpPr/>
          <p:nvPr/>
        </p:nvSpPr>
        <p:spPr>
          <a:xfrm flipV="1">
            <a:off x="1935000" y="1944360"/>
            <a:ext cx="131760" cy="9828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62"/>
          <p:cNvSpPr/>
          <p:nvPr/>
        </p:nvSpPr>
        <p:spPr>
          <a:xfrm>
            <a:off x="914400" y="1285920"/>
            <a:ext cx="312840" cy="222120"/>
          </a:xfrm>
          <a:prstGeom prst="ellipse">
            <a:avLst/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3"/>
          <p:cNvSpPr/>
          <p:nvPr/>
        </p:nvSpPr>
        <p:spPr>
          <a:xfrm flipH="1" flipV="1">
            <a:off x="1193400" y="1467000"/>
            <a:ext cx="190440" cy="16344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08"/>
          <p:cNvSpPr/>
          <p:nvPr/>
        </p:nvSpPr>
        <p:spPr>
          <a:xfrm>
            <a:off x="4352760" y="1062000"/>
            <a:ext cx="1371600" cy="457200"/>
          </a:xfrm>
          <a:prstGeom prst="borderCallout1">
            <a:avLst>
              <a:gd name="adj1" fmla="val 18750"/>
              <a:gd name="adj2" fmla="val -8333"/>
              <a:gd name="adj3" fmla="val 176388"/>
              <a:gd name="adj4" fmla="val -54166"/>
            </a:avLst>
          </a:prstGeom>
          <a:solidFill>
            <a:srgbClr val="ff0000">
              <a:alpha val="54000"/>
            </a:srgbClr>
          </a:solidFill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merge happens at (C) in domain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5"/>
          <p:cNvSpPr/>
          <p:nvPr/>
        </p:nvSpPr>
        <p:spPr>
          <a:xfrm>
            <a:off x="664560" y="423720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main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6"/>
          <p:cNvSpPr/>
          <p:nvPr/>
        </p:nvSpPr>
        <p:spPr>
          <a:xfrm>
            <a:off x="1404360" y="113364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main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7"/>
          <p:cNvSpPr/>
          <p:nvPr/>
        </p:nvSpPr>
        <p:spPr>
          <a:xfrm>
            <a:off x="3485880" y="288144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main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8"/>
          <p:cNvSpPr/>
          <p:nvPr/>
        </p:nvSpPr>
        <p:spPr>
          <a:xfrm>
            <a:off x="5836680" y="281448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main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0720" y="1440000"/>
            <a:ext cx="7940880" cy="3781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110000"/>
              </a:lnSpc>
              <a:spcBef>
                <a:spcPts val="1049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domain P2MP-TE - Problem 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10000"/>
              </a:lnSpc>
              <a:spcBef>
                <a:spcPts val="1049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C 4875 - P2MP-TE Remerge Hand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10000"/>
              </a:lnSpc>
              <a:spcBef>
                <a:spcPts val="1049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-plane Meth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10000"/>
              </a:lnSpc>
              <a:spcBef>
                <a:spcPts val="1049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-plane Meth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10000"/>
              </a:lnSpc>
              <a:spcBef>
                <a:spcPts val="1049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Ste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-177840"/>
            <a:ext cx="8466120" cy="922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domain P2MP-TE - Problem State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79360" y="1079280"/>
            <a:ext cx="8483760" cy="5491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5000"/>
          </a:bodyPr>
          <a:p>
            <a:pPr marL="434160" indent="-434160">
              <a:lnSpc>
                <a:spcPct val="110000"/>
              </a:lnSpc>
              <a:spcBef>
                <a:spcPts val="825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requirement for P2MP-TE LSP is to avoid re-merges as these are inefficient and result in duplication of traffi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10000"/>
              </a:lnSpc>
              <a:spcBef>
                <a:spcPts val="825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rm "re-merge" refers to the situation when two S2L sub-LSPs branch at some point in the P2MP-TE Tree, and then merge back at another downstream n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10000"/>
              </a:lnSpc>
              <a:spcBef>
                <a:spcPts val="825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se of inter-domain P2MP-TE LSP, re-merges can happen as different border nodes performing loose-hop ERO expansions do not have knowledge of the entire P2MP-TE LS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10000"/>
              </a:lnSpc>
              <a:spcBef>
                <a:spcPts val="825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C4875 (RSVP-TE extensions for P2MP-TE) does not address inter-domain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10000"/>
              </a:lnSpc>
              <a:spcBef>
                <a:spcPts val="825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FC5151 (Inter-domain RSVP-TE extensions) does not address P2MP-T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10000"/>
              </a:lnSpc>
              <a:spcBef>
                <a:spcPts val="825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FC4920 (Crankback signaling extensions) does not address P2MP-TE signa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0360" y="-177840"/>
            <a:ext cx="8466120" cy="922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C 4875 - P2MP-TE Remerge Handl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0720" y="1100160"/>
            <a:ext cx="8128080" cy="4883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C 4875 specifies two methods to handle P2MP-TE re-merge condi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10000"/>
              </a:lnSpc>
              <a:spcBef>
                <a:spcPts val="901"/>
              </a:spcBef>
              <a:buClr>
                <a:srgbClr val="339999"/>
              </a:buClr>
              <a:buFont typeface="Times New Roman"/>
              <a:buAutoNum type="arabicPeriod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plane method: the re-merge node initiates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mo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re-merge branch(es) by sending a Path Error messag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10000"/>
              </a:lnSpc>
              <a:spcBef>
                <a:spcPts val="901"/>
              </a:spcBef>
              <a:buClr>
                <a:srgbClr val="339999"/>
              </a:buClr>
              <a:buFont typeface="Times New Roman"/>
              <a:buAutoNum type="arabicPeriod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lane method: the re-merge node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llow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re-merge to persist, but data from all but one incoming interface is dropped at the node. This ensures that duplicate data is not sent on any outgoing interfa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0360" y="-12744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-plane Method Extens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54160" y="1015920"/>
            <a:ext cx="8565840" cy="5486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ress selects th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ame doma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der node for ERO expansion for all siblings transiting a given domain. Domain border nodes expand EROs for all siblings S2L such that the overall path taken by these siblings in the domain is remerge fre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ankback Signaling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381240">
              <a:lnSpc>
                <a:spcPct val="80000"/>
              </a:lnSpc>
              <a:spcBef>
                <a:spcPts val="1250"/>
              </a:spcBef>
              <a:buClr>
                <a:srgbClr val="2a547e"/>
              </a:buClr>
              <a:buFont typeface="Times New Roman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ankback procedures defined in RFC 4920 can be applied to P2MP-TE LSPs to handle re-merge condi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381240">
              <a:lnSpc>
                <a:spcPct val="80000"/>
              </a:lnSpc>
              <a:spcBef>
                <a:spcPts val="1250"/>
              </a:spcBef>
              <a:buClr>
                <a:srgbClr val="2a547e"/>
              </a:buClr>
              <a:buFont typeface="Times New Roman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not require selection of same domain border node for all siblings transiting a given domai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381240">
              <a:lnSpc>
                <a:spcPct val="80000"/>
              </a:lnSpc>
              <a:spcBef>
                <a:spcPts val="1250"/>
              </a:spcBef>
              <a:buClr>
                <a:srgbClr val="2a547e"/>
              </a:buClr>
              <a:buFont typeface="Times New Roman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iblings that have failed the LSP setup, on receipt of a Path Error a domain border node may hold the Path Error for re-merg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381240">
              <a:lnSpc>
                <a:spcPct val="80000"/>
              </a:lnSpc>
              <a:spcBef>
                <a:spcPts val="1250"/>
              </a:spcBef>
              <a:buClr>
                <a:srgbClr val="2a547e"/>
              </a:buClr>
              <a:buFont typeface="Times New Roman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omain border node may try to signal an alternate path through the domain, for siblings that have failed the LSP setup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381240">
              <a:lnSpc>
                <a:spcPct val="80000"/>
              </a:lnSpc>
              <a:spcBef>
                <a:spcPts val="1250"/>
              </a:spcBef>
              <a:buClr>
                <a:srgbClr val="2a547e"/>
              </a:buClr>
              <a:buFont typeface="Times New Roman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 subsequent attempt is successful, the domain border node discards the held Path Error messag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381240">
              <a:lnSpc>
                <a:spcPct val="80000"/>
              </a:lnSpc>
              <a:spcBef>
                <a:spcPts val="1250"/>
              </a:spcBef>
              <a:buClr>
                <a:srgbClr val="2a547e"/>
              </a:buClr>
              <a:buFont typeface="Times New Roman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ll subsequent attempts are unsuccessful, the domain border node forwards the Path Error to the head-end nod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0360" y="-1656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-plane Method Extension - Path Messa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4160" y="1015920"/>
            <a:ext cx="8565840" cy="5461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110000"/>
              </a:lnSpc>
              <a:spcBef>
                <a:spcPts val="901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rder to indicate transit nodes that P2MP-TE Re-merge Recording is requested, a new flag in the Attribute Flags TLV of the LSP_ATTRIBUTES object defined in [RFC 5420] is defined as follow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 Number (to be assigned by IANA):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2MP-TE Re-merge Recording Request fla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901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2MP-TE Remerge Recording Request flag is meaningful on a Path message and can be inserted by the ingress node or a border node tha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s the P2MP-TE Re-merge Present Flag (next slide)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RO Attributes Sub-objec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3680" y="-1904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-plane Method Extension - Resv Messa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68200" y="1030320"/>
            <a:ext cx="8328240" cy="5484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110000"/>
              </a:lnSpc>
              <a:spcBef>
                <a:spcPts val="825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node understands the "P2MP-TE Re-merge Recording Request” in the Attribute Flags TLV of the LSP_ATTRIBUTES object of the Path message, the node SHOULD set the newly defined "P2MP-TE Re-merge Present" flag in the RRO Attributes sub-object defined in [RFC 5420] in RRO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 Number (same bit number assigned for P2MP-TE Re-merge Recording Request flag)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 P2MP-TE Re-merge Present fla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10000"/>
              </a:lnSpc>
              <a:spcBef>
                <a:spcPts val="825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esence of P2MP-TE Re-merge Present flag indicates that the S2L is causing a re-merge. The re-merge has been accepted but the incoming traffic on this S2L is dropped by the reporting nod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10000"/>
              </a:lnSpc>
              <a:spcBef>
                <a:spcPts val="825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extension allows a border node and/or a head-end to optimize bandwidth at some later time in future while immediately starting the traffic to all possible destinations of the inter-area P2MP-TE LS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0360" y="-1656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Ste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68200" y="1890720"/>
            <a:ext cx="8142480" cy="3005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110000"/>
              </a:lnSpc>
              <a:spcBef>
                <a:spcPts val="825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would like to make this document a WG Docume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509840" y="1890720"/>
            <a:ext cx="6208560" cy="3005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110000"/>
              </a:lnSpc>
              <a:spcBef>
                <a:spcPts val="16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1T20:17:15Z</dcterms:created>
  <dc:creator>Cisco User</dc:creator>
  <dc:description/>
  <dc:language>en-US</dc:language>
  <cp:lastModifiedBy>Zafar Ali (zali)</cp:lastModifiedBy>
  <cp:lastPrinted>1999-01-27T00:54:54Z</cp:lastPrinted>
  <dcterms:modified xsi:type="dcterms:W3CDTF">2011-07-21T18:13:21Z</dcterms:modified>
  <cp:revision>792</cp:revision>
  <dc:subject>Guide for Creating Powerpoint Presentations</dc:subject>
  <dc:title>PRESENTATION TITLE/SIZE 30</dc:title>
</cp:coreProperties>
</file>