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6A1-8BBD-4065-94F6-2BC71113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9B7-E1D6-4B9E-87FE-ADB7AC27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93D-83C8-4B20-90E2-C0F3A70E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70C-1664-4A54-9EE3-95E4DDB9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762-1DAA-4D71-A310-43AD100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D15-9794-4000-8FEE-3960BB5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0C9-BABB-407D-BF5F-9FB4799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427-74B3-4C10-BBEB-B1C5AE62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C13-8773-4F4A-BA76-37B8F93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69E-B330-4F2F-8C90-E48DB0F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30E-17F4-43CE-82F7-8665A2D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44E-DC40-4FE2-B9BB-C8F9EE2D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9FA-7509-4235-9C40-DF2E6FB11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85690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working between MPLS-TP and IP/MPL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ft-martinotti-mpls-tp-interworking-02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Martinott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Cavigl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Spre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'Alessandr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 Itali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ape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 Italia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Suem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illustrates the most likely interworking scenarios between MPLS-TP and IP/MP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49228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revious Ver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two interconnectivity options where several aspects like encapsulation, OAM, control plane and fault management are taken into consi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148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nges in the current ver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refresh of the document that reflects how MPLS-TP I-Ds and RFCs have progressed. We also improved the structure for readability, and as the surrounding work has progressed we were able to fill in some of the outstanding g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connectivity Option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twork Layer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438520" cy="3924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50920" y="4076640"/>
            <a:ext cx="2808360" cy="2016360"/>
            <a:chOff x="250920" y="4076640"/>
            <a:chExt cx="2808360" cy="2016360"/>
          </a:xfrm>
        </p:grpSpPr>
        <p:sp>
          <p:nvSpPr>
            <p:cNvPr id="50" name=""/>
            <p:cNvSpPr/>
            <p:nvPr/>
          </p:nvSpPr>
          <p:spPr>
            <a:xfrm>
              <a:off x="250920" y="4076640"/>
              <a:ext cx="2736720" cy="201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4219560"/>
              <a:ext cx="280836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VLAN based transparent transport of IP/MP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rt based transport of IP/MPLS with Link Layer rem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0920" y="1773360"/>
            <a:ext cx="2449440" cy="2232000"/>
            <a:chOff x="250920" y="1773360"/>
            <a:chExt cx="2449440" cy="2232000"/>
          </a:xfrm>
        </p:grpSpPr>
        <p:sp>
          <p:nvSpPr>
            <p:cNvPr id="53" name=""/>
            <p:cNvSpPr/>
            <p:nvPr/>
          </p:nvSpPr>
          <p:spPr>
            <a:xfrm>
              <a:off x="250920" y="1773360"/>
              <a:ext cx="2449440" cy="22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5280" y="1774800"/>
              <a:ext cx="23036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AM im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ontrol Plane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ervices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Resiliency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connectivity Option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twork Partition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32160" y="1770120"/>
            <a:ext cx="4372200" cy="38196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50920" y="1773360"/>
            <a:ext cx="2449440" cy="2232000"/>
            <a:chOff x="250920" y="1773360"/>
            <a:chExt cx="2449440" cy="2232000"/>
          </a:xfrm>
        </p:grpSpPr>
        <p:sp>
          <p:nvSpPr>
            <p:cNvPr id="58" name=""/>
            <p:cNvSpPr/>
            <p:nvPr/>
          </p:nvSpPr>
          <p:spPr>
            <a:xfrm>
              <a:off x="250920" y="1773360"/>
              <a:ext cx="2449440" cy="22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1774800"/>
              <a:ext cx="23036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AM im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ontrol Plane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ervices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Resiliency Consid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0920" y="4076640"/>
            <a:ext cx="2808360" cy="2160720"/>
            <a:chOff x="250920" y="4076640"/>
            <a:chExt cx="2808360" cy="2160720"/>
          </a:xfrm>
        </p:grpSpPr>
        <p:sp>
          <p:nvSpPr>
            <p:cNvPr id="61" name=""/>
            <p:cNvSpPr/>
            <p:nvPr/>
          </p:nvSpPr>
          <p:spPr>
            <a:xfrm>
              <a:off x="250920" y="4076640"/>
              <a:ext cx="2736720" cy="216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0920" y="4219560"/>
              <a:ext cx="2808360" cy="20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Border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ulti Segment P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SP-stit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Border 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ulti Segment P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SP-stit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00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ments from the Working Grou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8:24:07Z</dcterms:created>
  <dc:creator>eelibel</dc:creator>
  <dc:description/>
  <dc:language>en-US</dc:language>
  <cp:lastModifiedBy>eelibel</cp:lastModifiedBy>
  <dcterms:modified xsi:type="dcterms:W3CDTF">2011-07-24T20:15:24Z</dcterms:modified>
  <cp:revision>28</cp:revision>
  <dc:subject/>
  <dc:title>draft-martinotti-mpls-tp-interworking-02   Interworking between MPLS-TP and IP/MPLS </dc:title>
</cp:coreProperties>
</file>