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9DAE-DE9B-4AE9-82D6-846E929C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983-F455-4795-A1B5-C8E3DD52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B7B-82E0-4485-86EE-F9E1720C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377-6FCF-467B-A4AC-0067DB91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A12-28BE-46B7-ADBF-DC1C9F90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AF4-8D3E-428B-B00A-61476228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0E6-09DF-4EA9-BFFC-FB739880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6CC-5D67-4C07-ADC1-1BBC7CBB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BBE-5E29-4B29-B40E-817DCD0D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89B-FB55-4F2E-8E3A-DF2D51AA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B18-0949-493A-9192-564C756A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5E8-777F-4756-A13D-0FCF857A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A848-8548-4205-98B2-2FC72F8818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engang@chinamobile.com" TargetMode="External"/><Relationship Id="rId2" Type="http://schemas.openxmlformats.org/officeDocument/2006/relationships/hyperlink" Target="mailto:lilianyuan@chinamobile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Pv6 Provider Edge Routers (6PE) Information Base (MIB)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raft-chen-mpls-6pe-mib-02.txt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IETF 81-Quebec,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4648320"/>
            <a:ext cx="820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ang Chen (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ngang@chinamobile.co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anyuan Li(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lianyuan@chinamobile.co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MIB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PE-MPLS-STD-MIB Module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memo defines a portion of the Management Information Base (MIB) for use with network management protocols in the Internet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particular, it describes a MIB module for IPv6 Provider Edge Routers (6PE)over Multiprotocol Label Switching (MPLS) Label Switching Routers (LS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 4087 has specified managed objects used for managing tunnels of any type over IPv4 and IPv6 networks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t this MIB module does not support tunnels over non-IP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4382 has defined managed objects to configure and monitor MPLS layer 3 Virtual Private Networks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wever, 6PE is neither Layer 3 IP tunnel nor MPLS layer 3 VP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MIB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PETunnelIf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PETunnelIfTable are defined in the MIBs defining the encapsulation. An entry in the 6PE Tunnel MIB will exist for every interface entry with this interfac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PEMplsIf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is table controls MPLS-specific parameters when 6PE is going to be carried over MPLS clo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PE-MPLS-STD-MIB Module 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TunnelIf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TunnelIfEntry ::= SEQUENC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TunnelIfHopLimit                Integer3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TunnelIfSecurity                INTEG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TunnelIfTOS                     Integer3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TunnelIfFlowLabel             IPv6FlowLabelOr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TunnelIfLocalAddress            InetAddre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TunnelIfRemoteAddress           Inet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MplsIf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PEMpls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258920" y="1916280"/>
            <a:ext cx="666432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99"/>
                </a:solidFill>
                <a:latin typeface="FrutigerNext LT Regular"/>
                <a:ea typeface="MS PGothic"/>
              </a:rPr>
              <a:t>Comments are welcomed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FrutigerNext LT Medium"/>
                <a:ea typeface="MS PGothic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MCC</cp:lastModifiedBy>
  <dcterms:modified xsi:type="dcterms:W3CDTF">2011-07-25T01:02:3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