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522-494F-4923-9BB4-F24C0D3D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591-5CE9-4745-A5F1-9F065268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D4F9-CCB8-4C14-A6F4-81F8F89F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4E4-8E83-4FBB-A91A-50BDD4BE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981-1E44-4999-B6E9-3E4AB746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B944-844A-4159-84C6-2FB3F3DA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655-0104-4E9B-BE71-E808B59F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8C0-4074-4D6E-BDDE-B9B02052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448-BCC8-467C-BF25-3DDC9C1F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F985-36D5-4607-90F5-D11CF122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04B5-FE36-40B2-9FDE-28CD94AC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B679-B42A-4DAF-97F7-3699F1FE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34C8-C4CE-4BCF-8786-84B19D413C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hengang@chinamobile.com" TargetMode="External"/><Relationship Id="rId2" Type="http://schemas.openxmlformats.org/officeDocument/2006/relationships/hyperlink" Target="mailto:lilianyuan@chinamobile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Pv6 Provider Edge Routers (6PE) Information Base (MIB)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raft-chen-mpls-6pe-mib-02.txt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IETF 81-Quebec,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4648320"/>
            <a:ext cx="820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ang Chen (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engang@chinamobile.co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ianyuan Li(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lianyuan@chinamobile.co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MIB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PE-MPLS-STD-MIB Module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memo defines a portion of the Management Information Base (MIB) for use with network management protocols in the Internet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particular, it describes a MIB module for IPv6 Provider Edge Routers (6PE)over Multiprotocol Label Switching (MPLS) Label Switching Routers (LS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C 4087 has specified managed objects used for managing tunnels of any type over IPv4 and IPv6 networks.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ut this MIB module does not support tunnels over non-IP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C4382 has defined managed objects to configure and monitor MPLS layer 3 Virtual Private Networks.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wever, 6PE is neither Layer 3 IP tunnel nor MPLS layer 3 VP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MIB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PETunnelIf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PETunnelIfTable are defined in the MIBs defining the encapsulation. An entry in the 6PE Tunnel MIB will exist for every interface entry with this interfac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PEMplsIf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is table controls MPLS-specific parameters when 6PE is going to be carried over MPLS clo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PE-MPLS-STD-MIB Module 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PETunnelIf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PETunnelIfEntry ::= SEQUENC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PETunnelIfHopLimit                Integer3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PETunnelIfSecurity                INTEG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PETunnelIfTOS                     Integer3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PETunnelIfFlowLabel             IPv6FlowLabelOr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PETunnelIfLocalAddress            InetAddres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PETunnelIfRemoteAddress           Inet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PEMplsIf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PEMpls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258920" y="1916280"/>
            <a:ext cx="666432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99"/>
                </a:solidFill>
                <a:latin typeface="FrutigerNext LT Regular"/>
                <a:ea typeface="MS PGothic"/>
              </a:rPr>
              <a:t>Comments are welcomed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FrutigerNext LT Medium"/>
                <a:ea typeface="MS PGothic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MCC</cp:lastModifiedBy>
  <dcterms:modified xsi:type="dcterms:W3CDTF">2011-07-25T01:02:3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