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BFC-462A-4984-9F27-3838146D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135-6F6D-418B-9EDE-7588BF8B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BA6-9CF4-4F0C-AC77-DCDE3CD4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865-2EB2-4346-8559-DF4C46B2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74E-B381-4713-A377-137320E2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D56-2127-46AD-94A1-AAA44258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6CF-141A-4F42-9436-47F0EBD8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080-6051-4555-87A4-006C45CD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F9D-61AA-4E95-A0CF-2EC1E141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7BC-CAE8-41FA-B479-D2EE765A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FB1-B9DD-4E3A-893F-9E08896E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513-1F6F-4B60-B526-B3EA115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369B-1EA1-4B1F-9826-31AAAECF0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PLS-TP TE M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ietf-mpls-tp-te-mib-00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 Ald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m Nade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katesan Mahaling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nnan Sam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isting MPLS TE [RFC3812] and GMPLS MIBs [RFC4802] do not support the transport network requirements of NON-IP based management and static bidirectional MPLS tunn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was adopted as a WG document “draft-ietf-mpls-tp-te-mib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ained the definition of MPLS Tables and made amends to re-use them for TP tunnels as w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lit the MIB extensions into multiple MIB ext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ed comments from many, including MIB do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LS TP extensions to TE M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Tunnel Table in MPLS-TE-STD-MIB is used for MPLS TP tunnels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ID is used to map MPLS TP ID’s to Table indices, in order to reuse the existing definition of MPLS Tunnel 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Tunnel Table is extended to support MPLS TP specific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ross connect pointer to the identify bidirectional tunn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 MIB  extensions, LSR MIB extensions and MPLS ID MIB are at present co-located in this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 the following MIBs as separate W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 TC MIB ext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 LSR MIB ext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 ID MI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comments/review are reques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tional MPLS TP MIB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Are Working 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upport MPLS TP OAM requirements, more MIBS are being added and will be published so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FD extensions to support MPLS LSP’s including 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TP OAM MIB to support ident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TP Protection Schemes (LPS, RPS and MPS) support using M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2:47:34Z</dcterms:created>
  <dc:creator>Sam Aldrin</dc:creator>
  <dc:description/>
  <dc:language>en-US</dc:language>
  <cp:lastModifiedBy>Sam Aldrin</cp:lastModifiedBy>
  <dcterms:modified xsi:type="dcterms:W3CDTF">2011-07-21T22:54:13Z</dcterms:modified>
  <cp:revision>39</cp:revision>
  <dc:subject/>
  <dc:title>MPLS TP MIBs and Exten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88381</vt:lpwstr>
  </property>
</Properties>
</file>