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012-64C9-4AAE-A64D-CC74467E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DD7-8FF6-4013-90C8-5FEF27FD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0B8-C459-4D6B-A7B1-D9A52991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962-1C6E-4129-9500-C5E3BB07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731-40BE-452C-8408-AF479B96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B40-2B90-42A4-8D2E-1271372C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E36-3F1A-490D-B044-4E3C3468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712-E038-4A88-A3AE-2489E6F8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2B7-87A4-43A0-B2A5-81B760EF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E74-AF0B-4D3A-91E6-94A91E78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1E4B-1045-45C1-AB96-9D12FF3B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2B5-D9E4-4E94-AF61-40DAD68E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05FD-B1C9-424A-B34B-DCC5DA56E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PLS-TP TE MI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ietf-mpls-tp-te-mib-00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 Aldr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m Nadea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nkatesan Mahaling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nnan Sam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isting MPLS TE [RFC3812] and GMPLS MIBs [RFC4802] do not support the transport network requirements of NON-IP based management and static bidirectional MPLS tunn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was adopted as a WG document “draft-ietf-mpls-tp-te-mib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ained the definition of MPLS Tables and made amends to re-use them for TP tunnels as w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lit the MIB extensions into multiple MIB exten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rporated comments from many, including MIB do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PLS TP extensions to TE MI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LS Tunnel Table in MPLS-TE-STD-MIB is used for MPLS TP tunnels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ID is used to map MPLS TP ID’s to Table indices, in order to reuse the existing definition of MPLS Tunnel T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LS Tunnel Table is extended to support MPLS TP specific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ross connect pointer to the identify bidirectional tunn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 MIB  extensions, LSR MIB extensions and MPLS ID MIB are at present co-located in this dr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sh the following MIBs as separate W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LS TC MIB exten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LS LSR MIB exten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LS ID MI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comments/review are reques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itional MPLS TP MIB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Are Working 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upport MPLS TP OAM requirements, more MIBS are being added and will be published so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FD extensions to support MPLS LSP’s including 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LS TP OAM MIB to support ident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LS TP Protection Schemes (LPS, RPS and MPS) support using M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22:47:34Z</dcterms:created>
  <dc:creator>Sam Aldrin</dc:creator>
  <dc:description/>
  <dc:language>en-US</dc:language>
  <cp:lastModifiedBy>Sam Aldrin</cp:lastModifiedBy>
  <dcterms:modified xsi:type="dcterms:W3CDTF">2011-07-21T22:54:13Z</dcterms:modified>
  <cp:revision>39</cp:revision>
  <dc:subject/>
  <dc:title>MPLS TP MIBs and Exten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288381</vt:lpwstr>
  </property>
</Properties>
</file>