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30A7-D236-49C6-98DF-CD05F7A5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751A-1812-4C4A-A7E4-38003876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364-603A-4058-B67D-EEF9ACE1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5CF-65EC-4F93-9059-DB42387D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58F-729C-4EE1-AAF3-85002C97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D7E-7259-413C-B991-B430C481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CF3-C442-4C3B-AA14-6E3BD6A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CDB-9E97-48AA-8B48-B942984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263-7833-4F92-8E29-872C7EC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5FC-45CA-478D-A829-87C0FD8F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5B4-18FF-4754-8DB4-FDDC4A0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879-75B9-4E65-818B-C326B36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DD5-0104-4B68-A864-6B43C11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304-161E-40BD-BE05-FD404D9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942-BDF8-42F7-970F-69EF9D3F77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76200" y="520560"/>
            <a:ext cx="83232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submission to the IETF intended by the Contributor for publication as all or part of an IETF Internet-Draft or RF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d any statement made within the context of an IETF activity is considered an "IETF Contribution". Such statement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include oral statements in IETF sessions, as well as written and electronic communications made at any time or place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which are addressed to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ETF plenary sess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ESG, or any member thereof on behalf of the IESG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IETF mailing list, including the IETF list itself, any working group or desig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eam list, or any other list functioning under IETF auspices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y IETF working group or portion thereof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IAB or any member thereof on behalf of the IAB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RFC Editor or the Internet-Drafts funct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ll IETF Contributions are subject to the rules of RFC 5378 and RFC 3979 (updated by RFC 4879)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tatements made outside of an IETF session, mailing list or other function, that are clearly not intended to be input 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 IETF activity, group or function, are not IETF Contributions in the context of this notic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ase consult RFC 5378 and RFC 3979 for detail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participant in any IETF activity acknowledges that written, audio and video records of meetings may be mad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nd may be available to the public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last call comments have been addressed. Version -07 has been posted. In process of clearing remaining IESG discu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linear-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 - 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on-demand-c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entropy-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p-pw-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. Will seek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have requested a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sp-ping-ttl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mldp-in-band-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return-path-specified-lsp-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published, authors believe ready for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seamless-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WG document since IETF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seamless-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feedb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 Verification Call. In process of clearing some verification call issues. Probably will result in a new version being posted shortly after this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mib-management-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recently finished its last call period. The authors received a few comments which will be addressed in a new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Not on the Agenda -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rosetta-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take input from the survivabi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oam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st version results from merge with “oam toolset”. Authors believe document is stable and ready for new WG Last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have requested 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dp-gt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jor changes, only clarifications and editorials, and authors would like to receiv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G Drafts (on the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lsp-ping-mpls-tp-oam-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li-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security-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te-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WG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aft-win-mpls-tp-itu-t-identifiers adopted as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 be republished as : draft-ietf-mpls-tp-itu-t-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 (one week) call to verify that all Last Call comments been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LS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1 –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s in Queb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, Monday, 09:00-11:30 (Web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, Wednesday, 13:00-15:00 (Web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lue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Blue She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pass on! Return to WG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rotocol Label Switching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etf.org/proceedings/81/agenda/mpls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One new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6215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raft-ietf-mpls-tp-uni-nni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Transport Profile User-to-Network and Network-to-Network Inter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formation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RFC-Editor’s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survive-fwk (edit 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draft-ietf-mpls-ldp-upstream (miss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tp-oam-framework (miss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mpls-mp-ldp-reqs (au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raft-ietf-mpls-explicit-resource-control-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fastreroute-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::AD Follow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dp-p2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-announcement to be sent::Point Raised - writeup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oss-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01)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oss-delay-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01)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rafts in IESG Processing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lsp-ping-enhanced-ds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mldp-recurs-f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AD Go-Ahead::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p2mp-lsp-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rsvp-te-no-php-oob-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ETF Last Call (ends 2011-08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ietf-mpls-tp-cc-cv-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Evaluation::Revised ID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1:04:26Z</dcterms:created>
  <dc:creator>Martin Vigoureux</dc:creator>
  <dc:description/>
  <dc:language>en-US</dc:language>
  <cp:lastModifiedBy>Martin Vigoureux</cp:lastModifiedBy>
  <dcterms:modified xsi:type="dcterms:W3CDTF">2011-07-25T02:23:19Z</dcterms:modified>
  <cp:revision>471</cp:revision>
  <dc:subject/>
  <dc:title>WG Status</dc:title>
</cp:coreProperties>
</file>