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978-EA5A-4DC4-A254-B03D790EA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346-4436-4A42-9252-CA77F3CF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0A4-E30D-45BA-AF29-0168976A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B8D-C2E4-4CF6-BC1C-BC1B0C67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152-2856-4D0F-A371-645E274A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3BC-8D15-49DF-8DC3-931E112D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7B5-6F65-48A4-87EE-56FD848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A55-2742-4AAC-8CCC-B860C35B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FCF-AC10-4027-9D24-4981D02F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6C2-639C-4997-92E7-E28F457F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CEF-239A-4D4A-810B-DB2DCCB5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1F4-AC68-4F09-868B-1B5F87DD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902-6DDB-4E6C-A03B-A16E07B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8C9-2FB0-4553-B7F9-6153BEF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2A0C-532B-445F-957C-E63C5379A8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76200" y="520560"/>
            <a:ext cx="83232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y submission to the IETF intended by the Contributor for publication as all or part of an IETF Internet-Draft or RF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d any statement made within the context of an IETF activity is considered an "IETF Contribution". Such statement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include oral statements in IETF sessions, as well as written and electronic communications made at any time or place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which are addressed to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IETF plenary sess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IESG, or any member thereof on behalf of the IESG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y IETF mailing list, including the IETF list itself, any working group or desig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eam list, or any other list functioning under IETF auspices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y IETF working group or portion thereof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IAB or any member thereof on behalf of the IAB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RFC Editor or the Internet-Drafts funct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ll IETF Contributions are subject to the rules of RFC 5378 and RFC 3979 (updated by RFC 4879)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tatements made outside of an IETF session, mailing list or other function, that are clearly not intended to be input 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 IETF activity, group or function, are not IETF Contributions in the context of this notic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lease consult RFC 5378 and RFC 3979 for detail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 participant in any IETF activity acknowledges that written, audio and video records of meetings may be mad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d may be available to the public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IESG Processing -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last call comments have been addressed. Version -07 has been posted. In process of clearing remaining IESG discu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tp-linear-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 - 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tp-on-demand-c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Not on the Agenda -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entropy-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ip-pw-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. Will seek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have requested a 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sp-ping-ttl-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mldp-in-band-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feedb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return-path-specified-lsp-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published, authors believe ready for 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Not on the Agenda -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seamless-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seamless-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feedb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feedb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 Verification Call. In process of clearing some verification call issues. Probably will result in a new version being posted shortly after this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mib-management-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recently finished its last call period. The authors received a few comments which will be addressed in a new 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Not on the Agenda -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rosetta-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take input from the survivabi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oam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st version results from merge with “oam toolset”. Authors believe document is stable and ready for new WG Last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have requested 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gt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jor changes, only clarifications and editorials, and authors would like to receiv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on the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sp-ping-mpls-tp-oam-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li-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security-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te-m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w WG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aft-win-mpls-tp-itu-t-identifiers adopted as WG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 be republished as : draft-ietf-mpls-tp-itu-t-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ort (one week) call to verify that all Last Call comments been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LS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1 – 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s in Queb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, Monday, 09:00-11:30 (Web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, Wednesday, 13:00-15:00 (Web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lue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in the </a:t>
            </a: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Blue She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 pass on! Return to WG 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rotocol Label Switching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ietf.org/proceedings/81/agenda/mpls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One new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6215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raft-ietf-mpls-tp-uni-nni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 Transport Profile User-to-Network and Network-to-Network Inter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formation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RFC-Editor’s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survive-fwk (edit 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raft-ietf-mpls-ldp-upstream (miss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oam-framework (miss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mp-ldp-reqs (au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IESG Processing -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raft-ietf-mpls-explicit-resource-control-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fastreroute-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::AD Follow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dp-p2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-announcement to be sent::Point Raised - writeup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oss-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ETF Last Call (ends 2011-08-01)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oss-delay-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ETF Last Call (ends 2011-08-01)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IESG Processing -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sp-ping-enhanced-ds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mldp-recurs-f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AD Go-Ahead::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p2mp-lsp-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rsvp-te-no-php-oob-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ETF Last Call (ends 2011-08-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tp-cc-cv-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::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1:04:26Z</dcterms:created>
  <dc:creator>Martin Vigoureux</dc:creator>
  <dc:description/>
  <dc:language>en-US</dc:language>
  <cp:lastModifiedBy>Martin Vigoureux</cp:lastModifiedBy>
  <dcterms:modified xsi:type="dcterms:W3CDTF">2011-07-25T02:23:19Z</dcterms:modified>
  <cp:revision>471</cp:revision>
  <dc:subject/>
  <dc:title>WG Status</dc:title>
</cp:coreProperties>
</file>