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066D-EF39-4F3E-80B0-AE7A5C566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085-7DE3-4331-9ED6-779920CEDC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0E2-D021-4FBF-B80C-F2529E1DE9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572-DCC7-4A43-9B69-E6D64AE10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F80A-5C41-4E98-BB64-A02651A72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7D8D-0326-4B88-91D5-B77A315F5D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F6B-92B8-4506-9AB8-1F74849B43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510-4C90-46DA-9DDC-AF400593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C00-B9DA-4378-A524-14D2C123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450-55F6-4AD6-A0F7-920C3B75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83C-8B7D-4EE0-A819-84F4E1A6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850-7105-4E5B-9756-7109B60B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8D96-D17D-4711-9C3C-02FFF946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26D4-4CF4-4B67-8C68-542F5D7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1927-A5B4-486C-BD67-EEE99FB4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86FA-C604-4D1D-B338-2E4BF9B6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899A-580A-496E-AB49-B3AB5FC5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9A5-2B3A-44EA-9A8C-E9B7DF8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7FC-00DA-403E-99C9-4B0BA1F3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07CA-2AB1-4744-885B-267F2B00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FA8-8F14-46F9-9553-57B06CB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0AA1-CF1D-4CE9-B1B9-537171F3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C857-25AC-44F8-9714-0DBC0A74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442-6ECA-4EA0-88C9-37515168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57B-5EE4-469D-8C31-CA770860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426-FA15-4C96-8628-416953C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DF2-AE3C-4A7E-893E-387FBF75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944-FCBA-4E99-A7B2-0B1A12D2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D08-2EA1-47F1-BE5E-F68AF4B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931-DA1A-42CD-873A-FD899AF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5DA-91D0-45B5-8050-F6EBA0C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672-6F74-4A85-B8E7-3DAE9FAFD04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48F3-63FE-4027-B92D-5774C6F4B78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宋体"/>
              </a:rPr>
              <a:t>MPLS W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xtensions to RSVP-TE for Bi-directional Label Switched Paths (LS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al MPLS-TE path ap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-1588 which requires that the Delay_Req message takes the same path as th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ync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Current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PLS LSPs are Unidirectional - Separate LSPs are required for bi-directional traffic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MPLS has defined extensions for setting up bi-directional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uses the GMPLS extensions and applies those to regular MPLS LSPs and also discusses how bi-directional symmetrical FRR can be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Setting up the RSVP-TE Bi-Directional LS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Upstream_Label object in the PATH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n an MPLS node desires label recording, it adds this Upstream Label in the RRO sub-object in PATH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us the initial RRO will now contain the sender's IP address and the Upstream Label advertised by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stream label subobject: type 0x04 and same C-type with label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FRR Mechanis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3" name="Picture 4" descr="7750_red_sr12"/>
          <p:cNvPicPr/>
          <p:nvPr/>
        </p:nvPicPr>
        <p:blipFill>
          <a:blip r:embed="rId1"/>
          <a:stretch/>
        </p:blipFill>
        <p:spPr>
          <a:xfrm>
            <a:off x="106668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7750_red_sr12"/>
          <p:cNvPicPr/>
          <p:nvPr/>
        </p:nvPicPr>
        <p:blipFill>
          <a:blip r:embed="rId2"/>
          <a:stretch/>
        </p:blipFill>
        <p:spPr>
          <a:xfrm>
            <a:off x="297180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7750_red_sr12"/>
          <p:cNvPicPr/>
          <p:nvPr/>
        </p:nvPicPr>
        <p:blipFill>
          <a:blip r:embed="rId3"/>
          <a:stretch/>
        </p:blipFill>
        <p:spPr>
          <a:xfrm>
            <a:off x="441972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750_red_sr12"/>
          <p:cNvPicPr/>
          <p:nvPr/>
        </p:nvPicPr>
        <p:blipFill>
          <a:blip r:embed="rId4"/>
          <a:stretch/>
        </p:blipFill>
        <p:spPr>
          <a:xfrm>
            <a:off x="571500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7750_red_sr12"/>
          <p:cNvPicPr/>
          <p:nvPr/>
        </p:nvPicPr>
        <p:blipFill>
          <a:blip r:embed="rId5"/>
          <a:stretch/>
        </p:blipFill>
        <p:spPr>
          <a:xfrm>
            <a:off x="762012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7750_red_sr12"/>
          <p:cNvPicPr/>
          <p:nvPr/>
        </p:nvPicPr>
        <p:blipFill>
          <a:blip r:embed="rId6"/>
          <a:stretch/>
        </p:blipFill>
        <p:spPr>
          <a:xfrm>
            <a:off x="3276720" y="3616200"/>
            <a:ext cx="468360" cy="4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7750_red_sr12"/>
          <p:cNvPicPr/>
          <p:nvPr/>
        </p:nvPicPr>
        <p:blipFill>
          <a:blip r:embed="rId7"/>
          <a:stretch/>
        </p:blipFill>
        <p:spPr>
          <a:xfrm>
            <a:off x="5105520" y="3616200"/>
            <a:ext cx="468360" cy="486000"/>
          </a:xfrm>
          <a:prstGeom prst="rect">
            <a:avLst/>
          </a:prstGeom>
          <a:ln w="0">
            <a:noFill/>
          </a:ln>
        </p:spPr>
      </p:pic>
      <p:sp>
        <p:nvSpPr>
          <p:cNvPr id="110" name="Line 12"/>
          <p:cNvSpPr/>
          <p:nvPr/>
        </p:nvSpPr>
        <p:spPr>
          <a:xfrm>
            <a:off x="3505320" y="242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952880" y="242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3098880" y="2730600"/>
            <a:ext cx="177840" cy="118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5562720" y="2654280"/>
            <a:ext cx="355320" cy="1270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3733920" y="387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99072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-e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5029200" y="40258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754380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ail-en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3200400" y="40258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434340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5638680" y="189216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281952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3657600" y="579132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 is the PLR for traffic in on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 is the PLR and B the MP for traffic in revers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1"/>
          <p:cNvSpPr/>
          <p:nvPr/>
        </p:nvSpPr>
        <p:spPr>
          <a:xfrm>
            <a:off x="2019240" y="2577960"/>
            <a:ext cx="4724640" cy="252756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2"/>
          <p:cNvSpPr/>
          <p:nvPr/>
        </p:nvSpPr>
        <p:spPr>
          <a:xfrm>
            <a:off x="2298600" y="2502000"/>
            <a:ext cx="4229280" cy="2209680"/>
          </a:xfrm>
          <a:prstGeom prst="pie">
            <a:avLst/>
          </a:prstGeom>
          <a:noFill/>
          <a:ln w="38160">
            <a:solidFill>
              <a:srgbClr val="2d3bc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990720" y="6172200"/>
            <a:ext cx="2590560" cy="0"/>
          </a:xfrm>
          <a:prstGeom prst="line">
            <a:avLst/>
          </a:prstGeom>
          <a:ln w="28440">
            <a:solidFill>
              <a:srgbClr val="2d3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990720" y="64008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14400" y="52578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DE - Protected bi-directional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FGD - Bi-directional bypass tunnel for protecting nod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1"/>
          <p:cNvSpPr/>
          <p:nvPr/>
        </p:nvSpPr>
        <p:spPr>
          <a:xfrm>
            <a:off x="6477120" y="265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wnstream P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2"/>
          <p:cNvSpPr/>
          <p:nvPr/>
        </p:nvSpPr>
        <p:spPr>
          <a:xfrm>
            <a:off x="5181480" y="265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3bc3"/>
                </a:solidFill>
                <a:latin typeface="Arial"/>
              </a:rPr>
              <a:t>Downstream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2743200" y="273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3bc3"/>
                </a:solidFill>
                <a:latin typeface="Arial"/>
              </a:rPr>
              <a:t>Upstream P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4"/>
          <p:cNvSpPr/>
          <p:nvPr/>
        </p:nvSpPr>
        <p:spPr>
          <a:xfrm>
            <a:off x="1676520" y="2730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stream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7"/>
          <p:cNvSpPr/>
          <p:nvPr/>
        </p:nvSpPr>
        <p:spPr>
          <a:xfrm flipH="1" flipV="1">
            <a:off x="1534680" y="2440080"/>
            <a:ext cx="143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41"/>
          <p:cNvSpPr/>
          <p:nvPr/>
        </p:nvSpPr>
        <p:spPr>
          <a:xfrm>
            <a:off x="6183360" y="2440080"/>
            <a:ext cx="143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Bi-directional By-Pass tunn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tected bi-directional LSP -&gt; bi-directional detour and bypass tu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the same Upstream_label mechanism that was used to set up the bi-directional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3bc3"/>
                </a:solidFill>
                <a:latin typeface="Arial"/>
                <a:ea typeface="宋体"/>
              </a:rPr>
              <a:t>Upstream PL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arns the incoming labels expected by its downstream routers by examining the RRO in the RESV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Downstream PL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the reverse direction, learns the Upstream labels by examining the RRO in the PATH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Failure Detection between PLR and M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s required that the PLR and MP detect the failure at the same time so that they switch to the bypass or the detour tunnel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 could use BFD, RSVP-TE Hello, or some other mechanism fo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 suggests using BFD - more details in the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lternate mechanism is to do protected LSP segment detection between the PLR and the 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1981080"/>
            <a:ext cx="82296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mments and feedback of the W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666880" y="36576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Vishwas Manral</dc:creator>
  <dc:description/>
  <cp:keywords>Crypto</cp:keywords>
  <dc:language>en-US</dc:language>
  <cp:lastModifiedBy>Lizhong Jin</cp:lastModifiedBy>
  <dcterms:modified xsi:type="dcterms:W3CDTF">2011-07-25T21:50:56Z</dcterms:modified>
  <cp:revision>176</cp:revision>
  <dc:subject>Crypto Auth for ISIS</dc:subject>
  <dc:title>IS-IS WG</dc:title>
</cp:coreProperties>
</file>