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DC8F-2245-41DB-8A4A-DD3B25DBFF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9AFB-079A-4B10-A758-F4505C4DEE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CA70-2BB7-4CEB-BE5B-8AF85876EA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72EB-5218-4819-857B-E9BAAF7FE4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7E17-F9B0-42D1-A9B4-973EF3233A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F4CD-C109-4F18-85BF-54F641508F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5659-E4B4-4D1E-A1C9-8E5134CA70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DCD3-C11C-478D-8934-D45E6A27D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3EB0-148E-4B10-AA3D-FEEC8C1A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864B-FD3C-4DCB-B152-12E977394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3562-E4A4-481B-B5D2-109BBAF18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058F-B1DD-4FA3-BEEB-A791DE6F4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564E-8EE0-4F3C-8066-5402A59E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660A-BA60-4E7B-94F5-DD6F7C3F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D97B-291D-4465-A0CF-E3337B40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253D-3567-4FE9-AA1B-C8902D39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A288-42A3-432D-AD6A-FD9C538D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311D-BB9E-41A1-8E5B-1F030C57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CB72-C4FE-49B3-9A85-9F622E56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1726-47C4-4CCA-9D43-5B6E9F26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184A-7CCB-4607-8D7E-BE06A27D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DC84-6960-4661-9E36-B60A8145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2B6D-6238-4139-A3DB-0B099DCA1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0C22-F014-4189-9DF5-F52E41315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8F3E-A543-473E-8BF1-E3AF91D5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8718-1242-490F-AC3A-DBE80CCF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0730-B5B6-43B0-ACFA-4574D0AD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07E9-1129-4DC1-B4A4-7D72087A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3372-47A0-4B21-88F0-567E9E9A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C40D-78AB-423D-A641-20A8F7D9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8DB7-D66E-4836-B26C-2E15C8B5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5764-60C1-4F22-9BC6-49AA23A5A0FF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40" descr="ietflogo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871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1" descr="ietflogo"/>
          <p:cNvPicPr/>
          <p:nvPr/>
        </p:nvPicPr>
        <p:blipFill>
          <a:blip r:embed="rId2"/>
          <a:stretch/>
        </p:blipFill>
        <p:spPr>
          <a:xfrm>
            <a:off x="7391520" y="2971800"/>
            <a:ext cx="1523880" cy="871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1A56-5A05-4533-959E-3EE05F9E87D3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  <a:ea typeface="宋体"/>
              </a:rPr>
              <a:t>MPLS W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-228600" y="297144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Extensions to RSVP-TE for Bi-directional Label Switched Paths (LSP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tiv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38088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metrical MPLS-TE path appl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-1588 which requires that the Delay_Req message takes the same path as th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ed Sync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宋体"/>
              </a:rPr>
              <a:t>Current Sta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8088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PLS LSPs are Unidirectional - Separate LSPs are required for bi-directional traffic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GMPLS has defined extensions for setting up bi-directional LS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raft uses the GMPLS extensions and applies those to regular MPLS LSPs and also discusses how bi-directional symmetrical FRR can be achie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宋体"/>
              </a:rPr>
              <a:t>Setting up the RSVP-TE Bi-Directional LS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8088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se Upstream_Label object in the PATH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hen an MPLS node desires label recording, it adds this Upstream Label in the RRO sub-object in PATH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us the initial RRO will now contain the sender's IP address and the Upstream Label advertised by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pstream label subobject: type 0x04 and same C-type with label 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宋体"/>
              </a:rPr>
              <a:t>FRR Mechanis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03" name="Picture 4" descr="7750_red_sr12"/>
          <p:cNvPicPr/>
          <p:nvPr/>
        </p:nvPicPr>
        <p:blipFill>
          <a:blip r:embed="rId1"/>
          <a:stretch/>
        </p:blipFill>
        <p:spPr>
          <a:xfrm>
            <a:off x="1066680" y="2197080"/>
            <a:ext cx="468360" cy="485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7750_red_sr12"/>
          <p:cNvPicPr/>
          <p:nvPr/>
        </p:nvPicPr>
        <p:blipFill>
          <a:blip r:embed="rId2"/>
          <a:stretch/>
        </p:blipFill>
        <p:spPr>
          <a:xfrm>
            <a:off x="2971800" y="2197080"/>
            <a:ext cx="468360" cy="485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7750_red_sr12"/>
          <p:cNvPicPr/>
          <p:nvPr/>
        </p:nvPicPr>
        <p:blipFill>
          <a:blip r:embed="rId3"/>
          <a:stretch/>
        </p:blipFill>
        <p:spPr>
          <a:xfrm>
            <a:off x="4419720" y="2197080"/>
            <a:ext cx="468360" cy="485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7750_red_sr12"/>
          <p:cNvPicPr/>
          <p:nvPr/>
        </p:nvPicPr>
        <p:blipFill>
          <a:blip r:embed="rId4"/>
          <a:stretch/>
        </p:blipFill>
        <p:spPr>
          <a:xfrm>
            <a:off x="5715000" y="2197080"/>
            <a:ext cx="468360" cy="485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7750_red_sr12"/>
          <p:cNvPicPr/>
          <p:nvPr/>
        </p:nvPicPr>
        <p:blipFill>
          <a:blip r:embed="rId5"/>
          <a:stretch/>
        </p:blipFill>
        <p:spPr>
          <a:xfrm>
            <a:off x="7620120" y="2197080"/>
            <a:ext cx="468360" cy="485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7750_red_sr12"/>
          <p:cNvPicPr/>
          <p:nvPr/>
        </p:nvPicPr>
        <p:blipFill>
          <a:blip r:embed="rId6"/>
          <a:stretch/>
        </p:blipFill>
        <p:spPr>
          <a:xfrm>
            <a:off x="3276720" y="3616200"/>
            <a:ext cx="468360" cy="486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7750_red_sr12"/>
          <p:cNvPicPr/>
          <p:nvPr/>
        </p:nvPicPr>
        <p:blipFill>
          <a:blip r:embed="rId7"/>
          <a:stretch/>
        </p:blipFill>
        <p:spPr>
          <a:xfrm>
            <a:off x="5105520" y="3616200"/>
            <a:ext cx="468360" cy="486000"/>
          </a:xfrm>
          <a:prstGeom prst="rect">
            <a:avLst/>
          </a:prstGeom>
          <a:ln w="0">
            <a:noFill/>
          </a:ln>
        </p:spPr>
      </p:pic>
      <p:sp>
        <p:nvSpPr>
          <p:cNvPr id="110" name="Line 12"/>
          <p:cNvSpPr/>
          <p:nvPr/>
        </p:nvSpPr>
        <p:spPr>
          <a:xfrm>
            <a:off x="3505320" y="2425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4952880" y="2425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15"/>
          <p:cNvSpPr/>
          <p:nvPr/>
        </p:nvSpPr>
        <p:spPr>
          <a:xfrm>
            <a:off x="3098880" y="2730600"/>
            <a:ext cx="177840" cy="1181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18"/>
          <p:cNvSpPr/>
          <p:nvPr/>
        </p:nvSpPr>
        <p:spPr>
          <a:xfrm>
            <a:off x="5562720" y="2654280"/>
            <a:ext cx="355320" cy="1270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9"/>
          <p:cNvSpPr/>
          <p:nvPr/>
        </p:nvSpPr>
        <p:spPr>
          <a:xfrm>
            <a:off x="3733920" y="3873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0"/>
          <p:cNvSpPr/>
          <p:nvPr/>
        </p:nvSpPr>
        <p:spPr>
          <a:xfrm>
            <a:off x="990720" y="1892160"/>
            <a:ext cx="609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ead-end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5029200" y="402588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2"/>
          <p:cNvSpPr/>
          <p:nvPr/>
        </p:nvSpPr>
        <p:spPr>
          <a:xfrm>
            <a:off x="7543800" y="1892160"/>
            <a:ext cx="609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ail-end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3"/>
          <p:cNvSpPr/>
          <p:nvPr/>
        </p:nvSpPr>
        <p:spPr>
          <a:xfrm>
            <a:off x="3200400" y="402588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4"/>
          <p:cNvSpPr/>
          <p:nvPr/>
        </p:nvSpPr>
        <p:spPr>
          <a:xfrm>
            <a:off x="4343400" y="1892160"/>
            <a:ext cx="609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5"/>
          <p:cNvSpPr/>
          <p:nvPr/>
        </p:nvSpPr>
        <p:spPr>
          <a:xfrm>
            <a:off x="5638680" y="1892160"/>
            <a:ext cx="609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6"/>
          <p:cNvSpPr/>
          <p:nvPr/>
        </p:nvSpPr>
        <p:spPr>
          <a:xfrm>
            <a:off x="2819520" y="1892160"/>
            <a:ext cx="609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8"/>
          <p:cNvSpPr/>
          <p:nvPr/>
        </p:nvSpPr>
        <p:spPr>
          <a:xfrm>
            <a:off x="3657600" y="5791320"/>
            <a:ext cx="4572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 is the PLR for traffic in one 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 is the PLR and B the MP for traffic in reverse 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31"/>
          <p:cNvSpPr/>
          <p:nvPr/>
        </p:nvSpPr>
        <p:spPr>
          <a:xfrm>
            <a:off x="2019240" y="2577960"/>
            <a:ext cx="4724640" cy="2527560"/>
          </a:xfrm>
          <a:prstGeom prst="pie">
            <a:avLst/>
          </a:pr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32"/>
          <p:cNvSpPr/>
          <p:nvPr/>
        </p:nvSpPr>
        <p:spPr>
          <a:xfrm>
            <a:off x="2298600" y="2502000"/>
            <a:ext cx="4229280" cy="2209680"/>
          </a:xfrm>
          <a:prstGeom prst="pie">
            <a:avLst/>
          </a:prstGeom>
          <a:noFill/>
          <a:ln w="38160">
            <a:solidFill>
              <a:srgbClr val="2d3bc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3"/>
          <p:cNvSpPr/>
          <p:nvPr/>
        </p:nvSpPr>
        <p:spPr>
          <a:xfrm>
            <a:off x="990720" y="6172200"/>
            <a:ext cx="2590560" cy="0"/>
          </a:xfrm>
          <a:prstGeom prst="line">
            <a:avLst/>
          </a:prstGeom>
          <a:ln w="28440">
            <a:solidFill>
              <a:srgbClr val="2d3bc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4"/>
          <p:cNvSpPr/>
          <p:nvPr/>
        </p:nvSpPr>
        <p:spPr>
          <a:xfrm>
            <a:off x="990720" y="6400800"/>
            <a:ext cx="2666880" cy="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5"/>
          <p:cNvSpPr/>
          <p:nvPr/>
        </p:nvSpPr>
        <p:spPr>
          <a:xfrm>
            <a:off x="914400" y="5257800"/>
            <a:ext cx="4572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BCDE - Protected bi-directional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FGD - Bi-directional bypass tunnel for protecting node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1"/>
          <p:cNvSpPr/>
          <p:nvPr/>
        </p:nvSpPr>
        <p:spPr>
          <a:xfrm>
            <a:off x="6477120" y="2654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ownstream P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2"/>
          <p:cNvSpPr/>
          <p:nvPr/>
        </p:nvSpPr>
        <p:spPr>
          <a:xfrm>
            <a:off x="5181480" y="2654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3bc3"/>
                </a:solidFill>
                <a:latin typeface="Arial"/>
              </a:rPr>
              <a:t>Downstream 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3"/>
          <p:cNvSpPr/>
          <p:nvPr/>
        </p:nvSpPr>
        <p:spPr>
          <a:xfrm>
            <a:off x="2743200" y="27306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3bc3"/>
                </a:solidFill>
                <a:latin typeface="Arial"/>
              </a:rPr>
              <a:t>Upstream P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4"/>
          <p:cNvSpPr/>
          <p:nvPr/>
        </p:nvSpPr>
        <p:spPr>
          <a:xfrm>
            <a:off x="1676520" y="27306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pstream 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37"/>
          <p:cNvSpPr/>
          <p:nvPr/>
        </p:nvSpPr>
        <p:spPr>
          <a:xfrm flipH="1" flipV="1">
            <a:off x="1534680" y="2440080"/>
            <a:ext cx="1436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41"/>
          <p:cNvSpPr/>
          <p:nvPr/>
        </p:nvSpPr>
        <p:spPr>
          <a:xfrm>
            <a:off x="6183360" y="2440080"/>
            <a:ext cx="1436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宋体"/>
              </a:rPr>
              <a:t>Bi-directional By-Pass tunn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8088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rotected bi-directional LSP -&gt; bi-directional detour and bypass tunn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s the same Upstream_label mechanism that was used to set up the bi-directional L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3bc3"/>
                </a:solidFill>
                <a:latin typeface="Arial"/>
                <a:ea typeface="宋体"/>
              </a:rPr>
              <a:t>Upstream PL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learns the incoming labels expected by its downstream routers by examining the RRO in the RESV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Downstream PL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or the reverse direction, learns the Upstream labels by examining the RRO in the PATH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宋体"/>
              </a:rPr>
              <a:t>Failure Detection between PLR and M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38088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ts required that the PLR and MP detect the failure at the same time so that they switch to the bypass or the detour tunnel at the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e could use BFD, RSVP-TE Hello, or some other mechanism for th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e suggests using BFD - more details in the draf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lternate mechanism is to do protected LSP segment detection between the PLR and the 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xt step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80880" y="1981080"/>
            <a:ext cx="822960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Comments and feedback of the W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2666880" y="365760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02:41:14Z</dcterms:created>
  <dc:creator>Vishwas Manral</dc:creator>
  <dc:description/>
  <cp:keywords>Crypto</cp:keywords>
  <dc:language>en-US</dc:language>
  <cp:lastModifiedBy>Lizhong Jin</cp:lastModifiedBy>
  <dcterms:modified xsi:type="dcterms:W3CDTF">2011-07-25T21:50:56Z</dcterms:modified>
  <cp:revision>176</cp:revision>
  <dc:subject>Crypto Auth for ISIS</dc:subject>
  <dc:title>IS-IS WG</dc:title>
</cp:coreProperties>
</file>