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6B3D-8A08-4D11-AF90-6C09F9F3C58C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F1F9-7BE4-4175-94DC-CFE99419215C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1BB-466F-4AA7-B360-3B5CB67A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A21-CE44-4887-BC68-6426E3E2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1437B-883C-4BBD-8D1B-75A43C94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59848-8EA1-49BB-A33A-7FF67FC7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D90F6-76FF-4F11-BEE5-FD9012C9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2B8F3-D509-4012-B979-3175CE94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41080-4233-4E6A-A760-69BA582E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0F449-31A1-4A9C-B987-C6155946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DD454-5027-4F91-A956-345C6DE9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113D0-83A8-4BAF-A614-A66DBDEB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6E31B-1CCE-4684-9110-0697A05C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49B69-9292-48B9-9069-892B0622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F1A-A7B7-42DD-9971-C6532DF7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37857-BC39-4784-BAC7-4250CAF8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4DB22-6F7B-4BA5-BB64-A03E6319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0FB13-4C1B-40D8-A0FE-979A06FE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C9B2A-6D6C-45A9-9B28-1E05BAD0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347BF-1D6A-4EE3-9FB0-9D64AA10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B4E15-CAFB-4E9A-88DA-BEC72F7C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34FED-434F-4F4C-A23B-1605A992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3ED14-0780-4EF0-902D-187D6CB4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DBE98-CBF1-4844-8E2D-C2B17C98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C7C32-F64E-47FE-96F9-C50F7E46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AD9-D7AB-4640-876D-03248A73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350D2-62D1-42D5-8B1B-BD2C2DF4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49FDA-2ADC-40CF-9F9C-78163DD4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5D4D8-5DB4-4D34-AA2F-5AC4CD15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8D0E3-A059-4BBE-8054-FB4CE370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E2171-16BE-4D5F-B2C9-4D27F7D7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1F219-A4F3-4F40-9846-50F2854C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8DAC2-5C61-4EF4-9432-22A4670F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8E758-B74E-4BDD-9D38-92F01231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C2D70-E8B3-4A2A-BA65-B1D6E35E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56DD8-5408-4C7B-A9A0-1CFDB4C9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7205-E46E-4FE5-B331-A4A354CB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33111-8F80-4FAE-A376-FF3B7518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4936B-F9B5-4FBB-B861-4AA8BE7C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A398D-5453-42A9-BC70-BBCD0E65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F1571-34B4-4B18-9B97-3BCAA700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3D97E-1197-4BF2-A49B-A456A423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6DBBD-A1B9-4AF2-850F-A8E392A9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75E96-10C8-4D3A-9371-841F10DE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474E4-65AD-4F77-924A-DF217923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2DCF2-E761-45B1-88EB-912F6FBA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65547-B5B0-4C3B-82A7-15DECCBE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3236-8FF8-44D3-86F5-06FF22F7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0FC48-0F51-4ABB-8D82-D385C862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58811-890B-4B81-85D5-09D27E72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F06B2-2599-4E2F-A593-D013F84E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DDF38-7F40-4B95-A744-8D4F1D8D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F7B71-5E5A-4471-80CE-142151BD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B344-AA55-4AF1-9CFD-431E48A3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DEC3-6B65-4374-BEF7-711D51C8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6F7E-505D-4D91-8BD7-4F26C347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128D-CB6F-4372-97EC-A9957EBE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1EBE-A30E-46E1-9738-95F5D2B7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05B-324F-4682-A85E-69111A6F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0644-4900-4C72-A3F7-E24E7231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9BD5-3DD9-4ADC-8625-D1ABCF9C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F7C4-AC04-4B47-8714-C4E69086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B74C-41BA-4F59-B0FD-38DD1667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6283-FD09-4B5B-A134-EA091017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84B8B-9F63-4CDF-8D84-EFB97E47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4B0D4-5136-47A1-8AF1-636D6606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306ED-11E0-4B5A-BFD6-974CA4B8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D10CC-CED1-4A47-AAAF-3E40339B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E9850-F7E0-4F87-AE3A-7385AACF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C21-ABAA-44FE-BD86-CAB34216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63B2F-3BC1-49F7-8D12-2BFA8619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16E43-7A1B-4A11-92C9-D67349C1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E58EA-35DA-4803-95AB-5FCAA103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AEE4A-0DA1-4FB7-8091-DE0197DC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6997C-6718-4029-916E-AF095863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08B34-7B63-4036-9DB1-7DC36DBE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3550B-BB39-477B-8B35-72DB832A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263DA-7E98-45B7-A08F-A1123E80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67259-1AC7-438A-BAD2-1A31C3DE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4A04B-C5F6-44F7-99F7-9F9ADA09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F2B-DD67-4AB8-BC38-DB48F9A4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E9494-EB48-4ED7-9EA3-3545FF55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49D3B-8A82-4426-AB06-5C216D96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754D0-908F-4EAD-8296-9E5F9C5D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834E3-F87C-4D9A-82D6-DC3E17AC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A4B6D-DC44-4464-A1D1-3683775E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F856B-CAA4-43A5-A697-86A74859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827A4-AF59-4BA5-A300-5F15AF60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0354D-C49F-4065-BAFC-B2FB7152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D8044-C090-4AA1-881B-9E4B83D2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8B644-F38C-4C39-8CE3-506BE40E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108-85FC-4FC8-9437-A0EF5F2C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F33D0-00E9-45BA-93B0-AB3ED3E1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B5C36-19AF-45EF-A4AB-1E99AC5E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9C87F-B47D-451A-9292-98F5BF0A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0C438-026C-4C35-92E3-A64E4C8A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71E26-E3EC-473D-BCAC-5B600987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4951E-D23D-4252-9803-B08DCF06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B7DAC-FCAD-4B7E-A11F-EA1D93EF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5BC73-84BF-47BE-A785-8917BEF5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BD2FB-EFBC-4777-B8C2-E73CA7CE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BB6C6-EA2C-4B2E-A77B-6B2FEE88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F05-DAF2-4037-9653-BB74AFDE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CDCB4-02B4-4972-B460-1C27A3BE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E8E9B-A2B0-4C62-92D6-691B6379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5A2FE-0FFD-463F-B7C6-28532439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6ED1F-AD7E-4F54-B40E-E098693E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31933-3218-45A0-8A3A-D37F2753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A8896-37E3-46B1-96E0-A14F6CA7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817B5-B64C-4E52-B67A-344AEB58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174F5-7249-4892-9C8D-FD5A47FB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0C026-4D7F-48DA-B6D3-749BB029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C829B-52EA-4EDB-A294-494169D4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C30-AA21-46A6-96D8-DBB87993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CE108-8A14-4ED3-917A-C77125A1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87ACC-B1FF-418E-A727-8CD1C58C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64CC8-E3C3-45F1-A7B9-79AD524E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E80F2-812D-4A4C-BD57-B5B7FBF1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2E07B-5044-4313-918A-2D7D296D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51A21-E794-4D0B-A355-7141F9FC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4A250-93B2-4545-A063-81BB9AAC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BA44D-1DFA-4908-8497-F7A398B0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06CBA-50B5-48B5-9A6F-717DE977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DB268-ED6D-4622-B724-55BA9D42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82B-8C9C-4AC3-A874-210D9CEB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B75DE-C4A6-4A90-8A92-4A1B8667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F53A5-A401-4743-A8D4-346A6B51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D4D08-63C9-44AD-9E52-03E40952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ECFF0-F5A4-497F-8AD9-DD664B95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4FACA-51F9-4169-9933-34B7C410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C87B4-D1FE-4794-A358-E4619687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DF6C6-C905-44F7-8795-98D180B8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F0450-FF84-4B87-8A81-430BE677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15D34-F7BC-4052-8049-9E559BCC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68E5B-B302-44B1-9218-744B2DCC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5EF-FCEB-4660-90D6-B59C01CE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EBB47-730D-42E9-A7E9-74D9CCE9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CBEEF-AE54-49EE-9AEC-56CF713B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3023D-A481-40C5-B80F-69445E37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F6F13-94C3-4F53-95B1-67CDCF49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3536A-19CC-4AC3-9908-B9292BFA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7CB26-AC24-4EC2-B86F-536073A9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6F6E4-43A9-45A5-A1F5-E1BE252E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F7FFF-3B23-42D2-8606-DC4F8460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EFF31-BE6B-4571-A81B-26A0B99F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E1F3F-0F52-45E6-9B87-45F2C166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ch 25,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AA0D-D2C7-49A7-904D-362FBE369D2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DA9B-B986-45A0-8A2B-F498218EB47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03CB-ED35-4D61-9DFC-5F881FCAE33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E26F-E56D-4EC3-8638-10C40907117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5C9F-5CB3-4DB0-8974-E29ACBEBA5F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4193-581E-46C3-A232-13C2EDC8F45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E1CA-BA5D-4A6F-8FEB-4612F24280B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FCAB-674C-401F-8EAE-F365EA43193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933B-AD6F-4DF6-9E38-999FD2B10B5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FAA9-5E8A-43B7-8EFC-8D80DF2ECEA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0440-ABCE-4FA4-BEDA-0AE95526C42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6936-CBDE-4D20-A8FF-1FD4E9F0A07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990720" y="1752120"/>
            <a:ext cx="101347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宋体"/>
              </a:rPr>
              <a:t>LDP Multiple Topology  </a:t>
            </a:r>
            <a:br>
              <a:rPr sz="36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raft-zhao-mpls-ldp-multiple-topology-0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8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3048120" y="55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ETF 81 –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宋体"/>
              </a:rPr>
              <a:t>Qub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2590920" y="4436640"/>
            <a:ext cx="447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3657600" y="373392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Q. Zhao (Huaw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L. Fang, C. Zhou (CIS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L. Li (China Mob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N. So (Veri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R. Torvi (Juni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1564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504d"/>
                </a:solidFill>
                <a:latin typeface="Calibri"/>
                <a:ea typeface="宋体"/>
              </a:rPr>
              <a:t>Review: MPLS Forwarding in M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90080" y="1219320"/>
            <a:ext cx="89535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Option 1: MT is implied by Lab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On a LSR, same FEC with different MT-ID mapped to different Lab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Advantages: No hardware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Disadvantages: Label space is limi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Option 2: MT is indicated by stacked Lab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One extra label is stacked to indicate a top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Advantages: Each topology has a full label sp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Disadvantages: Forwarding is complic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DtsShapeName" hidden="1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-38160" bIns="-38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1 –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Qub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609480" y="380880"/>
            <a:ext cx="79074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Calibri"/>
                <a:ea typeface="宋体"/>
              </a:rPr>
              <a:t>Update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28600" y="1066680"/>
            <a:ext cx="861048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In this version of the draft, the second option of the forwarding scheme, which is label stacking based,  is rem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his indirectly addressed the comment from Eric Osborne regarding to the context label from last IETF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here are more service providers who show interests in this (refer to the presentation for MPLS-MT applicability and requirement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here is one implementation from one of the vendors who are interested in this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1 –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Qub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宋体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e would like to get more feed back from the working group for those draf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e would like to ask the working group chairs to consider to adopt  this draft as working group docu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327672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1 –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Qub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an</dc:creator>
  <dc:description/>
  <dc:language>en-US</dc:language>
  <cp:lastModifiedBy>MC SYSTEM</cp:lastModifiedBy>
  <dcterms:modified xsi:type="dcterms:W3CDTF">2011-07-26T03:18:46Z</dcterms:modified>
  <cp:revision>212</cp:revision>
  <dc:subject/>
  <dc:title>Applicability of the Path Computation Element to Inter-Area and Inter-AS MPLS and GMPLS Traffic Engineering  draft-king-pce-inter-area-as-applicability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114436</vt:lpwstr>
  </property>
</Properties>
</file>