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9857-7DB9-4940-BB63-AF1511882EF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2C07-0E63-4930-946D-1685FDAA4A3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794-103E-44C2-A011-798F106D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D4C-6F93-43CD-BFA4-28B5A222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D9E4E-D0A5-4D05-99A2-73645A5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39812-BAB7-4043-9843-5FA21316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FBBA-2C6A-4DAE-AE7E-31DBD12C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44A5D-4C0F-46F2-9797-4E2EC9B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0FE6C-35CA-40C5-B07C-099E5464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740D1-3EDB-4201-8E8C-ED99B611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9EE2-3682-44AF-903F-221FF05E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8498A-212B-4F3E-BA44-454D3B55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4D0BB-D81D-4454-95D7-31C16EA8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7BF4B-7365-4126-8D51-B8D30615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835-C722-40B8-88D7-5319C2A0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3053C-56AE-48E1-9B98-B9BECAA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47CF8-5F2F-4BAA-9E81-D44E7871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DAAD4-A666-4BAA-B770-6820EEB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A67A0-7EDF-4994-A4F7-4A668A0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C278A-F5EE-40FB-A608-834CDF07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CA06A-712B-4248-9479-9F782A5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90463-0AC6-4B6F-9971-6703BDD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B6C2-4321-4C86-AEB1-1A63632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876E3-6D3C-451C-A9D3-9E88E9E9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7BBD9-3DA4-427E-B1EB-B170393D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972-9600-4FF4-896F-D84ED9C0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95EB6-B0B2-4CEE-A990-9F0EE9D4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83C9F-63DD-4DDF-86B4-EA037EF2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A8F52-ED91-427E-B0CD-ED19FDCD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29E14-7B50-4718-BF8C-73B99580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1A4B9-4C5D-4F78-9289-51CB1A97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240BA-B7DE-47B9-88CF-73F9E62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9943E-40C4-4313-824D-D57494ED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9A994-1D31-47D6-A1C3-EE95A78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FF4AE-CF3F-482B-BDAC-CD7B6BA2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5776B-AFBB-47C6-910B-E0AAC58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0B97-6076-4B3B-85DD-13812A5B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FBDEA-222A-407D-917E-74FB41BF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4E971-D679-4411-9E5E-0919C2E3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F52F0-C1E0-4D45-940E-F59C3B40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FA89B-9F1B-4A33-90C1-12E26278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0A503-BC3C-42E1-A848-3DA8655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6A2B6-6912-4D55-AE44-A204222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A8288-026A-43D9-938A-A4265F3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A2B24-7D9B-4D6B-8BCA-1C85D3F6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B572E-E20F-4AE4-BE7C-26CA51CE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7BF04-CC70-4EF7-A09A-05AB9010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266B-7693-4D92-98A0-B6F702E4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C9619-B428-4F65-91BF-9A74823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20438-FC9D-46EE-BAB3-5F0BFA9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D301B-6F85-4786-965D-C8AC0682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3B6A5-57F2-4E43-A2F5-68511A9E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5A854-0981-4CE5-8D2E-FF9C8CA6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428C-51C9-4453-89AA-A68D19F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ED9F-C251-4648-92A4-C2B6EBC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DDFB-073C-43EA-AB71-BA4FE80A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74B1-B61C-4CF5-934C-E30455D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BD3C-2B56-4B65-9BA6-B0BBE14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63F-857B-4BAC-9537-D6976DA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45C-9160-4D61-9284-D88F4F2D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F02-7A06-45F1-AEE3-CF9CA43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D5B5-F6F4-4554-9039-2A696E6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EFA2-177F-4949-9B87-E374B81E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4BBB-38C2-4C28-9180-25D6A74A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423A-3123-4280-8319-94ACE0C6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8C18-8B61-4E5D-90F1-A3E85CEC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4071-059D-4276-A15E-CD94ACF5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64BC-295D-43E9-B333-41B40BB7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193F-FA23-440E-9A3C-A59D1D0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1B5-92F2-4967-9675-EC830B98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3CD7-E353-4C84-8EF9-076DF19C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71BF-DC46-45AA-8B41-491B155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56CE-70D1-4B4B-AD75-42C2202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6959-C114-4493-BB20-4D88B929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1882-10C5-4392-86E3-09E3E81E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41E2-C8BB-4021-B63D-81796FA0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B755-1583-45F4-8D2A-9EEE56DA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636C-4A0D-4FED-9348-539CF4B8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F19C1-8691-449F-AF49-454F58CB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36DB-44A9-4C49-82AE-A8B298E3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27B-6C4C-4D1F-B594-F9F43B8B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1B8E-306C-4535-9B38-EC3828C5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FA51-7CDF-44C7-9E06-A2FAF73B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D29D-11D3-48CD-8CEC-33905BF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BA1A-F30F-4616-A442-C7802EEA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DE390-1500-4D07-82B5-0AFB276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AD63-171B-4CC5-92BD-ED311D4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0D9A-6E9C-4895-9F37-68BAA89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6837-78E0-47FB-A297-3B525136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7200-B369-4608-A5B9-DADB5156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0195E-1C04-4679-BAD3-C82348BD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42B-3049-4515-AC09-585559F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BC1C-8ECF-432E-B23E-0979769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BC86-BFC0-45C6-9ECA-8B3095E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A0EE-C257-4D8F-8AA8-09AF6154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46E4-C351-4618-AC06-01C349BD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E167-EF97-4CDF-84E3-D2ACD62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5C8D1-066C-45C8-BD46-B2CE1EC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B639-5591-4E75-8AFE-AC3A1A6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E4BC-7432-4628-A708-6B84F59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A9E0-FCEB-4F09-A8F5-F405A686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5AC0-2D78-43CA-8104-03D7F5B5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A3A-591B-4A2E-A3D3-C9165761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6D3F-C630-422B-8109-5F97F6E7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5E72-E95B-457A-ABCC-35309FF3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7BED-D3A7-4E18-8D60-7E467F2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1A96-2AE3-4C60-BB10-2569D8D5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6C1C-731C-47FA-B7E0-CADFE94C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7A5B-8E49-4062-B714-7EC7D7C3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38EA-A16B-493A-8DDF-E6377CD1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39DA-8414-46D6-97D0-4A33859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2B58-7A5D-4812-9001-B3EE6EE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E7C7-F161-4698-BDAA-4F74D7E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CD3-99C9-4755-AA04-B6180C65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EFFC-9DD6-4895-9A1F-9B2A0220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6A77-D807-4B5F-A037-DD7CDCCF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7ECBF-EC07-4EAC-B8AE-1B7DA35F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966A6-9CE7-4029-88C5-9D7E7B33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815F-C3C1-4BD6-A974-02E8F97C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83FFE-DDC8-49B5-A4A9-C464604C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C49B1-D592-423F-8C87-A49CC1D9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238D-6F65-459C-8C37-1FAD7F33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BC96C-D1D7-499B-81DA-46A553E7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88BF-AA04-4FDA-BD65-7CB5633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DE9-33A7-4D3C-87C5-493A5A37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AF621-1E54-466E-BB2A-A47B3007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980F-EB4D-4D64-8FEF-3682260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8DF7-6715-45B3-8810-5D8E4010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2C791-09B3-4BE0-8A92-51456D1F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97E84-45C4-470C-80F6-057ECF59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41D5A-9495-4EDC-94F6-6C6F5D12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8C77A-662C-4922-9BEC-723740E9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8A1B4-53BD-4A64-B256-9A10F2D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68E41-A9A8-44AE-93EA-336E494F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C309-4E9F-4E48-BD9E-76860FB3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6C0-130E-46E9-8457-E420E01E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7CF5B-29D6-417C-B603-63E04C7A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8F24-DA93-4531-B292-6A39B357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99DC-545F-4EF2-8A47-6FF24DC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716A5-B2E1-4294-904C-54B3851F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34AD-C8E2-4C9F-B727-B36B235E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3D00-B12E-4823-906B-F4F727E6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9873-D058-4354-B201-AE6794AB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C53CD-B8C4-4B80-A1E4-582B8F4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B18D9-F3D4-4304-AEAC-6637625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E00DB-A59C-41D9-915E-FF83BB6F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7C4-B135-4DD9-BCB6-963CF0F6EB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F85B-4B3D-4726-A7F7-98FC04FD10E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BFA-0474-4D37-88CC-756A5E85B6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C584-1C31-48BB-8978-8BFD7358A0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67D3-0F3C-4C50-B209-98120B934D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0863-A97F-4C2E-B815-375A7C9AC10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DE27-21A5-4CFD-B8C3-FFB05DA0DC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4376-4523-440C-B3D4-7D5B4AC265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4E7-9B14-4680-B613-03523E3244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F9D-788E-44D8-9788-D8286D0765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FEBC-2A12-445D-BB54-C671ED264E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AFC8-DC94-4871-8497-A9CA22E45C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990720" y="1752120"/>
            <a:ext cx="10134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宋体"/>
              </a:rPr>
              <a:t>LDP Multiple Topology  </a:t>
            </a:r>
            <a:br>
              <a:rPr sz="3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zhao-mpls-ldp-multiple-topology-0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048120" y="55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590920" y="4436640"/>
            <a:ext cx="44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657600" y="37339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Q. Zhao (Huaw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. Fang, C. Zhou (C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. Li (China Mob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. So (Ve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. Torvi (Juni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504d"/>
                </a:solidFill>
                <a:latin typeface="Calibri"/>
                <a:ea typeface="宋体"/>
              </a:rPr>
              <a:t>Review: MPLS Forwarding in M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90080" y="1219320"/>
            <a:ext cx="89535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ption 1: MT is implied by Lab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n a LSR, same FEC with different MT-ID mapped to different Lab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No hardware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Label space is lim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ption 2: MT is indicated by stacked Lab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ne extra label is stacked to indicate a top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Each topology has a full label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Forwarding is complic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-38160" bIns="-38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609480" y="380880"/>
            <a:ext cx="7907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  <a:ea typeface="宋体"/>
              </a:rPr>
              <a:t>Updat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1066680"/>
            <a:ext cx="86104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 this version of the draft, the second option of the forwarding scheme, which is label stacking based,  is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is indirectly addressed the comment from Eric Osborne regarding to the context label from last IET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ere are more service providers who show interests in this (refer to the presentation for MPLS-MT applicability and requirement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ere is one implementation from one of the vendors who are interested in this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宋体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get more feed back from the working group for those draf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ask the working group chairs to consider to adopt  this draft as working group docu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27672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</dc:creator>
  <dc:description/>
  <dc:language>en-US</dc:language>
  <cp:lastModifiedBy>MC SYSTEM</cp:lastModifiedBy>
  <dcterms:modified xsi:type="dcterms:W3CDTF">2011-07-26T03:18:46Z</dcterms:modified>
  <cp:revision>212</cp:revision>
  <dc:subject/>
  <dc:title>Applicability of the Path Computation Element to Inter-Area and Inter-AS MPLS and GMPLS Traffic Engineering  draft-king-pce-inter-area-as-applicabilit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114436</vt:lpwstr>
  </property>
</Properties>
</file>