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2EE5-CE3E-4062-B0A5-10BDCF0177E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8F03-6A3F-4829-A6E8-7A6B62A65E8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613-6D27-435B-811C-A185E5176C9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EACD-E742-47D4-8888-2E7D7F1FB81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D62-7A19-4D62-AB12-113C91E9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727-D18D-458F-99CB-54EDC554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B23C5-98B9-4C9D-AAA5-75FE7B82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DD9B7-FA7F-4B65-825F-1FCF386E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0AFB4-6E72-4AF3-B46F-62698A54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726B-6165-4EAC-A0B7-EC3E5F16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B3744-E409-4A76-B8E5-4450011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938FE-719D-4153-8468-D31EBCC6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8699E-CD27-4F22-9386-F28D8A2B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73A04-7AA0-4A90-AE5C-0440C525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BB788-502B-46AF-A1D7-1AF9FE8C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35E69-EB06-4A17-A0A9-91D86F87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E8D-D473-4ACE-B00B-E400CF40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EFC4E-BCD7-48C0-9C4C-5FADF0A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728C8-80F6-49A1-AFD8-A76AE6A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C16FE-D16C-41FA-BADD-126C306A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62CCE-63B9-4308-AEF3-55FE9423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15EF3-2309-4FB3-B13B-A4066E9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C27EA-7625-4CCA-BFE5-1073064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BE14E-615E-4A28-87D4-4B2C3DC0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0191F-3439-464B-ABDA-BCAED3D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E1EDC-86F9-471D-A903-42755E6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5A4F-F1A7-4C82-9601-7F5C97AE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93E-74CE-4C4D-AD8E-F5D23023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01D52-9C37-416C-A30F-389D6AFA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F86E7-475F-4B8E-8630-433C876F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5F02E-DC2B-4416-BFB4-FBCCAD43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7A788-81B6-4708-A953-13367F5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A5BDA-71C3-41DD-B248-BB148642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235FE-6742-42FB-A474-84B3D1CF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A09E9-550E-4B67-83D3-9F20C52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D1D0-A876-4C7D-90C3-9CBA5AF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1ADC-31B1-42AB-A9FE-25232C6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EED6D-6A0B-410C-87E3-C094D4E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09F-32A9-4D8A-AF19-9420206B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64997-180C-4810-A667-81C27600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76EE0-9018-4CE4-B015-6B7E1DA7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4F239-686D-4942-A5FA-96B50D3F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6FC10-043D-4927-A5C0-A241C729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F90B0-2807-4AAB-A402-112E4506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6FDBE-A26A-41CD-A27E-4C70C9B1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018DD-2E76-4D3B-941B-0C965B84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59C9F-D899-4B1C-9AB7-A92DA2D0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C2427-8FBD-4C66-8861-13FEC473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3B908-CCB6-4EFB-BD01-263E80F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822C-F1C9-4664-BE9E-87BF6735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7F21E-39ED-4070-B083-C9587E6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7367E-F581-45E0-84F2-1A122727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7D649-2305-42A2-8C2B-CFBE6FC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6F32-EC09-47F9-9856-044EDFFD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727BC-1C09-47F7-BD06-899106F7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79B6-AF70-41D1-836F-7CB8533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93D6-4664-4232-AE1C-1FEFC69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462E-4585-4B4F-896A-976EFF88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260-1260-46D6-AAC4-43D71DE6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B2ED-409E-42E3-9D82-D970DAB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5C5-C8D4-4B5D-BC66-9A3CB0E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3777-6630-40C6-AAA3-7A6D8A8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9DEA-4A1F-4803-A5D6-35D73A2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5F40-17E1-4FA1-BE8B-E990B6AA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1B42-F0A3-4966-9717-8CA3B7D2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848B-EDB0-4543-A6BD-984F936D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E3AC-A953-409C-A485-F41DACFF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03C3-6695-4F3F-A2B3-10DFE7B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19E3-D217-44BD-BD97-1CFD0344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C9E9-98B7-4293-BC6D-E6ECEA6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4889-FA7B-4AB8-99BE-E129BF07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BCE-DB7F-43F7-8C62-683786C8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FDBE-F1C6-41CD-BB3F-334FE81D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D5A4-FC81-4696-8270-5A2490A1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6384-7477-49D4-8A4A-C9198A9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C76AA-6F4F-4552-AFA6-1BD85131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40D1-0D48-41DB-82D1-68C57C15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DE6C-3F1E-48A6-B9C4-45E48266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8E97-E5BE-4ED7-8FB6-5E37AEEA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D209-082F-4076-9FD0-C8490752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53DD-EFB3-4313-8F11-DBD13C97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7279-A544-42EE-977F-FA309680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BAE-10C4-4678-96C6-6941DE84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B9F7-C43C-4659-A82F-4A32F135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8B77-B458-456B-97C1-D4951D27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1FFE-D523-49A7-83EF-EC379E74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330D-1774-4358-8607-3076F9B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46DF-7E29-448A-B18F-37B6649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6385-B7DC-4048-AC50-FE90ECB7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3AEF-B3BA-4A8D-AA89-24399598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F90E-F3A1-4425-B8E7-DF96C7A0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0614-3187-401A-98AB-728D615A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85B6-5596-4022-B294-F6C78BB7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A85-F3DE-432E-AB1D-C5E7A2E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FFC1-39A2-448A-A203-BD69CE15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73F1-EED3-4CE3-8814-95A82BF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F51E-DDC2-4C20-993C-4A4F0693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A9B2-72C3-408E-88A1-490B1CAA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C484-3B6D-4865-B97D-FD522F69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C297-82DC-45BA-905B-954D4A9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1989-9B9B-43B2-A76B-C3822B8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CD2D-138B-45BF-B86B-2F28D20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A61D-A71F-42FB-AD43-4A5536EA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3046E-B167-4CFD-A58C-A2B6F6DA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230-A837-4D69-B049-42038849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AF83-EF23-42E9-85F4-BD6F4C8A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51644-70BC-4D0A-A356-4C4D959B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2309-F626-40EE-BC43-1C884D7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F9EB7-D1E4-4500-A7C4-32C34F24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6EE3-237F-4222-BA6C-5B8A59F5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2CB9D-F90E-4CDB-BE06-160E1546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5742B-DBCB-432A-BFDF-20678162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2BD7-41AF-4ACC-BEB3-C9908E9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6196-5F58-4E0D-872D-9426B97D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5FF78-4A5E-472A-A078-E4101BD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A05-C972-4FB6-9143-AD8E964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369D-2F3D-43C4-A4E3-E7A795AB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BA88-5FF4-4539-949B-2D2DAA37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8CBF-9773-4580-BC89-46A26B1C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2CF9-2EB9-4A50-A7DF-34C56DE2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590E-BAE5-4499-93EC-8AB39DA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A7FB-9304-4603-BACC-8ADE8A58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F959-221D-42A7-9344-9E9E3CCC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39B8-3FA6-4071-97A0-B6601E56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A559-DD8F-41C1-9657-88800E09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48BD-B671-42F4-996E-BF06B843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0EB-122A-4E50-AAE3-DDB1AC3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13667-2ED5-424F-84C6-E7F69D1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BA4D-CC7B-4EE8-9192-F0D4A4F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A6AE-FC59-4337-B602-287EBE78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01F51-28A4-43A6-8A10-812C84CC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2A9A-CA9F-4289-8E44-070D4983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1BF7C-4F09-48C0-8CE5-947BB42D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374B-00A3-4EB7-8C09-0AB7EC7E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E639-42F7-429E-A961-9C2B741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D03B-3A55-4CE1-8F96-997128F7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15242-4A00-4425-96EB-31B3609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463-7D9A-4F85-A54D-78ACBD8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6C9A0-9343-43FF-A8D4-2D78F038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E9F8-F9F1-4B15-90AA-BAAD16A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9CFFE-DB32-46A8-B8EB-F53DDE5E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78E38-091A-43D4-82F7-40962687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D2C32-2920-4968-82BD-8DA92B29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A5A0F-C460-4386-BE00-7D52DFCC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9B2F-07D8-48FC-A24A-3040342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A623D-F785-4FB8-B877-13D63A64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66653-B9C3-47DE-8B1F-7A30C63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9E4AD-AA90-474A-88AE-D13F4D4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A6F9-26CE-47A4-A0F4-31DA70F3BD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B8BC-E059-438E-BF89-5CA2131862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6B1-EFF4-49F8-80E5-2E987AECD9A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30EA-F9E4-4DEB-B484-42CCAF1F4C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4213-304A-4974-A3B8-6E126BBE530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0C01-2638-4F5B-803E-DE29756E63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7D2-526F-48D0-94F4-4656DA2AB9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0271-3A19-49A7-AEC9-4F27D35B27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5EB7-A895-4AF5-8BAE-47E7CA4990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1DD6-859C-48DE-802F-42DF412222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18B1-435B-4071-85E8-D9D926F644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C09-73E0-4F74-A8C3-CFF0958116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848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宋体"/>
              </a:rPr>
              <a:t>MPLS Multiple Topology Applicability and Requirements</a:t>
            </a:r>
            <a:br>
              <a:rPr sz="3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raft-li-mpls-mt-applicability-requirement-0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2819520" y="403848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. Li, L Huang (China Mob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N. So (Veri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 Kvalbein (Resiliens Communication 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 Zhang (Telus Commun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743200" y="4573080"/>
            <a:ext cx="44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438280" y="557856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504d"/>
                </a:solidFill>
                <a:latin typeface="Calibri"/>
                <a:ea typeface="宋体"/>
              </a:rPr>
              <a:t>Overview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2677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ere are mainly 4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Servic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rovider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Engine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ost are included in draft 00, which was presented in IETF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-38160" bIns="-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609480" y="380880"/>
            <a:ext cx="7907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  <a:ea typeface="宋体"/>
              </a:rPr>
              <a:t>Updat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1066680"/>
            <a:ext cx="8381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 this version of the draft, section 3.8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Pv6 deployment in IPv4 backbone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out MPLS MT, IPv6 traffic is encoded into MPLS forwarding and mixed with IPv4 traffic regardless using 6PE or 6VPE.  There are the follow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fficult to get IPv6 real time statistics and impossible to accurately forecasting and planning of new IPv6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ing challenge to enforce control route and policy with the increasing amount of routes in one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 MPLS MT, a logical isolated end to end IPv6 plane can be obtained. IPv4 and IPv6 plan are decoupled. It is very helpful to resolve the abov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宋体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get more feed back from the working group for those draf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ask the working group chairs to consider to adopt  this draft as working group docu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27672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</dc:creator>
  <dc:description/>
  <dc:language>en-US</dc:language>
  <cp:lastModifiedBy>MC SYSTEM</cp:lastModifiedBy>
  <dcterms:modified xsi:type="dcterms:W3CDTF">2011-07-25T06:31:31Z</dcterms:modified>
  <cp:revision>245</cp:revision>
  <dc:subject/>
  <dc:title>Applicability of the Path Computation Element to Inter-Area and Inter-AS MPLS and GMPLS Traffic Engineering  draft-king-pce-inter-area-as-applicabilit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114436</vt:lpwstr>
  </property>
</Properties>
</file>