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F7D8-ED11-4FCA-951B-7272A46FC8E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F786-7AA2-4A38-89B7-295BD215485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2EAE-BC41-4D4B-968C-3B24738907B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1E6B-F43A-4610-8DA5-9F0AD094636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823-1B6F-4C92-A3B1-AE1B6641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E77-8447-46A3-A2DD-E1226E62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CEB5B-D6B8-41E7-A3E3-C62747A6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3B531-272F-492D-9B70-EFCD80BC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EEC3F-1027-4BA9-862A-4F30C5EC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0A92F-28FE-4F0D-9A7B-B5A616B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1D585-64C7-4508-A638-38F78B04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767A8-1051-4B69-895B-3C835DD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963EA-DD9F-41AB-BDB7-61E5250A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B2C66-3FF6-4D49-AA67-15381855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4AB11-35EF-4966-8E44-E943F3FF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FE50F-D43D-4BBE-82BF-21FDE5BA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358-D004-4B53-A20E-324891A4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03AF6-F87B-42AB-B4BF-D75A6998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15259-F528-41FD-9F8A-C4B81FEB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F8C8A-55A3-45E5-86D5-A360C443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4685F-BD43-4A35-A0E0-5BD8AA3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765A6-5446-4A30-A743-5368146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B4129-43CA-47EF-BE41-290B78C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2FED8-B6EC-4AB3-B2CC-64DDAE30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569DE-254E-4B11-8258-B649BD82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D1214-3549-41C7-9891-D194BBCD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4084C-041A-475B-9ED3-A9806678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6D7-983D-4173-B449-20B57AFF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1C226-AA3F-4D80-94DF-4702FD9C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7CD7E-3210-4C97-A223-E5241ACD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E2B20-7C55-4B87-ADFA-2446D262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643AC-5D34-46CE-89CC-EA9C8A9C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F4D83-E817-439E-B007-23C43D57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71D09-581C-4FA6-83D2-62E2C01A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05DC2-638D-4124-85B4-0C41F262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603DE-8CA8-4865-978F-63A60B4E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24769-8388-4DB5-88CA-D3B85953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D90A1-1764-4938-9E5A-3E5BE37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EF22-172B-4D29-A448-1C00B78C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5F577-5449-4CBA-BC36-5754780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5C13B-8D58-4B7B-9CCE-A0AD99CA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5B51C-E11C-48E1-A5A6-223C559F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9A2D0-2EA8-471E-82E3-142ABA89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F648E-2876-4F04-9C15-74801636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EE12C-BD67-4B4A-B33E-5C8BC101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CB007-2A9E-4F0E-873A-A3399CF3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F17C9-00C2-4415-8A70-A3475A6B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285C8-5181-4E51-BE10-C1C22C7D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0A66C-EF13-41EE-BD72-0D996366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C9D9-B34B-403E-A8F5-A5426299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8B140-00C5-4FD4-9134-EDFF7C0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36701-9554-4D05-8FAD-651743B0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CC825-6CDB-40D2-AE03-346BC685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887B5-7CB2-4C6C-8B6D-BEFAEEBC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2BADA-1765-4531-92D4-3F7B5666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1D81-83B0-4EE4-83D4-6047E20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9040-69A6-4652-AE38-4BD79540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1C02-8CAE-46B8-8EE1-CFC3915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6141-8BF2-45C0-9E2A-2CDE6B7F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32A0-5A64-47E9-A1E5-18F1ADB9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11E-4CCE-4164-AD98-3B1AB467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AB5F-2FFD-47EA-A13D-1DF76D8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793E-C2F7-4544-BA65-1B07FE1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21CF-9EE1-4A97-954C-BA2214AE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5093-8144-44F8-8710-5E00D52B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0CE0-EA73-4E04-A51F-0BAC417F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05C3-24B9-400B-8539-304D1465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A1B2-BEB9-4DBE-BA69-69288653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A62C-5DDE-4EC1-882E-3F8C035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D1D5-3C31-4B34-8F74-9C9C215D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75C9-4E8F-4E54-9563-5BBFF756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252-1E06-4F7D-BC3A-64DFD6C5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2356-A8D9-4BF8-A0DF-6E0FE131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6470-17B4-4E37-BA10-02BA337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3245-2E65-4DB8-A28B-3E927238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AFF2-9447-4CCB-8F78-9E8D2477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15B5-B6B2-4D3F-A268-2CE2487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3E6B-405E-4524-8A7C-BE058CEC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CFB4-3E9D-4B07-BFBD-8F908781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F47D-9518-4037-844A-3DCBF4FC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FD2B-9B33-47A6-AF86-1130713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CA2A3-1326-4242-BF61-D34FC592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6CE-CF1A-4482-84C6-5F674C9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B7C9-778B-4A50-B772-6FB5DFA8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4EAB-8E53-4882-87CB-72B36E0E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20B4-B75A-4002-8D57-52DFF54B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9556-88F1-4626-8678-3778949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0862B-836A-43CB-ACB2-D2A7373C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B370-91F8-43B2-A774-8DDB0192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4194-0BA6-4359-853C-3D34DE75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750D-2060-4A41-ABCC-81619A14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14F8-4459-479E-A54B-BAB0AEF2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DBB5-F888-4067-8A46-742BCAF6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624-A8FD-4D37-8BDE-97B633F4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1857-D37E-419D-9A41-258A17C9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494ED-8CE9-4575-B58A-033F4BFB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67BD2-5782-4632-90D4-059C5523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D3B44-B4AF-4937-A250-2AA7C0A5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8CE2-22A3-4AAE-9533-D5542530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E1C68-B0E2-4CE1-AFD5-35BFD388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8753D-FAA6-4703-9564-625C30B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C273C-2822-42B9-A2D2-2C50DDF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668A-D7F9-4C05-9248-E1648A5C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AD47-9AC5-4036-ACE0-41157EB4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992-A8BD-4435-8D03-9B79DF53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F413C-0D17-4839-9C1F-08D5D9D3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ADEE-28C3-4D57-AAC2-13087468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D5C04-107C-484B-B9A7-A8BCA483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3AE18-A43F-49CB-A935-50294421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CABC-7BDA-4BFA-9B77-17D18310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96543-918C-4013-A32C-3B0D5DEA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AEB45-0D44-4773-8ADB-0967F0DC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E04BB-D9BE-4F77-8C69-56E9B157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028A1-C9BB-4C32-8A3D-35C35F8C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1A8F-B8B0-4D08-A475-F9D239A7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6D4-CAC2-4EAE-8EB9-ED2962D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D00F-B3D9-4CD4-9178-ED00B94A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5B8E4-6A3A-49A0-A752-CDC153D1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F7360-4942-4944-8AB2-46548CB0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4093C-CCBA-4D31-878F-196BC6B3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38D66-14D3-4C86-913B-97C0F7F2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8F11-019C-4CA7-942B-FDF65B5A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B92BB-D7FD-4789-A736-F4413208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3D5E4-DD6C-4606-A01A-CC0342A8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A7042-B888-4881-81E6-D9181E8A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6F9CC-9A61-4640-A531-090A73A3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512-EF57-45AD-B5F3-800AF88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75322-0A92-4692-B58A-6F678DD5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9648F-AF59-494D-999A-08899245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E1AAE-7281-4FD7-8A1A-1A0B7F7B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DA576-9AC3-4D10-BDF9-3D3538ED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F9D4-895D-4D67-BA4C-3B7E0920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83A64-8640-4BA8-8F47-6242B98C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B525F-0B27-447D-A20E-4A259C39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D0456-2B01-4332-BD2D-A5AE15FB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B3E17-2BDE-4DE1-88E1-E754B330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01DCD-75AA-475A-974D-07D224A1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448-E34B-4057-AFCE-34682F8A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F398-87A3-4FC3-B33B-CE52B89E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8A8AE-F9C3-4FD2-BF63-192C3DC0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60CD1-15AC-4D21-A732-EDE1594A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F3516-BC26-4A51-A3D2-C32DB33A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93714-1795-454D-863F-DA490DF7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F3509-0E40-4ED0-9FCB-1F5B965F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39712-CA4E-4F0A-BFF1-453F9411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37CDD-282C-47B4-BA2E-4D585A3D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CA611-9DEA-4B3A-B3DD-CA3C5BBF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68908-DF87-4BDB-8502-C07CFFD8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ch 25,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8CE8-4828-4F42-9C9D-5B7DE19D71C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DC2C-DB76-43FB-8C3C-E57749C7E30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D397-6EA0-48F3-89F3-3486125293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BEE1-1DDD-4D0B-AF1C-108D020CF3D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6381-F1C2-4A20-BF18-931794C51AA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C2EB-EFC2-4A29-9A36-355E7CFFD7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6479-721A-4595-9431-FCB0FEF1CDF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0AF4-2FE2-46E1-A3AD-4987697897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FCF9-F993-4C3D-AF92-F12A2211CFB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B05F-9112-42D9-8133-CD16D4A1669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A662-91B8-4CFD-8649-95C64A14188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14BB-F1B7-4487-BBAF-85B09AB70D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848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宋体"/>
              </a:rPr>
              <a:t>MPLS Multiple Topology Applicability and Requirements</a:t>
            </a:r>
            <a:br>
              <a:rPr sz="36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raft-li-mpls-mt-applicability-requirement-0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2819520" y="403848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. Li, L Huang (China Mob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N. So (Veri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. Kvalbein (Resiliens Communication 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. Zhang (Telus Commun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2743200" y="4573080"/>
            <a:ext cx="44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438280" y="5578560"/>
            <a:ext cx="434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1564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504d"/>
                </a:solidFill>
                <a:latin typeface="Calibri"/>
                <a:ea typeface="宋体"/>
              </a:rPr>
              <a:t>Overview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82677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here are mainly 4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pplic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Servic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rovider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Engine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ost are included in draft 00, which was presented in IETF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-38160" bIns="-38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609480" y="380880"/>
            <a:ext cx="7907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  <a:ea typeface="宋体"/>
              </a:rPr>
              <a:t>Updat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1066680"/>
            <a:ext cx="83818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n this version of the draft, section 3.8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Pv6 deployment in IPv4 backbone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thout MPLS MT, IPv6 traffic is encoded into MPLS forwarding and mixed with IPv4 traffic regardless using 6PE or 6VPE.  There are the follow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fficult to get IPv6 real time statistics and impossible to accurately forecasting and planning of new IPv6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ing challenge to enforce control route and policy with the increasing amount of routes in one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th MPLS MT, a logical isolated end to end IPv6 plane can be obtained. IPv4 and IPv6 plan are decoupled. It is very helpful to resolve the abov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宋体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e would like to get more feed back from the working group for those draf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e would like to ask the working group chairs to consider to adopt  this draft as working group docu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27672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1 –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Qu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</dc:creator>
  <dc:description/>
  <dc:language>en-US</dc:language>
  <cp:lastModifiedBy>MC SYSTEM</cp:lastModifiedBy>
  <dcterms:modified xsi:type="dcterms:W3CDTF">2011-07-25T06:31:31Z</dcterms:modified>
  <cp:revision>245</cp:revision>
  <dc:subject/>
  <dc:title>Applicability of the Path Computation Element to Inter-Area and Inter-AS MPLS and GMPLS Traffic Engineering  draft-king-pce-inter-area-as-applicabilit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114436</vt:lpwstr>
  </property>
</Properties>
</file>