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84F-F8FC-455D-95A8-148FDE1E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C2E-62E7-46C8-9646-3205FF5E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A6E1-105A-450F-B8B0-82B29336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0B9-09B8-4C5D-8922-26E83072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599-6B5E-45CB-93B9-684BE283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450-96EA-4042-AB94-499F8336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119-A544-4064-B9BF-DC0FCC1C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0F92-DAB1-418F-94C1-F21C4B86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FDAB-653E-49D3-B871-84E29ED4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A9A1-4ADC-4E89-8D7D-250EA6A2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533C-0B29-463D-924C-8B57A14D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8E6-6AAB-4126-89BB-A569BEF1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243C-7E3E-42F1-A298-FF3FAFEC2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lufang@cisco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85BE-3333-48D7-9371-AAF05077D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2" descr=""/>
          <p:cNvPicPr/>
          <p:nvPr/>
        </p:nvPicPr>
        <p:blipFill>
          <a:blip r:embed="rId1"/>
          <a:stretch/>
        </p:blipFill>
        <p:spPr>
          <a:xfrm>
            <a:off x="298440" y="1176480"/>
            <a:ext cx="8547120" cy="2030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yuan Fang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ufang@cisc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27.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 81, Quebec City,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ng co-aut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E35F-7F82-4D97-9579-C6C55A6E4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yuan Fa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 Fro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bil Bit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ymond Zhang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ahiro DAIKOK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D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ianping Zha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 Ch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aw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i Wa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it Sprech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N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nry Y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 Tele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tis Villamiz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in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F89A-E0CF-4F6C-891D-811A6E925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0492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MPLS-TP use cas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design considerations and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t to serve as best practice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ded category: In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in IETF 78, 79,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input from Curtis on packet optica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 for new additions especially in 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32D0-6B52-4D02-B6DF-CAD6FC270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tangle 2" descr=""/>
          <p:cNvPicPr/>
          <p:nvPr/>
        </p:nvPicPr>
        <p:blipFill>
          <a:blip r:embed="rId1"/>
          <a:stretch/>
        </p:blipFill>
        <p:spPr>
          <a:xfrm>
            <a:off x="225360" y="19080"/>
            <a:ext cx="8242200" cy="82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57200" y="9907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o Agg/Acc, Mobile backhaul, Packet Optica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MPLS-TP provides the transport for multi-services, e.g. wireline/wireless, business VPNs/residential broadband, whole sale/ret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 in latest real world deployment/planning examples which using IETF standards MPLS-TP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242560" cy="1133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ies s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role of MPLS-TP? De-confu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al reality often dictate the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ance between today’s reality and needs for future pro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Model s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MS provisio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MPLS control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,  interaction of both in some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P related desig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directional co-routed vs. associ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directional vs. Unidirec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W reservation, QoS, nested LS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ACF1-01E0-41A5-9C5C-EA44A02A2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ectangle 2" descr=""/>
          <p:cNvPicPr/>
          <p:nvPr/>
        </p:nvPicPr>
        <p:blipFill>
          <a:blip r:embed="rId1"/>
          <a:stretch/>
        </p:blipFill>
        <p:spPr>
          <a:xfrm>
            <a:off x="298440" y="30240"/>
            <a:ext cx="8242200" cy="1042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:1, 1+1, 1:N (1 protects n working ls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/Ring/Shared mesh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coordination among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W protection and LSP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multi-homing, multi-chassis redund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variation between working and protect L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between protection coverage and efficiency/reduce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ing BFD hello interval and hold off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impact to AIS/RDI/LDI – use of TP style fast re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ing and loss/delay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loopback and lock Instruct for test and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AM and control plane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2" descr=""/>
          <p:cNvPicPr/>
          <p:nvPr/>
        </p:nvPicPr>
        <p:blipFill>
          <a:blip r:embed="rId1"/>
          <a:stretch/>
        </p:blipFill>
        <p:spPr>
          <a:xfrm>
            <a:off x="298440" y="-122400"/>
            <a:ext cx="8242200" cy="11224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5409720"/>
            <a:ext cx="48765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ion model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lay vs. P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SP stitching vs. ter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W switching vs. PW m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1066680"/>
          <a:ext cx="7772400" cy="4249800"/>
        </p:xfrm>
        <a:graphic>
          <a:graphicData uri="http://schemas.openxmlformats.org/drawingml/2006/table">
            <a:tbl>
              <a:tblPr/>
              <a:tblGrid>
                <a:gridCol w="3065400"/>
                <a:gridCol w="1687680"/>
                <a:gridCol w="30193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g./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-conn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LS-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W over L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V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LS P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LS-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W over L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LS-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LS-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/MP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PLS-U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W over L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LS-TP (w/ GMPLS C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o Ether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PLS or native 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-VP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PLS-U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LS-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3" name="Oval 5"/>
          <p:cNvSpPr/>
          <p:nvPr/>
        </p:nvSpPr>
        <p:spPr>
          <a:xfrm>
            <a:off x="2209680" y="1676520"/>
            <a:ext cx="1295640" cy="533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5638680" y="1619280"/>
            <a:ext cx="2286000" cy="666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3505320" y="1790640"/>
            <a:ext cx="228600" cy="266760"/>
          </a:xfrm>
          <a:prstGeom prst="rect">
            <a:avLst/>
          </a:prstGeom>
          <a:gradFill rotWithShape="0">
            <a:gsLst>
              <a:gs pos="0">
                <a:srgbClr val="006a96"/>
              </a:gs>
              <a:gs pos="100000">
                <a:srgbClr val="00b8ff"/>
              </a:gs>
            </a:gsLst>
            <a:lin ang="135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2"/>
          <p:cNvSpPr/>
          <p:nvPr/>
        </p:nvSpPr>
        <p:spPr>
          <a:xfrm>
            <a:off x="3733920" y="1924200"/>
            <a:ext cx="1828800" cy="144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1143000" y="1733400"/>
            <a:ext cx="1066680" cy="400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5410080" y="1828800"/>
            <a:ext cx="228600" cy="266760"/>
          </a:xfrm>
          <a:prstGeom prst="rect">
            <a:avLst/>
          </a:prstGeom>
          <a:gradFill rotWithShape="0">
            <a:gsLst>
              <a:gs pos="0">
                <a:srgbClr val="006a96"/>
              </a:gs>
              <a:gs pos="100000">
                <a:srgbClr val="00b8ff"/>
              </a:gs>
            </a:gsLst>
            <a:lin ang="135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65DB-26F6-4502-B82B-1E5D00B75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Rectangle 2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116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general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s as simple as possible – make it happ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y on standards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flexibility for future enh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A402-9850-4984-B93D-B46F92420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 04 draft so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 the author list in the front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all points li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input/comments from WGs apprec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ing for WG document adoption after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23:45:01Z</dcterms:created>
  <dc:creator>Cisco Systems, Inc.</dc:creator>
  <dc:description/>
  <dc:language>en-US</dc:language>
  <cp:lastModifiedBy>luyuan fang</cp:lastModifiedBy>
  <dcterms:modified xsi:type="dcterms:W3CDTF">2011-07-27T15:28:58Z</dcterms:modified>
  <cp:revision>119</cp:revision>
  <dc:subject/>
  <dc:title>MPLS/(GMPLS?) Security Framework</dc:title>
</cp:coreProperties>
</file>