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42E6-E648-4BFD-A72B-2C57F679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2266-020C-48E7-817D-3FAF5269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EF5-B50F-4132-81FC-FD5B8CDA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DA3-2D2F-4DA6-BFED-ADFBA0D9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049-BCEE-490D-B105-0DA433F9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5FE-9C58-4ED1-B9FC-BD6E3A63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6302-824E-48F3-9F08-BF9E4428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81B-DE1E-4FD4-8A3F-CA172C32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91E-0C1B-4D42-B097-3C037008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A11-9126-4FFE-AB45-1BDFCAC9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FE66-7575-4BCA-B78F-CF0D5C7E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160A-28C7-436A-84CF-296D2C31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8B9E-DCAA-4066-8414-7DD478BBE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lufang@cisco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E4C5-4325-471B-9C09-0DD19F50E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2" descr=""/>
          <p:cNvPicPr/>
          <p:nvPr/>
        </p:nvPicPr>
        <p:blipFill>
          <a:blip r:embed="rId1"/>
          <a:stretch/>
        </p:blipFill>
        <p:spPr>
          <a:xfrm>
            <a:off x="298440" y="1176480"/>
            <a:ext cx="8547120" cy="2030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952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yuan Fang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ufang@cisc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27.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 81, Quebec City,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ng co-aut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B9E4-BA70-489A-8278-A709CC51C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yuan Fa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 Fro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bil Bit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ymond Zhang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ahiro DAIKOK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D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ianping Zha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 Ch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aw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i Wa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it Sprech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N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nry Y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 Tele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tis Villamiz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in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820B-F84A-418D-AC3F-2F5CA9CBB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0492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MPLS-TP use cas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design considerations and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t to serve as best practice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ded category: In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in IETF 78, 79,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input from Curtis on packet optica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 for new additions especially in 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CAB3-0F11-4733-98D3-450C9B1D5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tangle 2" descr=""/>
          <p:cNvPicPr/>
          <p:nvPr/>
        </p:nvPicPr>
        <p:blipFill>
          <a:blip r:embed="rId1"/>
          <a:stretch/>
        </p:blipFill>
        <p:spPr>
          <a:xfrm>
            <a:off x="225360" y="19080"/>
            <a:ext cx="8242200" cy="82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57200" y="99072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o Agg/Acc, Mobile backhaul, Packet Optica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MPLS-TP provides the transport for multi-services, e.g. wireline/wireless, business VPNs/residential broadband, whole sale/ret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 in latest real world deployment/planning examples which using IETF standards MPLS-TP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242560" cy="1133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ies s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role of MPLS-TP? De-confu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al reality often dictate the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ance between today’s reality and needs for future pro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Model s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MS provisio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MPLS control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,  interaction of both in some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P related desig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directional co-routed vs. associ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directional vs. Unidirec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W reservation, QoS, nested LS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C5E6-6FB7-4492-AE5C-41B557112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ectangle 2" descr=""/>
          <p:cNvPicPr/>
          <p:nvPr/>
        </p:nvPicPr>
        <p:blipFill>
          <a:blip r:embed="rId1"/>
          <a:stretch/>
        </p:blipFill>
        <p:spPr>
          <a:xfrm>
            <a:off x="298440" y="30240"/>
            <a:ext cx="8242200" cy="1042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:1, 1+1, 1:N (1 protects n working ls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/Ring/Shared mesh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coordination among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W protection and LSP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multi-homing, multi-chassis redund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variation between working and protect L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between protection coverage and efficiency/reduce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ing BFD hello interval and hold off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impact to AIS/RDI/LDI – use of TP style fast re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ing and loss/delay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loopback and lock Instruct for test and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AM and control plane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2" descr=""/>
          <p:cNvPicPr/>
          <p:nvPr/>
        </p:nvPicPr>
        <p:blipFill>
          <a:blip r:embed="rId1"/>
          <a:stretch/>
        </p:blipFill>
        <p:spPr>
          <a:xfrm>
            <a:off x="298440" y="-122400"/>
            <a:ext cx="8242200" cy="11224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5409720"/>
            <a:ext cx="48765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ion model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lay vs. P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SP stitching vs. ter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W switching vs. PW m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1066680"/>
          <a:ext cx="7772400" cy="4249800"/>
        </p:xfrm>
        <a:graphic>
          <a:graphicData uri="http://schemas.openxmlformats.org/drawingml/2006/table">
            <a:tbl>
              <a:tblPr/>
              <a:tblGrid>
                <a:gridCol w="3065400"/>
                <a:gridCol w="1687680"/>
                <a:gridCol w="30193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g./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-conn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LS-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W over L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V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LS P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LS-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W over L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LS-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LS-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/MP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PLS-U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W over L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LS-TP (w/ GMPLS C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o Ether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PLS or native 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-VP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PLS-U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LS-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3" name="Oval 5"/>
          <p:cNvSpPr/>
          <p:nvPr/>
        </p:nvSpPr>
        <p:spPr>
          <a:xfrm>
            <a:off x="2209680" y="1676520"/>
            <a:ext cx="1295640" cy="533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5638680" y="1619280"/>
            <a:ext cx="2286000" cy="666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3505320" y="1790640"/>
            <a:ext cx="228600" cy="266760"/>
          </a:xfrm>
          <a:prstGeom prst="rect">
            <a:avLst/>
          </a:prstGeom>
          <a:gradFill rotWithShape="0">
            <a:gsLst>
              <a:gs pos="0">
                <a:srgbClr val="006a96"/>
              </a:gs>
              <a:gs pos="100000">
                <a:srgbClr val="00b8ff"/>
              </a:gs>
            </a:gsLst>
            <a:lin ang="135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2"/>
          <p:cNvSpPr/>
          <p:nvPr/>
        </p:nvSpPr>
        <p:spPr>
          <a:xfrm>
            <a:off x="3733920" y="1924200"/>
            <a:ext cx="1828800" cy="144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1143000" y="1733400"/>
            <a:ext cx="1066680" cy="400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5410080" y="1828800"/>
            <a:ext cx="228600" cy="266760"/>
          </a:xfrm>
          <a:prstGeom prst="rect">
            <a:avLst/>
          </a:prstGeom>
          <a:gradFill rotWithShape="0">
            <a:gsLst>
              <a:gs pos="0">
                <a:srgbClr val="006a96"/>
              </a:gs>
              <a:gs pos="100000">
                <a:srgbClr val="00b8ff"/>
              </a:gs>
            </a:gsLst>
            <a:lin ang="135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DBCF-FDF7-4DE1-A15A-AAE5CD53A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Rectangle 2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1116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general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s as simple as possible – make it happ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y on standards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flexibility for future enh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00DA-98DD-46E5-94AA-3837F1BCD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 04 draft so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 the author list in the front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all points li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input/comments from WGs apprec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ing for WG document adoption after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23:45:01Z</dcterms:created>
  <dc:creator>Cisco Systems, Inc.</dc:creator>
  <dc:description/>
  <dc:language>en-US</dc:language>
  <cp:lastModifiedBy>luyuan fang</cp:lastModifiedBy>
  <dcterms:modified xsi:type="dcterms:W3CDTF">2011-07-27T15:28:58Z</dcterms:modified>
  <cp:revision>119</cp:revision>
  <dc:subject/>
  <dc:title>MPLS/(GMPLS?) Security Framework</dc:title>
</cp:coreProperties>
</file>