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597-D3A7-4FE7-9096-A851CCAE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618-2E88-4C08-A4E9-35F08F58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9DC7-87D0-4675-9AC1-57683F80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D3E-9184-4A09-9D9F-5508E2A6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28FF-826A-4326-8DBA-E2A113E6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692-DCF1-4DCF-B8B4-F2FACBA3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A9D1-360F-444A-9515-B3581898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D0B7-E3EF-4C21-A942-A1B1D407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B2D5-E805-4FD2-98ED-B747CD5A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E0F1-6996-4033-847E-68C0AFAD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AAE9-A841-40BF-A9BA-570AD62F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209-35B0-4F67-B740-B67C7D25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C615-D9DE-47A3-8C6D-58B5731DD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PLS-TP OAM ID MI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raft-vkst-mpls-tp-oam-id-mib-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m Aldr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m Nad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nkatesan Mahaling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annan Sampa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ing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mi Boutro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ontent Placeholder 2"/>
          <p:cNvSpPr/>
          <p:nvPr/>
        </p:nvSpPr>
        <p:spPr>
          <a:xfrm>
            <a:off x="8809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draft defines the identifiers for MPLS-TP LSPs, Pseudowires and sections for OAM 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AM MIB module defines following tabl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lsOamMeg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lsOamMe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ew tables are generic enough to handle both the IP and/or ICC operator based TP identif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ew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12193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G 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s one or more Maintenance Entities (MEs) that belongs to the same transport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 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s a relationship between two points (source and sink) of a transport path to which maintenance and monitoring operations app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s the configurations of MEP (Maintenance Entity Group End Point) and MIP (Maintenance Entity Group Intermediate Poin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New Tab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2193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ew tables are used to perform the below OAM operation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inuity Check and Connectivity Ver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te Defect Ind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arm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k Repor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k Instru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 Failure Ind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Loss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Delay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666880" y="2743200"/>
          <a:ext cx="5791320" cy="1440000"/>
        </p:xfrm>
        <a:graphic>
          <a:graphicData uri="http://schemas.openxmlformats.org/drawingml/2006/table">
            <a:tbl>
              <a:tblPr/>
              <a:tblGrid>
                <a:gridCol w="784440"/>
                <a:gridCol w="922320"/>
                <a:gridCol w="880920"/>
                <a:gridCol w="882720"/>
                <a:gridCol w="882720"/>
                <a:gridCol w="1438200"/>
              </a:tblGrid>
              <a:tr h="75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G Inde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 Inde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P Inde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P 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P 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rvice Poin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w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lsTunnelName.200.1.1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w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71600" y="1143000"/>
          <a:ext cx="3581280" cy="1006560"/>
        </p:xfrm>
        <a:graphic>
          <a:graphicData uri="http://schemas.openxmlformats.org/drawingml/2006/table">
            <a:tbl>
              <a:tblPr/>
              <a:tblGrid>
                <a:gridCol w="909720"/>
                <a:gridCol w="911160"/>
                <a:gridCol w="922320"/>
                <a:gridCol w="838080"/>
              </a:tblGrid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G Inde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G 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erator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rvice 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0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SP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pcompat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W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pcompat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eudow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191120" y="4910040"/>
          <a:ext cx="3759120" cy="1413000"/>
        </p:xfrm>
        <a:graphic>
          <a:graphicData uri="http://schemas.openxmlformats.org/drawingml/2006/table">
            <a:tbl>
              <a:tblPr/>
              <a:tblGrid>
                <a:gridCol w="698400"/>
                <a:gridCol w="749160"/>
                <a:gridCol w="749520"/>
                <a:gridCol w="749160"/>
                <a:gridCol w="812880"/>
              </a:tblGrid>
              <a:tr h="90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unnel Inde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unnel Inst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ress LSR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gress LSR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C Inde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0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sp>
        <p:nvSpPr>
          <p:cNvPr id="54" name="Rectangle 9"/>
          <p:cNvSpPr/>
          <p:nvPr/>
        </p:nvSpPr>
        <p:spPr>
          <a:xfrm>
            <a:off x="5072400" y="635472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e6e6e"/>
                </a:solidFill>
                <a:latin typeface="Arial Bold"/>
                <a:ea typeface="Times New Roman"/>
              </a:rPr>
              <a:t>Standard MPLS Tunnel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990720" y="2133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e6e6e"/>
                </a:solidFill>
                <a:latin typeface="Arial Bold"/>
                <a:ea typeface="Times New Roman"/>
              </a:rPr>
              <a:t>MPLS OAM MEG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675440" y="4373640"/>
            <a:ext cx="172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e6e6e"/>
                </a:solidFill>
                <a:latin typeface="Arial Bold"/>
                <a:ea typeface="Times New Roman"/>
              </a:rPr>
              <a:t>MPLS OAM ME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23"/>
          <p:cNvCxnSpPr/>
          <p:nvPr/>
        </p:nvCxnSpPr>
        <p:spPr>
          <a:xfrm flipV="1" rot="16200000">
            <a:off x="1104480" y="2018520"/>
            <a:ext cx="1829520" cy="1296000"/>
          </a:xfrm>
          <a:prstGeom prst="curvedConnector5">
            <a:avLst>
              <a:gd name="adj1" fmla="val 728"/>
              <a:gd name="adj2" fmla="val 49986"/>
              <a:gd name="adj3" fmla="val 728"/>
            </a:avLst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8" name="Curved Connector 26"/>
          <p:cNvCxnSpPr/>
          <p:nvPr/>
        </p:nvCxnSpPr>
        <p:spPr>
          <a:xfrm flipV="1" rot="16200000">
            <a:off x="875880" y="2323440"/>
            <a:ext cx="2286720" cy="1296000"/>
          </a:xfrm>
          <a:prstGeom prst="curvedConnector5">
            <a:avLst>
              <a:gd name="adj1" fmla="val -740"/>
              <a:gd name="adj2" fmla="val 49986"/>
              <a:gd name="adj3" fmla="val -740"/>
            </a:avLst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9" name="Curved Connector 15"/>
          <p:cNvCxnSpPr/>
          <p:nvPr/>
        </p:nvCxnSpPr>
        <p:spPr>
          <a:xfrm rot="5400000">
            <a:off x="7047720" y="4609800"/>
            <a:ext cx="2134440" cy="533880"/>
          </a:xfrm>
          <a:prstGeom prst="curvedConnector5">
            <a:avLst>
              <a:gd name="adj1" fmla="val 99881"/>
              <a:gd name="adj2" fmla="val 50000"/>
              <a:gd name="adj3" fmla="val 99881"/>
            </a:avLst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 the WG find this work useful and satisfying of the chartered items for MPLS-TP OAM identifier MIB modul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so, we ask that the WG Accept draft-vkst-mpls-tp-oam-id-mib-00 as WG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comments/review are reques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22:47:34Z</dcterms:created>
  <dc:creator>Sam Aldrin</dc:creator>
  <dc:description/>
  <dc:language>en-US</dc:language>
  <cp:lastModifiedBy>Sam Aldrin</cp:lastModifiedBy>
  <dcterms:modified xsi:type="dcterms:W3CDTF">2011-07-21T23:23:00Z</dcterms:modified>
  <cp:revision>43</cp:revision>
  <dc:subject/>
  <dc:title>MPLS TP MIBs and Exten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290350</vt:lpwstr>
  </property>
</Properties>
</file>