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1249-2595-4480-B47F-28322677E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E14B-71FC-4777-9BAE-0B58FCA8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27DC-D23A-49C7-9C1D-4027F96BD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252A-7C97-4526-B440-E75D0278A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23A1-9D6E-42DD-8218-5DFEBD87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C5D0-65F1-4C80-B2BC-880FB3CE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F909-3053-43F9-8533-05B37673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F333-3A62-48ED-AA47-8936A5FB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3D76-8327-4235-B317-A789EB26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6A8E-F53D-4543-9203-C7C4A712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23CE-63FF-4A13-87FE-24DF71F1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9D51-A9A4-4E9F-A8AF-636554C4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186C-5445-4727-A63F-4A9AA8D209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PLS-TP OAM ID MI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raft-vkst-mpls-tp-oam-id-mib-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am Aldr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m Nad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enkatesan Mahaling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annan Sampat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ing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ami Boutro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Content Placeholder 2"/>
          <p:cNvSpPr/>
          <p:nvPr/>
        </p:nvSpPr>
        <p:spPr>
          <a:xfrm>
            <a:off x="8809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draft defines the identifiers for MPLS-TP LSPs, Pseudowires and sections for OAM op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OAM MIB module defines following tabl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lsOamMeg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lsOamMe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ew tables are generic enough to handle both the IP and/or ICC operator based TP identifi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ew T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09480" y="12193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G 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s one or more Maintenance Entities (MEs) that belongs to the same transport 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 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es a relationship between two points (source and sink) of a transport path to which maintenance and monitoring operations appl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s the configurations of MEP (Maintenance Entity Group End Point) and MIP (Maintenance Entity Group Intermediate Point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y New Tabl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2193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ew tables are used to perform the below OAM operations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inuity Check and Connectivity Ver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ote Defect Ind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arm Repor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k Report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k Instru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ent Failure Ind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ket Loss Measur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ket Delay Measur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666880" y="2743200"/>
          <a:ext cx="5791320" cy="1440000"/>
        </p:xfrm>
        <a:graphic>
          <a:graphicData uri="http://schemas.openxmlformats.org/drawingml/2006/table">
            <a:tbl>
              <a:tblPr/>
              <a:tblGrid>
                <a:gridCol w="784440"/>
                <a:gridCol w="922320"/>
                <a:gridCol w="880920"/>
                <a:gridCol w="882720"/>
                <a:gridCol w="882720"/>
                <a:gridCol w="1438200"/>
              </a:tblGrid>
              <a:tr h="75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G Inde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 Inde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P Inde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P Ty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P Dir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rvice Poin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w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plsTunnelName.200.1.10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w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371600" y="1143000"/>
          <a:ext cx="3581280" cy="1006560"/>
        </p:xfrm>
        <a:graphic>
          <a:graphicData uri="http://schemas.openxmlformats.org/drawingml/2006/table">
            <a:tbl>
              <a:tblPr/>
              <a:tblGrid>
                <a:gridCol w="909720"/>
                <a:gridCol w="911160"/>
                <a:gridCol w="922320"/>
                <a:gridCol w="838080"/>
              </a:tblGrid>
              <a:tr h="503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G Inde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G Na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perator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rvice Ty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0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SP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pcompati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25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W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pcompati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eudowi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4191120" y="4910040"/>
          <a:ext cx="3759120" cy="1413000"/>
        </p:xfrm>
        <a:graphic>
          <a:graphicData uri="http://schemas.openxmlformats.org/drawingml/2006/table">
            <a:tbl>
              <a:tblPr/>
              <a:tblGrid>
                <a:gridCol w="698400"/>
                <a:gridCol w="749160"/>
                <a:gridCol w="749520"/>
                <a:gridCol w="749160"/>
                <a:gridCol w="812880"/>
              </a:tblGrid>
              <a:tr h="90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unnel Inde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unnel Inst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gress LSR 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gress LSR 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C Inde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0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25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sp>
        <p:nvSpPr>
          <p:cNvPr id="54" name="Rectangle 9"/>
          <p:cNvSpPr/>
          <p:nvPr/>
        </p:nvSpPr>
        <p:spPr>
          <a:xfrm>
            <a:off x="5072400" y="6354720"/>
            <a:ext cx="23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e6e6e"/>
                </a:solidFill>
                <a:latin typeface="Arial Bold"/>
                <a:ea typeface="Times New Roman"/>
              </a:rPr>
              <a:t>Standard MPLS Tunnel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"/>
          <p:cNvSpPr/>
          <p:nvPr/>
        </p:nvSpPr>
        <p:spPr>
          <a:xfrm>
            <a:off x="990720" y="2133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e6e6e"/>
                </a:solidFill>
                <a:latin typeface="Arial Bold"/>
                <a:ea typeface="Times New Roman"/>
              </a:rPr>
              <a:t>MPLS OAM MEG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1675440" y="4373640"/>
            <a:ext cx="172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e6e6e"/>
                </a:solidFill>
                <a:latin typeface="Arial Bold"/>
                <a:ea typeface="Times New Roman"/>
              </a:rPr>
              <a:t>MPLS OAM ME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23"/>
          <p:cNvCxnSpPr/>
          <p:nvPr/>
        </p:nvCxnSpPr>
        <p:spPr>
          <a:xfrm flipV="1" rot="16200000">
            <a:off x="1104480" y="2018520"/>
            <a:ext cx="1829520" cy="1296000"/>
          </a:xfrm>
          <a:prstGeom prst="curvedConnector5">
            <a:avLst>
              <a:gd name="adj1" fmla="val 728"/>
              <a:gd name="adj2" fmla="val 49986"/>
              <a:gd name="adj3" fmla="val 728"/>
            </a:avLst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8" name="Curved Connector 26"/>
          <p:cNvCxnSpPr/>
          <p:nvPr/>
        </p:nvCxnSpPr>
        <p:spPr>
          <a:xfrm flipV="1" rot="16200000">
            <a:off x="875880" y="2323440"/>
            <a:ext cx="2286720" cy="1296000"/>
          </a:xfrm>
          <a:prstGeom prst="curvedConnector5">
            <a:avLst>
              <a:gd name="adj1" fmla="val -740"/>
              <a:gd name="adj2" fmla="val 49986"/>
              <a:gd name="adj3" fmla="val -740"/>
            </a:avLst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9" name="Curved Connector 15"/>
          <p:cNvCxnSpPr/>
          <p:nvPr/>
        </p:nvCxnSpPr>
        <p:spPr>
          <a:xfrm rot="5400000">
            <a:off x="7047720" y="4609800"/>
            <a:ext cx="2134440" cy="533880"/>
          </a:xfrm>
          <a:prstGeom prst="curvedConnector5">
            <a:avLst>
              <a:gd name="adj1" fmla="val 99881"/>
              <a:gd name="adj2" fmla="val 50000"/>
              <a:gd name="adj3" fmla="val 99881"/>
            </a:avLst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es the WG find this work useful and satisfying of the chartered items for MPLS-TP OAM identifier MIB modul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so, we ask that the WG Accept draft-vkst-mpls-tp-oam-id-mib-00 as WG docu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tional comments/review are reques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22:47:34Z</dcterms:created>
  <dc:creator>Sam Aldrin</dc:creator>
  <dc:description/>
  <dc:language>en-US</dc:language>
  <cp:lastModifiedBy>Sam Aldrin</cp:lastModifiedBy>
  <dcterms:modified xsi:type="dcterms:W3CDTF">2011-07-21T23:23:00Z</dcterms:modified>
  <cp:revision>43</cp:revision>
  <dc:subject/>
  <dc:title>MPLS TP MIBs and Extens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311290350</vt:lpwstr>
  </property>
</Properties>
</file>