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B84-9A5A-4F9F-AF1A-C9AA51B7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9E1-F606-45DE-AD78-23258C33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D30-FF11-40A7-8C63-01F9E4A9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40D-4550-448E-9485-2640CBB4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A19-BC44-40AF-A789-97EB81BE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CE9-2117-409B-BA27-0B8A368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E41-18D2-4D4B-9A35-DCE5A3D5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1DC-1749-47E0-9F51-B9C7D82B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B5B-B638-41ED-9A38-0B5E42E0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4BC-0E47-41F4-9C17-CB413349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F9B-966A-431D-9154-473C5BA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3FD-8343-4CF5-9CC5-49CF9DD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BBB7-6FE6-46B0-A15C-6D4A31C1D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-TP Loopback Dra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ietf-mpls-tp-li-lb-02.tx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nges that will be made to the 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back function will only be done by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instruct function will be done using an OAM message, the details of this message will be discussed this week and agreed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use the MEP-ID TLV defined in the CC-CV-RDI draft in the LI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aspect of this message will be discussed this week and agreed 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0" y="4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Steps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28600" y="1905120"/>
            <a:ext cx="85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submit the updated draft and ask for another Last cal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4:21:46Z</dcterms:created>
  <dc:creator>Cisco Systems, Inc.</dc:creator>
  <dc:description/>
  <dc:language>en-US</dc:language>
  <cp:lastModifiedBy>sboutros</cp:lastModifiedBy>
  <dcterms:modified xsi:type="dcterms:W3CDTF">2011-07-22T22:45:30Z</dcterms:modified>
  <cp:revision>104</cp:revision>
  <dc:subject/>
  <dc:title>MPLS-LDP Graceful Shutdown Draft</dc:title>
</cp:coreProperties>
</file>