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A4F-B830-49EB-AAE2-282F14CF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F5E-0C24-482A-987B-FCFB1EEF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060-1098-43E0-AFD1-2ACE4FB8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133-A6EF-49EF-A7A3-A4CF78AE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8AC-B04E-46D4-9A44-9887615E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36C-6E8F-40C1-9BA7-7F52183E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F6B-6362-4291-8139-B9095176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1D1-D69E-483A-B131-43EFB65F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4C1-FF9E-4923-96C5-EEAA2097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F65-E06A-44C7-97AD-D6ABB05A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F44-B035-43A8-91D5-AEB9C8ED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81B-82E9-49F3-8B36-A0B44AC4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816D-3AFD-4437-80F6-5BA94274A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S-TP Loopback Draf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ietf-mpls-tp-li-lb-02.tx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nges that will be made to the 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back function will only be done by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instruct function will be done using an OAM message, the details of this message will be discussed this week and agreed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use the MEP-ID TLV defined in the CC-CV-RDI draft in the LI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ity aspect of this message will be discussed this week and agreed 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0" y="4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Steps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28600" y="1905120"/>
            <a:ext cx="857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submit the updated draft and ask for another Last cal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4:21:46Z</dcterms:created>
  <dc:creator>Cisco Systems, Inc.</dc:creator>
  <dc:description/>
  <dc:language>en-US</dc:language>
  <cp:lastModifiedBy>sboutros</cp:lastModifiedBy>
  <dcterms:modified xsi:type="dcterms:W3CDTF">2011-07-22T22:45:30Z</dcterms:modified>
  <cp:revision>104</cp:revision>
  <dc:subject/>
  <dc:title>MPLS-LDP Graceful Shutdown Draft</dc:title>
</cp:coreProperties>
</file>