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476B-C3AE-40FA-919C-31FF4DF02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6830-588D-4997-98F8-B6692B497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3DBD-0189-4A0F-BCD1-8C15210BB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2D45-C702-4965-B570-36A874FB4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01F3-7CD5-431D-BB96-AC9DE577E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E253-F13C-4202-AFD7-A6A39C3CB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5770-A193-4E8F-B050-91E1564A4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1E40-C431-46A3-92BE-EE954B8D8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83A7-41D6-4AC5-91F6-531BA613E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41E2-64BD-4456-8091-8A195F852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DD9B-9EFB-495E-A436-0A8049008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DBB3-916A-420B-B101-9F886CB2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167-79E0-457D-8F8F-37FD555C81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</a:rPr>
              <a:t>Ning.So@verizonbusiness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posed P2MP LSP Ingress &amp; 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P2MP LSP Ingress and 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used for P2P LSP Ingress/Egress Protection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54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74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94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14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9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9" name="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9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9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9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Primary ingress PE5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981000"/>
            <a:ext cx="367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6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7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8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9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40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355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6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7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388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9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410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21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32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468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488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508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528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583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603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623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643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Link between CE3 and PE5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1991000">
            <a:off x="159948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981000"/>
            <a:ext cx="402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link to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686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697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708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719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730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745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756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767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778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789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800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811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822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3048120"/>
            <a:ext cx="947520" cy="8906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2395200">
            <a:off x="1142640" y="281952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2911320"/>
            <a:ext cx="714600" cy="898560"/>
          </a:xfrm>
          <a:custGeom>
            <a:avLst/>
            <a:gdLst/>
            <a:ahLst/>
            <a:rect l="l" t="t" r="r" b="b"/>
            <a:pathLst>
              <a:path w="450" h="566">
                <a:moveTo>
                  <a:pt x="0" y="0"/>
                </a:moveTo>
                <a:cubicBezTo>
                  <a:pt x="54" y="5"/>
                  <a:pt x="209" y="1"/>
                  <a:pt x="282" y="32"/>
                </a:cubicBezTo>
                <a:cubicBezTo>
                  <a:pt x="318" y="26"/>
                  <a:pt x="396" y="140"/>
                  <a:pt x="438" y="266"/>
                </a:cubicBezTo>
                <a:cubicBezTo>
                  <a:pt x="446" y="277"/>
                  <a:pt x="450" y="566"/>
                  <a:pt x="450" y="56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859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79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899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919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974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994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014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034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CE3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11991000">
            <a:off x="159948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95280" y="981000"/>
            <a:ext cx="39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CE to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077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088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099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110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121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1136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147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158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1169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180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1191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202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213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2395200">
            <a:off x="762120" y="289548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066680" y="2911320"/>
            <a:ext cx="714600" cy="898560"/>
          </a:xfrm>
          <a:custGeom>
            <a:avLst/>
            <a:gdLst/>
            <a:ahLst/>
            <a:rect l="l" t="t" r="r" b="b"/>
            <a:pathLst>
              <a:path w="450" h="566">
                <a:moveTo>
                  <a:pt x="0" y="0"/>
                </a:moveTo>
                <a:cubicBezTo>
                  <a:pt x="54" y="5"/>
                  <a:pt x="209" y="1"/>
                  <a:pt x="282" y="32"/>
                </a:cubicBezTo>
                <a:cubicBezTo>
                  <a:pt x="318" y="26"/>
                  <a:pt x="396" y="140"/>
                  <a:pt x="438" y="266"/>
                </a:cubicBezTo>
                <a:cubicBezTo>
                  <a:pt x="446" y="277"/>
                  <a:pt x="450" y="566"/>
                  <a:pt x="450" y="56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609480" y="3733920"/>
            <a:ext cx="609480" cy="389520"/>
            <a:chOff x="609480" y="3733920"/>
            <a:chExt cx="609480" cy="389520"/>
          </a:xfrm>
        </p:grpSpPr>
        <p:sp>
          <p:nvSpPr>
            <p:cNvPr id="1239" name=""/>
            <p:cNvSpPr/>
            <p:nvPr/>
          </p:nvSpPr>
          <p:spPr>
            <a:xfrm>
              <a:off x="609480" y="3843000"/>
              <a:ext cx="60948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9480" y="384300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9480" y="37339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8720" y="37659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18720" y="37659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1640" y="384300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1640" y="384300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2440" y="3760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2440" y="3760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11520" y="38505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11520" y="38505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24480" y="3769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24480" y="3769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07040" y="38466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07040" y="38466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6400" y="3765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16400" y="3765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5480" y="38541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15480" y="38541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655560" y="356724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3886200"/>
            <a:ext cx="609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62120" y="2590920"/>
            <a:ext cx="1676160" cy="1981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P2MP LSP Egress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1273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1293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1313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1333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2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0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0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1382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1402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1422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1442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1462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50920" y="5445000"/>
            <a:ext cx="6389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When primary egress PE1 fail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to backup tunnel to PE2 (backup egr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delivered to CE1 from P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 rot="14059200">
            <a:off x="4047120" y="25052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40194"/>
              <a:gd name="adj2" fmla="val 160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7512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4000" y="98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FrutigerNext LT Regular"/>
              </a:rPr>
              <a:t>Local protection for egress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1511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1522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1533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1544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1555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1566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1577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1588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1599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1610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1621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1632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1643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rot="2395200">
            <a:off x="4787640" y="227664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rot="21268800">
            <a:off x="4038120" y="2514600"/>
            <a:ext cx="60984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59 0.04768 C 0.02257 0.04768 0.08715 0.04745 0.10555 0.04722 C 0.12396 0.04699 0.09739 0.03472 0.11597 0.04583 C 0.13455 0.05694 0.18733 0.11527 0.21684 0.11389 C 0.24653 0.1125 0.25208 0.06898 0.29305 0.0375 C 0.33403 0.00602 0.41753 -0.06343 0.46285 -0.075 C 0.50781 -0.08658 0.54323 -0.04144 0.56423 -0.03264 E">
                                      <p:cBhvr>
                                        <p:cTn id="142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149" dur="2000" fill="hold"/>
                                        <p:tgtEl>
                                          <p:spTgt spid="1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P2MP LSP Egress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6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1691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1692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1712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1732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1752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1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772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773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774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775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9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3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5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7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8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9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1796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1801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1821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1841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1861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1881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0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50920" y="5445000"/>
            <a:ext cx="6389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When link from egress PE1 to CE1 fail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to backup tunnel to PE2 (backup egr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delivered to CE1 from P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919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920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921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 rot="14059200">
            <a:off x="4047120" y="25052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43138"/>
              <a:gd name="adj2" fmla="val 162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24000" y="981000"/>
            <a:ext cx="432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FrutigerNext LT Regular"/>
              </a:rPr>
              <a:t>Local protection for link to C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1929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1940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1951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1962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1973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1984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1995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2006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2017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2028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2039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2050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2061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rot="2395200">
            <a:off x="5257800" y="25146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054320" y="2424240"/>
            <a:ext cx="1756080" cy="436320"/>
          </a:xfrm>
          <a:custGeom>
            <a:avLst/>
            <a:gdLst/>
            <a:ahLst/>
            <a:rect l="l" t="t" r="r" b="b"/>
            <a:pathLst>
              <a:path w="1106" h="275">
                <a:moveTo>
                  <a:pt x="0" y="275"/>
                </a:moveTo>
                <a:cubicBezTo>
                  <a:pt x="107" y="203"/>
                  <a:pt x="280" y="18"/>
                  <a:pt x="464" y="9"/>
                </a:cubicBezTo>
                <a:cubicBezTo>
                  <a:pt x="648" y="0"/>
                  <a:pt x="972" y="175"/>
                  <a:pt x="1106" y="219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4953 C 0.02378 0.04953 0.08837 0.0493 0.10677 0.04907 C 0.12517 0.04884 0.09861 0.03657 0.11719 0.04768 C 0.13576 0.05879 0.18854 0.11713 0.21805 0.11574 C 0.24774 0.11435 0.2533 0.07083 0.29427 0.03935 C 0.33524 0.00787 0.41875 -0.06158 0.46406 -0.07315 C 0.50903 -0.08473 0.54444 -0.03959 0.56545 -0.03079 E">
                                      <p:cBhvr>
                                        <p:cTn id="165" dur="2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172" dur="20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2101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2102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4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6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7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2108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2109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2129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2149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8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2169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2170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171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2172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2173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9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1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3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5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3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2194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2199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2219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2239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2259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279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1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312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313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2314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2319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8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2353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2364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2375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2386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2397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2408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2425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2436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6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2451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2462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2473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2490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2504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6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5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500" fill="hold"/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5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07-20T20:17:04Z</dcterms:modified>
  <cp:revision>218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90550</vt:lpwstr>
  </property>
</Properties>
</file>