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C45DE-BA96-4D61-9011-DF3A8B6B8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4873D-12CD-454C-BDD0-D8225EFCB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26FF1-CA5D-4E69-B2F6-8B5B5E8A71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2DDB4-E92D-42E3-A9B7-8646217919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F330C-2DBF-4FFC-B6E4-8F9C6D51E2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92919-F25A-412A-874A-91BA010BDF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ABE0-A399-4D56-A877-2F989DE3B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23A4B-7EA5-4F59-B310-77BCDE7BC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B603B-DF42-4B4B-B613-12CFE63B6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7F999-9C35-4D56-925E-E5FC42BC5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271E5-0DBF-406C-A91C-85E85D82E9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257F6-D0BF-468C-9642-6F9940A1C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BE56-C88D-4262-A284-64B4B5ABD7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uaimochen@huawei.com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5.bin"/><Relationship Id="rId20" Type="http://schemas.openxmlformats.org/officeDocument/2006/relationships/image" Target="../media/image3.wmf"/><Relationship Id="rId21" Type="http://schemas.openxmlformats.org/officeDocument/2006/relationships/oleObject" Target="../embeddings/oleObject6.bin"/><Relationship Id="rId22" Type="http://schemas.openxmlformats.org/officeDocument/2006/relationships/image" Target="../media/image3.wmf"/><Relationship Id="rId23" Type="http://schemas.openxmlformats.org/officeDocument/2006/relationships/image" Target="../media/image5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5.bin"/><Relationship Id="rId20" Type="http://schemas.openxmlformats.org/officeDocument/2006/relationships/image" Target="../media/image3.wmf"/><Relationship Id="rId21" Type="http://schemas.openxmlformats.org/officeDocument/2006/relationships/oleObject" Target="../embeddings/oleObject6.bin"/><Relationship Id="rId22" Type="http://schemas.openxmlformats.org/officeDocument/2006/relationships/image" Target="../media/image3.wmf"/><Relationship Id="rId23" Type="http://schemas.openxmlformats.org/officeDocument/2006/relationships/image" Target="../media/image5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5.bin"/><Relationship Id="rId20" Type="http://schemas.openxmlformats.org/officeDocument/2006/relationships/image" Target="../media/image3.wmf"/><Relationship Id="rId21" Type="http://schemas.openxmlformats.org/officeDocument/2006/relationships/oleObject" Target="../embeddings/oleObject6.bin"/><Relationship Id="rId22" Type="http://schemas.openxmlformats.org/officeDocument/2006/relationships/image" Target="../media/image3.wmf"/><Relationship Id="rId23" Type="http://schemas.openxmlformats.org/officeDocument/2006/relationships/image" Target="../media/image5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3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3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3.wmf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3.wmf"/><Relationship Id="rId22" Type="http://schemas.openxmlformats.org/officeDocument/2006/relationships/image" Target="../media/image5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3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3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3.wmf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3.wmf"/><Relationship Id="rId22" Type="http://schemas.openxmlformats.org/officeDocument/2006/relationships/image" Target="../media/image5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5.bin"/><Relationship Id="rId20" Type="http://schemas.openxmlformats.org/officeDocument/2006/relationships/image" Target="../media/image3.wmf"/><Relationship Id="rId21" Type="http://schemas.openxmlformats.org/officeDocument/2006/relationships/oleObject" Target="../embeddings/oleObject6.bin"/><Relationship Id="rId22" Type="http://schemas.openxmlformats.org/officeDocument/2006/relationships/image" Target="../media/image3.wmf"/><Relationship Id="rId23" Type="http://schemas.openxmlformats.org/officeDocument/2006/relationships/image" Target="../media/image5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3300"/>
                </a:solidFill>
                <a:uFillTx/>
                <a:latin typeface="Candara"/>
              </a:rPr>
              <a:t>Extensions to RSVP-TE for P2MP LSP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Candara"/>
              </a:rPr>
              <a:t>Ingress/Egress</a:t>
            </a:r>
            <a:r>
              <a:rPr b="0" lang="en-US" sz="3600" spc="-1" strike="noStrike" u="sng">
                <a:solidFill>
                  <a:srgbClr val="cc3300"/>
                </a:solidFill>
                <a:uFillTx/>
                <a:latin typeface="Candara"/>
              </a:rPr>
              <a:t> Local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762120" y="32767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raft-chen-mpls-p2mp-</a:t>
            </a:r>
            <a:r>
              <a:rPr b="0" lang="en-US" sz="2400" spc="-1" strike="noStrike">
                <a:solidFill>
                  <a:srgbClr val="0000cc"/>
                </a:solidFill>
                <a:latin typeface="Candara"/>
              </a:rPr>
              <a:t>ingress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-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raft-chen-mpls-p2mp-</a:t>
            </a:r>
            <a:r>
              <a:rPr b="0" lang="en-US" sz="2400" spc="-1" strike="noStrike">
                <a:solidFill>
                  <a:srgbClr val="0000cc"/>
                </a:solidFill>
                <a:latin typeface="Candara"/>
              </a:rPr>
              <a:t>egress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-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685800" y="51055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ndara"/>
              </a:rPr>
              <a:t>Huaimo Chen (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Candara"/>
                <a:hlinkClick r:id="rId1"/>
              </a:rPr>
              <a:t>huaimochen@huawei.com</a:t>
            </a:r>
            <a:r>
              <a:rPr b="0" lang="zh-CN" sz="24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ndara"/>
              </a:rPr>
              <a:t>Ning So (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Candara"/>
              </a:rPr>
              <a:t>Ning.So@verizonbusiness.com</a:t>
            </a:r>
            <a:r>
              <a:rPr b="0" lang="zh-CN" sz="24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Verdana"/>
              </a:rPr>
              <a:t>Next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ndara"/>
              </a:rPr>
              <a:t>Welcome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Request to make it into a working group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Arial"/>
              </a:rPr>
              <a:t>Cont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543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posed P2MP LSP Ingress &amp; Egress Local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 of P2MP LSP Ingress and Egress Local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an be used for P2P LSP Ingress/Egress Protection according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8680" y="3913200"/>
            <a:ext cx="150948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5160" y="2909880"/>
            <a:ext cx="1271520" cy="1219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503360" y="2090880"/>
            <a:ext cx="4195800" cy="2801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925960" y="1928880"/>
            <a:ext cx="1814760" cy="1218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9154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宋体"/>
              </a:rPr>
              <a:t>P2MP LSP Ingress Local Protection</a:t>
            </a:r>
            <a:r>
              <a:rPr b="0" lang="en-US" sz="3500" spc="-1" strike="noStrike">
                <a:solidFill>
                  <a:srgbClr val="cc6600"/>
                </a:solidFill>
                <a:latin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(Anima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028000" y="1844640"/>
          <a:ext cx="223920" cy="50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28000" y="1844640"/>
                    <a:ext cx="22392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796840" y="177948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8505720" y="2386080"/>
            <a:ext cx="279360" cy="2667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5489640" y="2378160"/>
            <a:ext cx="609120" cy="388440"/>
            <a:chOff x="5489640" y="2378160"/>
            <a:chExt cx="609120" cy="388440"/>
          </a:xfrm>
        </p:grpSpPr>
        <p:sp>
          <p:nvSpPr>
            <p:cNvPr id="54" name=""/>
            <p:cNvSpPr/>
            <p:nvPr/>
          </p:nvSpPr>
          <p:spPr>
            <a:xfrm>
              <a:off x="5489640" y="248688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9640" y="248688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89640" y="237816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98880" y="240984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98880" y="240984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81800" y="248688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581800" y="248688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592600" y="24044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92600" y="24044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791680" y="2494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91680" y="2494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04640" y="24138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04640" y="24138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87200" y="249048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587200" y="249048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96200" y="24098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596200" y="24098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95280" y="2498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95280" y="2498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996240" y="2824200"/>
            <a:ext cx="609120" cy="388440"/>
            <a:chOff x="6996240" y="2824200"/>
            <a:chExt cx="609120" cy="388440"/>
          </a:xfrm>
        </p:grpSpPr>
        <p:sp>
          <p:nvSpPr>
            <p:cNvPr id="74" name=""/>
            <p:cNvSpPr/>
            <p:nvPr/>
          </p:nvSpPr>
          <p:spPr>
            <a:xfrm>
              <a:off x="6996240" y="293292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996240" y="293292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996240" y="282420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05480" y="28558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305480" y="28558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88400" y="29329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88400" y="29329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99200" y="28504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99200" y="28504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298280" y="29401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98280" y="29401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311240" y="28598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311240" y="28598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093800" y="29365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093800" y="29365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02800" y="28558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02800" y="28558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01880" y="2944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01880" y="2944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905520" y="1795320"/>
            <a:ext cx="609480" cy="390240"/>
            <a:chOff x="6905520" y="1795320"/>
            <a:chExt cx="609480" cy="390240"/>
          </a:xfrm>
        </p:grpSpPr>
        <p:sp>
          <p:nvSpPr>
            <p:cNvPr id="94" name=""/>
            <p:cNvSpPr/>
            <p:nvPr/>
          </p:nvSpPr>
          <p:spPr>
            <a:xfrm>
              <a:off x="6905520" y="1904760"/>
              <a:ext cx="609480" cy="2808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905520" y="190476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05520" y="1795320"/>
              <a:ext cx="60804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14760" y="182736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214760" y="182736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97680" y="1904760"/>
              <a:ext cx="2008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97680" y="1904760"/>
              <a:ext cx="2008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08480" y="18216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08480" y="18216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07560" y="191196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07560" y="191196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20520" y="18309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20520" y="18309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03080" y="1908000"/>
              <a:ext cx="19872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03080" y="1908000"/>
              <a:ext cx="19872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12440" y="18273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12440" y="18273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11520" y="191592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11520" y="191592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954760" y="4238640"/>
            <a:ext cx="609120" cy="388440"/>
            <a:chOff x="5954760" y="4238640"/>
            <a:chExt cx="609120" cy="388440"/>
          </a:xfrm>
        </p:grpSpPr>
        <p:sp>
          <p:nvSpPr>
            <p:cNvPr id="114" name=""/>
            <p:cNvSpPr/>
            <p:nvPr/>
          </p:nvSpPr>
          <p:spPr>
            <a:xfrm>
              <a:off x="5954760" y="434736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54760" y="434736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54760" y="423864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64000" y="42703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64000" y="42703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46920" y="4347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46920" y="4347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57720" y="42649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57720" y="42649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56800" y="4354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56800" y="4354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69760" y="42742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69760" y="42742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52320" y="43509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52320" y="43509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61320" y="42703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61320" y="42703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0400" y="4358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60400" y="4358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8569440" y="1265400"/>
            <a:ext cx="279360" cy="266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8720280" y="1973160"/>
            <a:ext cx="277560" cy="266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8802720" y="28051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8505720" y="32623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2"/>
          <a:stretch/>
        </p:blipFill>
        <p:spPr>
          <a:xfrm>
            <a:off x="8440560" y="1627200"/>
            <a:ext cx="279720" cy="266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V="1">
            <a:off x="8088480" y="1389240"/>
            <a:ext cx="48096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7391520" y="1398240"/>
            <a:ext cx="484200" cy="4604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199360" y="2139480"/>
            <a:ext cx="5209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62800" y="2008080"/>
            <a:ext cx="576360" cy="1317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101080" y="2637000"/>
          <a:ext cx="269640" cy="579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101080" y="2637000"/>
                    <a:ext cx="26964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7824960" y="1081080"/>
          <a:ext cx="287280" cy="633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824960" y="1081080"/>
                    <a:ext cx="287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8123400" y="5121360"/>
          <a:ext cx="288720" cy="633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123400" y="5121360"/>
                    <a:ext cx="28872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8123400" y="3710160"/>
          <a:ext cx="288720" cy="631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123400" y="3710160"/>
                    <a:ext cx="2887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8123400" y="4433760"/>
          <a:ext cx="288720" cy="633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123400" y="4433760"/>
                    <a:ext cx="28872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 flipV="1">
            <a:off x="7564320" y="298728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8396280" y="4028760"/>
            <a:ext cx="528480" cy="46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8380440" y="5424480"/>
            <a:ext cx="50796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8264520" y="2935440"/>
            <a:ext cx="55548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37600" y="4776840"/>
            <a:ext cx="485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3"/>
          <a:stretch/>
        </p:blipFill>
        <p:spPr>
          <a:xfrm>
            <a:off x="69840" y="3240000"/>
            <a:ext cx="619200" cy="536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2920" y="182232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03200" y="47160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Rece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73160" y="2782800"/>
            <a:ext cx="1573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986360" y="1893960"/>
            <a:ext cx="912960" cy="258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86360" y="2101680"/>
            <a:ext cx="825480" cy="247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967200">
            <a:off x="5093280" y="184608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RPF Che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967200">
            <a:off x="5047200" y="205560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IM Jo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967200">
            <a:off x="4860000" y="2271600"/>
            <a:ext cx="790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967200">
            <a:off x="5329800" y="402876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81040" y="2878200"/>
            <a:ext cx="609120" cy="388440"/>
            <a:chOff x="581040" y="2878200"/>
            <a:chExt cx="609120" cy="388440"/>
          </a:xfrm>
        </p:grpSpPr>
        <p:sp>
          <p:nvSpPr>
            <p:cNvPr id="169" name=""/>
            <p:cNvSpPr/>
            <p:nvPr/>
          </p:nvSpPr>
          <p:spPr>
            <a:xfrm>
              <a:off x="581040" y="298692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040" y="298692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040" y="287820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90280" y="29098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90280" y="29098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3200" y="29869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3200" y="29869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4000" y="29044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4000" y="29044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83080" y="29941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3080" y="29941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96040" y="29138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96040" y="29138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8600" y="29905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8600" y="29905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7600" y="29098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7600" y="29098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86680" y="2998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86680" y="2998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76160" y="3700440"/>
            <a:ext cx="609480" cy="390240"/>
            <a:chOff x="776160" y="3700440"/>
            <a:chExt cx="609480" cy="390240"/>
          </a:xfrm>
        </p:grpSpPr>
        <p:sp>
          <p:nvSpPr>
            <p:cNvPr id="189" name=""/>
            <p:cNvSpPr/>
            <p:nvPr/>
          </p:nvSpPr>
          <p:spPr>
            <a:xfrm>
              <a:off x="776160" y="3809880"/>
              <a:ext cx="609480" cy="2808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6160" y="380988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6160" y="3700440"/>
              <a:ext cx="60804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85400" y="373248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85400" y="373248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68320" y="3809880"/>
              <a:ext cx="2008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68320" y="3809880"/>
              <a:ext cx="2008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9120" y="372672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79120" y="372672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78200" y="38170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78200" y="38170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91160" y="373608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91160" y="373608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73720" y="3813120"/>
              <a:ext cx="19872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3720" y="3813120"/>
              <a:ext cx="19872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83080" y="3732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83080" y="3732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82160" y="382104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82160" y="382104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807240" y="4886280"/>
            <a:ext cx="609120" cy="388800"/>
            <a:chOff x="6807240" y="4886280"/>
            <a:chExt cx="609120" cy="388800"/>
          </a:xfrm>
        </p:grpSpPr>
        <p:sp>
          <p:nvSpPr>
            <p:cNvPr id="209" name=""/>
            <p:cNvSpPr/>
            <p:nvPr/>
          </p:nvSpPr>
          <p:spPr>
            <a:xfrm>
              <a:off x="6807240" y="499536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07240" y="499536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07240" y="4886280"/>
              <a:ext cx="607680" cy="2120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16480" y="491796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16480" y="491796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99400" y="4995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99400" y="4995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10200" y="491256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10200" y="491256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109280" y="5002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09280" y="5002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22240" y="492192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22240" y="492192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04800" y="499860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04800" y="499860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13800" y="49179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913800" y="49179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12880" y="50061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12880" y="50061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853320" y="3657600"/>
            <a:ext cx="609120" cy="388440"/>
            <a:chOff x="6853320" y="3657600"/>
            <a:chExt cx="609120" cy="388440"/>
          </a:xfrm>
        </p:grpSpPr>
        <p:sp>
          <p:nvSpPr>
            <p:cNvPr id="229" name=""/>
            <p:cNvSpPr/>
            <p:nvPr/>
          </p:nvSpPr>
          <p:spPr>
            <a:xfrm>
              <a:off x="6853320" y="376632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3320" y="376632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53320" y="365760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62560" y="36892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62560" y="36892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945480" y="37663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45480" y="37663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56280" y="36838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56280" y="36838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55360" y="3773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55360" y="3773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168320" y="36932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68320" y="36932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50880" y="37699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50880" y="37699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959880" y="36892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59880" y="36892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58960" y="37774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58960" y="37774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7108920" y="4238640"/>
            <a:ext cx="609120" cy="388440"/>
            <a:chOff x="7108920" y="4238640"/>
            <a:chExt cx="609120" cy="388440"/>
          </a:xfrm>
        </p:grpSpPr>
        <p:sp>
          <p:nvSpPr>
            <p:cNvPr id="249" name=""/>
            <p:cNvSpPr/>
            <p:nvPr/>
          </p:nvSpPr>
          <p:spPr>
            <a:xfrm>
              <a:off x="7108920" y="434736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08920" y="434736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08920" y="423864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18160" y="42703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18160" y="42703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01080" y="4347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01080" y="4347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11880" y="42649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11880" y="42649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10960" y="4354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10960" y="4354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23920" y="42742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23920" y="42742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06480" y="43509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06480" y="43509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15480" y="42703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15480" y="42703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14560" y="4358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14560" y="4358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 flipV="1">
            <a:off x="7604280" y="4066920"/>
            <a:ext cx="517320" cy="2235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20120" y="4367160"/>
            <a:ext cx="530280" cy="393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515360" y="4532400"/>
            <a:ext cx="635040" cy="90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48160" y="191304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75320" y="25876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86000" y="35352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36680" y="26337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92680" y="43671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86360" y="375120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22240" y="353376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50880" y="2673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54760" y="405612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26160" y="22399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01800" y="3024360"/>
            <a:ext cx="0" cy="9237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5373720"/>
            <a:ext cx="79297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buClr>
                <a:srgbClr val="0000cc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MS PGothic"/>
              </a:rPr>
              <a:t>Primary ingress PE5 fai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204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MS PGothic"/>
              </a:rPr>
              <a:t>Traffic to backup tu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204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MS PGothic"/>
              </a:rPr>
              <a:t>Traffic merged into P2MP L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4"/>
          <a:stretch/>
        </p:blipFill>
        <p:spPr>
          <a:xfrm>
            <a:off x="8647200" y="390060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5"/>
          <a:stretch/>
        </p:blipFill>
        <p:spPr>
          <a:xfrm>
            <a:off x="8721720" y="463716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6"/>
          <a:stretch/>
        </p:blipFill>
        <p:spPr>
          <a:xfrm>
            <a:off x="8683560" y="5291280"/>
            <a:ext cx="277920" cy="266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30200" y="518652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0200" y="4881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16000" y="4653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18520" y="50338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792160" y="5186520"/>
            <a:ext cx="685800" cy="9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554280" y="50338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for B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1991000">
            <a:off x="1618560" y="3428640"/>
            <a:ext cx="43164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79640" y="2205000"/>
            <a:ext cx="503280" cy="287280"/>
          </a:xfrm>
          <a:prstGeom prst="wedgeRoundRectCallout">
            <a:avLst>
              <a:gd name="adj1" fmla="val -50629"/>
              <a:gd name="adj2" fmla="val 40027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981000"/>
            <a:ext cx="367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local protection for ingress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476360" y="2852640"/>
            <a:ext cx="555480" cy="490320"/>
            <a:chOff x="1476360" y="2852640"/>
            <a:chExt cx="555480" cy="490320"/>
          </a:xfrm>
        </p:grpSpPr>
        <p:sp>
          <p:nvSpPr>
            <p:cNvPr id="296" name=""/>
            <p:cNvSpPr/>
            <p:nvPr/>
          </p:nvSpPr>
          <p:spPr>
            <a:xfrm>
              <a:off x="1476360" y="3106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76360" y="2944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478520" y="2944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95800" y="29588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76360" y="3013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76360" y="2854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478520" y="285264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95800" y="2866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75000" y="2926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66360" y="2917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932360" y="3933720"/>
            <a:ext cx="555480" cy="490320"/>
            <a:chOff x="4932360" y="3933720"/>
            <a:chExt cx="555480" cy="490320"/>
          </a:xfrm>
        </p:grpSpPr>
        <p:sp>
          <p:nvSpPr>
            <p:cNvPr id="307" name=""/>
            <p:cNvSpPr/>
            <p:nvPr/>
          </p:nvSpPr>
          <p:spPr>
            <a:xfrm>
              <a:off x="4932360" y="418716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32360" y="40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934520" y="402552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951800" y="403992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932360" y="409500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32360" y="39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34520" y="393372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951800" y="394776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31000" y="400716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22360" y="399888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4859280" y="4581360"/>
            <a:ext cx="555840" cy="490320"/>
            <a:chOff x="4859280" y="4581360"/>
            <a:chExt cx="555840" cy="490320"/>
          </a:xfrm>
        </p:grpSpPr>
        <p:sp>
          <p:nvSpPr>
            <p:cNvPr id="318" name=""/>
            <p:cNvSpPr/>
            <p:nvPr/>
          </p:nvSpPr>
          <p:spPr>
            <a:xfrm>
              <a:off x="4859280" y="4834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59280" y="4673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61440" y="4673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78720" y="46875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59280" y="4742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59280" y="4583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61440" y="458136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78720" y="459540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57920" y="4654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949280" y="4646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500720" y="2133720"/>
            <a:ext cx="555480" cy="490320"/>
            <a:chOff x="4500720" y="2133720"/>
            <a:chExt cx="555480" cy="490320"/>
          </a:xfrm>
        </p:grpSpPr>
        <p:sp>
          <p:nvSpPr>
            <p:cNvPr id="329" name=""/>
            <p:cNvSpPr/>
            <p:nvPr/>
          </p:nvSpPr>
          <p:spPr>
            <a:xfrm>
              <a:off x="4500720" y="238716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500720" y="22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02880" y="222552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20160" y="223992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500720" y="229500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00720" y="21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502880" y="213372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520160" y="21477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99360" y="220716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90720" y="219888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643280" y="2781360"/>
            <a:ext cx="555840" cy="490320"/>
            <a:chOff x="4643280" y="2781360"/>
            <a:chExt cx="555840" cy="490320"/>
          </a:xfrm>
        </p:grpSpPr>
        <p:sp>
          <p:nvSpPr>
            <p:cNvPr id="340" name=""/>
            <p:cNvSpPr/>
            <p:nvPr/>
          </p:nvSpPr>
          <p:spPr>
            <a:xfrm>
              <a:off x="4643280" y="3034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43280" y="2873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45440" y="2873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62720" y="288756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43280" y="2942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43280" y="2783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45440" y="27813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662720" y="279540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41920" y="2854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33280" y="2846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 flipV="1">
            <a:off x="4944960" y="2649240"/>
            <a:ext cx="866880" cy="33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10040" y="2360520"/>
            <a:ext cx="816120" cy="2304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5289480" y="4465800"/>
            <a:ext cx="8082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67240" y="4129200"/>
            <a:ext cx="623880" cy="2188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059280" y="2781360"/>
            <a:ext cx="555480" cy="490320"/>
            <a:chOff x="3059280" y="2781360"/>
            <a:chExt cx="555480" cy="490320"/>
          </a:xfrm>
        </p:grpSpPr>
        <p:sp>
          <p:nvSpPr>
            <p:cNvPr id="355" name=""/>
            <p:cNvSpPr/>
            <p:nvPr/>
          </p:nvSpPr>
          <p:spPr>
            <a:xfrm>
              <a:off x="3059280" y="3034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059280" y="2873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061440" y="2873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78720" y="28875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59280" y="2942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59280" y="2783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61440" y="27813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78720" y="279540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157920" y="2854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149280" y="2846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995640" y="4005360"/>
            <a:ext cx="555840" cy="490320"/>
            <a:chOff x="3995640" y="4005360"/>
            <a:chExt cx="555840" cy="490320"/>
          </a:xfrm>
        </p:grpSpPr>
        <p:sp>
          <p:nvSpPr>
            <p:cNvPr id="366" name=""/>
            <p:cNvSpPr/>
            <p:nvPr/>
          </p:nvSpPr>
          <p:spPr>
            <a:xfrm>
              <a:off x="3995640" y="4258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995640" y="4097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97800" y="4097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15080" y="411156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95640" y="4166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95640" y="4007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97800" y="40053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15080" y="401940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094280" y="4078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85640" y="4070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780000" y="2492280"/>
            <a:ext cx="555480" cy="490320"/>
            <a:chOff x="3780000" y="2492280"/>
            <a:chExt cx="555480" cy="490320"/>
          </a:xfrm>
        </p:grpSpPr>
        <p:sp>
          <p:nvSpPr>
            <p:cNvPr id="377" name=""/>
            <p:cNvSpPr/>
            <p:nvPr/>
          </p:nvSpPr>
          <p:spPr>
            <a:xfrm>
              <a:off x="3780000" y="274572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80000" y="25840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782160" y="258408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99440" y="25984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80000" y="265356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80000" y="24940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782160" y="249228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99440" y="250632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78640" y="256572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70000" y="255744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2771640" y="2276640"/>
            <a:ext cx="555840" cy="490320"/>
            <a:chOff x="2771640" y="2276640"/>
            <a:chExt cx="555840" cy="490320"/>
          </a:xfrm>
        </p:grpSpPr>
        <p:sp>
          <p:nvSpPr>
            <p:cNvPr id="388" name=""/>
            <p:cNvSpPr/>
            <p:nvPr/>
          </p:nvSpPr>
          <p:spPr>
            <a:xfrm>
              <a:off x="2771640" y="253008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71640" y="236844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73800" y="236844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91080" y="238284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71640" y="243792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71640" y="227844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73800" y="227664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91080" y="229068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870280" y="235008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61640" y="234180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340000" y="3284640"/>
            <a:ext cx="555480" cy="490320"/>
            <a:chOff x="2340000" y="3284640"/>
            <a:chExt cx="555480" cy="490320"/>
          </a:xfrm>
        </p:grpSpPr>
        <p:sp>
          <p:nvSpPr>
            <p:cNvPr id="399" name=""/>
            <p:cNvSpPr/>
            <p:nvPr/>
          </p:nvSpPr>
          <p:spPr>
            <a:xfrm>
              <a:off x="2340000" y="3538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40000" y="3376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42160" y="3376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59440" y="339084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340000" y="3445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40000" y="3286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342160" y="32846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59440" y="329868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38640" y="3358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30000" y="3349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3132000" y="3716280"/>
            <a:ext cx="555840" cy="490320"/>
            <a:chOff x="3132000" y="3716280"/>
            <a:chExt cx="555840" cy="490320"/>
          </a:xfrm>
        </p:grpSpPr>
        <p:sp>
          <p:nvSpPr>
            <p:cNvPr id="410" name=""/>
            <p:cNvSpPr/>
            <p:nvPr/>
          </p:nvSpPr>
          <p:spPr>
            <a:xfrm>
              <a:off x="3132000" y="3969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32000" y="38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34160" y="3808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51440" y="3822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132000" y="3877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32000" y="37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134160" y="3716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151440" y="3730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30640" y="3789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22000" y="3781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1547640" y="3716280"/>
            <a:ext cx="555840" cy="490320"/>
            <a:chOff x="1547640" y="3716280"/>
            <a:chExt cx="555840" cy="490320"/>
          </a:xfrm>
        </p:grpSpPr>
        <p:sp>
          <p:nvSpPr>
            <p:cNvPr id="421" name=""/>
            <p:cNvSpPr/>
            <p:nvPr/>
          </p:nvSpPr>
          <p:spPr>
            <a:xfrm>
              <a:off x="1547640" y="3969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47640" y="38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49800" y="3808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67080" y="3822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547640" y="3877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47640" y="37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549800" y="3716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567080" y="3730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646280" y="3789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637640" y="3781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2268360" y="3933720"/>
            <a:ext cx="555840" cy="490320"/>
            <a:chOff x="2268360" y="3933720"/>
            <a:chExt cx="555840" cy="490320"/>
          </a:xfrm>
        </p:grpSpPr>
        <p:sp>
          <p:nvSpPr>
            <p:cNvPr id="432" name=""/>
            <p:cNvSpPr/>
            <p:nvPr/>
          </p:nvSpPr>
          <p:spPr>
            <a:xfrm>
              <a:off x="2268360" y="418716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268360" y="4025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270520" y="40255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87800" y="40399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68360" y="409500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68360" y="3935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70520" y="393372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87800" y="39477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67000" y="400716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58360" y="399888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 flipV="1">
            <a:off x="4240080" y="4090680"/>
            <a:ext cx="973440" cy="120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233960" y="4238640"/>
            <a:ext cx="841320" cy="460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064040" y="2739960"/>
            <a:ext cx="797040" cy="2318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064040" y="2271240"/>
            <a:ext cx="797040" cy="4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64000" y="2755800"/>
            <a:ext cx="528480" cy="168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635280" y="4076640"/>
            <a:ext cx="600120" cy="190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2652840" y="3034800"/>
            <a:ext cx="600120" cy="44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652840" y="3478320"/>
            <a:ext cx="600120" cy="40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2666880" y="2514600"/>
            <a:ext cx="3049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438280" y="3428640"/>
            <a:ext cx="228600" cy="6858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782720" y="3938760"/>
            <a:ext cx="731880" cy="1760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782720" y="3024360"/>
            <a:ext cx="870120" cy="45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073160" y="3938760"/>
            <a:ext cx="63648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66800" y="3059280"/>
            <a:ext cx="7808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2395200">
            <a:off x="1600200" y="2743200"/>
            <a:ext cx="228600" cy="3319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62120" y="2666880"/>
            <a:ext cx="1736640" cy="180036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14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000"/>
                            </p:stCondLst>
                            <p:childTnLst>
                              <p:par>
                                <p:cTn id="4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6178680" y="3913200"/>
            <a:ext cx="1509480" cy="121932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65160" y="2909880"/>
            <a:ext cx="1271520" cy="121932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1503360" y="2090880"/>
            <a:ext cx="4195800" cy="28018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>
            <a:off x="5925960" y="1928880"/>
            <a:ext cx="1814760" cy="121896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9154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宋体"/>
              </a:rPr>
              <a:t>P2MP LSP Ingress Local Protection</a:t>
            </a:r>
            <a:r>
              <a:rPr b="0" lang="en-US" sz="3500" spc="-1" strike="noStrike">
                <a:solidFill>
                  <a:srgbClr val="cc6600"/>
                </a:solidFill>
                <a:latin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(Anima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8028000" y="1844640"/>
          <a:ext cx="223920" cy="50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28000" y="1844640"/>
                    <a:ext cx="22392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2796840" y="177948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7"/>
          <a:stretch/>
        </p:blipFill>
        <p:spPr>
          <a:xfrm>
            <a:off x="8505720" y="2386080"/>
            <a:ext cx="279360" cy="266760"/>
          </a:xfrm>
          <a:prstGeom prst="rect">
            <a:avLst/>
          </a:prstGeom>
          <a:ln w="0">
            <a:noFill/>
          </a:ln>
        </p:spPr>
      </p:pic>
      <p:grpSp>
        <p:nvGrpSpPr>
          <p:cNvPr id="467" name=""/>
          <p:cNvGrpSpPr/>
          <p:nvPr/>
        </p:nvGrpSpPr>
        <p:grpSpPr>
          <a:xfrm>
            <a:off x="5489640" y="2378160"/>
            <a:ext cx="609120" cy="388440"/>
            <a:chOff x="5489640" y="2378160"/>
            <a:chExt cx="609120" cy="388440"/>
          </a:xfrm>
        </p:grpSpPr>
        <p:sp>
          <p:nvSpPr>
            <p:cNvPr id="468" name=""/>
            <p:cNvSpPr/>
            <p:nvPr/>
          </p:nvSpPr>
          <p:spPr>
            <a:xfrm>
              <a:off x="5489640" y="248688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489640" y="248688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89640" y="237816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98880" y="240984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98880" y="240984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81800" y="248688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581800" y="248688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92600" y="24044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92600" y="24044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791680" y="2494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791680" y="2494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804640" y="24138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04640" y="24138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587200" y="249048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587200" y="249048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96200" y="24098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596200" y="24098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95280" y="2498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5280" y="2498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996240" y="2824200"/>
            <a:ext cx="609120" cy="388440"/>
            <a:chOff x="6996240" y="2824200"/>
            <a:chExt cx="609120" cy="388440"/>
          </a:xfrm>
        </p:grpSpPr>
        <p:sp>
          <p:nvSpPr>
            <p:cNvPr id="488" name=""/>
            <p:cNvSpPr/>
            <p:nvPr/>
          </p:nvSpPr>
          <p:spPr>
            <a:xfrm>
              <a:off x="6996240" y="293292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96240" y="293292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996240" y="282420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05480" y="28558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05480" y="28558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088400" y="29329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88400" y="29329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099200" y="28504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099200" y="28504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298280" y="29401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98280" y="29401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11240" y="28598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311240" y="28598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093800" y="29365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093800" y="29365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102800" y="28558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102800" y="28558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301880" y="2944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01880" y="2944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6905520" y="1795320"/>
            <a:ext cx="609480" cy="390240"/>
            <a:chOff x="6905520" y="1795320"/>
            <a:chExt cx="609480" cy="390240"/>
          </a:xfrm>
        </p:grpSpPr>
        <p:sp>
          <p:nvSpPr>
            <p:cNvPr id="508" name=""/>
            <p:cNvSpPr/>
            <p:nvPr/>
          </p:nvSpPr>
          <p:spPr>
            <a:xfrm>
              <a:off x="6905520" y="1904760"/>
              <a:ext cx="609480" cy="2808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05520" y="190476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05520" y="1795320"/>
              <a:ext cx="60804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214760" y="182736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214760" y="182736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97680" y="1904760"/>
              <a:ext cx="2008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97680" y="1904760"/>
              <a:ext cx="2008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008480" y="18216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8480" y="18216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207560" y="191196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07560" y="191196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220520" y="18309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220520" y="18309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003080" y="1908000"/>
              <a:ext cx="19872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003080" y="1908000"/>
              <a:ext cx="19872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012440" y="18273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012440" y="18273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211520" y="191592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211520" y="191592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5954760" y="4238640"/>
            <a:ext cx="609120" cy="388440"/>
            <a:chOff x="5954760" y="4238640"/>
            <a:chExt cx="609120" cy="388440"/>
          </a:xfrm>
        </p:grpSpPr>
        <p:sp>
          <p:nvSpPr>
            <p:cNvPr id="528" name=""/>
            <p:cNvSpPr/>
            <p:nvPr/>
          </p:nvSpPr>
          <p:spPr>
            <a:xfrm>
              <a:off x="5954760" y="434736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54760" y="434736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54760" y="423864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264000" y="42703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264000" y="42703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46920" y="4347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46920" y="4347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57720" y="42649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57720" y="42649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256800" y="4354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56800" y="4354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69760" y="42742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269760" y="42742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052320" y="43509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52320" y="43509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61320" y="42703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061320" y="42703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260400" y="4358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60400" y="4358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7" name="" descr=""/>
          <p:cNvPicPr/>
          <p:nvPr/>
        </p:nvPicPr>
        <p:blipFill>
          <a:blip r:embed="rId8"/>
          <a:stretch/>
        </p:blipFill>
        <p:spPr>
          <a:xfrm>
            <a:off x="8569440" y="1265400"/>
            <a:ext cx="279360" cy="26640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9"/>
          <a:stretch/>
        </p:blipFill>
        <p:spPr>
          <a:xfrm>
            <a:off x="8720280" y="1973160"/>
            <a:ext cx="277560" cy="26676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10"/>
          <a:stretch/>
        </p:blipFill>
        <p:spPr>
          <a:xfrm>
            <a:off x="8802720" y="28051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11"/>
          <a:stretch/>
        </p:blipFill>
        <p:spPr>
          <a:xfrm>
            <a:off x="8505720" y="32623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12"/>
          <a:stretch/>
        </p:blipFill>
        <p:spPr>
          <a:xfrm>
            <a:off x="8440560" y="1627200"/>
            <a:ext cx="279720" cy="26676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 flipV="1">
            <a:off x="8088480" y="1389240"/>
            <a:ext cx="48096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7391520" y="1398240"/>
            <a:ext cx="484200" cy="4604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8199360" y="2139480"/>
            <a:ext cx="5209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462800" y="2008080"/>
            <a:ext cx="576360" cy="1317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8101080" y="2637000"/>
          <a:ext cx="269640" cy="579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101080" y="2637000"/>
                    <a:ext cx="26964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7824960" y="1081080"/>
          <a:ext cx="287280" cy="633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824960" y="1081080"/>
                    <a:ext cx="287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"/>
          <p:cNvGraphicFramePr/>
          <p:nvPr/>
        </p:nvGraphicFramePr>
        <p:xfrm>
          <a:off x="8123400" y="5121360"/>
          <a:ext cx="288720" cy="633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123400" y="5121360"/>
                    <a:ext cx="28872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8123400" y="3710160"/>
          <a:ext cx="288720" cy="631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123400" y="3710160"/>
                    <a:ext cx="2887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8123400" y="4433760"/>
          <a:ext cx="288720" cy="633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123400" y="4433760"/>
                    <a:ext cx="28872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"/>
          <p:cNvSpPr/>
          <p:nvPr/>
        </p:nvSpPr>
        <p:spPr>
          <a:xfrm flipV="1">
            <a:off x="7564320" y="298728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8396280" y="4028760"/>
            <a:ext cx="528480" cy="46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8380440" y="5424480"/>
            <a:ext cx="50796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8264520" y="2935440"/>
            <a:ext cx="55548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8337600" y="4776840"/>
            <a:ext cx="485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3"/>
          <a:stretch/>
        </p:blipFill>
        <p:spPr>
          <a:xfrm>
            <a:off x="69840" y="3240000"/>
            <a:ext cx="619200" cy="53676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52920" y="182232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603200" y="47160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Rece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073160" y="2782800"/>
            <a:ext cx="1573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986360" y="1893960"/>
            <a:ext cx="912960" cy="258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986360" y="2101680"/>
            <a:ext cx="825480" cy="247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967200">
            <a:off x="5093280" y="184608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RPF Che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967200">
            <a:off x="5047200" y="205560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IM Jo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rot="967200">
            <a:off x="4860000" y="2271600"/>
            <a:ext cx="790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rot="967200">
            <a:off x="5329800" y="402876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81040" y="2878200"/>
            <a:ext cx="609120" cy="388440"/>
            <a:chOff x="581040" y="2878200"/>
            <a:chExt cx="609120" cy="388440"/>
          </a:xfrm>
        </p:grpSpPr>
        <p:sp>
          <p:nvSpPr>
            <p:cNvPr id="583" name=""/>
            <p:cNvSpPr/>
            <p:nvPr/>
          </p:nvSpPr>
          <p:spPr>
            <a:xfrm>
              <a:off x="581040" y="298692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81040" y="298692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81040" y="287820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90280" y="29098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90280" y="29098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73200" y="29869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73200" y="29869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4000" y="29044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4000" y="29044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83080" y="29941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83080" y="29941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96040" y="29138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96040" y="29138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78600" y="29905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78600" y="29905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7600" y="29098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7600" y="29098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86680" y="2998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86680" y="2998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807240" y="4886280"/>
            <a:ext cx="609120" cy="388800"/>
            <a:chOff x="6807240" y="4886280"/>
            <a:chExt cx="609120" cy="388800"/>
          </a:xfrm>
        </p:grpSpPr>
        <p:sp>
          <p:nvSpPr>
            <p:cNvPr id="603" name=""/>
            <p:cNvSpPr/>
            <p:nvPr/>
          </p:nvSpPr>
          <p:spPr>
            <a:xfrm>
              <a:off x="6807240" y="499536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07240" y="499536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07240" y="4886280"/>
              <a:ext cx="607680" cy="2120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116480" y="491796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116480" y="491796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899400" y="4995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899400" y="4995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910200" y="491256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910200" y="491256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109280" y="5002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109280" y="5002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22240" y="492192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122240" y="492192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904800" y="499860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904800" y="499860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913800" y="49179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913800" y="49179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112880" y="50061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112880" y="50061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6853320" y="3657600"/>
            <a:ext cx="609120" cy="388440"/>
            <a:chOff x="6853320" y="3657600"/>
            <a:chExt cx="609120" cy="388440"/>
          </a:xfrm>
        </p:grpSpPr>
        <p:sp>
          <p:nvSpPr>
            <p:cNvPr id="623" name=""/>
            <p:cNvSpPr/>
            <p:nvPr/>
          </p:nvSpPr>
          <p:spPr>
            <a:xfrm>
              <a:off x="6853320" y="376632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853320" y="376632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53320" y="365760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162560" y="36892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162560" y="36892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945480" y="37663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945480" y="37663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56280" y="36838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56280" y="36838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155360" y="3773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155360" y="3773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168320" y="36932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168320" y="36932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950880" y="37699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950880" y="37699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959880" y="36892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959880" y="36892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158960" y="37774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158960" y="37774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108920" y="4238640"/>
            <a:ext cx="609120" cy="388440"/>
            <a:chOff x="7108920" y="4238640"/>
            <a:chExt cx="609120" cy="388440"/>
          </a:xfrm>
        </p:grpSpPr>
        <p:sp>
          <p:nvSpPr>
            <p:cNvPr id="643" name=""/>
            <p:cNvSpPr/>
            <p:nvPr/>
          </p:nvSpPr>
          <p:spPr>
            <a:xfrm>
              <a:off x="7108920" y="434736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108920" y="434736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08920" y="423864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418160" y="42703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18160" y="42703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201080" y="4347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01080" y="4347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211880" y="42649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11880" y="42649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410960" y="4354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410960" y="4354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423920" y="42742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423920" y="42742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206480" y="43509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206480" y="43509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215480" y="42703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15480" y="42703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414560" y="4358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414560" y="4358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"/>
          <p:cNvSpPr/>
          <p:nvPr/>
        </p:nvSpPr>
        <p:spPr>
          <a:xfrm flipV="1">
            <a:off x="7604280" y="4066920"/>
            <a:ext cx="517320" cy="2235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620120" y="4367160"/>
            <a:ext cx="530280" cy="393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515360" y="4532400"/>
            <a:ext cx="635040" cy="90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448160" y="191304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675320" y="25876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386000" y="35352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336680" y="26337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792680" y="43671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986360" y="375120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50880" y="2673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954760" y="405612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726160" y="22399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0" y="5373720"/>
            <a:ext cx="79297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buClr>
                <a:srgbClr val="0000cc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MS PGothic"/>
              </a:rPr>
              <a:t>Link between CE3 and PE5 fai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204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MS PGothic"/>
              </a:rPr>
              <a:t>Traffic to backup tu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204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MS PGothic"/>
              </a:rPr>
              <a:t>Traffic merged into P2MP L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24"/>
          <a:stretch/>
        </p:blipFill>
        <p:spPr>
          <a:xfrm>
            <a:off x="8647200" y="390060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25"/>
          <a:stretch/>
        </p:blipFill>
        <p:spPr>
          <a:xfrm>
            <a:off x="8721720" y="463716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26"/>
          <a:stretch/>
        </p:blipFill>
        <p:spPr>
          <a:xfrm>
            <a:off x="8683560" y="5291280"/>
            <a:ext cx="277920" cy="26640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430200" y="518652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30200" y="4881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116000" y="4653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118520" y="50338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11991000">
            <a:off x="1599480" y="3428640"/>
            <a:ext cx="43164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979640" y="2205000"/>
            <a:ext cx="503280" cy="287280"/>
          </a:xfrm>
          <a:prstGeom prst="wedgeRoundRectCallout">
            <a:avLst>
              <a:gd name="adj1" fmla="val -50629"/>
              <a:gd name="adj2" fmla="val 40027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95280" y="981000"/>
            <a:ext cx="402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local protection for link to ingress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1476360" y="2852640"/>
            <a:ext cx="555480" cy="490320"/>
            <a:chOff x="1476360" y="2852640"/>
            <a:chExt cx="555480" cy="490320"/>
          </a:xfrm>
        </p:grpSpPr>
        <p:sp>
          <p:nvSpPr>
            <p:cNvPr id="686" name=""/>
            <p:cNvSpPr/>
            <p:nvPr/>
          </p:nvSpPr>
          <p:spPr>
            <a:xfrm>
              <a:off x="1476360" y="3106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476360" y="2944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478520" y="2944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495800" y="29588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476360" y="3013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476360" y="2854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78520" y="285264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495800" y="2866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75000" y="2926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566360" y="2917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4932360" y="3933720"/>
            <a:ext cx="555480" cy="490320"/>
            <a:chOff x="4932360" y="3933720"/>
            <a:chExt cx="555480" cy="490320"/>
          </a:xfrm>
        </p:grpSpPr>
        <p:sp>
          <p:nvSpPr>
            <p:cNvPr id="697" name=""/>
            <p:cNvSpPr/>
            <p:nvPr/>
          </p:nvSpPr>
          <p:spPr>
            <a:xfrm>
              <a:off x="4932360" y="418716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932360" y="40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934520" y="402552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951800" y="403992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32360" y="409500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932360" y="39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934520" y="393372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951800" y="394776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031000" y="400716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22360" y="399888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4859280" y="4581360"/>
            <a:ext cx="555840" cy="490320"/>
            <a:chOff x="4859280" y="4581360"/>
            <a:chExt cx="555840" cy="490320"/>
          </a:xfrm>
        </p:grpSpPr>
        <p:sp>
          <p:nvSpPr>
            <p:cNvPr id="708" name=""/>
            <p:cNvSpPr/>
            <p:nvPr/>
          </p:nvSpPr>
          <p:spPr>
            <a:xfrm>
              <a:off x="4859280" y="4834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859280" y="4673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61440" y="4673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78720" y="46875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59280" y="4742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59280" y="4583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861440" y="458136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878720" y="459540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957920" y="4654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949280" y="4646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4500720" y="2133720"/>
            <a:ext cx="555480" cy="490320"/>
            <a:chOff x="4500720" y="2133720"/>
            <a:chExt cx="555480" cy="490320"/>
          </a:xfrm>
        </p:grpSpPr>
        <p:sp>
          <p:nvSpPr>
            <p:cNvPr id="719" name=""/>
            <p:cNvSpPr/>
            <p:nvPr/>
          </p:nvSpPr>
          <p:spPr>
            <a:xfrm>
              <a:off x="4500720" y="238716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00720" y="22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502880" y="222552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20160" y="223992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00720" y="229500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500720" y="21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502880" y="213372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520160" y="21477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599360" y="220716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590720" y="219888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4643280" y="2781360"/>
            <a:ext cx="555840" cy="490320"/>
            <a:chOff x="4643280" y="2781360"/>
            <a:chExt cx="555840" cy="490320"/>
          </a:xfrm>
        </p:grpSpPr>
        <p:sp>
          <p:nvSpPr>
            <p:cNvPr id="730" name=""/>
            <p:cNvSpPr/>
            <p:nvPr/>
          </p:nvSpPr>
          <p:spPr>
            <a:xfrm>
              <a:off x="4643280" y="3034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643280" y="2873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45440" y="2873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62720" y="288756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643280" y="2942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643280" y="2783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645440" y="27813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62720" y="279540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741920" y="2854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733280" y="2846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"/>
          <p:cNvSpPr/>
          <p:nvPr/>
        </p:nvSpPr>
        <p:spPr>
          <a:xfrm flipV="1">
            <a:off x="4944960" y="2649240"/>
            <a:ext cx="866880" cy="33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910040" y="2360520"/>
            <a:ext cx="816120" cy="2304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5289480" y="4465800"/>
            <a:ext cx="8082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367240" y="4129200"/>
            <a:ext cx="623880" cy="2188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3059280" y="2781360"/>
            <a:ext cx="555480" cy="490320"/>
            <a:chOff x="3059280" y="2781360"/>
            <a:chExt cx="555480" cy="490320"/>
          </a:xfrm>
        </p:grpSpPr>
        <p:sp>
          <p:nvSpPr>
            <p:cNvPr id="745" name=""/>
            <p:cNvSpPr/>
            <p:nvPr/>
          </p:nvSpPr>
          <p:spPr>
            <a:xfrm>
              <a:off x="3059280" y="3034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059280" y="2873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061440" y="2873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078720" y="28875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059280" y="2942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059280" y="2783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61440" y="27813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78720" y="279540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157920" y="2854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149280" y="2846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3995640" y="4005360"/>
            <a:ext cx="555840" cy="490320"/>
            <a:chOff x="3995640" y="4005360"/>
            <a:chExt cx="555840" cy="490320"/>
          </a:xfrm>
        </p:grpSpPr>
        <p:sp>
          <p:nvSpPr>
            <p:cNvPr id="756" name=""/>
            <p:cNvSpPr/>
            <p:nvPr/>
          </p:nvSpPr>
          <p:spPr>
            <a:xfrm>
              <a:off x="3995640" y="4258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995640" y="4097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997800" y="4097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015080" y="411156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995640" y="4166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995640" y="4007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997800" y="40053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015080" y="401940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94280" y="4078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085640" y="4070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3780000" y="2492280"/>
            <a:ext cx="555480" cy="490320"/>
            <a:chOff x="3780000" y="2492280"/>
            <a:chExt cx="555480" cy="490320"/>
          </a:xfrm>
        </p:grpSpPr>
        <p:sp>
          <p:nvSpPr>
            <p:cNvPr id="767" name=""/>
            <p:cNvSpPr/>
            <p:nvPr/>
          </p:nvSpPr>
          <p:spPr>
            <a:xfrm>
              <a:off x="3780000" y="274572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80000" y="25840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782160" y="258408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799440" y="25984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780000" y="265356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780000" y="24940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782160" y="249228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799440" y="250632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878640" y="256572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870000" y="255744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2771640" y="2276640"/>
            <a:ext cx="555840" cy="490320"/>
            <a:chOff x="2771640" y="2276640"/>
            <a:chExt cx="555840" cy="490320"/>
          </a:xfrm>
        </p:grpSpPr>
        <p:sp>
          <p:nvSpPr>
            <p:cNvPr id="778" name=""/>
            <p:cNvSpPr/>
            <p:nvPr/>
          </p:nvSpPr>
          <p:spPr>
            <a:xfrm>
              <a:off x="2771640" y="253008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71640" y="236844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773800" y="236844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91080" y="238284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71640" y="243792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771640" y="227844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773800" y="227664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791080" y="229068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70280" y="235008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61640" y="234180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2340000" y="3284640"/>
            <a:ext cx="555480" cy="490320"/>
            <a:chOff x="2340000" y="3284640"/>
            <a:chExt cx="555480" cy="490320"/>
          </a:xfrm>
        </p:grpSpPr>
        <p:sp>
          <p:nvSpPr>
            <p:cNvPr id="789" name=""/>
            <p:cNvSpPr/>
            <p:nvPr/>
          </p:nvSpPr>
          <p:spPr>
            <a:xfrm>
              <a:off x="2340000" y="3538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340000" y="3376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342160" y="3376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359440" y="339084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340000" y="3445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340000" y="3286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342160" y="32846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359440" y="329868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438640" y="3358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430000" y="3349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3132000" y="3716280"/>
            <a:ext cx="555840" cy="490320"/>
            <a:chOff x="3132000" y="3716280"/>
            <a:chExt cx="555840" cy="490320"/>
          </a:xfrm>
        </p:grpSpPr>
        <p:sp>
          <p:nvSpPr>
            <p:cNvPr id="800" name=""/>
            <p:cNvSpPr/>
            <p:nvPr/>
          </p:nvSpPr>
          <p:spPr>
            <a:xfrm>
              <a:off x="3132000" y="3969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132000" y="38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134160" y="3808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51440" y="3822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132000" y="3877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132000" y="37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134160" y="3716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151440" y="3730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230640" y="3789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222000" y="3781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1547640" y="3716280"/>
            <a:ext cx="555840" cy="490320"/>
            <a:chOff x="1547640" y="3716280"/>
            <a:chExt cx="555840" cy="490320"/>
          </a:xfrm>
        </p:grpSpPr>
        <p:sp>
          <p:nvSpPr>
            <p:cNvPr id="811" name=""/>
            <p:cNvSpPr/>
            <p:nvPr/>
          </p:nvSpPr>
          <p:spPr>
            <a:xfrm>
              <a:off x="1547640" y="3969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547640" y="38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549800" y="3808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567080" y="3822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547640" y="3877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547640" y="37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549800" y="3716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567080" y="3730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646280" y="3789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637640" y="3781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2268360" y="3933720"/>
            <a:ext cx="555840" cy="490320"/>
            <a:chOff x="2268360" y="3933720"/>
            <a:chExt cx="555840" cy="490320"/>
          </a:xfrm>
        </p:grpSpPr>
        <p:sp>
          <p:nvSpPr>
            <p:cNvPr id="822" name=""/>
            <p:cNvSpPr/>
            <p:nvPr/>
          </p:nvSpPr>
          <p:spPr>
            <a:xfrm>
              <a:off x="2268360" y="418716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268360" y="4025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270520" y="40255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287800" y="40399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268360" y="409500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268360" y="3935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270520" y="393372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287800" y="39477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367000" y="400716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358360" y="399888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2" name=""/>
          <p:cNvSpPr/>
          <p:nvPr/>
        </p:nvSpPr>
        <p:spPr>
          <a:xfrm flipV="1">
            <a:off x="4240080" y="4090680"/>
            <a:ext cx="973440" cy="120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233960" y="4238640"/>
            <a:ext cx="841320" cy="460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064040" y="2739960"/>
            <a:ext cx="797040" cy="2318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4064040" y="2271240"/>
            <a:ext cx="797040" cy="4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3564000" y="2755800"/>
            <a:ext cx="528480" cy="168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635280" y="4076640"/>
            <a:ext cx="600120" cy="190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2652840" y="3034800"/>
            <a:ext cx="600120" cy="44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652840" y="3478320"/>
            <a:ext cx="600120" cy="40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2666880" y="2514600"/>
            <a:ext cx="3049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438280" y="3428640"/>
            <a:ext cx="228600" cy="6858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782720" y="3938760"/>
            <a:ext cx="731880" cy="1760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782720" y="3024360"/>
            <a:ext cx="870120" cy="45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62120" y="3048120"/>
            <a:ext cx="947520" cy="89064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66800" y="3059280"/>
            <a:ext cx="7808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rot="2395200">
            <a:off x="1142640" y="2819520"/>
            <a:ext cx="228600" cy="33156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762120" y="2666880"/>
            <a:ext cx="1736640" cy="180036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066680" y="2911320"/>
            <a:ext cx="714600" cy="898560"/>
          </a:xfrm>
          <a:custGeom>
            <a:avLst/>
            <a:gdLst/>
            <a:ahLst/>
            <a:rect l="l" t="t" r="r" b="b"/>
            <a:pathLst>
              <a:path w="450" h="566">
                <a:moveTo>
                  <a:pt x="0" y="0"/>
                </a:moveTo>
                <a:cubicBezTo>
                  <a:pt x="54" y="5"/>
                  <a:pt x="209" y="1"/>
                  <a:pt x="282" y="32"/>
                </a:cubicBezTo>
                <a:cubicBezTo>
                  <a:pt x="318" y="26"/>
                  <a:pt x="396" y="140"/>
                  <a:pt x="438" y="266"/>
                </a:cubicBezTo>
                <a:cubicBezTo>
                  <a:pt x="446" y="277"/>
                  <a:pt x="450" y="566"/>
                  <a:pt x="450" y="566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mph" presetID="14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6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0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000"/>
                            </p:stCondLst>
                            <p:childTnLst>
                              <p:par>
                                <p:cTn id="88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6178680" y="3913200"/>
            <a:ext cx="1509480" cy="121932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2"/>
          <a:stretch/>
        </p:blipFill>
        <p:spPr>
          <a:xfrm>
            <a:off x="65160" y="2909880"/>
            <a:ext cx="1271520" cy="121932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3"/>
          <a:stretch/>
        </p:blipFill>
        <p:spPr>
          <a:xfrm>
            <a:off x="1503360" y="2090880"/>
            <a:ext cx="4195800" cy="280188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4"/>
          <a:stretch/>
        </p:blipFill>
        <p:spPr>
          <a:xfrm>
            <a:off x="5925960" y="1928880"/>
            <a:ext cx="1814760" cy="1218960"/>
          </a:xfrm>
          <a:prstGeom prst="rect">
            <a:avLst/>
          </a:prstGeom>
          <a:ln w="0">
            <a:noFill/>
          </a:ln>
        </p:spPr>
      </p:pic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9154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宋体"/>
              </a:rPr>
              <a:t>P2MP LSP Ingress Local Protection</a:t>
            </a:r>
            <a:r>
              <a:rPr b="0" lang="en-US" sz="3500" spc="-1" strike="noStrike">
                <a:solidFill>
                  <a:srgbClr val="cc6600"/>
                </a:solidFill>
                <a:latin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(Anima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4" name=""/>
          <p:cNvGraphicFramePr/>
          <p:nvPr/>
        </p:nvGraphicFramePr>
        <p:xfrm>
          <a:off x="8028000" y="1844640"/>
          <a:ext cx="223920" cy="50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28000" y="1844640"/>
                    <a:ext cx="22392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6" name=""/>
          <p:cNvSpPr/>
          <p:nvPr/>
        </p:nvSpPr>
        <p:spPr>
          <a:xfrm>
            <a:off x="2796840" y="177948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7"/>
          <a:stretch/>
        </p:blipFill>
        <p:spPr>
          <a:xfrm>
            <a:off x="8505720" y="2386080"/>
            <a:ext cx="279360" cy="266760"/>
          </a:xfrm>
          <a:prstGeom prst="rect">
            <a:avLst/>
          </a:prstGeom>
          <a:ln w="0">
            <a:noFill/>
          </a:ln>
        </p:spPr>
      </p:pic>
      <p:grpSp>
        <p:nvGrpSpPr>
          <p:cNvPr id="858" name=""/>
          <p:cNvGrpSpPr/>
          <p:nvPr/>
        </p:nvGrpSpPr>
        <p:grpSpPr>
          <a:xfrm>
            <a:off x="5489640" y="2378160"/>
            <a:ext cx="609120" cy="388440"/>
            <a:chOff x="5489640" y="2378160"/>
            <a:chExt cx="609120" cy="388440"/>
          </a:xfrm>
        </p:grpSpPr>
        <p:sp>
          <p:nvSpPr>
            <p:cNvPr id="859" name=""/>
            <p:cNvSpPr/>
            <p:nvPr/>
          </p:nvSpPr>
          <p:spPr>
            <a:xfrm>
              <a:off x="5489640" y="248688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489640" y="248688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89640" y="237816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798880" y="240984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798880" y="240984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81800" y="248688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581800" y="248688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92600" y="24044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92600" y="24044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791680" y="2494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791680" y="2494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804640" y="24138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804640" y="24138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87200" y="249048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87200" y="249048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96200" y="24098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96200" y="24098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795280" y="2498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795280" y="2498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6996240" y="2824200"/>
            <a:ext cx="609120" cy="388440"/>
            <a:chOff x="6996240" y="2824200"/>
            <a:chExt cx="609120" cy="388440"/>
          </a:xfrm>
        </p:grpSpPr>
        <p:sp>
          <p:nvSpPr>
            <p:cNvPr id="879" name=""/>
            <p:cNvSpPr/>
            <p:nvPr/>
          </p:nvSpPr>
          <p:spPr>
            <a:xfrm>
              <a:off x="6996240" y="293292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996240" y="293292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996240" y="282420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05480" y="28558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305480" y="28558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088400" y="29329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088400" y="29329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099200" y="28504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099200" y="28504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298280" y="29401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298280" y="29401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311240" y="28598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311240" y="28598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093800" y="29365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093800" y="29365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102800" y="28558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102800" y="28558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301880" y="2944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301880" y="2944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6905520" y="1795320"/>
            <a:ext cx="609480" cy="390240"/>
            <a:chOff x="6905520" y="1795320"/>
            <a:chExt cx="609480" cy="390240"/>
          </a:xfrm>
        </p:grpSpPr>
        <p:sp>
          <p:nvSpPr>
            <p:cNvPr id="899" name=""/>
            <p:cNvSpPr/>
            <p:nvPr/>
          </p:nvSpPr>
          <p:spPr>
            <a:xfrm>
              <a:off x="6905520" y="1904760"/>
              <a:ext cx="609480" cy="2808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05520" y="190476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05520" y="1795320"/>
              <a:ext cx="60804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214760" y="182736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214760" y="182736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997680" y="1904760"/>
              <a:ext cx="2008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997680" y="1904760"/>
              <a:ext cx="2008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008480" y="18216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008480" y="18216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207560" y="191196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207560" y="191196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220520" y="18309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220520" y="18309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003080" y="1908000"/>
              <a:ext cx="19872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003080" y="1908000"/>
              <a:ext cx="19872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012440" y="18273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012440" y="18273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211520" y="191592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211520" y="191592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5954760" y="4238640"/>
            <a:ext cx="609120" cy="388440"/>
            <a:chOff x="5954760" y="4238640"/>
            <a:chExt cx="609120" cy="388440"/>
          </a:xfrm>
        </p:grpSpPr>
        <p:sp>
          <p:nvSpPr>
            <p:cNvPr id="919" name=""/>
            <p:cNvSpPr/>
            <p:nvPr/>
          </p:nvSpPr>
          <p:spPr>
            <a:xfrm>
              <a:off x="5954760" y="434736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954760" y="434736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954760" y="423864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264000" y="42703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264000" y="42703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046920" y="4347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46920" y="4347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057720" y="42649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057720" y="42649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256800" y="4354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256800" y="4354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269760" y="42742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269760" y="42742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052320" y="43509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052320" y="43509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061320" y="42703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061320" y="42703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260400" y="4358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260400" y="4358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8" name="" descr=""/>
          <p:cNvPicPr/>
          <p:nvPr/>
        </p:nvPicPr>
        <p:blipFill>
          <a:blip r:embed="rId8"/>
          <a:stretch/>
        </p:blipFill>
        <p:spPr>
          <a:xfrm>
            <a:off x="8569440" y="1265400"/>
            <a:ext cx="279360" cy="26640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9"/>
          <a:stretch/>
        </p:blipFill>
        <p:spPr>
          <a:xfrm>
            <a:off x="8720280" y="1973160"/>
            <a:ext cx="277560" cy="266760"/>
          </a:xfrm>
          <a:prstGeom prst="rect">
            <a:avLst/>
          </a:prstGeom>
          <a:ln w="0">
            <a:noFill/>
          </a:ln>
        </p:spPr>
      </p:pic>
      <p:pic>
        <p:nvPicPr>
          <p:cNvPr id="940" name="" descr=""/>
          <p:cNvPicPr/>
          <p:nvPr/>
        </p:nvPicPr>
        <p:blipFill>
          <a:blip r:embed="rId10"/>
          <a:stretch/>
        </p:blipFill>
        <p:spPr>
          <a:xfrm>
            <a:off x="8802720" y="28051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941" name="" descr=""/>
          <p:cNvPicPr/>
          <p:nvPr/>
        </p:nvPicPr>
        <p:blipFill>
          <a:blip r:embed="rId11"/>
          <a:stretch/>
        </p:blipFill>
        <p:spPr>
          <a:xfrm>
            <a:off x="8505720" y="32623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942" name="" descr=""/>
          <p:cNvPicPr/>
          <p:nvPr/>
        </p:nvPicPr>
        <p:blipFill>
          <a:blip r:embed="rId12"/>
          <a:stretch/>
        </p:blipFill>
        <p:spPr>
          <a:xfrm>
            <a:off x="8440560" y="1627200"/>
            <a:ext cx="279720" cy="26676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 flipV="1">
            <a:off x="8088480" y="1389240"/>
            <a:ext cx="48096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7391520" y="1398240"/>
            <a:ext cx="484200" cy="4604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8199360" y="2139480"/>
            <a:ext cx="5209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462800" y="2008080"/>
            <a:ext cx="576360" cy="1317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7" name=""/>
          <p:cNvGraphicFramePr/>
          <p:nvPr/>
        </p:nvGraphicFramePr>
        <p:xfrm>
          <a:off x="8101080" y="2637000"/>
          <a:ext cx="269640" cy="579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4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101080" y="2637000"/>
                    <a:ext cx="26964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9" name=""/>
          <p:cNvGraphicFramePr/>
          <p:nvPr/>
        </p:nvGraphicFramePr>
        <p:xfrm>
          <a:off x="7824960" y="1081080"/>
          <a:ext cx="287280" cy="633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5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824960" y="1081080"/>
                    <a:ext cx="287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1" name=""/>
          <p:cNvGraphicFramePr/>
          <p:nvPr/>
        </p:nvGraphicFramePr>
        <p:xfrm>
          <a:off x="8123400" y="5121360"/>
          <a:ext cx="288720" cy="633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5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123400" y="5121360"/>
                    <a:ext cx="28872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3" name=""/>
          <p:cNvGraphicFramePr/>
          <p:nvPr/>
        </p:nvGraphicFramePr>
        <p:xfrm>
          <a:off x="8123400" y="3710160"/>
          <a:ext cx="288720" cy="631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5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123400" y="3710160"/>
                    <a:ext cx="2887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5" name=""/>
          <p:cNvGraphicFramePr/>
          <p:nvPr/>
        </p:nvGraphicFramePr>
        <p:xfrm>
          <a:off x="8123400" y="4433760"/>
          <a:ext cx="288720" cy="633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5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123400" y="4433760"/>
                    <a:ext cx="28872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7" name=""/>
          <p:cNvSpPr/>
          <p:nvPr/>
        </p:nvSpPr>
        <p:spPr>
          <a:xfrm flipV="1">
            <a:off x="7564320" y="298728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8396280" y="4028760"/>
            <a:ext cx="528480" cy="46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8380440" y="5424480"/>
            <a:ext cx="50796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8264520" y="2935440"/>
            <a:ext cx="55548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8337600" y="4776840"/>
            <a:ext cx="485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23"/>
          <a:stretch/>
        </p:blipFill>
        <p:spPr>
          <a:xfrm>
            <a:off x="69840" y="3240000"/>
            <a:ext cx="619200" cy="536760"/>
          </a:xfrm>
          <a:prstGeom prst="rect">
            <a:avLst/>
          </a:prstGeom>
          <a:ln w="0">
            <a:noFill/>
          </a:ln>
        </p:spPr>
      </p:pic>
      <p:sp>
        <p:nvSpPr>
          <p:cNvPr id="964" name=""/>
          <p:cNvSpPr/>
          <p:nvPr/>
        </p:nvSpPr>
        <p:spPr>
          <a:xfrm>
            <a:off x="52920" y="182232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603200" y="47160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Rece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073160" y="2782800"/>
            <a:ext cx="1573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986360" y="1893960"/>
            <a:ext cx="912960" cy="258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986360" y="2101680"/>
            <a:ext cx="825480" cy="247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rot="967200">
            <a:off x="5093280" y="184608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RPF Che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rot="967200">
            <a:off x="5047200" y="205560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IM Jo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rot="967200">
            <a:off x="4860000" y="2271600"/>
            <a:ext cx="790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rot="967200">
            <a:off x="5329800" y="402876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581040" y="2878200"/>
            <a:ext cx="609120" cy="388440"/>
            <a:chOff x="581040" y="2878200"/>
            <a:chExt cx="609120" cy="388440"/>
          </a:xfrm>
        </p:grpSpPr>
        <p:sp>
          <p:nvSpPr>
            <p:cNvPr id="974" name=""/>
            <p:cNvSpPr/>
            <p:nvPr/>
          </p:nvSpPr>
          <p:spPr>
            <a:xfrm>
              <a:off x="581040" y="298692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81040" y="298692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81040" y="287820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90280" y="29098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90280" y="29098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73200" y="29869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73200" y="29869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84000" y="29044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84000" y="29044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83080" y="29941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83080" y="29941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96040" y="29138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96040" y="29138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78600" y="29905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78600" y="29905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87600" y="29098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87600" y="29098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86680" y="2998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86680" y="2998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6807240" y="4886280"/>
            <a:ext cx="609120" cy="388800"/>
            <a:chOff x="6807240" y="4886280"/>
            <a:chExt cx="609120" cy="388800"/>
          </a:xfrm>
        </p:grpSpPr>
        <p:sp>
          <p:nvSpPr>
            <p:cNvPr id="994" name=""/>
            <p:cNvSpPr/>
            <p:nvPr/>
          </p:nvSpPr>
          <p:spPr>
            <a:xfrm>
              <a:off x="6807240" y="499536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807240" y="499536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807240" y="4886280"/>
              <a:ext cx="607680" cy="2120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116480" y="491796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116480" y="491796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899400" y="4995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899400" y="4995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910200" y="491256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910200" y="491256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109280" y="5002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109280" y="5002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122240" y="492192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122240" y="492192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904800" y="499860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904800" y="499860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913800" y="49179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913800" y="49179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112880" y="50061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12880" y="50061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6853320" y="3657600"/>
            <a:ext cx="609120" cy="388440"/>
            <a:chOff x="6853320" y="3657600"/>
            <a:chExt cx="609120" cy="388440"/>
          </a:xfrm>
        </p:grpSpPr>
        <p:sp>
          <p:nvSpPr>
            <p:cNvPr id="1014" name=""/>
            <p:cNvSpPr/>
            <p:nvPr/>
          </p:nvSpPr>
          <p:spPr>
            <a:xfrm>
              <a:off x="6853320" y="376632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53320" y="376632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853320" y="365760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162560" y="36892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162560" y="36892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945480" y="37663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945480" y="37663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956280" y="36838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956280" y="36838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155360" y="3773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155360" y="3773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168320" y="36932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168320" y="36932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50880" y="37699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950880" y="37699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959880" y="36892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959880" y="36892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158960" y="37774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158960" y="37774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7108920" y="4238640"/>
            <a:ext cx="609120" cy="388440"/>
            <a:chOff x="7108920" y="4238640"/>
            <a:chExt cx="609120" cy="388440"/>
          </a:xfrm>
        </p:grpSpPr>
        <p:sp>
          <p:nvSpPr>
            <p:cNvPr id="1034" name=""/>
            <p:cNvSpPr/>
            <p:nvPr/>
          </p:nvSpPr>
          <p:spPr>
            <a:xfrm>
              <a:off x="7108920" y="434736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108920" y="434736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108920" y="423864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418160" y="42703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418160" y="42703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201080" y="4347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201080" y="43473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211880" y="42649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211880" y="42649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410960" y="4354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410960" y="43545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423920" y="42742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423920" y="42742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206480" y="43509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206480" y="43509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215480" y="42703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215480" y="42703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414560" y="4358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414560" y="43585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 flipV="1">
            <a:off x="7604280" y="4066920"/>
            <a:ext cx="517320" cy="2235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620120" y="4367160"/>
            <a:ext cx="530280" cy="393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7515360" y="4532400"/>
            <a:ext cx="635040" cy="90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448160" y="191304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675320" y="25876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386000" y="35352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1336680" y="26337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792680" y="43671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986360" y="375120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50880" y="2673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954760" y="405612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726160" y="22399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0" y="5373720"/>
            <a:ext cx="79297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buClr>
                <a:srgbClr val="0000cc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MS PGothic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MS PGothic"/>
              </a:rPr>
              <a:t>CE3 fai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204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MS PGothic"/>
              </a:rPr>
              <a:t>Traffic to backup tu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204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MS PGothic"/>
              </a:rPr>
              <a:t>Traffic merged into P2MP L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" descr=""/>
          <p:cNvPicPr/>
          <p:nvPr/>
        </p:nvPicPr>
        <p:blipFill>
          <a:blip r:embed="rId24"/>
          <a:stretch/>
        </p:blipFill>
        <p:spPr>
          <a:xfrm>
            <a:off x="8647200" y="390060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067" name="" descr=""/>
          <p:cNvPicPr/>
          <p:nvPr/>
        </p:nvPicPr>
        <p:blipFill>
          <a:blip r:embed="rId25"/>
          <a:stretch/>
        </p:blipFill>
        <p:spPr>
          <a:xfrm>
            <a:off x="8721720" y="463716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1068" name="" descr=""/>
          <p:cNvPicPr/>
          <p:nvPr/>
        </p:nvPicPr>
        <p:blipFill>
          <a:blip r:embed="rId26"/>
          <a:stretch/>
        </p:blipFill>
        <p:spPr>
          <a:xfrm>
            <a:off x="8683560" y="5291280"/>
            <a:ext cx="277920" cy="266400"/>
          </a:xfrm>
          <a:prstGeom prst="rect">
            <a:avLst/>
          </a:prstGeom>
          <a:ln w="0">
            <a:noFill/>
          </a:ln>
        </p:spPr>
      </p:pic>
      <p:sp>
        <p:nvSpPr>
          <p:cNvPr id="1069" name=""/>
          <p:cNvSpPr/>
          <p:nvPr/>
        </p:nvSpPr>
        <p:spPr>
          <a:xfrm>
            <a:off x="430200" y="518652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30200" y="4881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116000" y="4653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118520" y="50338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rot="11991000">
            <a:off x="1599480" y="3428640"/>
            <a:ext cx="43164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979640" y="2205000"/>
            <a:ext cx="503280" cy="287280"/>
          </a:xfrm>
          <a:prstGeom prst="wedgeRoundRectCallout">
            <a:avLst>
              <a:gd name="adj1" fmla="val -50629"/>
              <a:gd name="adj2" fmla="val 40027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95280" y="981000"/>
            <a:ext cx="39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local protection for CE to ingress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1476360" y="2852640"/>
            <a:ext cx="555480" cy="490320"/>
            <a:chOff x="1476360" y="2852640"/>
            <a:chExt cx="555480" cy="490320"/>
          </a:xfrm>
        </p:grpSpPr>
        <p:sp>
          <p:nvSpPr>
            <p:cNvPr id="1077" name=""/>
            <p:cNvSpPr/>
            <p:nvPr/>
          </p:nvSpPr>
          <p:spPr>
            <a:xfrm>
              <a:off x="1476360" y="3106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476360" y="2944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478520" y="2944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495800" y="29588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476360" y="3013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476360" y="2854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478520" y="285264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495800" y="2866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575000" y="2926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566360" y="2917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4932360" y="3933720"/>
            <a:ext cx="555480" cy="490320"/>
            <a:chOff x="4932360" y="3933720"/>
            <a:chExt cx="555480" cy="490320"/>
          </a:xfrm>
        </p:grpSpPr>
        <p:sp>
          <p:nvSpPr>
            <p:cNvPr id="1088" name=""/>
            <p:cNvSpPr/>
            <p:nvPr/>
          </p:nvSpPr>
          <p:spPr>
            <a:xfrm>
              <a:off x="4932360" y="418716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932360" y="40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934520" y="402552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951800" y="403992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932360" y="409500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932360" y="39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934520" y="393372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951800" y="394776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031000" y="400716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022360" y="399888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4859280" y="4581360"/>
            <a:ext cx="555840" cy="490320"/>
            <a:chOff x="4859280" y="4581360"/>
            <a:chExt cx="555840" cy="490320"/>
          </a:xfrm>
        </p:grpSpPr>
        <p:sp>
          <p:nvSpPr>
            <p:cNvPr id="1099" name=""/>
            <p:cNvSpPr/>
            <p:nvPr/>
          </p:nvSpPr>
          <p:spPr>
            <a:xfrm>
              <a:off x="4859280" y="4834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859280" y="4673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861440" y="4673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878720" y="46875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59280" y="4742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859280" y="4583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861440" y="458136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878720" y="459540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957920" y="4654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949280" y="4646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4500720" y="2133720"/>
            <a:ext cx="555480" cy="490320"/>
            <a:chOff x="4500720" y="2133720"/>
            <a:chExt cx="555480" cy="490320"/>
          </a:xfrm>
        </p:grpSpPr>
        <p:sp>
          <p:nvSpPr>
            <p:cNvPr id="1110" name=""/>
            <p:cNvSpPr/>
            <p:nvPr/>
          </p:nvSpPr>
          <p:spPr>
            <a:xfrm>
              <a:off x="4500720" y="238716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500720" y="22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502880" y="222552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520160" y="223992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500720" y="229500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500720" y="21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502880" y="213372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520160" y="21477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599360" y="220716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590720" y="219888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4643280" y="2781360"/>
            <a:ext cx="555840" cy="490320"/>
            <a:chOff x="4643280" y="2781360"/>
            <a:chExt cx="555840" cy="490320"/>
          </a:xfrm>
        </p:grpSpPr>
        <p:sp>
          <p:nvSpPr>
            <p:cNvPr id="1121" name=""/>
            <p:cNvSpPr/>
            <p:nvPr/>
          </p:nvSpPr>
          <p:spPr>
            <a:xfrm>
              <a:off x="4643280" y="3034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643280" y="2873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645440" y="2873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662720" y="288756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643280" y="2942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643280" y="2783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645440" y="27813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662720" y="279540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741920" y="2854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733280" y="2846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"/>
          <p:cNvSpPr/>
          <p:nvPr/>
        </p:nvSpPr>
        <p:spPr>
          <a:xfrm flipV="1">
            <a:off x="4944960" y="2649240"/>
            <a:ext cx="866880" cy="33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910040" y="2360520"/>
            <a:ext cx="816120" cy="2304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5289480" y="4465800"/>
            <a:ext cx="8082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367240" y="4129200"/>
            <a:ext cx="623880" cy="2188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3059280" y="2781360"/>
            <a:ext cx="555480" cy="490320"/>
            <a:chOff x="3059280" y="2781360"/>
            <a:chExt cx="555480" cy="490320"/>
          </a:xfrm>
        </p:grpSpPr>
        <p:sp>
          <p:nvSpPr>
            <p:cNvPr id="1136" name=""/>
            <p:cNvSpPr/>
            <p:nvPr/>
          </p:nvSpPr>
          <p:spPr>
            <a:xfrm>
              <a:off x="3059280" y="3034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059280" y="2873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061440" y="2873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078720" y="28875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059280" y="2942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059280" y="2783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061440" y="27813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078720" y="279540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157920" y="2854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149280" y="2846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6" name=""/>
          <p:cNvGrpSpPr/>
          <p:nvPr/>
        </p:nvGrpSpPr>
        <p:grpSpPr>
          <a:xfrm>
            <a:off x="3995640" y="4005360"/>
            <a:ext cx="555840" cy="490320"/>
            <a:chOff x="3995640" y="4005360"/>
            <a:chExt cx="555840" cy="490320"/>
          </a:xfrm>
        </p:grpSpPr>
        <p:sp>
          <p:nvSpPr>
            <p:cNvPr id="1147" name=""/>
            <p:cNvSpPr/>
            <p:nvPr/>
          </p:nvSpPr>
          <p:spPr>
            <a:xfrm>
              <a:off x="3995640" y="4258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995640" y="4097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997800" y="4097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015080" y="411156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995640" y="4166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995640" y="4007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997800" y="40053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015080" y="401940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094280" y="4078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085640" y="4070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3780000" y="2492280"/>
            <a:ext cx="555480" cy="490320"/>
            <a:chOff x="3780000" y="2492280"/>
            <a:chExt cx="555480" cy="490320"/>
          </a:xfrm>
        </p:grpSpPr>
        <p:sp>
          <p:nvSpPr>
            <p:cNvPr id="1158" name=""/>
            <p:cNvSpPr/>
            <p:nvPr/>
          </p:nvSpPr>
          <p:spPr>
            <a:xfrm>
              <a:off x="3780000" y="274572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780000" y="25840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782160" y="258408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799440" y="25984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80000" y="265356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780000" y="24940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782160" y="249228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799440" y="250632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78640" y="256572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70000" y="255744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2771640" y="2276640"/>
            <a:ext cx="555840" cy="490320"/>
            <a:chOff x="2771640" y="2276640"/>
            <a:chExt cx="555840" cy="490320"/>
          </a:xfrm>
        </p:grpSpPr>
        <p:sp>
          <p:nvSpPr>
            <p:cNvPr id="1169" name=""/>
            <p:cNvSpPr/>
            <p:nvPr/>
          </p:nvSpPr>
          <p:spPr>
            <a:xfrm>
              <a:off x="2771640" y="253008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771640" y="236844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773800" y="236844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791080" y="238284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771640" y="243792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771640" y="227844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773800" y="227664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791080" y="229068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870280" y="235008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861640" y="234180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2340000" y="3284640"/>
            <a:ext cx="555480" cy="490320"/>
            <a:chOff x="2340000" y="3284640"/>
            <a:chExt cx="555480" cy="490320"/>
          </a:xfrm>
        </p:grpSpPr>
        <p:sp>
          <p:nvSpPr>
            <p:cNvPr id="1180" name=""/>
            <p:cNvSpPr/>
            <p:nvPr/>
          </p:nvSpPr>
          <p:spPr>
            <a:xfrm>
              <a:off x="2340000" y="3538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340000" y="3376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342160" y="3376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359440" y="339084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340000" y="3445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340000" y="3286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342160" y="32846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359440" y="329868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438640" y="3358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430000" y="3349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3132000" y="3716280"/>
            <a:ext cx="555840" cy="490320"/>
            <a:chOff x="3132000" y="3716280"/>
            <a:chExt cx="555840" cy="490320"/>
          </a:xfrm>
        </p:grpSpPr>
        <p:sp>
          <p:nvSpPr>
            <p:cNvPr id="1191" name=""/>
            <p:cNvSpPr/>
            <p:nvPr/>
          </p:nvSpPr>
          <p:spPr>
            <a:xfrm>
              <a:off x="3132000" y="3969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132000" y="38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134160" y="3808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151440" y="3822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132000" y="3877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132000" y="37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134160" y="3716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151440" y="3730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230640" y="3789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222000" y="3781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1547640" y="3716280"/>
            <a:ext cx="555840" cy="490320"/>
            <a:chOff x="1547640" y="3716280"/>
            <a:chExt cx="555840" cy="490320"/>
          </a:xfrm>
        </p:grpSpPr>
        <p:sp>
          <p:nvSpPr>
            <p:cNvPr id="1202" name=""/>
            <p:cNvSpPr/>
            <p:nvPr/>
          </p:nvSpPr>
          <p:spPr>
            <a:xfrm>
              <a:off x="1547640" y="3969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547640" y="38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549800" y="3808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567080" y="3822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547640" y="3877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547640" y="37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549800" y="3716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567080" y="3730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646280" y="3789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637640" y="3781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2268360" y="3933720"/>
            <a:ext cx="555840" cy="490320"/>
            <a:chOff x="2268360" y="3933720"/>
            <a:chExt cx="555840" cy="490320"/>
          </a:xfrm>
        </p:grpSpPr>
        <p:sp>
          <p:nvSpPr>
            <p:cNvPr id="1213" name=""/>
            <p:cNvSpPr/>
            <p:nvPr/>
          </p:nvSpPr>
          <p:spPr>
            <a:xfrm>
              <a:off x="2268360" y="418716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268360" y="4025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270520" y="40255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287800" y="40399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268360" y="409500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268360" y="3935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270520" y="393372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287800" y="39477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367000" y="400716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358360" y="399888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3" name=""/>
          <p:cNvSpPr/>
          <p:nvPr/>
        </p:nvSpPr>
        <p:spPr>
          <a:xfrm flipV="1">
            <a:off x="4240080" y="4090680"/>
            <a:ext cx="973440" cy="120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233960" y="4238640"/>
            <a:ext cx="841320" cy="460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064040" y="2739960"/>
            <a:ext cx="797040" cy="2318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4064040" y="2271240"/>
            <a:ext cx="797040" cy="4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3564000" y="2755800"/>
            <a:ext cx="528480" cy="168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3635280" y="4076640"/>
            <a:ext cx="600120" cy="190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2652840" y="3034800"/>
            <a:ext cx="600120" cy="44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652840" y="3478320"/>
            <a:ext cx="600120" cy="40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2666880" y="2514600"/>
            <a:ext cx="3049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2438280" y="3428640"/>
            <a:ext cx="228600" cy="6858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782720" y="3938760"/>
            <a:ext cx="731880" cy="1760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782720" y="3024360"/>
            <a:ext cx="870120" cy="45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766800" y="3059280"/>
            <a:ext cx="7808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rot="2395200">
            <a:off x="762120" y="2895480"/>
            <a:ext cx="228600" cy="3319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066680" y="2911320"/>
            <a:ext cx="714600" cy="898560"/>
          </a:xfrm>
          <a:custGeom>
            <a:avLst/>
            <a:gdLst/>
            <a:ahLst/>
            <a:rect l="l" t="t" r="r" b="b"/>
            <a:pathLst>
              <a:path w="450" h="566">
                <a:moveTo>
                  <a:pt x="0" y="0"/>
                </a:moveTo>
                <a:cubicBezTo>
                  <a:pt x="54" y="5"/>
                  <a:pt x="209" y="1"/>
                  <a:pt x="282" y="32"/>
                </a:cubicBezTo>
                <a:cubicBezTo>
                  <a:pt x="318" y="26"/>
                  <a:pt x="396" y="140"/>
                  <a:pt x="438" y="266"/>
                </a:cubicBezTo>
                <a:cubicBezTo>
                  <a:pt x="446" y="277"/>
                  <a:pt x="450" y="566"/>
                  <a:pt x="450" y="566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609480" y="3733920"/>
            <a:ext cx="609480" cy="389520"/>
            <a:chOff x="609480" y="3733920"/>
            <a:chExt cx="609480" cy="389520"/>
          </a:xfrm>
        </p:grpSpPr>
        <p:sp>
          <p:nvSpPr>
            <p:cNvPr id="1239" name=""/>
            <p:cNvSpPr/>
            <p:nvPr/>
          </p:nvSpPr>
          <p:spPr>
            <a:xfrm>
              <a:off x="609480" y="3843000"/>
              <a:ext cx="609480" cy="28044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09480" y="384300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09480" y="3733920"/>
              <a:ext cx="60804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18720" y="376596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918720" y="376596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01640" y="3843000"/>
              <a:ext cx="2008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01640" y="3843000"/>
              <a:ext cx="2008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12440" y="37602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12440" y="37602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911520" y="385056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911520" y="385056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924480" y="37695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924480" y="37695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07040" y="3846600"/>
              <a:ext cx="19872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07040" y="3846600"/>
              <a:ext cx="19872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16400" y="37659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16400" y="37659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915480" y="385416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915480" y="385416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8" name=""/>
          <p:cNvSpPr/>
          <p:nvPr/>
        </p:nvSpPr>
        <p:spPr>
          <a:xfrm>
            <a:off x="655560" y="356724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990720" y="3886200"/>
            <a:ext cx="60948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762120" y="2590920"/>
            <a:ext cx="1676160" cy="198108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mph" presetID="14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1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2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4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5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" descr=""/>
          <p:cNvPicPr/>
          <p:nvPr/>
        </p:nvPicPr>
        <p:blipFill>
          <a:blip r:embed="rId1"/>
          <a:stretch/>
        </p:blipFill>
        <p:spPr>
          <a:xfrm>
            <a:off x="6219720" y="4167360"/>
            <a:ext cx="1509840" cy="1218960"/>
          </a:xfrm>
          <a:prstGeom prst="rect">
            <a:avLst/>
          </a:prstGeom>
          <a:ln w="0">
            <a:noFill/>
          </a:ln>
        </p:spPr>
      </p:pic>
      <p:pic>
        <p:nvPicPr>
          <p:cNvPr id="1262" name="" descr=""/>
          <p:cNvPicPr/>
          <p:nvPr/>
        </p:nvPicPr>
        <p:blipFill>
          <a:blip r:embed="rId2"/>
          <a:stretch/>
        </p:blipFill>
        <p:spPr>
          <a:xfrm>
            <a:off x="106200" y="3165480"/>
            <a:ext cx="1271880" cy="1219320"/>
          </a:xfrm>
          <a:prstGeom prst="rect">
            <a:avLst/>
          </a:prstGeom>
          <a:ln w="0">
            <a:noFill/>
          </a:ln>
        </p:spPr>
      </p:pic>
      <p:pic>
        <p:nvPicPr>
          <p:cNvPr id="1263" name="" descr=""/>
          <p:cNvPicPr/>
          <p:nvPr/>
        </p:nvPicPr>
        <p:blipFill>
          <a:blip r:embed="rId3"/>
          <a:stretch/>
        </p:blipFill>
        <p:spPr>
          <a:xfrm>
            <a:off x="1544760" y="2346480"/>
            <a:ext cx="4194000" cy="2801880"/>
          </a:xfrm>
          <a:prstGeom prst="rect">
            <a:avLst/>
          </a:prstGeom>
          <a:ln w="0">
            <a:noFill/>
          </a:ln>
        </p:spPr>
      </p:pic>
      <p:pic>
        <p:nvPicPr>
          <p:cNvPr id="1264" name="" descr=""/>
          <p:cNvPicPr/>
          <p:nvPr/>
        </p:nvPicPr>
        <p:blipFill>
          <a:blip r:embed="rId4"/>
          <a:stretch/>
        </p:blipFill>
        <p:spPr>
          <a:xfrm>
            <a:off x="5965920" y="2182680"/>
            <a:ext cx="1814400" cy="1219320"/>
          </a:xfrm>
          <a:prstGeom prst="rect">
            <a:avLst/>
          </a:prstGeom>
          <a:ln w="0">
            <a:noFill/>
          </a:ln>
        </p:spPr>
      </p:pic>
      <p:sp>
        <p:nvSpPr>
          <p:cNvPr id="1265" name=""/>
          <p:cNvSpPr/>
          <p:nvPr/>
        </p:nvSpPr>
        <p:spPr>
          <a:xfrm>
            <a:off x="4483080" y="1643040"/>
            <a:ext cx="1776600" cy="208908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</a:rPr>
              <a:t>P2MP LSP Egress </a:t>
            </a:r>
            <a:r>
              <a:rPr b="0" lang="zh-CN" sz="3500" spc="-1" strike="noStrike">
                <a:solidFill>
                  <a:srgbClr val="0000cc"/>
                </a:solidFill>
                <a:latin typeface="宋体"/>
              </a:rPr>
              <a:t>Local</a:t>
            </a:r>
            <a:r>
              <a:rPr b="0" lang="zh-CN" sz="3500" spc="-1" strike="noStrike">
                <a:solidFill>
                  <a:srgbClr val="000000"/>
                </a:solidFill>
                <a:latin typeface="宋体"/>
              </a:rPr>
              <a:t> Protecti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(Anima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8028000" y="2133720"/>
          <a:ext cx="235080" cy="55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28000" y="2133720"/>
                    <a:ext cx="2350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9" name=""/>
          <p:cNvSpPr/>
          <p:nvPr/>
        </p:nvSpPr>
        <p:spPr>
          <a:xfrm>
            <a:off x="622440" y="0"/>
            <a:ext cx="8064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838240" y="203364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1" name="" descr=""/>
          <p:cNvPicPr/>
          <p:nvPr/>
        </p:nvPicPr>
        <p:blipFill>
          <a:blip r:embed="rId7"/>
          <a:stretch/>
        </p:blipFill>
        <p:spPr>
          <a:xfrm>
            <a:off x="8547120" y="2641680"/>
            <a:ext cx="277920" cy="266760"/>
          </a:xfrm>
          <a:prstGeom prst="rect">
            <a:avLst/>
          </a:prstGeom>
          <a:ln w="0">
            <a:noFill/>
          </a:ln>
        </p:spPr>
      </p:pic>
      <p:grpSp>
        <p:nvGrpSpPr>
          <p:cNvPr id="1272" name=""/>
          <p:cNvGrpSpPr/>
          <p:nvPr/>
        </p:nvGrpSpPr>
        <p:grpSpPr>
          <a:xfrm>
            <a:off x="5530680" y="2633760"/>
            <a:ext cx="609480" cy="388440"/>
            <a:chOff x="5530680" y="2633760"/>
            <a:chExt cx="609480" cy="388440"/>
          </a:xfrm>
        </p:grpSpPr>
        <p:sp>
          <p:nvSpPr>
            <p:cNvPr id="1273" name=""/>
            <p:cNvSpPr/>
            <p:nvPr/>
          </p:nvSpPr>
          <p:spPr>
            <a:xfrm>
              <a:off x="5530680" y="2742480"/>
              <a:ext cx="6094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530680" y="274248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530680" y="2633760"/>
              <a:ext cx="60804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839920" y="266544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839920" y="266544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622840" y="27424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622840" y="27424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633640" y="26600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633640" y="26600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832720" y="2749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832720" y="2749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845680" y="26694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845680" y="26694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628240" y="274608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628240" y="274608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637600" y="26654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637600" y="26654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836680" y="275364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836680" y="275364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7037280" y="3078000"/>
            <a:ext cx="609480" cy="388800"/>
            <a:chOff x="7037280" y="3078000"/>
            <a:chExt cx="609480" cy="388800"/>
          </a:xfrm>
        </p:grpSpPr>
        <p:sp>
          <p:nvSpPr>
            <p:cNvPr id="1293" name=""/>
            <p:cNvSpPr/>
            <p:nvPr/>
          </p:nvSpPr>
          <p:spPr>
            <a:xfrm>
              <a:off x="7037280" y="3187080"/>
              <a:ext cx="6094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037280" y="318708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037280" y="3078000"/>
              <a:ext cx="608040" cy="2120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346520" y="310968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346520" y="310968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129440" y="31870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129440" y="31870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140240" y="310428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140240" y="310428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339320" y="31942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339320" y="31942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352280" y="311364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352280" y="311364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134840" y="319032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134840" y="319032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144200" y="31096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144200" y="31096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343280" y="31978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343280" y="31978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2" name=""/>
          <p:cNvGrpSpPr/>
          <p:nvPr/>
        </p:nvGrpSpPr>
        <p:grpSpPr>
          <a:xfrm>
            <a:off x="6946920" y="2050920"/>
            <a:ext cx="609120" cy="388800"/>
            <a:chOff x="6946920" y="2050920"/>
            <a:chExt cx="609120" cy="388800"/>
          </a:xfrm>
        </p:grpSpPr>
        <p:sp>
          <p:nvSpPr>
            <p:cNvPr id="1313" name=""/>
            <p:cNvSpPr/>
            <p:nvPr/>
          </p:nvSpPr>
          <p:spPr>
            <a:xfrm>
              <a:off x="6946920" y="216000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946920" y="216000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946920" y="2050920"/>
              <a:ext cx="607680" cy="2120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256160" y="20826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256160" y="20826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039080" y="216000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039080" y="216000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049880" y="20772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049880" y="20772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248960" y="21672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248960" y="21672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261920" y="20865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261920" y="20865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044480" y="216324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044480" y="216324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053480" y="20826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053480" y="20826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52560" y="21708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52560" y="21708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5996160" y="4492800"/>
            <a:ext cx="609120" cy="388440"/>
            <a:chOff x="5996160" y="4492800"/>
            <a:chExt cx="609120" cy="388440"/>
          </a:xfrm>
        </p:grpSpPr>
        <p:sp>
          <p:nvSpPr>
            <p:cNvPr id="1333" name=""/>
            <p:cNvSpPr/>
            <p:nvPr/>
          </p:nvSpPr>
          <p:spPr>
            <a:xfrm>
              <a:off x="5996160" y="460152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996160" y="460152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996160" y="449280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05400" y="45244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05400" y="45244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088320" y="46015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088320" y="46015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099120" y="45190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099120" y="45190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298200" y="46087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298200" y="46087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11160" y="45284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11160" y="45284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093720" y="46051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093720" y="46051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102720" y="4524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102720" y="4524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01800" y="46126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01800" y="46126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2" name="" descr=""/>
          <p:cNvPicPr/>
          <p:nvPr/>
        </p:nvPicPr>
        <p:blipFill>
          <a:blip r:embed="rId8"/>
          <a:stretch/>
        </p:blipFill>
        <p:spPr>
          <a:xfrm>
            <a:off x="8610480" y="151920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353" name="" descr=""/>
          <p:cNvPicPr/>
          <p:nvPr/>
        </p:nvPicPr>
        <p:blipFill>
          <a:blip r:embed="rId9"/>
          <a:stretch/>
        </p:blipFill>
        <p:spPr>
          <a:xfrm>
            <a:off x="8759880" y="22273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354" name="" descr=""/>
          <p:cNvPicPr/>
          <p:nvPr/>
        </p:nvPicPr>
        <p:blipFill>
          <a:blip r:embed="rId10"/>
          <a:stretch/>
        </p:blipFill>
        <p:spPr>
          <a:xfrm>
            <a:off x="8547120" y="3516480"/>
            <a:ext cx="277920" cy="26640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11"/>
          <a:stretch/>
        </p:blipFill>
        <p:spPr>
          <a:xfrm>
            <a:off x="8481960" y="1881360"/>
            <a:ext cx="277920" cy="266400"/>
          </a:xfrm>
          <a:prstGeom prst="rect">
            <a:avLst/>
          </a:prstGeom>
          <a:ln w="0">
            <a:noFill/>
          </a:ln>
        </p:spPr>
      </p:pic>
      <p:sp>
        <p:nvSpPr>
          <p:cNvPr id="1356" name=""/>
          <p:cNvSpPr/>
          <p:nvPr/>
        </p:nvSpPr>
        <p:spPr>
          <a:xfrm flipV="1">
            <a:off x="8129520" y="1642680"/>
            <a:ext cx="480960" cy="176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7432560" y="1652760"/>
            <a:ext cx="482760" cy="4600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8240760" y="239508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7504200" y="2262240"/>
            <a:ext cx="576000" cy="1332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0" name=""/>
          <p:cNvGraphicFramePr/>
          <p:nvPr/>
        </p:nvGraphicFramePr>
        <p:xfrm>
          <a:off x="8028000" y="2924280"/>
          <a:ext cx="270000" cy="576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6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028000" y="2924280"/>
                    <a:ext cx="2700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2" name=""/>
          <p:cNvGraphicFramePr/>
          <p:nvPr/>
        </p:nvGraphicFramePr>
        <p:xfrm>
          <a:off x="7866000" y="1336680"/>
          <a:ext cx="287280" cy="631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6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866000" y="1336680"/>
                    <a:ext cx="2872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4" name=""/>
          <p:cNvGraphicFramePr/>
          <p:nvPr/>
        </p:nvGraphicFramePr>
        <p:xfrm>
          <a:off x="8164440" y="5376960"/>
          <a:ext cx="289080" cy="631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6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164440" y="5376960"/>
                    <a:ext cx="2890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6" name=""/>
          <p:cNvGraphicFramePr/>
          <p:nvPr/>
        </p:nvGraphicFramePr>
        <p:xfrm>
          <a:off x="8164440" y="3963960"/>
          <a:ext cx="289080" cy="6318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36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8164440" y="3963960"/>
                    <a:ext cx="2890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8" name=""/>
          <p:cNvGraphicFramePr/>
          <p:nvPr/>
        </p:nvGraphicFramePr>
        <p:xfrm>
          <a:off x="8164440" y="4689360"/>
          <a:ext cx="289080" cy="6318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36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8164440" y="4689360"/>
                    <a:ext cx="2890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0" name=""/>
          <p:cNvSpPr/>
          <p:nvPr/>
        </p:nvSpPr>
        <p:spPr>
          <a:xfrm flipV="1">
            <a:off x="7605720" y="324288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8435880" y="4282920"/>
            <a:ext cx="530280" cy="50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8421840" y="5678640"/>
            <a:ext cx="50796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8304120" y="3188880"/>
            <a:ext cx="55728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8379000" y="5032440"/>
            <a:ext cx="4838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6" name="" descr=""/>
          <p:cNvPicPr/>
          <p:nvPr/>
        </p:nvPicPr>
        <p:blipFill>
          <a:blip r:embed="rId22"/>
          <a:stretch/>
        </p:blipFill>
        <p:spPr>
          <a:xfrm>
            <a:off x="0" y="3511440"/>
            <a:ext cx="619200" cy="538200"/>
          </a:xfrm>
          <a:prstGeom prst="rect">
            <a:avLst/>
          </a:prstGeom>
          <a:ln w="0">
            <a:noFill/>
          </a:ln>
        </p:spPr>
      </p:pic>
      <p:sp>
        <p:nvSpPr>
          <p:cNvPr id="1377" name=""/>
          <p:cNvSpPr/>
          <p:nvPr/>
        </p:nvSpPr>
        <p:spPr>
          <a:xfrm>
            <a:off x="94320" y="207648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7643520" y="72540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Rece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1114560" y="3036960"/>
            <a:ext cx="1569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089680" y="2563920"/>
            <a:ext cx="80640" cy="257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622440" y="3132000"/>
            <a:ext cx="607680" cy="388800"/>
            <a:chOff x="622440" y="3132000"/>
            <a:chExt cx="607680" cy="388800"/>
          </a:xfrm>
        </p:grpSpPr>
        <p:sp>
          <p:nvSpPr>
            <p:cNvPr id="1382" name=""/>
            <p:cNvSpPr/>
            <p:nvPr/>
          </p:nvSpPr>
          <p:spPr>
            <a:xfrm>
              <a:off x="622440" y="3241080"/>
              <a:ext cx="6076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22440" y="3241080"/>
              <a:ext cx="607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22440" y="3132000"/>
              <a:ext cx="606240" cy="2120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930960" y="31636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930960" y="31636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14240" y="324108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14240" y="324108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25040" y="3158280"/>
              <a:ext cx="19836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25040" y="3158280"/>
              <a:ext cx="19836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923760" y="32482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923760" y="32482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936720" y="3167640"/>
              <a:ext cx="19584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936720" y="3167640"/>
              <a:ext cx="19584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19640" y="324432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19640" y="324432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29000" y="31636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29000" y="31636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927360" y="32518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927360" y="32518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817560" y="3956040"/>
            <a:ext cx="609120" cy="388440"/>
            <a:chOff x="817560" y="3956040"/>
            <a:chExt cx="609120" cy="388440"/>
          </a:xfrm>
        </p:grpSpPr>
        <p:sp>
          <p:nvSpPr>
            <p:cNvPr id="1402" name=""/>
            <p:cNvSpPr/>
            <p:nvPr/>
          </p:nvSpPr>
          <p:spPr>
            <a:xfrm>
              <a:off x="817560" y="406476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817560" y="406476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817560" y="395604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126800" y="39877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126800" y="39877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909720" y="40647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909720" y="40647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920520" y="39823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920520" y="39823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119600" y="40719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119600" y="40719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132560" y="39916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132560" y="39916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5120" y="40683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915120" y="40683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924120" y="39877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924120" y="39877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23200" y="40759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123200" y="40759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"/>
          <p:cNvGrpSpPr/>
          <p:nvPr/>
        </p:nvGrpSpPr>
        <p:grpSpPr>
          <a:xfrm>
            <a:off x="6848640" y="5140440"/>
            <a:ext cx="607320" cy="388440"/>
            <a:chOff x="6848640" y="5140440"/>
            <a:chExt cx="607320" cy="388440"/>
          </a:xfrm>
        </p:grpSpPr>
        <p:sp>
          <p:nvSpPr>
            <p:cNvPr id="1422" name=""/>
            <p:cNvSpPr/>
            <p:nvPr/>
          </p:nvSpPr>
          <p:spPr>
            <a:xfrm>
              <a:off x="6848640" y="5249160"/>
              <a:ext cx="6073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848640" y="5249160"/>
              <a:ext cx="6073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848640" y="5140440"/>
              <a:ext cx="6058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156800" y="517212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156800" y="517212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940440" y="524916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940440" y="524916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951240" y="516672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951240" y="516672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149600" y="525636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149600" y="525636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162560" y="517608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162560" y="517608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945840" y="525276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945840" y="525276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954840" y="517212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954840" y="517212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153560" y="526032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153560" y="526032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1" name=""/>
          <p:cNvGrpSpPr/>
          <p:nvPr/>
        </p:nvGrpSpPr>
        <p:grpSpPr>
          <a:xfrm>
            <a:off x="6894360" y="3911760"/>
            <a:ext cx="609480" cy="388440"/>
            <a:chOff x="6894360" y="3911760"/>
            <a:chExt cx="609480" cy="388440"/>
          </a:xfrm>
        </p:grpSpPr>
        <p:sp>
          <p:nvSpPr>
            <p:cNvPr id="1442" name=""/>
            <p:cNvSpPr/>
            <p:nvPr/>
          </p:nvSpPr>
          <p:spPr>
            <a:xfrm>
              <a:off x="6894360" y="4020480"/>
              <a:ext cx="6094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894360" y="402048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894360" y="3911760"/>
              <a:ext cx="60804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203600" y="394344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203600" y="394344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986520" y="40204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986520" y="40204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997320" y="39380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997320" y="39380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196400" y="4027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196400" y="4027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209360" y="39474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209360" y="39474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991920" y="402408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991920" y="402408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001280" y="39434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001280" y="39434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200360" y="403164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200360" y="403164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7149960" y="4492800"/>
            <a:ext cx="609480" cy="388440"/>
            <a:chOff x="7149960" y="4492800"/>
            <a:chExt cx="609480" cy="388440"/>
          </a:xfrm>
        </p:grpSpPr>
        <p:sp>
          <p:nvSpPr>
            <p:cNvPr id="1462" name=""/>
            <p:cNvSpPr/>
            <p:nvPr/>
          </p:nvSpPr>
          <p:spPr>
            <a:xfrm>
              <a:off x="7149960" y="4601520"/>
              <a:ext cx="6094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149960" y="460152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149960" y="4492800"/>
              <a:ext cx="60804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459200" y="452448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459200" y="452448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242120" y="460152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242120" y="460152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252920" y="45190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252920" y="45190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452000" y="460872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452000" y="460872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464960" y="45284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464960" y="45284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247520" y="460512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247520" y="460512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256880" y="4524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256880" y="4524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455960" y="4612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455960" y="4612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1" name=""/>
          <p:cNvSpPr/>
          <p:nvPr/>
        </p:nvSpPr>
        <p:spPr>
          <a:xfrm flipV="1">
            <a:off x="7645320" y="4321080"/>
            <a:ext cx="515880" cy="225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7661160" y="4621320"/>
            <a:ext cx="530280" cy="3934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7556400" y="4786200"/>
            <a:ext cx="635040" cy="9082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4489560" y="216684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MS PGothic"/>
              </a:rPr>
              <a:t>P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788000" y="2997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MS PGothic"/>
              </a:rPr>
              <a:t>P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427040" y="3789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MS PGothic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378080" y="28875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MS PGothic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4834080" y="46213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MS PGothic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5027760" y="4005360"/>
            <a:ext cx="53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MS PGothic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863640" y="37879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690480" y="292896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996160" y="4309920"/>
            <a:ext cx="53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5765760" y="249408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1843200" y="3279600"/>
            <a:ext cx="0" cy="9241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4984920" y="2563920"/>
            <a:ext cx="83808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4848120" y="278604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(S,G)Jo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5170320" y="3004920"/>
            <a:ext cx="185760" cy="285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50920" y="5445000"/>
            <a:ext cx="638964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100" spc="-1" strike="noStrike">
                <a:solidFill>
                  <a:srgbClr val="808080"/>
                </a:solidFill>
                <a:latin typeface="FrutigerNext LT BlackCn"/>
                <a:ea typeface="MS PGothic"/>
              </a:rPr>
              <a:t>When primary egress PE1 fail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FrutigerNext LT BlackCn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FrutigerNext LT BlackCn"/>
                <a:ea typeface="MS PGothic"/>
              </a:rPr>
              <a:t>Traffic to backup tunnel to PE2 (backup egres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FrutigerNext LT BlackCn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FrutigerNext LT BlackCn"/>
                <a:ea typeface="MS PGothic"/>
              </a:rPr>
              <a:t>Traffic delivered to CE1 from PE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9" name="" descr=""/>
          <p:cNvPicPr/>
          <p:nvPr/>
        </p:nvPicPr>
        <p:blipFill>
          <a:blip r:embed="rId23"/>
          <a:stretch/>
        </p:blipFill>
        <p:spPr>
          <a:xfrm>
            <a:off x="8675640" y="306864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1500" name="" descr=""/>
          <p:cNvPicPr/>
          <p:nvPr/>
        </p:nvPicPr>
        <p:blipFill>
          <a:blip r:embed="rId24"/>
          <a:stretch/>
        </p:blipFill>
        <p:spPr>
          <a:xfrm>
            <a:off x="8688240" y="4154400"/>
            <a:ext cx="279720" cy="266760"/>
          </a:xfrm>
          <a:prstGeom prst="rect">
            <a:avLst/>
          </a:prstGeom>
          <a:ln w="0">
            <a:noFill/>
          </a:ln>
        </p:spPr>
      </p:pic>
      <p:pic>
        <p:nvPicPr>
          <p:cNvPr id="1501" name="" descr=""/>
          <p:cNvPicPr/>
          <p:nvPr/>
        </p:nvPicPr>
        <p:blipFill>
          <a:blip r:embed="rId25"/>
          <a:stretch/>
        </p:blipFill>
        <p:spPr>
          <a:xfrm>
            <a:off x="8761320" y="489096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502" name="" descr=""/>
          <p:cNvPicPr/>
          <p:nvPr/>
        </p:nvPicPr>
        <p:blipFill>
          <a:blip r:embed="rId26"/>
          <a:stretch/>
        </p:blipFill>
        <p:spPr>
          <a:xfrm>
            <a:off x="8723160" y="5545080"/>
            <a:ext cx="279720" cy="266760"/>
          </a:xfrm>
          <a:prstGeom prst="rect">
            <a:avLst/>
          </a:prstGeom>
          <a:ln w="0">
            <a:noFill/>
          </a:ln>
        </p:spPr>
      </p:pic>
      <p:sp>
        <p:nvSpPr>
          <p:cNvPr id="1503" name=""/>
          <p:cNvSpPr/>
          <p:nvPr/>
        </p:nvSpPr>
        <p:spPr>
          <a:xfrm rot="14059200">
            <a:off x="4047120" y="2505240"/>
            <a:ext cx="43164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3564000" y="1628640"/>
            <a:ext cx="647640" cy="360360"/>
          </a:xfrm>
          <a:prstGeom prst="wedgeRoundRectCallout">
            <a:avLst>
              <a:gd name="adj1" fmla="val 40194"/>
              <a:gd name="adj2" fmla="val 16013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397512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755640" y="3141720"/>
            <a:ext cx="181080" cy="18108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755640" y="3357720"/>
            <a:ext cx="181080" cy="18072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82560" y="2852640"/>
            <a:ext cx="181080" cy="18108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324000" y="98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FrutigerNext LT Regular"/>
              </a:rPr>
              <a:t>Local protection for egress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0" name=""/>
          <p:cNvGrpSpPr/>
          <p:nvPr/>
        </p:nvGrpSpPr>
        <p:grpSpPr>
          <a:xfrm>
            <a:off x="2627280" y="2565360"/>
            <a:ext cx="555480" cy="490320"/>
            <a:chOff x="2627280" y="2565360"/>
            <a:chExt cx="555480" cy="490320"/>
          </a:xfrm>
        </p:grpSpPr>
        <p:sp>
          <p:nvSpPr>
            <p:cNvPr id="1511" name=""/>
            <p:cNvSpPr/>
            <p:nvPr/>
          </p:nvSpPr>
          <p:spPr>
            <a:xfrm>
              <a:off x="2627280" y="2818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627280" y="2657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629440" y="2657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646720" y="267156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627280" y="2726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627280" y="2567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629440" y="256536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646720" y="25794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725920" y="2638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717280" y="2630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3059280" y="2997360"/>
            <a:ext cx="555480" cy="490320"/>
            <a:chOff x="3059280" y="2997360"/>
            <a:chExt cx="555480" cy="490320"/>
          </a:xfrm>
        </p:grpSpPr>
        <p:sp>
          <p:nvSpPr>
            <p:cNvPr id="1522" name=""/>
            <p:cNvSpPr/>
            <p:nvPr/>
          </p:nvSpPr>
          <p:spPr>
            <a:xfrm>
              <a:off x="3059280" y="3250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059280" y="3089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061440" y="3089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078720" y="31035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059280" y="3158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059280" y="2999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061440" y="29973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078720" y="301140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157920" y="3070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149280" y="3062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"/>
          <p:cNvGrpSpPr/>
          <p:nvPr/>
        </p:nvGrpSpPr>
        <p:grpSpPr>
          <a:xfrm>
            <a:off x="4572000" y="2349360"/>
            <a:ext cx="555480" cy="490320"/>
            <a:chOff x="4572000" y="2349360"/>
            <a:chExt cx="555480" cy="490320"/>
          </a:xfrm>
        </p:grpSpPr>
        <p:sp>
          <p:nvSpPr>
            <p:cNvPr id="1533" name=""/>
            <p:cNvSpPr/>
            <p:nvPr/>
          </p:nvSpPr>
          <p:spPr>
            <a:xfrm>
              <a:off x="4572000" y="2602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572000" y="2441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574160" y="2441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591440" y="245556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572000" y="2510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572000" y="2351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574160" y="234936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591440" y="23634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670640" y="2422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662000" y="2414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780000" y="2781360"/>
            <a:ext cx="555480" cy="490320"/>
            <a:chOff x="3780000" y="2781360"/>
            <a:chExt cx="555480" cy="490320"/>
          </a:xfrm>
        </p:grpSpPr>
        <p:sp>
          <p:nvSpPr>
            <p:cNvPr id="1544" name=""/>
            <p:cNvSpPr/>
            <p:nvPr/>
          </p:nvSpPr>
          <p:spPr>
            <a:xfrm>
              <a:off x="3780000" y="3034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780000" y="2873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782160" y="2873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799440" y="28875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780000" y="2942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780000" y="2783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782160" y="27813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799440" y="279540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878640" y="2854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870000" y="2846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"/>
          <p:cNvGrpSpPr/>
          <p:nvPr/>
        </p:nvGrpSpPr>
        <p:grpSpPr>
          <a:xfrm>
            <a:off x="4643280" y="3141720"/>
            <a:ext cx="555840" cy="490320"/>
            <a:chOff x="4643280" y="3141720"/>
            <a:chExt cx="555840" cy="490320"/>
          </a:xfrm>
        </p:grpSpPr>
        <p:sp>
          <p:nvSpPr>
            <p:cNvPr id="1555" name=""/>
            <p:cNvSpPr/>
            <p:nvPr/>
          </p:nvSpPr>
          <p:spPr>
            <a:xfrm>
              <a:off x="4643280" y="339516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643280" y="3233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645440" y="32335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662720" y="324792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643280" y="330300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643280" y="3143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645440" y="31417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662720" y="315576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741920" y="321516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733280" y="320688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5003640" y="4149720"/>
            <a:ext cx="555840" cy="490320"/>
            <a:chOff x="5003640" y="4149720"/>
            <a:chExt cx="555840" cy="490320"/>
          </a:xfrm>
        </p:grpSpPr>
        <p:sp>
          <p:nvSpPr>
            <p:cNvPr id="1566" name=""/>
            <p:cNvSpPr/>
            <p:nvPr/>
          </p:nvSpPr>
          <p:spPr>
            <a:xfrm>
              <a:off x="5003640" y="440316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003640" y="4241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005800" y="42415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023080" y="42559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003640" y="431100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003640" y="4151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005800" y="414972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023080" y="41637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102280" y="422316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093640" y="421488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"/>
          <p:cNvGrpSpPr/>
          <p:nvPr/>
        </p:nvGrpSpPr>
        <p:grpSpPr>
          <a:xfrm>
            <a:off x="4932360" y="4797360"/>
            <a:ext cx="555480" cy="490320"/>
            <a:chOff x="4932360" y="4797360"/>
            <a:chExt cx="555480" cy="490320"/>
          </a:xfrm>
        </p:grpSpPr>
        <p:sp>
          <p:nvSpPr>
            <p:cNvPr id="1577" name=""/>
            <p:cNvSpPr/>
            <p:nvPr/>
          </p:nvSpPr>
          <p:spPr>
            <a:xfrm>
              <a:off x="4932360" y="5050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932360" y="4889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934520" y="4889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951800" y="490356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932360" y="4958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932360" y="4799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934520" y="479736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951800" y="48114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031000" y="4870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022360" y="4862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3924360" y="4221000"/>
            <a:ext cx="555480" cy="490320"/>
            <a:chOff x="3924360" y="4221000"/>
            <a:chExt cx="555480" cy="490320"/>
          </a:xfrm>
        </p:grpSpPr>
        <p:sp>
          <p:nvSpPr>
            <p:cNvPr id="1588" name=""/>
            <p:cNvSpPr/>
            <p:nvPr/>
          </p:nvSpPr>
          <p:spPr>
            <a:xfrm>
              <a:off x="3924360" y="447444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924360" y="43128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926520" y="431280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943800" y="43272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924360" y="438228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924360" y="42228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926520" y="422100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943800" y="42350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023000" y="429444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014360" y="428616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3203640" y="3933720"/>
            <a:ext cx="555480" cy="490320"/>
            <a:chOff x="3203640" y="3933720"/>
            <a:chExt cx="555480" cy="490320"/>
          </a:xfrm>
        </p:grpSpPr>
        <p:sp>
          <p:nvSpPr>
            <p:cNvPr id="1599" name=""/>
            <p:cNvSpPr/>
            <p:nvPr/>
          </p:nvSpPr>
          <p:spPr>
            <a:xfrm>
              <a:off x="3203640" y="418716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203640" y="40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205800" y="402552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223080" y="403992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203640" y="409500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203640" y="39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205800" y="393372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223080" y="394776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302280" y="400716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293640" y="399888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2411280" y="3500280"/>
            <a:ext cx="555840" cy="490320"/>
            <a:chOff x="2411280" y="3500280"/>
            <a:chExt cx="555840" cy="490320"/>
          </a:xfrm>
        </p:grpSpPr>
        <p:sp>
          <p:nvSpPr>
            <p:cNvPr id="1610" name=""/>
            <p:cNvSpPr/>
            <p:nvPr/>
          </p:nvSpPr>
          <p:spPr>
            <a:xfrm>
              <a:off x="2411280" y="3753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411280" y="3592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413440" y="3592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430720" y="3606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411280" y="3661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411280" y="3502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413440" y="3500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430720" y="3514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509920" y="3573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501280" y="3565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"/>
          <p:cNvGrpSpPr/>
          <p:nvPr/>
        </p:nvGrpSpPr>
        <p:grpSpPr>
          <a:xfrm>
            <a:off x="2411280" y="4365720"/>
            <a:ext cx="555840" cy="490320"/>
            <a:chOff x="2411280" y="4365720"/>
            <a:chExt cx="555840" cy="490320"/>
          </a:xfrm>
        </p:grpSpPr>
        <p:sp>
          <p:nvSpPr>
            <p:cNvPr id="1621" name=""/>
            <p:cNvSpPr/>
            <p:nvPr/>
          </p:nvSpPr>
          <p:spPr>
            <a:xfrm>
              <a:off x="2411280" y="461916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411280" y="4457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413440" y="44575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430720" y="447192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411280" y="452700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411280" y="4367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413440" y="43657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430720" y="437976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509920" y="443916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501280" y="443088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1" name=""/>
          <p:cNvGrpSpPr/>
          <p:nvPr/>
        </p:nvGrpSpPr>
        <p:grpSpPr>
          <a:xfrm>
            <a:off x="1619280" y="4005360"/>
            <a:ext cx="555480" cy="490320"/>
            <a:chOff x="1619280" y="4005360"/>
            <a:chExt cx="555480" cy="490320"/>
          </a:xfrm>
        </p:grpSpPr>
        <p:sp>
          <p:nvSpPr>
            <p:cNvPr id="1632" name=""/>
            <p:cNvSpPr/>
            <p:nvPr/>
          </p:nvSpPr>
          <p:spPr>
            <a:xfrm>
              <a:off x="1619280" y="4258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619280" y="4097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621440" y="4097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638720" y="41115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619280" y="4166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619280" y="4007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621440" y="40053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638720" y="401940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717920" y="4078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709280" y="4070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1476360" y="3068640"/>
            <a:ext cx="555480" cy="490320"/>
            <a:chOff x="1476360" y="3068640"/>
            <a:chExt cx="555480" cy="490320"/>
          </a:xfrm>
        </p:grpSpPr>
        <p:sp>
          <p:nvSpPr>
            <p:cNvPr id="1643" name=""/>
            <p:cNvSpPr/>
            <p:nvPr/>
          </p:nvSpPr>
          <p:spPr>
            <a:xfrm>
              <a:off x="1476360" y="3322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476360" y="3160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478520" y="3160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495800" y="31748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476360" y="3229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476360" y="3070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478520" y="306864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495800" y="3082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575000" y="3142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566360" y="3133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3" name=""/>
          <p:cNvSpPr/>
          <p:nvPr/>
        </p:nvSpPr>
        <p:spPr>
          <a:xfrm>
            <a:off x="808200" y="3313080"/>
            <a:ext cx="7808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1114560" y="4192560"/>
            <a:ext cx="63648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1822320" y="3279600"/>
            <a:ext cx="871560" cy="452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1822320" y="4192560"/>
            <a:ext cx="804960" cy="38880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 flipV="1">
            <a:off x="2627280" y="3715920"/>
            <a:ext cx="73080" cy="86508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 flipV="1">
            <a:off x="2627280" y="2852640"/>
            <a:ext cx="216000" cy="843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2693880" y="3732120"/>
            <a:ext cx="798480" cy="417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 flipV="1">
            <a:off x="2693880" y="3141720"/>
            <a:ext cx="654120" cy="59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3348000" y="2997000"/>
            <a:ext cx="79236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3492360" y="4149720"/>
            <a:ext cx="816120" cy="333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4281480" y="4344840"/>
            <a:ext cx="973080" cy="120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4273560" y="4492800"/>
            <a:ext cx="843120" cy="460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flipV="1">
            <a:off x="5330880" y="4719600"/>
            <a:ext cx="8078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5332320" y="4452840"/>
            <a:ext cx="77148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 rot="967200">
            <a:off x="5509080" y="4204800"/>
            <a:ext cx="79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5427720" y="4329000"/>
            <a:ext cx="792000" cy="2174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 flipV="1">
            <a:off x="5035680" y="2914200"/>
            <a:ext cx="809640" cy="41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 rot="967200">
            <a:off x="5169240" y="2366640"/>
            <a:ext cx="509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4984920" y="2440080"/>
            <a:ext cx="860400" cy="26676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 flipV="1">
            <a:off x="4067280" y="2527200"/>
            <a:ext cx="833400" cy="470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4105440" y="2995560"/>
            <a:ext cx="795240" cy="230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rot="2395200">
            <a:off x="4787640" y="2276640"/>
            <a:ext cx="228600" cy="33156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430200" y="5186520"/>
            <a:ext cx="685800" cy="0"/>
          </a:xfrm>
          <a:prstGeom prst="line">
            <a:avLst/>
          </a:prstGeom>
          <a:ln w="38160">
            <a:solidFill>
              <a:srgbClr val="cc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430200" y="4881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1116000" y="4653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1118520" y="50338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 rot="21268800">
            <a:off x="4038120" y="2514600"/>
            <a:ext cx="609840" cy="318960"/>
          </a:xfrm>
          <a:custGeom>
            <a:avLst/>
            <a:gdLst/>
            <a:ahLst/>
            <a:rect l="l" t="t" r="r" b="b"/>
            <a:pathLst>
              <a:path w="512" h="248">
                <a:moveTo>
                  <a:pt x="0" y="248"/>
                </a:moveTo>
                <a:cubicBezTo>
                  <a:pt x="85" y="207"/>
                  <a:pt x="427" y="41"/>
                  <a:pt x="512" y="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59 0.04768 C 0.02257 0.04768 0.08715 0.04745 0.10555 0.04722 C 0.12396 0.04699 0.09739 0.03472 0.11597 0.04583 C 0.13455 0.05694 0.18733 0.11527 0.21684 0.11389 C 0.24653 0.1125 0.25208 0.06898 0.29305 0.0375 C 0.33403 0.00602 0.41753 -0.06343 0.46285 -0.075 C 0.50781 -0.08658 0.54323 -0.04144 0.56423 -0.03264 E">
                                      <p:cBhvr>
                                        <p:cTn id="142" dur="2000" fill="hold"/>
                                        <p:tgtEl>
                                          <p:spTgt spid="1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19 0.02176 C 0.01285 0.02106 0.05417 0.00902 0.08664 0.01898 C 0.1191 0.02893 0.1599 0.08217 0.19289 0.08148 C 0.2257 0.08078 0.2573 0.03356 0.28455 0.01481 C 0.31181 -0.00394 0.329 -0.03195 0.35643 -0.03102 C 0.38386 -0.0301 0.41823 0.02291 0.44914 0.02037 C 0.48004 0.01782 0.52257 -0.03241 0.54185 -0.0463 E">
                                      <p:cBhvr>
                                        <p:cTn id="149" dur="2000" fill="hold"/>
                                        <p:tgtEl>
                                          <p:spTgt spid="1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evt="end">
                                        <p:tn val="148"/>
                                      </p:cond>
                                    </p:stCondLst>
                                  </p:cTn>
                                  <p:tgtEl>
                                    <p:spTgt spid="15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5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54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" descr=""/>
          <p:cNvPicPr/>
          <p:nvPr/>
        </p:nvPicPr>
        <p:blipFill>
          <a:blip r:embed="rId1"/>
          <a:stretch/>
        </p:blipFill>
        <p:spPr>
          <a:xfrm>
            <a:off x="6219720" y="4167360"/>
            <a:ext cx="1509840" cy="1218960"/>
          </a:xfrm>
          <a:prstGeom prst="rect">
            <a:avLst/>
          </a:prstGeom>
          <a:ln w="0">
            <a:noFill/>
          </a:ln>
        </p:spPr>
      </p:pic>
      <p:pic>
        <p:nvPicPr>
          <p:cNvPr id="1681" name="" descr=""/>
          <p:cNvPicPr/>
          <p:nvPr/>
        </p:nvPicPr>
        <p:blipFill>
          <a:blip r:embed="rId2"/>
          <a:stretch/>
        </p:blipFill>
        <p:spPr>
          <a:xfrm>
            <a:off x="106200" y="3165480"/>
            <a:ext cx="1271880" cy="1219320"/>
          </a:xfrm>
          <a:prstGeom prst="rect">
            <a:avLst/>
          </a:prstGeom>
          <a:ln w="0">
            <a:noFill/>
          </a:ln>
        </p:spPr>
      </p:pic>
      <p:pic>
        <p:nvPicPr>
          <p:cNvPr id="1682" name="" descr=""/>
          <p:cNvPicPr/>
          <p:nvPr/>
        </p:nvPicPr>
        <p:blipFill>
          <a:blip r:embed="rId3"/>
          <a:stretch/>
        </p:blipFill>
        <p:spPr>
          <a:xfrm>
            <a:off x="1544760" y="2346480"/>
            <a:ext cx="4194000" cy="2801880"/>
          </a:xfrm>
          <a:prstGeom prst="rect">
            <a:avLst/>
          </a:prstGeom>
          <a:ln w="0">
            <a:noFill/>
          </a:ln>
        </p:spPr>
      </p:pic>
      <p:pic>
        <p:nvPicPr>
          <p:cNvPr id="1683" name="" descr=""/>
          <p:cNvPicPr/>
          <p:nvPr/>
        </p:nvPicPr>
        <p:blipFill>
          <a:blip r:embed="rId4"/>
          <a:stretch/>
        </p:blipFill>
        <p:spPr>
          <a:xfrm>
            <a:off x="5965920" y="2182680"/>
            <a:ext cx="1814400" cy="1219320"/>
          </a:xfrm>
          <a:prstGeom prst="rect">
            <a:avLst/>
          </a:prstGeom>
          <a:ln w="0">
            <a:noFill/>
          </a:ln>
        </p:spPr>
      </p:pic>
      <p:sp>
        <p:nvSpPr>
          <p:cNvPr id="1684" name=""/>
          <p:cNvSpPr/>
          <p:nvPr/>
        </p:nvSpPr>
        <p:spPr>
          <a:xfrm>
            <a:off x="4483080" y="1643040"/>
            <a:ext cx="1776600" cy="208908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</a:rPr>
              <a:t>P2MP LSP Egress </a:t>
            </a:r>
            <a:r>
              <a:rPr b="0" lang="zh-CN" sz="3500" spc="-1" strike="noStrike">
                <a:solidFill>
                  <a:srgbClr val="0000cc"/>
                </a:solidFill>
                <a:latin typeface="宋体"/>
              </a:rPr>
              <a:t>Local</a:t>
            </a:r>
            <a:r>
              <a:rPr b="0" lang="zh-CN" sz="3500" spc="-1" strike="noStrike">
                <a:solidFill>
                  <a:srgbClr val="000000"/>
                </a:solidFill>
                <a:latin typeface="宋体"/>
              </a:rPr>
              <a:t> Protecti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(Anima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6" name=""/>
          <p:cNvGraphicFramePr/>
          <p:nvPr/>
        </p:nvGraphicFramePr>
        <p:xfrm>
          <a:off x="8028000" y="2133720"/>
          <a:ext cx="235080" cy="55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28000" y="2133720"/>
                    <a:ext cx="2350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8" name=""/>
          <p:cNvSpPr/>
          <p:nvPr/>
        </p:nvSpPr>
        <p:spPr>
          <a:xfrm>
            <a:off x="622440" y="0"/>
            <a:ext cx="8064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2838240" y="203364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0" name="" descr=""/>
          <p:cNvPicPr/>
          <p:nvPr/>
        </p:nvPicPr>
        <p:blipFill>
          <a:blip r:embed="rId7"/>
          <a:stretch/>
        </p:blipFill>
        <p:spPr>
          <a:xfrm>
            <a:off x="8547120" y="2641680"/>
            <a:ext cx="277920" cy="266760"/>
          </a:xfrm>
          <a:prstGeom prst="rect">
            <a:avLst/>
          </a:prstGeom>
          <a:ln w="0">
            <a:noFill/>
          </a:ln>
        </p:spPr>
      </p:pic>
      <p:grpSp>
        <p:nvGrpSpPr>
          <p:cNvPr id="1691" name=""/>
          <p:cNvGrpSpPr/>
          <p:nvPr/>
        </p:nvGrpSpPr>
        <p:grpSpPr>
          <a:xfrm>
            <a:off x="5530680" y="2633760"/>
            <a:ext cx="609480" cy="388440"/>
            <a:chOff x="5530680" y="2633760"/>
            <a:chExt cx="609480" cy="388440"/>
          </a:xfrm>
        </p:grpSpPr>
        <p:sp>
          <p:nvSpPr>
            <p:cNvPr id="1692" name=""/>
            <p:cNvSpPr/>
            <p:nvPr/>
          </p:nvSpPr>
          <p:spPr>
            <a:xfrm>
              <a:off x="5530680" y="2742480"/>
              <a:ext cx="6094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530680" y="274248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530680" y="2633760"/>
              <a:ext cx="60804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839920" y="266544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839920" y="266544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622840" y="27424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622840" y="27424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633640" y="26600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633640" y="26600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832720" y="2749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832720" y="2749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845680" y="26694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845680" y="26694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628240" y="274608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628240" y="274608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637600" y="26654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637600" y="26654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836680" y="275364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836680" y="275364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1" name=""/>
          <p:cNvGrpSpPr/>
          <p:nvPr/>
        </p:nvGrpSpPr>
        <p:grpSpPr>
          <a:xfrm>
            <a:off x="7037280" y="3078000"/>
            <a:ext cx="609480" cy="388800"/>
            <a:chOff x="7037280" y="3078000"/>
            <a:chExt cx="609480" cy="388800"/>
          </a:xfrm>
        </p:grpSpPr>
        <p:sp>
          <p:nvSpPr>
            <p:cNvPr id="1712" name=""/>
            <p:cNvSpPr/>
            <p:nvPr/>
          </p:nvSpPr>
          <p:spPr>
            <a:xfrm>
              <a:off x="7037280" y="3187080"/>
              <a:ext cx="6094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037280" y="318708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037280" y="3078000"/>
              <a:ext cx="608040" cy="2120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46520" y="310968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346520" y="310968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129440" y="31870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129440" y="31870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140240" y="310428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140240" y="310428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339320" y="31942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339320" y="31942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352280" y="311364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7352280" y="311364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134840" y="319032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134840" y="319032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144200" y="31096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144200" y="31096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343280" y="31978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343280" y="31978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1" name=""/>
          <p:cNvGrpSpPr/>
          <p:nvPr/>
        </p:nvGrpSpPr>
        <p:grpSpPr>
          <a:xfrm>
            <a:off x="6946920" y="2050920"/>
            <a:ext cx="609120" cy="388800"/>
            <a:chOff x="6946920" y="2050920"/>
            <a:chExt cx="609120" cy="388800"/>
          </a:xfrm>
        </p:grpSpPr>
        <p:sp>
          <p:nvSpPr>
            <p:cNvPr id="1732" name=""/>
            <p:cNvSpPr/>
            <p:nvPr/>
          </p:nvSpPr>
          <p:spPr>
            <a:xfrm>
              <a:off x="6946920" y="216000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946920" y="216000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946920" y="2050920"/>
              <a:ext cx="607680" cy="2120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256160" y="20826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256160" y="20826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039080" y="216000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039080" y="216000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049880" y="20772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049880" y="20772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248960" y="21672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248960" y="21672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261920" y="20865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261920" y="20865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044480" y="216324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044480" y="216324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053480" y="20826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053480" y="20826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252560" y="21708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252560" y="21708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1" name=""/>
          <p:cNvGrpSpPr/>
          <p:nvPr/>
        </p:nvGrpSpPr>
        <p:grpSpPr>
          <a:xfrm>
            <a:off x="5996160" y="4492800"/>
            <a:ext cx="609120" cy="388440"/>
            <a:chOff x="5996160" y="4492800"/>
            <a:chExt cx="609120" cy="388440"/>
          </a:xfrm>
        </p:grpSpPr>
        <p:sp>
          <p:nvSpPr>
            <p:cNvPr id="1752" name=""/>
            <p:cNvSpPr/>
            <p:nvPr/>
          </p:nvSpPr>
          <p:spPr>
            <a:xfrm>
              <a:off x="5996160" y="460152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996160" y="460152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996160" y="449280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305400" y="45244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305400" y="45244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088320" y="46015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088320" y="46015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099120" y="45190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099120" y="45190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298200" y="46087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298200" y="46087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311160" y="45284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6311160" y="45284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093720" y="46051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093720" y="46051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102720" y="4524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102720" y="4524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301800" y="46126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301800" y="46126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1" name="" descr=""/>
          <p:cNvPicPr/>
          <p:nvPr/>
        </p:nvPicPr>
        <p:blipFill>
          <a:blip r:embed="rId8"/>
          <a:stretch/>
        </p:blipFill>
        <p:spPr>
          <a:xfrm>
            <a:off x="8610480" y="151920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772" name="" descr=""/>
          <p:cNvPicPr/>
          <p:nvPr/>
        </p:nvPicPr>
        <p:blipFill>
          <a:blip r:embed="rId9"/>
          <a:stretch/>
        </p:blipFill>
        <p:spPr>
          <a:xfrm>
            <a:off x="8759880" y="22273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773" name="" descr=""/>
          <p:cNvPicPr/>
          <p:nvPr/>
        </p:nvPicPr>
        <p:blipFill>
          <a:blip r:embed="rId10"/>
          <a:stretch/>
        </p:blipFill>
        <p:spPr>
          <a:xfrm>
            <a:off x="8547120" y="3516480"/>
            <a:ext cx="277920" cy="266400"/>
          </a:xfrm>
          <a:prstGeom prst="rect">
            <a:avLst/>
          </a:prstGeom>
          <a:ln w="0">
            <a:noFill/>
          </a:ln>
        </p:spPr>
      </p:pic>
      <p:pic>
        <p:nvPicPr>
          <p:cNvPr id="1774" name="" descr=""/>
          <p:cNvPicPr/>
          <p:nvPr/>
        </p:nvPicPr>
        <p:blipFill>
          <a:blip r:embed="rId11"/>
          <a:stretch/>
        </p:blipFill>
        <p:spPr>
          <a:xfrm>
            <a:off x="8481960" y="1881360"/>
            <a:ext cx="277920" cy="266400"/>
          </a:xfrm>
          <a:prstGeom prst="rect">
            <a:avLst/>
          </a:prstGeom>
          <a:ln w="0">
            <a:noFill/>
          </a:ln>
        </p:spPr>
      </p:pic>
      <p:sp>
        <p:nvSpPr>
          <p:cNvPr id="1775" name=""/>
          <p:cNvSpPr/>
          <p:nvPr/>
        </p:nvSpPr>
        <p:spPr>
          <a:xfrm flipV="1">
            <a:off x="8129520" y="1642680"/>
            <a:ext cx="480960" cy="176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 flipV="1">
            <a:off x="7432560" y="1652760"/>
            <a:ext cx="482760" cy="4600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 flipV="1">
            <a:off x="8240760" y="239508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7504200" y="2262240"/>
            <a:ext cx="576000" cy="1332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9" name=""/>
          <p:cNvGraphicFramePr/>
          <p:nvPr/>
        </p:nvGraphicFramePr>
        <p:xfrm>
          <a:off x="8028000" y="2924280"/>
          <a:ext cx="270000" cy="576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78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028000" y="2924280"/>
                    <a:ext cx="2700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1" name=""/>
          <p:cNvGraphicFramePr/>
          <p:nvPr/>
        </p:nvGraphicFramePr>
        <p:xfrm>
          <a:off x="7866000" y="1336680"/>
          <a:ext cx="287280" cy="631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78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866000" y="1336680"/>
                    <a:ext cx="2872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3" name=""/>
          <p:cNvGraphicFramePr/>
          <p:nvPr/>
        </p:nvGraphicFramePr>
        <p:xfrm>
          <a:off x="8164440" y="5376960"/>
          <a:ext cx="289080" cy="631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78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164440" y="5376960"/>
                    <a:ext cx="2890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5" name=""/>
          <p:cNvGraphicFramePr/>
          <p:nvPr/>
        </p:nvGraphicFramePr>
        <p:xfrm>
          <a:off x="8164440" y="3963960"/>
          <a:ext cx="289080" cy="6318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78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8164440" y="3963960"/>
                    <a:ext cx="2890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7" name=""/>
          <p:cNvGraphicFramePr/>
          <p:nvPr/>
        </p:nvGraphicFramePr>
        <p:xfrm>
          <a:off x="8164440" y="4689360"/>
          <a:ext cx="289080" cy="6318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788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8164440" y="4689360"/>
                    <a:ext cx="2890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9" name=""/>
          <p:cNvSpPr/>
          <p:nvPr/>
        </p:nvSpPr>
        <p:spPr>
          <a:xfrm flipV="1">
            <a:off x="7605720" y="324288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flipV="1">
            <a:off x="8435880" y="4282920"/>
            <a:ext cx="530280" cy="50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8421840" y="5678640"/>
            <a:ext cx="50796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 flipV="1">
            <a:off x="8304120" y="3188880"/>
            <a:ext cx="55728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8379000" y="5032440"/>
            <a:ext cx="4838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5" name="" descr=""/>
          <p:cNvPicPr/>
          <p:nvPr/>
        </p:nvPicPr>
        <p:blipFill>
          <a:blip r:embed="rId22"/>
          <a:stretch/>
        </p:blipFill>
        <p:spPr>
          <a:xfrm>
            <a:off x="0" y="3511440"/>
            <a:ext cx="619200" cy="538200"/>
          </a:xfrm>
          <a:prstGeom prst="rect">
            <a:avLst/>
          </a:prstGeom>
          <a:ln w="0">
            <a:noFill/>
          </a:ln>
        </p:spPr>
      </p:pic>
      <p:sp>
        <p:nvSpPr>
          <p:cNvPr id="1796" name=""/>
          <p:cNvSpPr/>
          <p:nvPr/>
        </p:nvSpPr>
        <p:spPr>
          <a:xfrm>
            <a:off x="94320" y="207648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7643520" y="72540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Rece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1114560" y="3036960"/>
            <a:ext cx="1569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5089680" y="2563920"/>
            <a:ext cx="80640" cy="257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0" name=""/>
          <p:cNvGrpSpPr/>
          <p:nvPr/>
        </p:nvGrpSpPr>
        <p:grpSpPr>
          <a:xfrm>
            <a:off x="622440" y="3132000"/>
            <a:ext cx="607680" cy="388800"/>
            <a:chOff x="622440" y="3132000"/>
            <a:chExt cx="607680" cy="388800"/>
          </a:xfrm>
        </p:grpSpPr>
        <p:sp>
          <p:nvSpPr>
            <p:cNvPr id="1801" name=""/>
            <p:cNvSpPr/>
            <p:nvPr/>
          </p:nvSpPr>
          <p:spPr>
            <a:xfrm>
              <a:off x="622440" y="3241080"/>
              <a:ext cx="6076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22440" y="3241080"/>
              <a:ext cx="607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22440" y="3132000"/>
              <a:ext cx="606240" cy="2120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930960" y="31636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930960" y="31636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14240" y="324108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14240" y="324108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725040" y="3158280"/>
              <a:ext cx="19836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25040" y="3158280"/>
              <a:ext cx="19836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923760" y="32482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923760" y="32482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936720" y="3167640"/>
              <a:ext cx="19584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936720" y="3167640"/>
              <a:ext cx="19584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19640" y="324432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19640" y="324432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29000" y="31636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29000" y="31636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927360" y="32518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927360" y="32518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0" name=""/>
          <p:cNvGrpSpPr/>
          <p:nvPr/>
        </p:nvGrpSpPr>
        <p:grpSpPr>
          <a:xfrm>
            <a:off x="817560" y="3956040"/>
            <a:ext cx="609120" cy="388440"/>
            <a:chOff x="817560" y="3956040"/>
            <a:chExt cx="609120" cy="388440"/>
          </a:xfrm>
        </p:grpSpPr>
        <p:sp>
          <p:nvSpPr>
            <p:cNvPr id="1821" name=""/>
            <p:cNvSpPr/>
            <p:nvPr/>
          </p:nvSpPr>
          <p:spPr>
            <a:xfrm>
              <a:off x="817560" y="406476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817560" y="406476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817560" y="395604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126800" y="39877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126800" y="39877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909720" y="40647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909720" y="40647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920520" y="39823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920520" y="39823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119600" y="40719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119600" y="40719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132560" y="39916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132560" y="39916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915120" y="40683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915120" y="40683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924120" y="39877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924120" y="39877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123200" y="40759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123200" y="40759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0" name=""/>
          <p:cNvGrpSpPr/>
          <p:nvPr/>
        </p:nvGrpSpPr>
        <p:grpSpPr>
          <a:xfrm>
            <a:off x="6848640" y="5140440"/>
            <a:ext cx="607320" cy="388440"/>
            <a:chOff x="6848640" y="5140440"/>
            <a:chExt cx="607320" cy="388440"/>
          </a:xfrm>
        </p:grpSpPr>
        <p:sp>
          <p:nvSpPr>
            <p:cNvPr id="1841" name=""/>
            <p:cNvSpPr/>
            <p:nvPr/>
          </p:nvSpPr>
          <p:spPr>
            <a:xfrm>
              <a:off x="6848640" y="5249160"/>
              <a:ext cx="6073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848640" y="5249160"/>
              <a:ext cx="6073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848640" y="5140440"/>
              <a:ext cx="6058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7156800" y="517212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156800" y="517212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940440" y="524916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940440" y="524916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951240" y="516672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951240" y="516672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7149600" y="525636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7149600" y="525636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162560" y="517608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162560" y="517608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945840" y="525276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945840" y="525276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954840" y="517212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954840" y="517212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7153560" y="526032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153560" y="526032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0" name=""/>
          <p:cNvGrpSpPr/>
          <p:nvPr/>
        </p:nvGrpSpPr>
        <p:grpSpPr>
          <a:xfrm>
            <a:off x="6894360" y="3911760"/>
            <a:ext cx="609480" cy="388440"/>
            <a:chOff x="6894360" y="3911760"/>
            <a:chExt cx="609480" cy="388440"/>
          </a:xfrm>
        </p:grpSpPr>
        <p:sp>
          <p:nvSpPr>
            <p:cNvPr id="1861" name=""/>
            <p:cNvSpPr/>
            <p:nvPr/>
          </p:nvSpPr>
          <p:spPr>
            <a:xfrm>
              <a:off x="6894360" y="4020480"/>
              <a:ext cx="6094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894360" y="402048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894360" y="3911760"/>
              <a:ext cx="60804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7203600" y="394344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7203600" y="394344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986520" y="40204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986520" y="40204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997320" y="39380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997320" y="39380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7196400" y="4027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7196400" y="4027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209360" y="39474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209360" y="39474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991920" y="402408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991920" y="402408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7001280" y="39434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001280" y="39434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200360" y="403164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200360" y="403164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0" name=""/>
          <p:cNvGrpSpPr/>
          <p:nvPr/>
        </p:nvGrpSpPr>
        <p:grpSpPr>
          <a:xfrm>
            <a:off x="7149960" y="4492800"/>
            <a:ext cx="609480" cy="388440"/>
            <a:chOff x="7149960" y="4492800"/>
            <a:chExt cx="609480" cy="388440"/>
          </a:xfrm>
        </p:grpSpPr>
        <p:sp>
          <p:nvSpPr>
            <p:cNvPr id="1881" name=""/>
            <p:cNvSpPr/>
            <p:nvPr/>
          </p:nvSpPr>
          <p:spPr>
            <a:xfrm>
              <a:off x="7149960" y="4601520"/>
              <a:ext cx="6094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149960" y="460152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7149960" y="4492800"/>
              <a:ext cx="60804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459200" y="452448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7459200" y="452448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7242120" y="460152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242120" y="460152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7252920" y="45190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252920" y="45190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452000" y="460872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452000" y="460872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464960" y="45284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464960" y="45284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7247520" y="460512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247520" y="460512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256880" y="4524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7256880" y="4524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7455960" y="4612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455960" y="4612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0" name=""/>
          <p:cNvSpPr/>
          <p:nvPr/>
        </p:nvSpPr>
        <p:spPr>
          <a:xfrm flipV="1">
            <a:off x="7645320" y="4321080"/>
            <a:ext cx="515880" cy="225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7661160" y="4621320"/>
            <a:ext cx="530280" cy="3934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7556400" y="4786200"/>
            <a:ext cx="635040" cy="9082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489560" y="216684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MS PGothic"/>
              </a:rPr>
              <a:t>P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4788000" y="2997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MS PGothic"/>
              </a:rPr>
              <a:t>P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1427040" y="3789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MS PGothic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1378080" y="28875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MS PGothic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4834080" y="46213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MS PGothic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5027760" y="4005360"/>
            <a:ext cx="53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MS PGothic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863640" y="37879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690480" y="292896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5996160" y="4309920"/>
            <a:ext cx="53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5765760" y="249408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1843200" y="3279600"/>
            <a:ext cx="0" cy="9241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4984920" y="2563920"/>
            <a:ext cx="83808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4848120" y="278604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(S,G)Jo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 flipV="1">
            <a:off x="5170320" y="3004920"/>
            <a:ext cx="185760" cy="285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250920" y="5445000"/>
            <a:ext cx="638964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100" spc="-1" strike="noStrike">
                <a:solidFill>
                  <a:srgbClr val="808080"/>
                </a:solidFill>
                <a:latin typeface="FrutigerNext LT BlackCn"/>
                <a:ea typeface="MS PGothic"/>
              </a:rPr>
              <a:t>When link from egress PE1 to CE1 fail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FrutigerNext LT BlackCn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FrutigerNext LT BlackCn"/>
                <a:ea typeface="MS PGothic"/>
              </a:rPr>
              <a:t>Traffic to backup tunnel to PE2 (backup egres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FrutigerNext LT BlackCn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FrutigerNext LT BlackCn"/>
                <a:ea typeface="MS PGothic"/>
              </a:rPr>
              <a:t>Traffic delivered to CE1 from PE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8" name="" descr=""/>
          <p:cNvPicPr/>
          <p:nvPr/>
        </p:nvPicPr>
        <p:blipFill>
          <a:blip r:embed="rId23"/>
          <a:stretch/>
        </p:blipFill>
        <p:spPr>
          <a:xfrm>
            <a:off x="8675640" y="306864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1919" name="" descr=""/>
          <p:cNvPicPr/>
          <p:nvPr/>
        </p:nvPicPr>
        <p:blipFill>
          <a:blip r:embed="rId24"/>
          <a:stretch/>
        </p:blipFill>
        <p:spPr>
          <a:xfrm>
            <a:off x="8688240" y="4154400"/>
            <a:ext cx="279720" cy="266760"/>
          </a:xfrm>
          <a:prstGeom prst="rect">
            <a:avLst/>
          </a:prstGeom>
          <a:ln w="0">
            <a:noFill/>
          </a:ln>
        </p:spPr>
      </p:pic>
      <p:pic>
        <p:nvPicPr>
          <p:cNvPr id="1920" name="" descr=""/>
          <p:cNvPicPr/>
          <p:nvPr/>
        </p:nvPicPr>
        <p:blipFill>
          <a:blip r:embed="rId25"/>
          <a:stretch/>
        </p:blipFill>
        <p:spPr>
          <a:xfrm>
            <a:off x="8761320" y="489096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921" name="" descr=""/>
          <p:cNvPicPr/>
          <p:nvPr/>
        </p:nvPicPr>
        <p:blipFill>
          <a:blip r:embed="rId26"/>
          <a:stretch/>
        </p:blipFill>
        <p:spPr>
          <a:xfrm>
            <a:off x="8723160" y="5545080"/>
            <a:ext cx="279720" cy="266760"/>
          </a:xfrm>
          <a:prstGeom prst="rect">
            <a:avLst/>
          </a:prstGeom>
          <a:ln w="0">
            <a:noFill/>
          </a:ln>
        </p:spPr>
      </p:pic>
      <p:sp>
        <p:nvSpPr>
          <p:cNvPr id="1922" name=""/>
          <p:cNvSpPr/>
          <p:nvPr/>
        </p:nvSpPr>
        <p:spPr>
          <a:xfrm rot="14059200">
            <a:off x="4047120" y="2505240"/>
            <a:ext cx="43164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3564000" y="1628640"/>
            <a:ext cx="647640" cy="360360"/>
          </a:xfrm>
          <a:prstGeom prst="wedgeRoundRectCallout">
            <a:avLst>
              <a:gd name="adj1" fmla="val 43138"/>
              <a:gd name="adj2" fmla="val 16277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755640" y="3141720"/>
            <a:ext cx="181080" cy="18108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755640" y="3357720"/>
            <a:ext cx="181080" cy="18072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682560" y="2852640"/>
            <a:ext cx="181080" cy="18108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324000" y="981000"/>
            <a:ext cx="4324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FrutigerNext LT Regular"/>
              </a:rPr>
              <a:t>Local protection for link to CE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8" name=""/>
          <p:cNvGrpSpPr/>
          <p:nvPr/>
        </p:nvGrpSpPr>
        <p:grpSpPr>
          <a:xfrm>
            <a:off x="2627280" y="2565360"/>
            <a:ext cx="555480" cy="490320"/>
            <a:chOff x="2627280" y="2565360"/>
            <a:chExt cx="555480" cy="490320"/>
          </a:xfrm>
        </p:grpSpPr>
        <p:sp>
          <p:nvSpPr>
            <p:cNvPr id="1929" name=""/>
            <p:cNvSpPr/>
            <p:nvPr/>
          </p:nvSpPr>
          <p:spPr>
            <a:xfrm>
              <a:off x="2627280" y="2818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627280" y="2657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629440" y="2657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2646720" y="267156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2627280" y="2726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2627280" y="2567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629440" y="256536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646720" y="25794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725920" y="2638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717280" y="2630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9" name=""/>
          <p:cNvGrpSpPr/>
          <p:nvPr/>
        </p:nvGrpSpPr>
        <p:grpSpPr>
          <a:xfrm>
            <a:off x="3059280" y="2997360"/>
            <a:ext cx="555480" cy="490320"/>
            <a:chOff x="3059280" y="2997360"/>
            <a:chExt cx="555480" cy="490320"/>
          </a:xfrm>
        </p:grpSpPr>
        <p:sp>
          <p:nvSpPr>
            <p:cNvPr id="1940" name=""/>
            <p:cNvSpPr/>
            <p:nvPr/>
          </p:nvSpPr>
          <p:spPr>
            <a:xfrm>
              <a:off x="3059280" y="3250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9280" y="3089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61440" y="3089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8720" y="31035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059280" y="3158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059280" y="2999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061440" y="29973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078720" y="301140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3157920" y="3070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149280" y="3062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0" name=""/>
          <p:cNvGrpSpPr/>
          <p:nvPr/>
        </p:nvGrpSpPr>
        <p:grpSpPr>
          <a:xfrm>
            <a:off x="4572000" y="2349360"/>
            <a:ext cx="555480" cy="490320"/>
            <a:chOff x="4572000" y="2349360"/>
            <a:chExt cx="555480" cy="490320"/>
          </a:xfrm>
        </p:grpSpPr>
        <p:sp>
          <p:nvSpPr>
            <p:cNvPr id="1951" name=""/>
            <p:cNvSpPr/>
            <p:nvPr/>
          </p:nvSpPr>
          <p:spPr>
            <a:xfrm>
              <a:off x="4572000" y="2602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572000" y="2441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574160" y="2441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591440" y="245556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572000" y="2510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572000" y="2351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4574160" y="234936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591440" y="23634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670640" y="2422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4662000" y="2414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3780000" y="2781360"/>
            <a:ext cx="555480" cy="490320"/>
            <a:chOff x="3780000" y="2781360"/>
            <a:chExt cx="555480" cy="490320"/>
          </a:xfrm>
        </p:grpSpPr>
        <p:sp>
          <p:nvSpPr>
            <p:cNvPr id="1962" name=""/>
            <p:cNvSpPr/>
            <p:nvPr/>
          </p:nvSpPr>
          <p:spPr>
            <a:xfrm>
              <a:off x="3780000" y="3034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780000" y="2873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782160" y="2873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799440" y="28875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780000" y="2942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780000" y="2783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782160" y="27813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799440" y="279540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878640" y="2854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870000" y="2846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2" name=""/>
          <p:cNvGrpSpPr/>
          <p:nvPr/>
        </p:nvGrpSpPr>
        <p:grpSpPr>
          <a:xfrm>
            <a:off x="4643280" y="3141720"/>
            <a:ext cx="555840" cy="490320"/>
            <a:chOff x="4643280" y="3141720"/>
            <a:chExt cx="555840" cy="490320"/>
          </a:xfrm>
        </p:grpSpPr>
        <p:sp>
          <p:nvSpPr>
            <p:cNvPr id="1973" name=""/>
            <p:cNvSpPr/>
            <p:nvPr/>
          </p:nvSpPr>
          <p:spPr>
            <a:xfrm>
              <a:off x="4643280" y="339516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643280" y="3233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645440" y="32335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662720" y="324792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4643280" y="330300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643280" y="3143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4645440" y="31417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662720" y="315576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741920" y="321516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733280" y="320688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3" name=""/>
          <p:cNvGrpSpPr/>
          <p:nvPr/>
        </p:nvGrpSpPr>
        <p:grpSpPr>
          <a:xfrm>
            <a:off x="5003640" y="4149720"/>
            <a:ext cx="555840" cy="490320"/>
            <a:chOff x="5003640" y="4149720"/>
            <a:chExt cx="555840" cy="490320"/>
          </a:xfrm>
        </p:grpSpPr>
        <p:sp>
          <p:nvSpPr>
            <p:cNvPr id="1984" name=""/>
            <p:cNvSpPr/>
            <p:nvPr/>
          </p:nvSpPr>
          <p:spPr>
            <a:xfrm>
              <a:off x="5003640" y="440316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003640" y="4241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005800" y="42415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023080" y="42559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003640" y="431100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003640" y="4151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005800" y="414972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023080" y="41637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102280" y="422316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093640" y="421488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4932360" y="4797360"/>
            <a:ext cx="555480" cy="490320"/>
            <a:chOff x="4932360" y="4797360"/>
            <a:chExt cx="555480" cy="490320"/>
          </a:xfrm>
        </p:grpSpPr>
        <p:sp>
          <p:nvSpPr>
            <p:cNvPr id="1995" name=""/>
            <p:cNvSpPr/>
            <p:nvPr/>
          </p:nvSpPr>
          <p:spPr>
            <a:xfrm>
              <a:off x="4932360" y="5050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932360" y="4889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934520" y="4889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951800" y="490356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932360" y="4958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932360" y="4799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934520" y="479736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4951800" y="48114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031000" y="4870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022360" y="4862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5" name=""/>
          <p:cNvGrpSpPr/>
          <p:nvPr/>
        </p:nvGrpSpPr>
        <p:grpSpPr>
          <a:xfrm>
            <a:off x="3924360" y="4221000"/>
            <a:ext cx="555480" cy="490320"/>
            <a:chOff x="3924360" y="4221000"/>
            <a:chExt cx="555480" cy="490320"/>
          </a:xfrm>
        </p:grpSpPr>
        <p:sp>
          <p:nvSpPr>
            <p:cNvPr id="2006" name=""/>
            <p:cNvSpPr/>
            <p:nvPr/>
          </p:nvSpPr>
          <p:spPr>
            <a:xfrm>
              <a:off x="3924360" y="447444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924360" y="43128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926520" y="431280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943800" y="43272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924360" y="438228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924360" y="42228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926520" y="422100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943800" y="42350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023000" y="429444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014360" y="428616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"/>
          <p:cNvGrpSpPr/>
          <p:nvPr/>
        </p:nvGrpSpPr>
        <p:grpSpPr>
          <a:xfrm>
            <a:off x="3203640" y="3933720"/>
            <a:ext cx="555480" cy="490320"/>
            <a:chOff x="3203640" y="3933720"/>
            <a:chExt cx="555480" cy="490320"/>
          </a:xfrm>
        </p:grpSpPr>
        <p:sp>
          <p:nvSpPr>
            <p:cNvPr id="2017" name=""/>
            <p:cNvSpPr/>
            <p:nvPr/>
          </p:nvSpPr>
          <p:spPr>
            <a:xfrm>
              <a:off x="3203640" y="418716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203640" y="40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205800" y="402552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223080" y="403992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203640" y="409500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3203640" y="39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205800" y="393372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223080" y="394776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302280" y="400716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293640" y="399888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7" name=""/>
          <p:cNvGrpSpPr/>
          <p:nvPr/>
        </p:nvGrpSpPr>
        <p:grpSpPr>
          <a:xfrm>
            <a:off x="2411280" y="3500280"/>
            <a:ext cx="555840" cy="490320"/>
            <a:chOff x="2411280" y="3500280"/>
            <a:chExt cx="555840" cy="490320"/>
          </a:xfrm>
        </p:grpSpPr>
        <p:sp>
          <p:nvSpPr>
            <p:cNvPr id="2028" name=""/>
            <p:cNvSpPr/>
            <p:nvPr/>
          </p:nvSpPr>
          <p:spPr>
            <a:xfrm>
              <a:off x="2411280" y="3753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411280" y="3592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413440" y="3592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430720" y="3606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2411280" y="3661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2411280" y="3502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2413440" y="3500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430720" y="3514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2509920" y="3573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501280" y="3565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2411280" y="4365720"/>
            <a:ext cx="555840" cy="490320"/>
            <a:chOff x="2411280" y="4365720"/>
            <a:chExt cx="555840" cy="490320"/>
          </a:xfrm>
        </p:grpSpPr>
        <p:sp>
          <p:nvSpPr>
            <p:cNvPr id="2039" name=""/>
            <p:cNvSpPr/>
            <p:nvPr/>
          </p:nvSpPr>
          <p:spPr>
            <a:xfrm>
              <a:off x="2411280" y="461916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2411280" y="4457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2413440" y="44575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430720" y="447192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411280" y="452700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411280" y="4367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413440" y="43657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430720" y="437976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509920" y="443916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501280" y="443088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9" name=""/>
          <p:cNvGrpSpPr/>
          <p:nvPr/>
        </p:nvGrpSpPr>
        <p:grpSpPr>
          <a:xfrm>
            <a:off x="1619280" y="4005360"/>
            <a:ext cx="555480" cy="490320"/>
            <a:chOff x="1619280" y="4005360"/>
            <a:chExt cx="555480" cy="490320"/>
          </a:xfrm>
        </p:grpSpPr>
        <p:sp>
          <p:nvSpPr>
            <p:cNvPr id="2050" name=""/>
            <p:cNvSpPr/>
            <p:nvPr/>
          </p:nvSpPr>
          <p:spPr>
            <a:xfrm>
              <a:off x="1619280" y="4258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619280" y="4097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621440" y="4097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638720" y="41115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619280" y="4166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619280" y="4007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621440" y="40053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638720" y="401940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717920" y="4078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1709280" y="4070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0" name=""/>
          <p:cNvGrpSpPr/>
          <p:nvPr/>
        </p:nvGrpSpPr>
        <p:grpSpPr>
          <a:xfrm>
            <a:off x="1476360" y="3068640"/>
            <a:ext cx="555480" cy="490320"/>
            <a:chOff x="1476360" y="3068640"/>
            <a:chExt cx="555480" cy="490320"/>
          </a:xfrm>
        </p:grpSpPr>
        <p:sp>
          <p:nvSpPr>
            <p:cNvPr id="2061" name=""/>
            <p:cNvSpPr/>
            <p:nvPr/>
          </p:nvSpPr>
          <p:spPr>
            <a:xfrm>
              <a:off x="1476360" y="3322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1476360" y="3160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478520" y="3160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1495800" y="31748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1476360" y="3229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476360" y="3070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478520" y="306864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495800" y="3082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575000" y="3142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1566360" y="3133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1" name=""/>
          <p:cNvSpPr/>
          <p:nvPr/>
        </p:nvSpPr>
        <p:spPr>
          <a:xfrm>
            <a:off x="808200" y="3313080"/>
            <a:ext cx="7808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1114560" y="4192560"/>
            <a:ext cx="63648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1822320" y="3279600"/>
            <a:ext cx="871560" cy="452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1822320" y="4192560"/>
            <a:ext cx="804960" cy="38880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 flipV="1">
            <a:off x="2627280" y="3715920"/>
            <a:ext cx="73080" cy="86508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 flipV="1">
            <a:off x="2627280" y="2852640"/>
            <a:ext cx="216000" cy="843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2693880" y="3732120"/>
            <a:ext cx="798480" cy="417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 flipV="1">
            <a:off x="2693880" y="3141720"/>
            <a:ext cx="654120" cy="59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 flipV="1">
            <a:off x="3348000" y="2997000"/>
            <a:ext cx="79236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3492360" y="4149720"/>
            <a:ext cx="816120" cy="333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 flipV="1">
            <a:off x="4281480" y="4344840"/>
            <a:ext cx="973080" cy="120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4273560" y="4492800"/>
            <a:ext cx="843120" cy="460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 flipV="1">
            <a:off x="5330880" y="4719600"/>
            <a:ext cx="8078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5332320" y="4452840"/>
            <a:ext cx="77148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 rot="967200">
            <a:off x="5509080" y="4204800"/>
            <a:ext cx="79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5427720" y="4329000"/>
            <a:ext cx="792000" cy="2174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 flipV="1">
            <a:off x="5035680" y="2914200"/>
            <a:ext cx="809640" cy="41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 rot="967200">
            <a:off x="5169240" y="2366640"/>
            <a:ext cx="509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4984920" y="2440080"/>
            <a:ext cx="860400" cy="26676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 flipV="1">
            <a:off x="4067280" y="2527200"/>
            <a:ext cx="833400" cy="470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4105440" y="2995560"/>
            <a:ext cx="795240" cy="230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 rot="2395200">
            <a:off x="5257800" y="2514600"/>
            <a:ext cx="228600" cy="3319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430200" y="5186520"/>
            <a:ext cx="685800" cy="0"/>
          </a:xfrm>
          <a:prstGeom prst="line">
            <a:avLst/>
          </a:prstGeom>
          <a:ln w="38160">
            <a:solidFill>
              <a:srgbClr val="cc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430200" y="4881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1116000" y="4653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1118520" y="50338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4054320" y="2424240"/>
            <a:ext cx="1756080" cy="436320"/>
          </a:xfrm>
          <a:custGeom>
            <a:avLst/>
            <a:gdLst/>
            <a:ahLst/>
            <a:rect l="l" t="t" r="r" b="b"/>
            <a:pathLst>
              <a:path w="1106" h="275">
                <a:moveTo>
                  <a:pt x="0" y="275"/>
                </a:moveTo>
                <a:cubicBezTo>
                  <a:pt x="107" y="203"/>
                  <a:pt x="280" y="18"/>
                  <a:pt x="464" y="9"/>
                </a:cubicBezTo>
                <a:cubicBezTo>
                  <a:pt x="648" y="0"/>
                  <a:pt x="972" y="175"/>
                  <a:pt x="1106" y="219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path" presetID="0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12 0.04953 C 0.02378 0.04953 0.08837 0.0493 0.10677 0.04907 C 0.12517 0.04884 0.09861 0.03657 0.11719 0.04768 C 0.13576 0.05879 0.18854 0.11713 0.21805 0.11574 C 0.24774 0.11435 0.2533 0.07083 0.29427 0.03935 C 0.33524 0.00787 0.41875 -0.06158 0.46406 -0.07315 C 0.50903 -0.08473 0.54444 -0.03959 0.56545 -0.03079 E">
                                      <p:cBhvr>
                                        <p:cTn id="165" dur="2000" fill="hold"/>
                                        <p:tgtEl>
                                          <p:spTgt spid="19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 0.02176 C 0.01285 0.02106 0.05417 0.00902 0.08664 0.01898 C 0.1191 0.02893 0.1599 0.08217 0.19289 0.08148 C 0.2257 0.08078 0.2573 0.03356 0.28455 0.01481 C 0.31181 -0.00394 0.329 -0.03195 0.35643 -0.03102 C 0.38386 -0.0301 0.41823 0.02291 0.44914 0.02037 C 0.48004 0.01782 0.52257 -0.03241 0.54185 -0.0463 E">
                                      <p:cBhvr>
                                        <p:cTn id="172" dur="2000" fill="hold"/>
                                        <p:tgtEl>
                                          <p:spTgt spid="19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evt="end">
                                        <p:tn val="171"/>
                                      </p:cond>
                                    </p:stCondLst>
                                  </p:cTn>
                                  <p:tgtEl>
                                    <p:spTgt spid="19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7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7" dur="5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" dur="500" fill="hold"/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8" name="" descr=""/>
          <p:cNvPicPr/>
          <p:nvPr/>
        </p:nvPicPr>
        <p:blipFill>
          <a:blip r:embed="rId1"/>
          <a:stretch/>
        </p:blipFill>
        <p:spPr>
          <a:xfrm>
            <a:off x="1706400" y="1839960"/>
            <a:ext cx="4573800" cy="3052800"/>
          </a:xfrm>
          <a:prstGeom prst="rect">
            <a:avLst/>
          </a:prstGeom>
          <a:ln w="0">
            <a:noFill/>
          </a:ln>
        </p:spPr>
      </p:pic>
      <p:sp>
        <p:nvSpPr>
          <p:cNvPr id="2099" name=""/>
          <p:cNvSpPr/>
          <p:nvPr/>
        </p:nvSpPr>
        <p:spPr>
          <a:xfrm>
            <a:off x="4579920" y="1397160"/>
            <a:ext cx="1614600" cy="184284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0" name="" descr=""/>
          <p:cNvPicPr/>
          <p:nvPr/>
        </p:nvPicPr>
        <p:blipFill>
          <a:blip r:embed="rId2"/>
          <a:stretch/>
        </p:blipFill>
        <p:spPr>
          <a:xfrm>
            <a:off x="6381720" y="3913200"/>
            <a:ext cx="1208160" cy="1219320"/>
          </a:xfrm>
          <a:prstGeom prst="rect">
            <a:avLst/>
          </a:prstGeom>
          <a:ln w="0">
            <a:noFill/>
          </a:ln>
        </p:spPr>
      </p:pic>
      <p:pic>
        <p:nvPicPr>
          <p:cNvPr id="2101" name="" descr=""/>
          <p:cNvPicPr/>
          <p:nvPr/>
        </p:nvPicPr>
        <p:blipFill>
          <a:blip r:embed="rId3"/>
          <a:stretch/>
        </p:blipFill>
        <p:spPr>
          <a:xfrm>
            <a:off x="268200" y="2909880"/>
            <a:ext cx="1271520" cy="1219320"/>
          </a:xfrm>
          <a:prstGeom prst="rect">
            <a:avLst/>
          </a:prstGeom>
          <a:ln w="0">
            <a:noFill/>
          </a:ln>
        </p:spPr>
      </p:pic>
      <p:pic>
        <p:nvPicPr>
          <p:cNvPr id="2102" name="" descr=""/>
          <p:cNvPicPr/>
          <p:nvPr/>
        </p:nvPicPr>
        <p:blipFill>
          <a:blip r:embed="rId4"/>
          <a:stretch/>
        </p:blipFill>
        <p:spPr>
          <a:xfrm>
            <a:off x="6129360" y="1928880"/>
            <a:ext cx="1395360" cy="1218960"/>
          </a:xfrm>
          <a:prstGeom prst="rect">
            <a:avLst/>
          </a:prstGeom>
          <a:ln w="0">
            <a:noFill/>
          </a:ln>
        </p:spPr>
      </p:pic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P2MP LSP Ingress &amp; Egress 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Local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 Protecti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(Anima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4" name=""/>
          <p:cNvGraphicFramePr/>
          <p:nvPr/>
        </p:nvGraphicFramePr>
        <p:xfrm>
          <a:off x="8236080" y="2054160"/>
          <a:ext cx="244440" cy="55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36080" y="2054160"/>
                    <a:ext cx="24444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6" name=""/>
          <p:cNvSpPr/>
          <p:nvPr/>
        </p:nvSpPr>
        <p:spPr>
          <a:xfrm>
            <a:off x="3007080" y="177948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7" name="" descr=""/>
          <p:cNvPicPr/>
          <p:nvPr/>
        </p:nvPicPr>
        <p:blipFill>
          <a:blip r:embed="rId7"/>
          <a:stretch/>
        </p:blipFill>
        <p:spPr>
          <a:xfrm>
            <a:off x="8247240" y="2517840"/>
            <a:ext cx="277560" cy="266760"/>
          </a:xfrm>
          <a:prstGeom prst="rect">
            <a:avLst/>
          </a:prstGeom>
          <a:ln w="0">
            <a:noFill/>
          </a:ln>
        </p:spPr>
      </p:pic>
      <p:grpSp>
        <p:nvGrpSpPr>
          <p:cNvPr id="2108" name=""/>
          <p:cNvGrpSpPr/>
          <p:nvPr/>
        </p:nvGrpSpPr>
        <p:grpSpPr>
          <a:xfrm>
            <a:off x="6935760" y="2792520"/>
            <a:ext cx="609120" cy="389520"/>
            <a:chOff x="6935760" y="2792520"/>
            <a:chExt cx="609120" cy="389520"/>
          </a:xfrm>
        </p:grpSpPr>
        <p:sp>
          <p:nvSpPr>
            <p:cNvPr id="2109" name=""/>
            <p:cNvSpPr/>
            <p:nvPr/>
          </p:nvSpPr>
          <p:spPr>
            <a:xfrm>
              <a:off x="6935760" y="2901600"/>
              <a:ext cx="609120" cy="28044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935760" y="290160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935760" y="2792520"/>
              <a:ext cx="60768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7245000" y="282456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7245000" y="282456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7027920" y="290160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7027920" y="290160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038720" y="28188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038720" y="28188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237800" y="29091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7237800" y="29091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250760" y="28281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250760" y="28281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7033320" y="290520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33320" y="290520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042320" y="28245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042320" y="28245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241400" y="29127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241400" y="29127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8" name=""/>
          <p:cNvGrpSpPr/>
          <p:nvPr/>
        </p:nvGrpSpPr>
        <p:grpSpPr>
          <a:xfrm>
            <a:off x="6870600" y="1839960"/>
            <a:ext cx="609480" cy="391680"/>
            <a:chOff x="6870600" y="1839960"/>
            <a:chExt cx="609480" cy="391680"/>
          </a:xfrm>
        </p:grpSpPr>
        <p:sp>
          <p:nvSpPr>
            <p:cNvPr id="2129" name=""/>
            <p:cNvSpPr/>
            <p:nvPr/>
          </p:nvSpPr>
          <p:spPr>
            <a:xfrm>
              <a:off x="6870600" y="1949760"/>
              <a:ext cx="609480" cy="281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870600" y="194976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870600" y="1839960"/>
              <a:ext cx="608040" cy="2134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7179840" y="1872000"/>
              <a:ext cx="200880" cy="65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179840" y="1872000"/>
              <a:ext cx="200880" cy="65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6962760" y="1949760"/>
              <a:ext cx="20088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962760" y="1949760"/>
              <a:ext cx="20088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973560" y="186624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973560" y="186624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172640" y="1956960"/>
              <a:ext cx="198720" cy="68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172640" y="1956960"/>
              <a:ext cx="198720" cy="68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185600" y="1875960"/>
              <a:ext cx="196560" cy="6768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7185600" y="1875960"/>
              <a:ext cx="196560" cy="6768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968160" y="1953000"/>
              <a:ext cx="198720" cy="72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968160" y="1953000"/>
              <a:ext cx="198720" cy="72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977520" y="1872000"/>
              <a:ext cx="199080" cy="65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977520" y="1872000"/>
              <a:ext cx="199080" cy="65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176600" y="1960920"/>
              <a:ext cx="198720" cy="68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7176600" y="1960920"/>
              <a:ext cx="198720" cy="68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8" name=""/>
          <p:cNvGrpSpPr/>
          <p:nvPr/>
        </p:nvGrpSpPr>
        <p:grpSpPr>
          <a:xfrm>
            <a:off x="6157800" y="4238640"/>
            <a:ext cx="610920" cy="388440"/>
            <a:chOff x="6157800" y="4238640"/>
            <a:chExt cx="610920" cy="388440"/>
          </a:xfrm>
        </p:grpSpPr>
        <p:sp>
          <p:nvSpPr>
            <p:cNvPr id="2149" name=""/>
            <p:cNvSpPr/>
            <p:nvPr/>
          </p:nvSpPr>
          <p:spPr>
            <a:xfrm>
              <a:off x="6157800" y="4347360"/>
              <a:ext cx="6109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157800" y="4347360"/>
              <a:ext cx="6109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157800" y="4238640"/>
              <a:ext cx="6094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467760" y="4270320"/>
              <a:ext cx="20124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467760" y="4270320"/>
              <a:ext cx="20124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250320" y="4347360"/>
              <a:ext cx="20124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250320" y="4347360"/>
              <a:ext cx="20124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261120" y="4264920"/>
              <a:ext cx="19944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261120" y="4264920"/>
              <a:ext cx="19944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460560" y="435456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460560" y="435456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473520" y="4274280"/>
              <a:ext cx="19692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473520" y="4274280"/>
              <a:ext cx="19692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255720" y="4350960"/>
              <a:ext cx="1990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6255720" y="4350960"/>
              <a:ext cx="1990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264720" y="4270320"/>
              <a:ext cx="19944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6264720" y="4270320"/>
              <a:ext cx="19944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6464520" y="435852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464520" y="435852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8" name="" descr=""/>
          <p:cNvPicPr/>
          <p:nvPr/>
        </p:nvPicPr>
        <p:blipFill>
          <a:blip r:embed="rId8"/>
          <a:stretch/>
        </p:blipFill>
        <p:spPr>
          <a:xfrm>
            <a:off x="8310600" y="1397160"/>
            <a:ext cx="277920" cy="266400"/>
          </a:xfrm>
          <a:prstGeom prst="rect">
            <a:avLst/>
          </a:prstGeom>
          <a:ln w="0">
            <a:noFill/>
          </a:ln>
        </p:spPr>
      </p:pic>
      <p:pic>
        <p:nvPicPr>
          <p:cNvPr id="2169" name="" descr=""/>
          <p:cNvPicPr/>
          <p:nvPr/>
        </p:nvPicPr>
        <p:blipFill>
          <a:blip r:embed="rId9"/>
          <a:stretch/>
        </p:blipFill>
        <p:spPr>
          <a:xfrm>
            <a:off x="8459640" y="2104920"/>
            <a:ext cx="279720" cy="266760"/>
          </a:xfrm>
          <a:prstGeom prst="rect">
            <a:avLst/>
          </a:prstGeom>
          <a:ln w="0">
            <a:noFill/>
          </a:ln>
        </p:spPr>
      </p:pic>
      <p:pic>
        <p:nvPicPr>
          <p:cNvPr id="2170" name="" descr=""/>
          <p:cNvPicPr/>
          <p:nvPr/>
        </p:nvPicPr>
        <p:blipFill>
          <a:blip r:embed="rId10"/>
          <a:stretch/>
        </p:blipFill>
        <p:spPr>
          <a:xfrm>
            <a:off x="8543880" y="293688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2171" name="" descr=""/>
          <p:cNvPicPr/>
          <p:nvPr/>
        </p:nvPicPr>
        <p:blipFill>
          <a:blip r:embed="rId11"/>
          <a:stretch/>
        </p:blipFill>
        <p:spPr>
          <a:xfrm>
            <a:off x="8247240" y="3394080"/>
            <a:ext cx="277560" cy="266760"/>
          </a:xfrm>
          <a:prstGeom prst="rect">
            <a:avLst/>
          </a:prstGeom>
          <a:ln w="0">
            <a:noFill/>
          </a:ln>
        </p:spPr>
      </p:pic>
      <p:pic>
        <p:nvPicPr>
          <p:cNvPr id="2172" name="" descr=""/>
          <p:cNvPicPr/>
          <p:nvPr/>
        </p:nvPicPr>
        <p:blipFill>
          <a:blip r:embed="rId12"/>
          <a:stretch/>
        </p:blipFill>
        <p:spPr>
          <a:xfrm>
            <a:off x="8182080" y="1758960"/>
            <a:ext cx="277560" cy="266760"/>
          </a:xfrm>
          <a:prstGeom prst="rect">
            <a:avLst/>
          </a:prstGeom>
          <a:ln w="0">
            <a:noFill/>
          </a:ln>
        </p:spPr>
      </p:pic>
      <p:sp>
        <p:nvSpPr>
          <p:cNvPr id="2173" name=""/>
          <p:cNvSpPr/>
          <p:nvPr/>
        </p:nvSpPr>
        <p:spPr>
          <a:xfrm flipV="1">
            <a:off x="7829640" y="1521000"/>
            <a:ext cx="48096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 flipV="1">
            <a:off x="7132680" y="1530000"/>
            <a:ext cx="482400" cy="4604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 flipV="1">
            <a:off x="7940520" y="227124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7202520" y="2139840"/>
            <a:ext cx="576360" cy="1317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7" name=""/>
          <p:cNvGraphicFramePr/>
          <p:nvPr/>
        </p:nvGraphicFramePr>
        <p:xfrm>
          <a:off x="8236080" y="2924280"/>
          <a:ext cx="298440" cy="633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7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236080" y="2924280"/>
                    <a:ext cx="29844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9" name=""/>
          <p:cNvGraphicFramePr/>
          <p:nvPr/>
        </p:nvGraphicFramePr>
        <p:xfrm>
          <a:off x="7564320" y="1212840"/>
          <a:ext cx="287280" cy="633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8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64320" y="1212840"/>
                    <a:ext cx="287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1" name=""/>
          <p:cNvGraphicFramePr/>
          <p:nvPr/>
        </p:nvGraphicFramePr>
        <p:xfrm>
          <a:off x="7864560" y="5253120"/>
          <a:ext cx="287280" cy="633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8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864560" y="5253120"/>
                    <a:ext cx="287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3" name=""/>
          <p:cNvGraphicFramePr/>
          <p:nvPr/>
        </p:nvGraphicFramePr>
        <p:xfrm>
          <a:off x="7864560" y="3841920"/>
          <a:ext cx="287280" cy="631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8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64560" y="3841920"/>
                    <a:ext cx="2872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5" name=""/>
          <p:cNvGraphicFramePr/>
          <p:nvPr/>
        </p:nvGraphicFramePr>
        <p:xfrm>
          <a:off x="7864560" y="4565520"/>
          <a:ext cx="287280" cy="633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18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64560" y="4565520"/>
                    <a:ext cx="287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7" name=""/>
          <p:cNvSpPr/>
          <p:nvPr/>
        </p:nvSpPr>
        <p:spPr>
          <a:xfrm flipV="1">
            <a:off x="7305840" y="3119040"/>
            <a:ext cx="5173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 flipV="1">
            <a:off x="8136000" y="4160520"/>
            <a:ext cx="528480" cy="46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 flipV="1">
            <a:off x="8120160" y="5556240"/>
            <a:ext cx="50796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 flipV="1">
            <a:off x="8005680" y="3067200"/>
            <a:ext cx="55584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8077320" y="4908600"/>
            <a:ext cx="48708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0" y="633240"/>
            <a:ext cx="9144000" cy="58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3" name="" descr=""/>
          <p:cNvPicPr/>
          <p:nvPr/>
        </p:nvPicPr>
        <p:blipFill>
          <a:blip r:embed="rId23"/>
          <a:stretch/>
        </p:blipFill>
        <p:spPr>
          <a:xfrm>
            <a:off x="272880" y="3240000"/>
            <a:ext cx="619200" cy="536760"/>
          </a:xfrm>
          <a:prstGeom prst="rect">
            <a:avLst/>
          </a:prstGeom>
          <a:ln w="0">
            <a:noFill/>
          </a:ln>
        </p:spPr>
      </p:pic>
      <p:sp>
        <p:nvSpPr>
          <p:cNvPr id="2194" name=""/>
          <p:cNvSpPr/>
          <p:nvPr/>
        </p:nvSpPr>
        <p:spPr>
          <a:xfrm>
            <a:off x="264960" y="182232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7321320" y="57456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Rece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1276200" y="2782800"/>
            <a:ext cx="1587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 rot="967200">
            <a:off x="5559840" y="4000320"/>
            <a:ext cx="79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8" name=""/>
          <p:cNvGrpSpPr/>
          <p:nvPr/>
        </p:nvGrpSpPr>
        <p:grpSpPr>
          <a:xfrm>
            <a:off x="785880" y="2878200"/>
            <a:ext cx="607680" cy="388440"/>
            <a:chOff x="785880" y="2878200"/>
            <a:chExt cx="607680" cy="388440"/>
          </a:xfrm>
        </p:grpSpPr>
        <p:sp>
          <p:nvSpPr>
            <p:cNvPr id="2199" name=""/>
            <p:cNvSpPr/>
            <p:nvPr/>
          </p:nvSpPr>
          <p:spPr>
            <a:xfrm>
              <a:off x="785880" y="2986920"/>
              <a:ext cx="6076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785880" y="2986920"/>
              <a:ext cx="607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785880" y="2878200"/>
              <a:ext cx="60624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094400" y="29098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094400" y="29098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877680" y="298692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877680" y="298692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888480" y="290448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888480" y="290448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087200" y="299412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087200" y="299412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100160" y="291384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100160" y="291384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883080" y="299052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883080" y="299052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892440" y="29098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892440" y="29098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090800" y="29980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090800" y="29980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8" name=""/>
          <p:cNvGrpSpPr/>
          <p:nvPr/>
        </p:nvGrpSpPr>
        <p:grpSpPr>
          <a:xfrm>
            <a:off x="979560" y="3700440"/>
            <a:ext cx="609120" cy="390240"/>
            <a:chOff x="979560" y="3700440"/>
            <a:chExt cx="609120" cy="390240"/>
          </a:xfrm>
        </p:grpSpPr>
        <p:sp>
          <p:nvSpPr>
            <p:cNvPr id="2219" name=""/>
            <p:cNvSpPr/>
            <p:nvPr/>
          </p:nvSpPr>
          <p:spPr>
            <a:xfrm>
              <a:off x="979560" y="3809880"/>
              <a:ext cx="609120" cy="2808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979560" y="380988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979560" y="3700440"/>
              <a:ext cx="60768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288800" y="37324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288800" y="37324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071720" y="380988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071720" y="380988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082520" y="372672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082520" y="372672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281600" y="3817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281600" y="3817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294560" y="373608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294560" y="373608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077120" y="381312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077120" y="381312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086120" y="3732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086120" y="3732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285200" y="3821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285200" y="3821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8" name=""/>
          <p:cNvGrpSpPr/>
          <p:nvPr/>
        </p:nvGrpSpPr>
        <p:grpSpPr>
          <a:xfrm>
            <a:off x="6764400" y="4853160"/>
            <a:ext cx="609120" cy="389520"/>
            <a:chOff x="6764400" y="4853160"/>
            <a:chExt cx="609120" cy="389520"/>
          </a:xfrm>
        </p:grpSpPr>
        <p:sp>
          <p:nvSpPr>
            <p:cNvPr id="2239" name=""/>
            <p:cNvSpPr/>
            <p:nvPr/>
          </p:nvSpPr>
          <p:spPr>
            <a:xfrm>
              <a:off x="6764400" y="4962240"/>
              <a:ext cx="609120" cy="28044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764400" y="496224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764400" y="4853160"/>
              <a:ext cx="60768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073640" y="48852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073640" y="48852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856560" y="496224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856560" y="496224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6867360" y="487944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6867360" y="487944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066440" y="49698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7066440" y="49698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7079400" y="488880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079400" y="488880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861960" y="496584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861960" y="496584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870960" y="48852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870960" y="48852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070040" y="49734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7070040" y="49734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8" name=""/>
          <p:cNvGrpSpPr/>
          <p:nvPr/>
        </p:nvGrpSpPr>
        <p:grpSpPr>
          <a:xfrm>
            <a:off x="7067520" y="3683160"/>
            <a:ext cx="607680" cy="388440"/>
            <a:chOff x="7067520" y="3683160"/>
            <a:chExt cx="607680" cy="388440"/>
          </a:xfrm>
        </p:grpSpPr>
        <p:sp>
          <p:nvSpPr>
            <p:cNvPr id="2259" name=""/>
            <p:cNvSpPr/>
            <p:nvPr/>
          </p:nvSpPr>
          <p:spPr>
            <a:xfrm>
              <a:off x="7067520" y="3791880"/>
              <a:ext cx="6076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7067520" y="3791880"/>
              <a:ext cx="607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7067520" y="3683160"/>
              <a:ext cx="60624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376040" y="371484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7376040" y="371484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159320" y="379188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7159320" y="379188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7170120" y="370944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7170120" y="370944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7368840" y="37990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7368840" y="37990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381800" y="371880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7381800" y="371880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7164720" y="379548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7164720" y="379548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7174080" y="371484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7174080" y="371484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7372440" y="380304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7372440" y="380304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8" name=""/>
          <p:cNvGrpSpPr/>
          <p:nvPr/>
        </p:nvGrpSpPr>
        <p:grpSpPr>
          <a:xfrm>
            <a:off x="7067520" y="4317840"/>
            <a:ext cx="607680" cy="390240"/>
            <a:chOff x="7067520" y="4317840"/>
            <a:chExt cx="607680" cy="390240"/>
          </a:xfrm>
        </p:grpSpPr>
        <p:sp>
          <p:nvSpPr>
            <p:cNvPr id="2279" name=""/>
            <p:cNvSpPr/>
            <p:nvPr/>
          </p:nvSpPr>
          <p:spPr>
            <a:xfrm>
              <a:off x="7067520" y="4427280"/>
              <a:ext cx="607680" cy="2808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7067520" y="4427280"/>
              <a:ext cx="607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7067520" y="4317840"/>
              <a:ext cx="60624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376040" y="43498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7376040" y="43498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159320" y="4427280"/>
              <a:ext cx="2001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159320" y="4427280"/>
              <a:ext cx="2001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170120" y="4344120"/>
              <a:ext cx="19836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170120" y="4344120"/>
              <a:ext cx="19836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368840" y="44344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7368840" y="44344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381800" y="4353480"/>
              <a:ext cx="19584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381800" y="4353480"/>
              <a:ext cx="19584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164720" y="4430520"/>
              <a:ext cx="19800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7164720" y="4430520"/>
              <a:ext cx="19800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174080" y="43498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7174080" y="43498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7372440" y="443844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7372440" y="443844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8" name=""/>
          <p:cNvSpPr/>
          <p:nvPr/>
        </p:nvSpPr>
        <p:spPr>
          <a:xfrm flipV="1">
            <a:off x="7343640" y="4198680"/>
            <a:ext cx="519120" cy="2235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7359480" y="4498920"/>
            <a:ext cx="530280" cy="393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7254720" y="4664160"/>
            <a:ext cx="635040" cy="90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1589040" y="35352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1539720" y="263376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5435640" y="48690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5219640" y="35733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1025640" y="35337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853920" y="2673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6157800" y="405612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5929200" y="223992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2006640" y="3024360"/>
            <a:ext cx="0" cy="9237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120600" y="5398920"/>
            <a:ext cx="754704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One P2MP LSP for all: 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MS PGothic"/>
              </a:rPr>
              <a:t>Every part (ingress &amp; egress) is locally pro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Arial"/>
                <a:ea typeface="MS PGothic"/>
              </a:rPr>
              <a:t>Big resource saving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MS PGothic"/>
              </a:rPr>
              <a:t> (e.g, no double bw re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Arial"/>
                <a:ea typeface="MS PGothic"/>
              </a:rPr>
              <a:t>Faster failure recovery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MS PGothic"/>
              </a:rPr>
              <a:t>: local protection sp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1" name="" descr=""/>
          <p:cNvPicPr/>
          <p:nvPr/>
        </p:nvPicPr>
        <p:blipFill>
          <a:blip r:embed="rId24"/>
          <a:stretch/>
        </p:blipFill>
        <p:spPr>
          <a:xfrm>
            <a:off x="8388360" y="403236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2312" name="" descr=""/>
          <p:cNvPicPr/>
          <p:nvPr/>
        </p:nvPicPr>
        <p:blipFill>
          <a:blip r:embed="rId25"/>
          <a:stretch/>
        </p:blipFill>
        <p:spPr>
          <a:xfrm>
            <a:off x="8461440" y="476892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2313" name="" descr=""/>
          <p:cNvPicPr/>
          <p:nvPr/>
        </p:nvPicPr>
        <p:blipFill>
          <a:blip r:embed="rId26"/>
          <a:stretch/>
        </p:blipFill>
        <p:spPr>
          <a:xfrm>
            <a:off x="8423280" y="5423040"/>
            <a:ext cx="279360" cy="266400"/>
          </a:xfrm>
          <a:prstGeom prst="rect">
            <a:avLst/>
          </a:prstGeom>
          <a:ln w="0">
            <a:noFill/>
          </a:ln>
        </p:spPr>
      </p:pic>
      <p:sp>
        <p:nvSpPr>
          <p:cNvPr id="2314" name=""/>
          <p:cNvSpPr/>
          <p:nvPr/>
        </p:nvSpPr>
        <p:spPr>
          <a:xfrm>
            <a:off x="620640" y="517032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620640" y="486396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1306440" y="4637160"/>
            <a:ext cx="152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1314720" y="5018040"/>
            <a:ext cx="143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8" name=""/>
          <p:cNvGrpSpPr/>
          <p:nvPr/>
        </p:nvGrpSpPr>
        <p:grpSpPr>
          <a:xfrm>
            <a:off x="5919840" y="2341440"/>
            <a:ext cx="553680" cy="342720"/>
            <a:chOff x="5919840" y="2341440"/>
            <a:chExt cx="553680" cy="342720"/>
          </a:xfrm>
        </p:grpSpPr>
        <p:sp>
          <p:nvSpPr>
            <p:cNvPr id="2319" name=""/>
            <p:cNvSpPr/>
            <p:nvPr/>
          </p:nvSpPr>
          <p:spPr>
            <a:xfrm>
              <a:off x="5919840" y="2437560"/>
              <a:ext cx="553680" cy="2466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919840" y="2437560"/>
              <a:ext cx="553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919840" y="2341440"/>
              <a:ext cx="552240" cy="1868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201000" y="2369520"/>
              <a:ext cx="182520" cy="57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201000" y="2369520"/>
              <a:ext cx="182520" cy="57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003360" y="2437560"/>
              <a:ext cx="182520" cy="62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003360" y="2437560"/>
              <a:ext cx="182520" cy="62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6013440" y="2364480"/>
              <a:ext cx="180720" cy="59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6013440" y="2364480"/>
              <a:ext cx="180720" cy="59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194520" y="2443680"/>
              <a:ext cx="180360" cy="594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194520" y="2443680"/>
              <a:ext cx="180360" cy="594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206040" y="2372760"/>
              <a:ext cx="178560" cy="5904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206040" y="2372760"/>
              <a:ext cx="178560" cy="5904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008400" y="2440440"/>
              <a:ext cx="180360" cy="63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008400" y="2440440"/>
              <a:ext cx="180360" cy="63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016680" y="2369520"/>
              <a:ext cx="180720" cy="57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016680" y="2369520"/>
              <a:ext cx="180720" cy="57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6197760" y="2447280"/>
              <a:ext cx="180360" cy="594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197760" y="2447280"/>
              <a:ext cx="180360" cy="594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8" name=""/>
          <p:cNvSpPr/>
          <p:nvPr/>
        </p:nvSpPr>
        <p:spPr>
          <a:xfrm flipV="1">
            <a:off x="5468760" y="2588760"/>
            <a:ext cx="736920" cy="36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5423040" y="2171880"/>
            <a:ext cx="782640" cy="23472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5518080" y="2279520"/>
            <a:ext cx="74520" cy="227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 rot="967200">
            <a:off x="5592240" y="2106720"/>
            <a:ext cx="463680" cy="1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4973760" y="1930320"/>
            <a:ext cx="488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4979880" y="2527200"/>
            <a:ext cx="488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6134040" y="2219400"/>
            <a:ext cx="4906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5423040" y="2279520"/>
            <a:ext cx="76176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5299200" y="2476440"/>
            <a:ext cx="92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(S,G)Jo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 flipV="1">
            <a:off x="5592600" y="2669760"/>
            <a:ext cx="168480" cy="252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 rot="14059200">
            <a:off x="4708440" y="2149200"/>
            <a:ext cx="380880" cy="19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4876920" y="1447920"/>
            <a:ext cx="533160" cy="228600"/>
          </a:xfrm>
          <a:prstGeom prst="wedgeRoundRectCallout">
            <a:avLst>
              <a:gd name="adj1" fmla="val -38689"/>
              <a:gd name="adj2" fmla="val 242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4505400" y="1835280"/>
            <a:ext cx="1681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324000" y="620640"/>
            <a:ext cx="687384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Existing scenario: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root and every le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two global P2MP LSP from each root to leaves, carrying data at same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2" name=""/>
          <p:cNvGrpSpPr/>
          <p:nvPr/>
        </p:nvGrpSpPr>
        <p:grpSpPr>
          <a:xfrm>
            <a:off x="5219640" y="3789360"/>
            <a:ext cx="555840" cy="490320"/>
            <a:chOff x="5219640" y="3789360"/>
            <a:chExt cx="555840" cy="490320"/>
          </a:xfrm>
        </p:grpSpPr>
        <p:sp>
          <p:nvSpPr>
            <p:cNvPr id="2353" name=""/>
            <p:cNvSpPr/>
            <p:nvPr/>
          </p:nvSpPr>
          <p:spPr>
            <a:xfrm>
              <a:off x="5219640" y="4042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219640" y="3881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221800" y="3881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239080" y="38955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219640" y="3950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219640" y="3791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221800" y="378936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239080" y="380340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318280" y="3862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309640" y="3854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3" name=""/>
          <p:cNvGrpSpPr/>
          <p:nvPr/>
        </p:nvGrpSpPr>
        <p:grpSpPr>
          <a:xfrm>
            <a:off x="3348000" y="3789360"/>
            <a:ext cx="555840" cy="490320"/>
            <a:chOff x="3348000" y="3789360"/>
            <a:chExt cx="555840" cy="490320"/>
          </a:xfrm>
        </p:grpSpPr>
        <p:sp>
          <p:nvSpPr>
            <p:cNvPr id="2364" name=""/>
            <p:cNvSpPr/>
            <p:nvPr/>
          </p:nvSpPr>
          <p:spPr>
            <a:xfrm>
              <a:off x="3348000" y="4042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3348000" y="3881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3350160" y="3881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3367440" y="38955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3348000" y="3950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3348000" y="3791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350160" y="378936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367440" y="380340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3446640" y="3862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3438000" y="3854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4" name=""/>
          <p:cNvGrpSpPr/>
          <p:nvPr/>
        </p:nvGrpSpPr>
        <p:grpSpPr>
          <a:xfrm>
            <a:off x="3276720" y="2781360"/>
            <a:ext cx="555480" cy="490320"/>
            <a:chOff x="3276720" y="2781360"/>
            <a:chExt cx="555480" cy="490320"/>
          </a:xfrm>
        </p:grpSpPr>
        <p:sp>
          <p:nvSpPr>
            <p:cNvPr id="2375" name=""/>
            <p:cNvSpPr/>
            <p:nvPr/>
          </p:nvSpPr>
          <p:spPr>
            <a:xfrm>
              <a:off x="3276720" y="3034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3276720" y="2873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3278880" y="2873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3296160" y="28875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276720" y="2942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3276720" y="2783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3278880" y="27813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296160" y="279540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375360" y="2854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366720" y="2846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5" name=""/>
          <p:cNvGrpSpPr/>
          <p:nvPr/>
        </p:nvGrpSpPr>
        <p:grpSpPr>
          <a:xfrm>
            <a:off x="4356000" y="2421000"/>
            <a:ext cx="555840" cy="490320"/>
            <a:chOff x="4356000" y="2421000"/>
            <a:chExt cx="555840" cy="490320"/>
          </a:xfrm>
        </p:grpSpPr>
        <p:sp>
          <p:nvSpPr>
            <p:cNvPr id="2386" name=""/>
            <p:cNvSpPr/>
            <p:nvPr/>
          </p:nvSpPr>
          <p:spPr>
            <a:xfrm>
              <a:off x="4356000" y="267444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356000" y="251280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4358160" y="251280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375440" y="252720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4356000" y="258228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356000" y="242280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358160" y="242100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4375440" y="243504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454640" y="249444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446000" y="248616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6" name=""/>
          <p:cNvGrpSpPr/>
          <p:nvPr/>
        </p:nvGrpSpPr>
        <p:grpSpPr>
          <a:xfrm>
            <a:off x="4284720" y="4076640"/>
            <a:ext cx="555480" cy="490320"/>
            <a:chOff x="4284720" y="4076640"/>
            <a:chExt cx="555480" cy="490320"/>
          </a:xfrm>
        </p:grpSpPr>
        <p:sp>
          <p:nvSpPr>
            <p:cNvPr id="2397" name=""/>
            <p:cNvSpPr/>
            <p:nvPr/>
          </p:nvSpPr>
          <p:spPr>
            <a:xfrm>
              <a:off x="4284720" y="4330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284720" y="4168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4286880" y="4168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304160" y="41828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284720" y="4237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4284720" y="4078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4286880" y="407664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304160" y="4090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4383360" y="4150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4374720" y="4141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7" name=""/>
          <p:cNvGrpSpPr/>
          <p:nvPr/>
        </p:nvGrpSpPr>
        <p:grpSpPr>
          <a:xfrm>
            <a:off x="5148360" y="4437000"/>
            <a:ext cx="555480" cy="490320"/>
            <a:chOff x="5148360" y="4437000"/>
            <a:chExt cx="555480" cy="490320"/>
          </a:xfrm>
        </p:grpSpPr>
        <p:sp>
          <p:nvSpPr>
            <p:cNvPr id="2408" name=""/>
            <p:cNvSpPr/>
            <p:nvPr/>
          </p:nvSpPr>
          <p:spPr>
            <a:xfrm>
              <a:off x="5148360" y="469044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148360" y="45288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150520" y="452880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167800" y="45432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148360" y="459828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148360" y="44388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150520" y="443700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167800" y="44510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247000" y="451044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238360" y="450216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8" name=""/>
          <p:cNvSpPr/>
          <p:nvPr/>
        </p:nvSpPr>
        <p:spPr>
          <a:xfrm>
            <a:off x="4437000" y="4238640"/>
            <a:ext cx="841320" cy="460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 flipV="1">
            <a:off x="5452920" y="4492800"/>
            <a:ext cx="8082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 flipV="1">
            <a:off x="4443480" y="4090680"/>
            <a:ext cx="973080" cy="120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5570640" y="4129200"/>
            <a:ext cx="623880" cy="2188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 flipV="1">
            <a:off x="3768840" y="2666520"/>
            <a:ext cx="811080" cy="257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3838680" y="4076640"/>
            <a:ext cx="600120" cy="190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4" name=""/>
          <p:cNvGrpSpPr/>
          <p:nvPr/>
        </p:nvGrpSpPr>
        <p:grpSpPr>
          <a:xfrm>
            <a:off x="5076720" y="2133720"/>
            <a:ext cx="555840" cy="490320"/>
            <a:chOff x="5076720" y="2133720"/>
            <a:chExt cx="555840" cy="490320"/>
          </a:xfrm>
        </p:grpSpPr>
        <p:sp>
          <p:nvSpPr>
            <p:cNvPr id="2425" name=""/>
            <p:cNvSpPr/>
            <p:nvPr/>
          </p:nvSpPr>
          <p:spPr>
            <a:xfrm>
              <a:off x="5076720" y="238716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076720" y="2225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078880" y="22255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096160" y="223992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076720" y="229500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076720" y="2135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078880" y="21337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096160" y="214776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175360" y="220716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166720" y="219888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5" name=""/>
          <p:cNvGrpSpPr/>
          <p:nvPr/>
        </p:nvGrpSpPr>
        <p:grpSpPr>
          <a:xfrm>
            <a:off x="5076720" y="2708280"/>
            <a:ext cx="555840" cy="490320"/>
            <a:chOff x="5076720" y="2708280"/>
            <a:chExt cx="555840" cy="490320"/>
          </a:xfrm>
        </p:grpSpPr>
        <p:sp>
          <p:nvSpPr>
            <p:cNvPr id="2436" name=""/>
            <p:cNvSpPr/>
            <p:nvPr/>
          </p:nvSpPr>
          <p:spPr>
            <a:xfrm>
              <a:off x="5076720" y="2961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076720" y="2800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078880" y="2800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096160" y="2814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076720" y="2869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076720" y="2710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078880" y="2708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096160" y="2722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175360" y="2781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166720" y="2773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6" name=""/>
          <p:cNvSpPr/>
          <p:nvPr/>
        </p:nvSpPr>
        <p:spPr>
          <a:xfrm>
            <a:off x="4624560" y="2660760"/>
            <a:ext cx="722160" cy="203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 flipV="1">
            <a:off x="4624560" y="2247480"/>
            <a:ext cx="722160" cy="41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 rot="2395200">
            <a:off x="5257440" y="2133360"/>
            <a:ext cx="208080" cy="29196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 flipV="1">
            <a:off x="5495760" y="2539800"/>
            <a:ext cx="655920" cy="315720"/>
          </a:xfrm>
          <a:prstGeom prst="line">
            <a:avLst/>
          </a:prstGeom>
          <a:ln w="38160">
            <a:solidFill>
              <a:srgbClr val="99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0" name=""/>
          <p:cNvGrpSpPr/>
          <p:nvPr/>
        </p:nvGrpSpPr>
        <p:grpSpPr>
          <a:xfrm>
            <a:off x="1692360" y="2852640"/>
            <a:ext cx="555480" cy="490320"/>
            <a:chOff x="1692360" y="2852640"/>
            <a:chExt cx="555480" cy="490320"/>
          </a:xfrm>
        </p:grpSpPr>
        <p:sp>
          <p:nvSpPr>
            <p:cNvPr id="2451" name=""/>
            <p:cNvSpPr/>
            <p:nvPr/>
          </p:nvSpPr>
          <p:spPr>
            <a:xfrm>
              <a:off x="1692360" y="3106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1692360" y="2944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694520" y="2944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1711800" y="29588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1692360" y="3013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1692360" y="2854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1694520" y="285264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711800" y="2866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1791000" y="2926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1782360" y="2917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1" name=""/>
          <p:cNvGrpSpPr/>
          <p:nvPr/>
        </p:nvGrpSpPr>
        <p:grpSpPr>
          <a:xfrm>
            <a:off x="1763640" y="3716280"/>
            <a:ext cx="555840" cy="490320"/>
            <a:chOff x="1763640" y="3716280"/>
            <a:chExt cx="555840" cy="490320"/>
          </a:xfrm>
        </p:grpSpPr>
        <p:sp>
          <p:nvSpPr>
            <p:cNvPr id="2462" name=""/>
            <p:cNvSpPr/>
            <p:nvPr/>
          </p:nvSpPr>
          <p:spPr>
            <a:xfrm>
              <a:off x="1763640" y="3969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1763640" y="38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1765800" y="3808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1783080" y="3822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1763640" y="3877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1763640" y="37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1765800" y="3716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783080" y="3730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1862280" y="3789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1853640" y="3781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2" name=""/>
          <p:cNvGrpSpPr/>
          <p:nvPr/>
        </p:nvGrpSpPr>
        <p:grpSpPr>
          <a:xfrm>
            <a:off x="2627280" y="3213000"/>
            <a:ext cx="555480" cy="490320"/>
            <a:chOff x="2627280" y="3213000"/>
            <a:chExt cx="555480" cy="490320"/>
          </a:xfrm>
        </p:grpSpPr>
        <p:sp>
          <p:nvSpPr>
            <p:cNvPr id="2473" name=""/>
            <p:cNvSpPr/>
            <p:nvPr/>
          </p:nvSpPr>
          <p:spPr>
            <a:xfrm>
              <a:off x="2627280" y="346644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627280" y="33048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629440" y="330480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646720" y="33192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27280" y="337428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627280" y="32148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629440" y="321300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2646720" y="32270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2725920" y="328644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2717280" y="327816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3" name=""/>
          <p:cNvSpPr/>
          <p:nvPr/>
        </p:nvSpPr>
        <p:spPr>
          <a:xfrm flipV="1">
            <a:off x="2855880" y="3034800"/>
            <a:ext cx="600120" cy="44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2855880" y="3478320"/>
            <a:ext cx="600120" cy="40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1986120" y="3024360"/>
            <a:ext cx="869760" cy="45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1278000" y="3938760"/>
            <a:ext cx="6350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969840" y="3059280"/>
            <a:ext cx="7826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 rot="2395200">
            <a:off x="1803240" y="2743200"/>
            <a:ext cx="228600" cy="3319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9" name=""/>
          <p:cNvGrpSpPr/>
          <p:nvPr/>
        </p:nvGrpSpPr>
        <p:grpSpPr>
          <a:xfrm>
            <a:off x="2987640" y="2205000"/>
            <a:ext cx="555840" cy="490320"/>
            <a:chOff x="2987640" y="2205000"/>
            <a:chExt cx="555840" cy="490320"/>
          </a:xfrm>
        </p:grpSpPr>
        <p:sp>
          <p:nvSpPr>
            <p:cNvPr id="2490" name=""/>
            <p:cNvSpPr/>
            <p:nvPr/>
          </p:nvSpPr>
          <p:spPr>
            <a:xfrm>
              <a:off x="2987640" y="245844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2987640" y="229680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989800" y="229680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3007080" y="231120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987640" y="236628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987640" y="220680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2989800" y="220500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3007080" y="221904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3086280" y="227844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3077640" y="227016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0" name=""/>
          <p:cNvSpPr/>
          <p:nvPr/>
        </p:nvSpPr>
        <p:spPr>
          <a:xfrm flipV="1">
            <a:off x="2870280" y="2514600"/>
            <a:ext cx="3045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2209680" y="2209680"/>
            <a:ext cx="503280" cy="287280"/>
          </a:xfrm>
          <a:prstGeom prst="wedgeRoundRectCallout">
            <a:avLst>
              <a:gd name="adj1" fmla="val -69875"/>
              <a:gd name="adj2" fmla="val 4052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 rot="11991000">
            <a:off x="1752120" y="3428640"/>
            <a:ext cx="43200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3" name=""/>
          <p:cNvGrpSpPr/>
          <p:nvPr/>
        </p:nvGrpSpPr>
        <p:grpSpPr>
          <a:xfrm>
            <a:off x="2362320" y="4038480"/>
            <a:ext cx="555480" cy="490320"/>
            <a:chOff x="2362320" y="4038480"/>
            <a:chExt cx="555480" cy="490320"/>
          </a:xfrm>
        </p:grpSpPr>
        <p:sp>
          <p:nvSpPr>
            <p:cNvPr id="2504" name=""/>
            <p:cNvSpPr/>
            <p:nvPr/>
          </p:nvSpPr>
          <p:spPr>
            <a:xfrm>
              <a:off x="2362320" y="429192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2362320" y="41302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364480" y="413028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2381760" y="4144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2362320" y="419976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2362320" y="40402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64480" y="403848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2381760" y="405252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460960" y="411192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452320" y="410364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4" name=""/>
          <p:cNvSpPr/>
          <p:nvPr/>
        </p:nvSpPr>
        <p:spPr>
          <a:xfrm flipV="1">
            <a:off x="2643120" y="3428640"/>
            <a:ext cx="227160" cy="6858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1986120" y="3938760"/>
            <a:ext cx="731520" cy="1760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1143000" y="2743200"/>
            <a:ext cx="1374840" cy="171612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 rot="21268800">
            <a:off x="4574880" y="2215800"/>
            <a:ext cx="609480" cy="318960"/>
          </a:xfrm>
          <a:custGeom>
            <a:avLst/>
            <a:gdLst/>
            <a:ahLst/>
            <a:rect l="l" t="t" r="r" b="b"/>
            <a:pathLst>
              <a:path w="512" h="248">
                <a:moveTo>
                  <a:pt x="0" y="248"/>
                </a:moveTo>
                <a:cubicBezTo>
                  <a:pt x="85" y="207"/>
                  <a:pt x="427" y="41"/>
                  <a:pt x="512" y="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mph" presetID="14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2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3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5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6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" dur="500" fill="hold"/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" dur="500" fill="hold"/>
                                        <p:tgtEl>
                                          <p:spTgt spid="2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" dur="500" fill="hold"/>
                                        <p:tgtEl>
                                          <p:spTgt spid="2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" dur="500" fill="hold"/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" dur="500" fill="hold"/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" dur="500" fill="hold"/>
                                        <p:tgtEl>
                                          <p:spTgt spid="2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14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1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23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4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" dur="5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500" fill="hold"/>
                                        <p:tgtEl>
                                          <p:spTgt spid="2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500" fill="hold"/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500" fill="hold"/>
                                        <p:tgtEl>
                                          <p:spTgt spid="2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Advantages of P2MP LSP Ingress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nd Egress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Local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7543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ll parts of P2MP LSP are locally pro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ly one P2MP LSP is used to implement an E2E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rmally two P2MP LSPs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ig saving on resource : 50% bandwidth sa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 need to reserve/use doubl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aster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peed of local protection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low recovery within 50ms when a failure happ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asier to op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4:12:48Z</dcterms:created>
  <dc:creator>hc</dc:creator>
  <dc:description/>
  <dc:language>en-US</dc:language>
  <cp:lastModifiedBy>C73676</cp:lastModifiedBy>
  <dcterms:modified xsi:type="dcterms:W3CDTF">2011-07-20T20:17:04Z</dcterms:modified>
  <cp:revision>218</cp:revision>
  <dc:subject/>
  <dc:title>PCE-Backup-I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11190550</vt:lpwstr>
  </property>
</Properties>
</file>