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4EDE8-EA2B-47EE-8F11-CBFB07C76A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E9742-B8DD-433E-A50C-616B7AD84F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BFD16-AEF5-4D85-A6CF-F8D5CDB0F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9116-33FC-42B3-9813-8F9225A6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669E-E01A-477F-9F14-ACBD5B28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4DC6-00A3-4403-B4CF-9516F29A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51C9-17C7-4FB5-8319-05A70B36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53AB-AD8B-46E1-9655-049B298B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7D37-DD99-4831-85FD-9DCA723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3464-5368-4AAF-A2C2-37542781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30BB-834A-40B4-AC69-AB552BA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7EC1-2018-4A86-B103-0B71D4C3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75C-8CFA-4CA8-A18B-A3CA0DC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315D-0E35-4FFE-B4A2-D4602D26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4E1B-39E7-406D-A082-D337B0CA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35EF-5A59-48B6-A197-95E6355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BF89-204C-4018-B5DF-96B1B558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8C15-4014-456D-9246-FBE307D7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685A-E488-42FF-B48D-876A3630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3DE1-DDD1-46C1-B0A8-61B4FC1B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70CF-8E8C-419C-B5FE-FE56227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BBC4-9EC1-42B2-97A8-48419D37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BA60-388E-4DA3-92EC-72F5062E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3D79-6356-4D93-A63F-2C185D15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44A9-1CAF-40A7-BF6C-04B346A0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4671-F5D9-4A16-B1D7-F90BE5D9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D224-0524-45FC-A4BE-42A347B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FA3947-9DAC-4FE4-B6EE-B01876EF5A2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2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5CCB9D-4F23-4483-A2CB-C6DC9EBDFA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ftr" idx="3"/>
          </p:nvPr>
        </p:nvSpPr>
        <p:spPr>
          <a:xfrm>
            <a:off x="6659280" y="70920"/>
            <a:ext cx="237636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28432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1066680"/>
            <a:ext cx="2865240" cy="3155760"/>
            <a:chOff x="0" y="1066680"/>
            <a:chExt cx="2865240" cy="3155760"/>
          </a:xfrm>
        </p:grpSpPr>
        <p:sp>
          <p:nvSpPr>
            <p:cNvPr id="53" name="Rectangle 5"/>
            <p:cNvSpPr/>
            <p:nvPr/>
          </p:nvSpPr>
          <p:spPr>
            <a:xfrm>
              <a:off x="572760" y="358164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5040" y="1690200"/>
              <a:ext cx="57420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2279880" y="1066680"/>
              <a:ext cx="58536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1140840" y="3581640"/>
              <a:ext cx="58356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2279880" y="1690200"/>
              <a:ext cx="58536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1140840" y="2323440"/>
              <a:ext cx="58356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0" y="2323440"/>
              <a:ext cx="58212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1715040" y="2323440"/>
              <a:ext cx="57420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57276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1140840" y="2946960"/>
              <a:ext cx="58356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136E4D-6531-40DA-B3E3-BDDA3335A1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PLS-TP  75th IETF - Stockho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92E598-B3AF-4F2D-95CD-5B51620DB63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7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387F74-AE07-4A46-A85C-BF07425D08D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A0296D-123E-42BA-BA18-93379BDE598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1142640"/>
            <a:ext cx="7777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Operators Considerations on MPLS-TP OAM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8360" y="5929200"/>
            <a:ext cx="8136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PLS WG, 8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ETF 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Quebec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30718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raft-fang-mpls-tp-oam-considerations-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476360" y="3786120"/>
            <a:ext cx="7236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ng Li (CATR Chi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an Li (China Mobi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essando D'Alessandro (Telecom Itali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iquan Jing (China Teleco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uangquan Wang (China Unicom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Pedro Fernandez-Palacios Giminez  (Telefonica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3D58CE-92EC-4AC5-927D-99F7D25AADA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278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ing out the urgent and increasing requirements of PTN applications for the metro packet transport network (PT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of an essential MPLS-TP OAM tool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CF76A5-F6E3-4249-A5EB-0569F284D34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content i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85960"/>
            <a:ext cx="82278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s’ activities on draft-b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MPLS-TP OAM function toolset from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AM solutions investigation for PT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69E856-526E-40A1-94C5-CAB77DE345C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from 00 to 02-Carriers’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571760"/>
            <a:ext cx="8228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uthor (Juan Giminez from Telefonica) i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dreds of thousands of MPLS-TP based PTN nodes are being deployed in countries such as Korea, China, Japan, India, Italy, 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Draft-bhh based OAM is approved as CCSA standard and it is the de facto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0,000 PTN nodes in CMCC will run draft- bhh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N network (support draft-bhh) with 2200 nodes has been built in 2 provinces in 2010 and 2 commercial trial PTN networks have been built in 20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Unicom has started to build PTN commercial trail (support draft-bhh) networks in more than 10 cit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d a tender for acquiring PTN equipment and is going to deploy them in the second half of 2011 in its metro aggregation network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E160C8-58A7-4BAA-B528-2D4A1134A76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-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of an essential MPLS-TP OAM solution set to meet the urgent and increasing requirements of PTN applications for the metro packet transport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 draft-tsb-mpls-tp-ach-ptn by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 draft-fa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mpls-tp-oam-consid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work group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927419-DC8D-4C4A-B144-E9677898AA3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99CB1A-268C-425C-B61F-7AE3BAEC145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4:13:16Z</dcterms:created>
  <dc:creator>Alessandro D'Alessandro</dc:creator>
  <dc:description/>
  <dc:language>en-US</dc:language>
  <cp:lastModifiedBy>MC SYSTEM</cp:lastModifiedBy>
  <dcterms:modified xsi:type="dcterms:W3CDTF">2011-07-26T03:23:28Z</dcterms:modified>
  <cp:revision>195</cp:revision>
  <dc:subject/>
  <dc:title>Operators Considerations on MPLS-TP OAM tools</dc:title>
</cp:coreProperties>
</file>