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307C-B918-41FA-B869-F56ED62923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6EB24-85A1-4C66-80FC-60A83F771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77B35-C103-479D-A51D-C6BAEF82C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5C17-6843-41B0-BA67-9E4DF261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B95A-C13E-4731-B5C0-DA9DB210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EDF7-E45C-4580-AC17-27F5CD87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7BD3-D050-4394-AE2A-20D2FAFD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D8A1-EECE-4E90-8493-FCD4C848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D8DD-9EF8-4AA0-92D9-863A9F72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EADC-AD07-49C2-844C-5EB6C76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136D-8FC6-4468-A600-366DBE58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C52D-7F2D-418B-BD9B-EDCADFC2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2A8-F917-4FF2-9ED7-8B0433C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A59-558A-4925-A297-CC055CF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8185-5D12-4C05-BB33-EB9DDA5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D2A5-0D22-43E5-9905-602BC8E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9415-5794-4FC4-B67D-BC8D156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AB51-5F74-4127-B361-D0400566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29C6-5128-4865-9429-A4791463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4ACC-03E1-43E1-904D-32D192FE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4B8B-960E-4D67-AA41-07712B8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6070-0F01-45FB-B711-9A71BD32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8FAF-9272-4E4A-A32F-C62B4019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07D-49E4-4586-8EFB-7B77D05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5F08-543D-4C9F-93BF-2E9A87A0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7515-01A6-4F60-A8B6-F85A2DD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6688-30C0-49C8-A0A1-5B0324D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884A92-37C6-4508-99A3-FE2060D8BF3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2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74BFC3-4F56-4C41-AF15-E87E246BC2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6659280" y="70920"/>
            <a:ext cx="23763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2843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1066680"/>
            <a:ext cx="2865240" cy="3155760"/>
            <a:chOff x="0" y="1066680"/>
            <a:chExt cx="2865240" cy="3155760"/>
          </a:xfrm>
        </p:grpSpPr>
        <p:sp>
          <p:nvSpPr>
            <p:cNvPr id="53" name="Rectangle 5"/>
            <p:cNvSpPr/>
            <p:nvPr/>
          </p:nvSpPr>
          <p:spPr>
            <a:xfrm>
              <a:off x="572760" y="358164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5040" y="1690200"/>
              <a:ext cx="57420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279880" y="1066680"/>
              <a:ext cx="58536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140840" y="3581640"/>
              <a:ext cx="58356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279880" y="1690200"/>
              <a:ext cx="58536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1140840" y="2323440"/>
              <a:ext cx="58356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0" y="2323440"/>
              <a:ext cx="58212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1715040" y="2323440"/>
              <a:ext cx="57420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57276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1140840" y="2946960"/>
              <a:ext cx="58356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5279DE-1A4E-467D-9D72-0E23FB08F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PLS-TP  75th IETF - Stockho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A90823-9D1D-48ED-9775-A3D073A3698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7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913BE-6579-42F2-A438-61289FACF84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06725E-34AD-4E30-8D4B-D953513C33C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7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Operators Considerations on MPLS-TP OAM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5929200"/>
            <a:ext cx="813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PLS WG, 8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ETF 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Quebec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0718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raft-fang-mpls-tp-oam-considerations-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476360" y="3786120"/>
            <a:ext cx="7236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ng Li (CATR Chi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n Li (China Mob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essando D'Alessandro (Telecom Itali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iquan Jing (China Telec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uangquan Wang (China Unicom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Pedro Fernandez-Palacios Giminez  (Telefonica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4E13F2-C315-4B15-B859-F54D6AEB69E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ing out the urgent and increasing requirements of PTN applications for the metro packet transport network (PT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of an essential MPLS-TP OAM tool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1B260A-9413-4904-90F4-8F2DB960489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content i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8227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s’ activities on draft-b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MPLS-TP OAM function toolset from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AM solutions investigation for PT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758825-42E0-4EBC-A623-2F8117CFAFF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from 00 to 02-Carriers’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8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uthor (Juan Giminez from Telefonica) i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dreds of thousands of MPLS-TP based PTN nodes are being deployed in countries such as Korea, China, Japan, India, Italy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raft-bhh based OAM is approved as CCSA standard and it is the de facto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0,000 PTN nodes in CMCC will run draft- bhh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N network (support draft-bhh) with 2200 nodes has been built in 2 provinces in 2010 and 2 commercial trial PTN networks have been built in 20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Unicom has started to build PTN commercial trail (support draft-bhh) networks in more than 10 ci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d a tender for acquiring PTN equipment and is going to deploy them in the second half of 2011 in its metro aggregation network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DEC4CA-F62B-4F3A-96EB-755266A0D99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-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of an essential MPLS-TP OAM solution set to meet the urgent and increasing requirements of PTN applications for the metro packet transport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draft-tsb-mpls-tp-ach-ptn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draft-fa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mpls-tp-oam-consid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work group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0D0116-4A78-4EC1-A432-5D2965034A1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95A189-1357-4C05-9E8A-8366DBFD771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4:13:16Z</dcterms:created>
  <dc:creator>Alessandro D'Alessandro</dc:creator>
  <dc:description/>
  <dc:language>en-US</dc:language>
  <cp:lastModifiedBy>MC SYSTEM</cp:lastModifiedBy>
  <dcterms:modified xsi:type="dcterms:W3CDTF">2011-07-26T03:23:28Z</dcterms:modified>
  <cp:revision>195</cp:revision>
  <dc:subject/>
  <dc:title>Operators Considerations on MPLS-TP OAM tools</dc:title>
</cp:coreProperties>
</file>