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7DA1-6331-43DB-9A1A-A0C2210639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B0AA-94D5-4542-854E-D0D956FDA4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latency, latency variation and packet loss as a Link at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 computation with latency and packet constr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Link or FA selection/creation based on latency/packet constr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accumulation and verification along one path across multi-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ustomers may insist on having the ability to re-route or protection if the latency SLA is not being m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ustomers may insist on having the ability to re-rout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mize latency and/or loss end-to-end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64D-9237-4FCC-A738-6300D3D22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AC91-005E-41CC-BB01-8D9029ADEF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DB3-8B8C-4234-8A9E-BFE5ACE9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162-4F46-4D73-8853-F22994B6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96E-E9A4-4A10-8E68-273BD78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E66-6138-4B89-BDC9-319BA74C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B4D-D291-4182-9F64-C248402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1C0-67ED-4C1F-B5C2-1366CD8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F23-29F6-4EBE-8AB6-09E4959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940-A52A-4BA8-B073-3D16808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556-51F0-49D8-A3D6-AB475D6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409-E510-44A3-82F7-8B8FA80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AC2-8777-4513-8E86-54E39B9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7ED-16C0-4FB0-BC1E-BCE966C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44E-7F77-41C3-B20E-1E12E00913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delay-loss-te-framework-00" TargetMode="External"/><Relationship Id="rId2" Type="http://schemas.openxmlformats.org/officeDocument/2006/relationships/hyperlink" Target="http://tools.ietf.org/html/draft-fuxh-ccamp-delay-loss-rsvp-te-ext-0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5010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ramework for latency and loss traffic engineering application</a:t>
            </a:r>
            <a:br>
              <a:rPr sz="3200"/>
            </a:br>
            <a:br>
              <a:rPr sz="32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fuxh-ccamp-delay-loss-te-framework-00.txt</a:t>
            </a: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fuxh-ccamp-delay-loss-rsvp-te-ext-00.tx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E Drak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uni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encer Giacalon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ncy Accumulation and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0000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 Latenc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arried in the LSP_ATTRIBUTES object of Path/Resv mess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source node makes the intermediate node have the capability to verify the accumulated latency, the "Latency Verifying desired" flag should be set in the LSP_ATTRIBUTES object of Path/Res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mediate nodes could reject the Path or Resv if the accumulated latency exceeds required latency value in this obj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7867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mailing lis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driver is stock/commodity trading and data center applications. The purpose is to make an accurate end-to-end prediction of latency and packet loss before a path is establish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as presented in 79th and 80th in CCAM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irs (Lou and Acee) suggest the overlap OSPF portions of </a:t>
            </a: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 combined with </a:t>
            </a:r>
            <a:r>
              <a:rPr b="0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draft-giacalone-ospf-te-express-pa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irs (Lou and Ross) suggest framework and rsvp-te should be done in MPLS W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ructure the draft-wang into a framework and some protocol specific parts (e.g., OSPF and RSVP-TE) to address the issues raised in the frame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suggestion from chairs, framework and rsvp-te documents will be renamed with title “mpls” and posted to MPLS W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0" y="3143160"/>
            <a:ext cx="428616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fuxh-mpls-delay-loss-te-framework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4344840"/>
            <a:ext cx="3929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giacalone-ospf-te-express-path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714920" y="4344840"/>
            <a:ext cx="400032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-fuxh-mpls-delay-loss-rsvp-te-ext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4429080" y="3513240"/>
            <a:ext cx="0" cy="41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2286000" y="3929040"/>
            <a:ext cx="4286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13"/>
          <p:cNvCxnSpPr/>
          <p:nvPr/>
        </p:nvCxnSpPr>
        <p:spPr>
          <a:xfrm flipH="1">
            <a:off x="2284200" y="3930120"/>
            <a:ext cx="2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接箭头连接符 16"/>
          <p:cNvCxnSpPr/>
          <p:nvPr/>
        </p:nvCxnSpPr>
        <p:spPr>
          <a:xfrm flipH="1">
            <a:off x="6571440" y="3928680"/>
            <a:ext cx="25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928800"/>
          <a:ext cx="8429760" cy="5622840"/>
        </p:xfrm>
        <a:graphic>
          <a:graphicData uri="http://schemas.openxmlformats.org/drawingml/2006/table">
            <a:tbl>
              <a:tblPr/>
              <a:tblGrid>
                <a:gridCol w="714600"/>
                <a:gridCol w="5286240"/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mmunicate latency, latency variation and packet loss as a link’s traffic engineering performance metric into IG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PF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trol latency and loss IGP message advertisement and avoid unstable when the latency, latency variation and packet loss value chan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computation entity MUST have the capability to compute one end-to-end path with latency and packet loss constrai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Comp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a traffic flow should select a component link with minimum latency and/or packet loss value, maximum acceptable latency and/or packet loss value and maximum acceptable delay variatio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L-REQ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FA selection or FA-LSP creation with minim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ncy and/or packet loss value, maximum acceptable latency and/or packet loss value and maximum acceptable delay variation val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7120" y="1071720"/>
          <a:ext cx="8429760" cy="4572000"/>
        </p:xfrm>
        <a:graphic>
          <a:graphicData uri="http://schemas.openxmlformats.org/drawingml/2006/table">
            <a:tbl>
              <a:tblPr/>
              <a:tblGrid>
                <a:gridCol w="714600"/>
                <a:gridCol w="5286240"/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ccumulate latency of links and nodes along one LSP across multi-domain (e.g., inter-AS, inter-Area or multi-layer) so that an latency validation decision can be made at the source nod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-TE Ex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pport pre-defined protection or dynamic re-routing, if a "provisioned" end-to-end LSP latency and/or loss could not meet SLA anym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Plan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pport re-routing latency and/or loss end-to-end cost, if a “provisioned” end-to-end LSP latency and/or loss performance is improved because of some segment performance promo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Plan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dicate the switchover of the LSP according to maximum acceptable change latency and packet loss value in order to avoid unst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fuxh-ccamp-delay-loss-rsvp-te-ext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SVP-TE portions in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draft-wang-ccamp-latency-te-metr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ved into this draf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extend RSVP-TE protocol to promote SLA experience of latency and packet loss application in inter-AS, inter-Area or multi-laye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3: To facilitate the component link selection or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4: To facilitate the FA selection or FA-LSP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5: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umulate latency of links and nodes along one LSP across multi-domain so that an latency validation decision can be made at the source n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7128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nent Link or FA Selection/Cre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9000" y="10713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ncy SLA Parameters ERO sub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is added into the boundary node of FA-LSP or Composite Lin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explicitly conveys the latency SLA parameter used for component link or FA selection and creation based on the latency constrai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bit: indicates whether a traffic flow shall select a component link or FA with the minimum latency value or n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 bit: indicates whether a traffic flow shall select a component link or FA with the minimum latency variation value or n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52480" y="4000680"/>
            <a:ext cx="75056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component links within one composite l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1: latency = 5ms, latency variation = 15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2: latency = 10ms, latency variation = 6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3: latency = 20ms, latency variation = 3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nent link4: latency = 30ms, latency variation = 1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SLA Parameters for component link selection. Only Component link2 could be qualif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lue= 35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riation Value = 10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ere are following SLA Parameters for component link selection. There may be no any qualified component links.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riority may be used for latency and var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bit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lue= 35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ptable Latency Variation Value = 10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onent Link or FA Selection/Cre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ncy Accumulation and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92880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ncy Accumulatio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carried in Path/Resv message in order to accumulate the latency of each links and nodes along the path which is across multi-domai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source node desires to accumulate (i.e., sum) the total    latency of one end-to-end LSP, the "Latency Accumulating desired“ flag should be set in the LSP_ATTRIBUTES object of Path/Resv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12760" y="3519360"/>
            <a:ext cx="6145200" cy="148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407960" y="5038560"/>
            <a:ext cx="62103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26"/>
          <p:cNvGrpSpPr/>
          <p:nvPr/>
        </p:nvGrpSpPr>
        <p:grpSpPr>
          <a:xfrm>
            <a:off x="6286680" y="4357800"/>
            <a:ext cx="1893600" cy="1787400"/>
            <a:chOff x="6286680" y="4357800"/>
            <a:chExt cx="1893600" cy="1787400"/>
          </a:xfrm>
        </p:grpSpPr>
        <p:grpSp>
          <p:nvGrpSpPr>
            <p:cNvPr id="77" name="组合 23"/>
            <p:cNvGrpSpPr/>
            <p:nvPr/>
          </p:nvGrpSpPr>
          <p:grpSpPr>
            <a:xfrm>
              <a:off x="6286680" y="4357800"/>
              <a:ext cx="570960" cy="389880"/>
              <a:chOff x="6286680" y="4357800"/>
              <a:chExt cx="570960" cy="389880"/>
            </a:xfrm>
          </p:grpSpPr>
          <p:sp>
            <p:nvSpPr>
              <p:cNvPr id="78" name="直接连接符 6"/>
              <p:cNvSpPr/>
              <p:nvPr/>
            </p:nvSpPr>
            <p:spPr>
              <a:xfrm>
                <a:off x="6286680" y="4357800"/>
                <a:ext cx="570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8"/>
              <p:cNvSpPr/>
              <p:nvPr/>
            </p:nvSpPr>
            <p:spPr>
              <a:xfrm>
                <a:off x="6286680" y="4746240"/>
                <a:ext cx="570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直接连接符 10"/>
            <p:cNvSpPr/>
            <p:nvPr/>
          </p:nvSpPr>
          <p:spPr>
            <a:xfrm flipH="1">
              <a:off x="6856560" y="4359240"/>
              <a:ext cx="144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2"/>
            <p:cNvSpPr/>
            <p:nvPr/>
          </p:nvSpPr>
          <p:spPr>
            <a:xfrm>
              <a:off x="6858000" y="4591080"/>
              <a:ext cx="128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5"/>
            <p:cNvSpPr/>
            <p:nvPr/>
          </p:nvSpPr>
          <p:spPr>
            <a:xfrm>
              <a:off x="8143920" y="459108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直接箭头连接符 18"/>
            <p:cNvCxnSpPr/>
            <p:nvPr/>
          </p:nvCxnSpPr>
          <p:spPr>
            <a:xfrm flipH="1" flipV="1">
              <a:off x="7572240" y="6143400"/>
              <a:ext cx="6084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4" name="TextBox 27"/>
          <p:cNvSpPr/>
          <p:nvPr/>
        </p:nvSpPr>
        <p:spPr>
          <a:xfrm>
            <a:off x="4357800" y="6572160"/>
            <a:ext cx="3357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tency Accumulation 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3286080" y="3247920"/>
            <a:ext cx="3357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tency Accumulati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-50760" y="6153120"/>
            <a:ext cx="1357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n- lin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接箭头连接符 33"/>
          <p:cNvCxnSpPr/>
          <p:nvPr/>
        </p:nvCxnSpPr>
        <p:spPr>
          <a:xfrm>
            <a:off x="1214280" y="6305040"/>
            <a:ext cx="9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1-07-23T08:01:13Z</dcterms:modified>
  <cp:revision>427</cp:revision>
  <dc:subject/>
  <dc:title>幻灯片 1</dc:title>
</cp:coreProperties>
</file>