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F578-EE80-400D-82C2-06E764C013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C1DC-CF40-42B3-984C-8F84405191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latency, latency variation and packet loss as a Link at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 computation with latency and packet constr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Link or FA selection/creation based on latency/packet constr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accumulation and verification along one path across multi-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ustomers may insist on having the ability to re-route or protection if the latency SLA is not being m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ustomers may insist on having the ability to re-rout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mize latency and/or loss end-to-end c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2081-3F2D-4DE8-9E5F-A6A5871981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62C-F361-499F-8D9A-AD026CAFAB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735-D6D7-4B92-A41B-4BF65325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3F1-DBDC-40B8-9549-395B5737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8A7-D90D-404B-8A91-E70F3E7F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F8B-155F-419C-A1B9-BDDF9FB3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FF3-EE76-4BB2-8412-65956032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254-E7C9-4CC3-A82E-5DF2D9B2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AF7-971D-4340-8A9F-4458EA4C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5C8-F27D-419F-8974-40592CE1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C95-137B-4490-BBEA-0D10D354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573-57D8-4FAD-83F1-20C8BF2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45B-68EB-4C4C-910B-5787AE18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CB4-6209-42B4-BCDC-7661F1C0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2732-520A-4171-A08D-C724505650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fuxh-ccamp-delay-loss-te-framework-00" TargetMode="External"/><Relationship Id="rId2" Type="http://schemas.openxmlformats.org/officeDocument/2006/relationships/hyperlink" Target="http://tools.ietf.org/html/draft-fuxh-ccamp-delay-loss-rsvp-te-ext-0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5010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ramework for latency and loss traffic engineering application</a:t>
            </a:r>
            <a:br>
              <a:rPr sz="3200"/>
            </a:br>
            <a:br>
              <a:rPr sz="3200"/>
            </a:b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fuxh-ccamp-delay-loss-te-framework-00.txt</a:t>
            </a:r>
            <a:br>
              <a:rPr sz="2800"/>
            </a:b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raft-fuxh-ccamp-delay-loss-rsvp-te-ext-00.tx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86080"/>
            <a:ext cx="6986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ihua Fu, Malcolm Betts, Qilei Wang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ve McDysan, Andrew Malis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ohn E Drake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Juni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encer Giacalone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homson Reu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tency Accumulation and Ver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840" y="100008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 Latency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carried in the LSP_ATTRIBUTES object of Path/Resv mess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source node makes the intermediate node have the capability to verify the accumulated latency, the "Latency Verifying desired" flag should be set in the LSP_ATTRIBUTES object of Path/Res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mediate nodes could reject the Path or Resv if the accumulated latency exceeds required latency value in this objec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42960" y="4429080"/>
            <a:ext cx="7867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e the document according to the feedback of meeting and mailing list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driver is stock/commodity trading and data center applications. The purpose is to make an accurate end-to-end prediction of latency and packet loss before a path is establish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draft-wang-ccamp-latency-te-met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as presented in 79th and 80th in CCAM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irs (Lou and Acee) suggest the overlap OSPF portions of </a:t>
            </a:r>
            <a:r>
              <a:rPr b="0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draft-wang-ccamp-latency-te-met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 combined with </a:t>
            </a:r>
            <a:r>
              <a:rPr b="0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draft-giacalone-ospf-te-express-pa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irs (Lou and Ross) suggest framework and rsvp-te should be done in MPLS W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tructure the draft-wang into a framework and some protocol specific parts (e.g., OSPF and RSVP-TE) to address the issues raised in the frame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cumen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suggestion from chairs, framework and rsvp-te documents will be renamed with title “mpls” and posted to MPLS W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86000" y="3143160"/>
            <a:ext cx="428616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ft-fuxh-mpls-delay-loss-te-framework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4344840"/>
            <a:ext cx="39290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ft-giacalone-ospf-te-express-path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714920" y="4344840"/>
            <a:ext cx="400032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ft-fuxh-mpls-delay-loss-rsvp-te-ext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4429080" y="3513240"/>
            <a:ext cx="0" cy="41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2286000" y="3929040"/>
            <a:ext cx="4286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接箭头连接符 13"/>
          <p:cNvCxnSpPr/>
          <p:nvPr/>
        </p:nvCxnSpPr>
        <p:spPr>
          <a:xfrm flipH="1">
            <a:off x="2284200" y="3930120"/>
            <a:ext cx="21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接箭头连接符 16"/>
          <p:cNvCxnSpPr/>
          <p:nvPr/>
        </p:nvCxnSpPr>
        <p:spPr>
          <a:xfrm flipH="1">
            <a:off x="6571440" y="3928680"/>
            <a:ext cx="25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57120" y="928800"/>
          <a:ext cx="8429760" cy="5622840"/>
        </p:xfrm>
        <a:graphic>
          <a:graphicData uri="http://schemas.openxmlformats.org/drawingml/2006/table">
            <a:tbl>
              <a:tblPr/>
              <a:tblGrid>
                <a:gridCol w="714600"/>
                <a:gridCol w="5286240"/>
                <a:gridCol w="242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91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mmunicate latency, latency variation and packet loss as a link’s traffic engineering performance metric into IG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PF Ex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trol latency and loss IGP message advertisement and avoid unstable when the latency, latency variation and packet loss value chang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computation entity MUST have the capability to compute one end-to-end path with latency and packet loss constrai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Compu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dicate a traffic flow should select a component link with minimum latency and/or packet loss value, maximum acceptable latency and/or packet loss value and maximum acceptable delay variatio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VP-TE Ex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CL-REQ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dicate FA selection or FA-LSP creation with minim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ncy and/or packet loss value, maximum acceptable latency and/or packet loss value and maximum acceptable delay variation val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VP-TE Ex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57120" y="1071720"/>
          <a:ext cx="8429760" cy="4572000"/>
        </p:xfrm>
        <a:graphic>
          <a:graphicData uri="http://schemas.openxmlformats.org/drawingml/2006/table">
            <a:tbl>
              <a:tblPr/>
              <a:tblGrid>
                <a:gridCol w="714600"/>
                <a:gridCol w="5286240"/>
                <a:gridCol w="242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ccumulate latency of links and nodes along one LSP across multi-domain (e.g., inter-AS, inter-Area or multi-layer) so that an latency validation decision can be made at the source nod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VP-TE Ex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pport pre-defined protection or dynamic re-routing, if a "provisioned" end-to-end LSP latency and/or loss could not meet SLA anymo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Plan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pport re-routing latency and/or loss end-to-end cost, if a “provisioned” end-to-end LSP latency and/or loss performance is improved because of some segment performance promo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Plan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dicate the switchover of the LSP according to maximum acceptable change latency and packet loss value in order to avoid unst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raft-fuxh-ccamp-delay-loss-rsvp-te-ext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SVP-TE portions in 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draft-wang-ccamp-latency-te-metr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ved into this draf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extend RSVP-TE protocol to promote SLA experience of latency and packet loss application in inter-AS, inter-Area or multi-layer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3: To facilitate the component link selection or creation based on latency and packet loss constra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4: To facilitate the FA selection or FA-LSP creation based on latency and packet loss constra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5: T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umulate latency of links and nodes along one LSP across multi-domain so that an latency validation decision can be made at the source no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7128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onent Link or FA Selection/Cre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9000" y="10713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ncy SLA Parameters ERO sub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 is added into the boundary node of FA-LSP or Composite Link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 explicitly conveys the latency SLA parameter used for component link or FA selection and creation based on the latency constrain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bit: indicates whether a traffic flow shall select a component link or FA with the minimum latency value or n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 bit: indicates whether a traffic flow shall select a component link or FA with the minimum latency variation value or n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52480" y="4000680"/>
            <a:ext cx="75056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there are following component links within one composite li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nent link1: latency = 5ms, latency variation = 15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nent link2: latency = 10ms, latency variation = 6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nent link3: latency = 20ms, latency variation = 3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nent link4: latency = 30ms, latency variation = 1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there are following SLA Parameters for component link selection. Only Component link2 could be qualifi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bit 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 bit 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ptable Latency Value= 35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ptable Latency Variation Value = 10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there are following SLA Parameters for component link selection. There may be no any qualified component links.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riority may be used for latency and vari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bit 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 bit 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ptable Latency Value= 35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ptable Latency Variation Value = 10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onent Link or FA Selection/Cre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tency Accumulation and Ver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92880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ncy Accumulatio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carried in Path/Resv message in order to accumulate the latency of each links and nodes along the path which is across multi-domai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he source node desires to accumulate (i.e., sum) the total    latency of one end-to-end LSP, the "Latency Accumulating desired“ flag should be set in the LSP_ATTRIBUTES object of Path/Resv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12760" y="3519360"/>
            <a:ext cx="6145200" cy="1481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407960" y="5038560"/>
            <a:ext cx="62103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26"/>
          <p:cNvGrpSpPr/>
          <p:nvPr/>
        </p:nvGrpSpPr>
        <p:grpSpPr>
          <a:xfrm>
            <a:off x="6286680" y="4357800"/>
            <a:ext cx="1893600" cy="1787400"/>
            <a:chOff x="6286680" y="4357800"/>
            <a:chExt cx="1893600" cy="1787400"/>
          </a:xfrm>
        </p:grpSpPr>
        <p:grpSp>
          <p:nvGrpSpPr>
            <p:cNvPr id="77" name="组合 23"/>
            <p:cNvGrpSpPr/>
            <p:nvPr/>
          </p:nvGrpSpPr>
          <p:grpSpPr>
            <a:xfrm>
              <a:off x="6286680" y="4357800"/>
              <a:ext cx="570960" cy="389880"/>
              <a:chOff x="6286680" y="4357800"/>
              <a:chExt cx="570960" cy="389880"/>
            </a:xfrm>
          </p:grpSpPr>
          <p:sp>
            <p:nvSpPr>
              <p:cNvPr id="78" name="直接连接符 6"/>
              <p:cNvSpPr/>
              <p:nvPr/>
            </p:nvSpPr>
            <p:spPr>
              <a:xfrm>
                <a:off x="6286680" y="4357800"/>
                <a:ext cx="570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接连接符 8"/>
              <p:cNvSpPr/>
              <p:nvPr/>
            </p:nvSpPr>
            <p:spPr>
              <a:xfrm>
                <a:off x="6286680" y="4746240"/>
                <a:ext cx="570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直接连接符 10"/>
            <p:cNvSpPr/>
            <p:nvPr/>
          </p:nvSpPr>
          <p:spPr>
            <a:xfrm flipH="1">
              <a:off x="6856560" y="4359240"/>
              <a:ext cx="144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12"/>
            <p:cNvSpPr/>
            <p:nvPr/>
          </p:nvSpPr>
          <p:spPr>
            <a:xfrm>
              <a:off x="6858000" y="4591080"/>
              <a:ext cx="1285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5"/>
            <p:cNvSpPr/>
            <p:nvPr/>
          </p:nvSpPr>
          <p:spPr>
            <a:xfrm>
              <a:off x="8143920" y="459108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直接箭头连接符 18"/>
            <p:cNvCxnSpPr/>
            <p:nvPr/>
          </p:nvCxnSpPr>
          <p:spPr>
            <a:xfrm flipH="1" flipV="1">
              <a:off x="7572240" y="6143400"/>
              <a:ext cx="6084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4" name="TextBox 27"/>
          <p:cNvSpPr/>
          <p:nvPr/>
        </p:nvSpPr>
        <p:spPr>
          <a:xfrm>
            <a:off x="4357800" y="6572160"/>
            <a:ext cx="3357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tency Accumulation sub-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8"/>
          <p:cNvSpPr/>
          <p:nvPr/>
        </p:nvSpPr>
        <p:spPr>
          <a:xfrm>
            <a:off x="3286080" y="3247920"/>
            <a:ext cx="3357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tency Accumulati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9"/>
          <p:cNvSpPr/>
          <p:nvPr/>
        </p:nvSpPr>
        <p:spPr>
          <a:xfrm>
            <a:off x="-50760" y="6153120"/>
            <a:ext cx="1357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n- lin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接箭头连接符 33"/>
          <p:cNvCxnSpPr/>
          <p:nvPr/>
        </p:nvCxnSpPr>
        <p:spPr>
          <a:xfrm>
            <a:off x="1214280" y="6305040"/>
            <a:ext cx="9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Xihua Fu</cp:lastModifiedBy>
  <dcterms:modified xsi:type="dcterms:W3CDTF">2011-07-23T08:01:13Z</dcterms:modified>
  <cp:revision>427</cp:revision>
  <dc:subject/>
  <dc:title>幻灯片 1</dc:title>
</cp:coreProperties>
</file>