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858348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3800" y="3724560"/>
            <a:ext cx="858348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3800" y="372456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2280" y="372456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120" y="136044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8440" y="136044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53800" y="372456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120" y="372456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8440" y="372456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53800" y="1360440"/>
            <a:ext cx="8583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85834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1880" y="232920"/>
            <a:ext cx="86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f7f7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3800" y="372456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53800" y="1360440"/>
            <a:ext cx="8583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2280" y="372456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3800" y="3724560"/>
            <a:ext cx="858348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858348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3800" y="3724560"/>
            <a:ext cx="858348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3800" y="372456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2280" y="372456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56120" y="136044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8440" y="136044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53800" y="372456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56120" y="372456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8440" y="3724560"/>
            <a:ext cx="276372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85834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1880" y="232920"/>
            <a:ext cx="86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f7f7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53800" y="372456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2280" y="372456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2280" y="1360440"/>
            <a:ext cx="4188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3800" y="3724560"/>
            <a:ext cx="858348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3800" y="1360440"/>
            <a:ext cx="85834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marL="171360" indent="-17136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1" marL="291960" indent="-17748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2" marL="520560" indent="-22860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3" marL="744480" indent="-22860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4" marL="977760" indent="-22860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5" marL="97776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6" marL="97776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3944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Tahoma"/>
            </a:endParaRPr>
          </a:p>
          <a:p>
            <a:pPr lvl="1" marL="114480" indent="0"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ahoma"/>
            </a:endParaRPr>
          </a:p>
          <a:p>
            <a:pPr lvl="2" marL="291960" algn="ctr">
              <a:spcBef>
                <a:spcPts val="400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ahoma"/>
            </a:endParaRPr>
          </a:p>
          <a:p>
            <a:pPr lvl="3" marL="515880" algn="ctr">
              <a:spcBef>
                <a:spcPts val="34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ahoma"/>
            </a:endParaRPr>
          </a:p>
          <a:p>
            <a:pPr lvl="4" marL="749160" algn="ctr">
              <a:spcBef>
                <a:spcPts val="34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404040"/>
              </a:solidFill>
              <a:latin typeface="Tahoma"/>
            </a:endParaRPr>
          </a:p>
          <a:p>
            <a:pPr lvl="5" marL="7491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404040"/>
              </a:solidFill>
              <a:latin typeface="Tahoma"/>
            </a:endParaRPr>
          </a:p>
          <a:p>
            <a:pPr lvl="6" marL="7491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0160" y="3944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Tahoma"/>
              </a:rPr>
              <a:t>draft-ietf-mptcp-api-02</a:t>
            </a:r>
            <a:br>
              <a:rPr sz="3000"/>
            </a:b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39760" y="5460840"/>
            <a:ext cx="6400800" cy="53208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4343"/>
                </a:solidFill>
                <a:latin typeface="Tahoma"/>
              </a:rPr>
              <a:t>Michael Scharf</a:t>
            </a:r>
            <a:r>
              <a:rPr b="0" lang="en-US" sz="1800" spc="-1" strike="noStrike">
                <a:solidFill>
                  <a:srgbClr val="434343"/>
                </a:solidFill>
                <a:latin typeface="Tahoma"/>
              </a:rPr>
              <a:t>, Alan Ford</a:t>
            </a:r>
            <a:br>
              <a:rPr sz="1800"/>
            </a:br>
            <a:r>
              <a:rPr b="0" lang="en-US" sz="1800" spc="-1" strike="noStrike">
                <a:solidFill>
                  <a:srgbClr val="7f7f7f"/>
                </a:solidFill>
                <a:latin typeface="Tahoma"/>
              </a:rPr>
              <a:t>July 27, 2011</a:t>
            </a:r>
            <a:endParaRPr b="0" lang="en-US" sz="1800" spc="-1" strike="noStrike">
              <a:solidFill>
                <a:srgbClr val="7f7f7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Tahoma"/>
              </a:rPr>
              <a:t>CHANGES COMPARED TO</a:t>
            </a:r>
            <a:br>
              <a:rPr sz="3000"/>
            </a:br>
            <a:r>
              <a:rPr b="1" lang="en-US" sz="3000" spc="-1" strike="noStrike">
                <a:solidFill>
                  <a:srgbClr val="404040"/>
                </a:solidFill>
                <a:latin typeface="Tahoma"/>
              </a:rPr>
              <a:t>draft-ietf-mptcp-api-01</a:t>
            </a:r>
            <a:br>
              <a:rPr sz="3000"/>
            </a:b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85834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marL="171360" indent="-17136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Additional text on outdated assumptions if an MPTCP application does not use fate sharing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1" marL="29196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Explains possible address reassignment to another host</a:t>
            </a:r>
            <a:endParaRPr b="0" lang="en-US" sz="1800" spc="-1" strike="noStrike">
              <a:solidFill>
                <a:srgbClr val="404040"/>
              </a:solidFill>
              <a:latin typeface="Tahoma"/>
            </a:endParaRPr>
          </a:p>
          <a:p>
            <a:pPr marL="171360" indent="-17136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The appendix explicitly mentions an integration of the advanced MPTCP API and the SCTP API as a potential objective, which is left for further study for the basic API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1" marL="29196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New appendix A.4</a:t>
            </a:r>
            <a:endParaRPr b="0" lang="en-US" sz="1800" spc="-1" strike="noStrike">
              <a:solidFill>
                <a:srgbClr val="404040"/>
              </a:solidFill>
              <a:latin typeface="Tahoma"/>
            </a:endParaRPr>
          </a:p>
          <a:p>
            <a:pPr marL="171360" indent="-17136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A short additional explanation of the parameters of the abstract functions TCP_MULTIPATH_ADD and TCP_MULTIPATH_REMOVE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1" marL="29196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 “</a:t>
            </a: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List of addresses in a corresponding data structure”</a:t>
            </a:r>
            <a:endParaRPr b="0" lang="en-US" sz="1800" spc="-1" strike="noStrike">
              <a:solidFill>
                <a:srgbClr val="404040"/>
              </a:solidFill>
              <a:latin typeface="Tahoma"/>
            </a:endParaRPr>
          </a:p>
          <a:p>
            <a:pPr marL="171360" indent="-17136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Better explanation when TCP_MULTIPATH_REMOVE may be used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1" marL="29196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Both before connection setup or during a connection</a:t>
            </a:r>
            <a:endParaRPr b="0" lang="en-US" sz="18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1880" y="23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Tahoma"/>
              </a:rPr>
              <a:t>NEXT STEPS</a:t>
            </a:r>
            <a:endParaRPr b="1" lang="en-US" sz="3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3800" y="1360440"/>
            <a:ext cx="85834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marL="171360" indent="-17136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040"/>
                </a:solidFill>
                <a:latin typeface="Tahoma"/>
              </a:rPr>
              <a:t>Update to -02 addresses the review comments (thanks again!)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lvl="1" marL="291960" indent="-177480">
              <a:spcBef>
                <a:spcPts val="451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040"/>
                </a:solidFill>
                <a:latin typeface="Tahoma"/>
              </a:rPr>
              <a:t>Javier Ubillos</a:t>
            </a:r>
            <a:endParaRPr b="0" lang="en-US" sz="1800" spc="-1" strike="noStrike">
              <a:solidFill>
                <a:srgbClr val="404040"/>
              </a:solidFill>
              <a:latin typeface="Tahoma"/>
            </a:endParaRPr>
          </a:p>
          <a:p>
            <a:pPr lvl="1" marL="291960" indent="-177480">
              <a:spcBef>
                <a:spcPts val="451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040"/>
                </a:solidFill>
                <a:latin typeface="Tahoma"/>
              </a:rPr>
              <a:t>Michael Tuexen</a:t>
            </a:r>
            <a:endParaRPr b="0" lang="en-US" sz="1800" spc="-1" strike="noStrike">
              <a:solidFill>
                <a:srgbClr val="404040"/>
              </a:solidFill>
              <a:latin typeface="Tahoma"/>
            </a:endParaRPr>
          </a:p>
          <a:p>
            <a:pPr marL="171360" indent="-17136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040"/>
                </a:solidFill>
                <a:latin typeface="Tahoma"/>
              </a:rPr>
              <a:t>Authors have no plan for further changes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marL="17136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  <a:p>
            <a:pPr marL="171360" indent="-171360">
              <a:spcBef>
                <a:spcPts val="499"/>
              </a:spcBef>
              <a:spcAft>
                <a:spcPts val="601"/>
              </a:spcAft>
              <a:buClr>
                <a:srgbClr val="6639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040"/>
                </a:solidFill>
                <a:latin typeface="Tahoma"/>
              </a:rPr>
              <a:t>Ready for WG last call?</a:t>
            </a:r>
            <a:endParaRPr b="0" lang="en-US" sz="20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22:08:10Z</dcterms:created>
  <dc:creator>James</dc:creator>
  <dc:description/>
  <dc:language>en-US</dc:language>
  <cp:lastModifiedBy>mscharf</cp:lastModifiedBy>
  <dcterms:modified xsi:type="dcterms:W3CDTF">2011-07-25T15:34:36Z</dcterms:modified>
  <cp:revision>275</cp:revision>
  <dc:subject/>
  <dc:title>Slide 1</dc:title>
</cp:coreProperties>
</file>