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E13-6391-4E8C-B0A6-3BD6FAB2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A58-2A70-4157-9E65-DEAD08AA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2DB-9EB0-451E-A1A4-C8744996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B4A-E3D0-48E1-8213-A56977E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557-4ADA-44F7-99E9-749F50F1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4A1-BA7F-4BE4-950E-C3B9435A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33A-90CE-480E-8C47-DE2CF649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966-A22F-40A6-883B-C5EC9DE5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FA7-3099-4D03-9352-D17765D6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458-31C4-4DFF-8245-900C00E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EEB-82AB-4566-9F3A-204D7D20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B1F-FE86-467F-BEEF-B979B74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B73B-985B-4923-9D17-00D2900E47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TCP Enhancements to Improve Applicability to Wireless Access Networks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draft_hampel_mptcp_applicability_wireless_networks_00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 Hampel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erry Klein – Bell Labs</a:t>
            </a: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ions on ML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95360" y="774720"/>
            <a:ext cx="842004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eamles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ession migration across 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roughput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“Not worse than best pa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ilience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ame as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oad balancing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ame as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lication-, middlebox-, fairness-, security compliance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ame as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s the goals &amp; constraints of RFC 61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st: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Lower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maller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uffer spac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conventional TC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Reduce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ir-interface/battery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Reduce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rocessing/air-interface overh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9800" y="60580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PTCP: Enabler rather than performance differen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8200" y="289080"/>
            <a:ext cx="86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ath-Selective Operation = “Just-pick-the-best-path”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alue &amp;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3640" y="3909960"/>
            <a:ext cx="380880" cy="711360"/>
          </a:xfrm>
          <a:custGeom>
            <a:avLst/>
            <a:gdLst>
              <a:gd name="textAreaLeft" fmla="*/ 0 w 380880"/>
              <a:gd name="textAreaRight" fmla="*/ 137520 w 380880"/>
              <a:gd name="textAreaTop" fmla="*/ 18360 h 711360"/>
              <a:gd name="textAreaBottom" fmla="*/ 693000 h 7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42240" y="403704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Low comple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43640" y="5078520"/>
            <a:ext cx="380880" cy="241200"/>
          </a:xfrm>
          <a:custGeom>
            <a:avLst/>
            <a:gdLst>
              <a:gd name="textAreaLeft" fmla="*/ 0 w 380880"/>
              <a:gd name="textAreaRight" fmla="*/ 137520 w 380880"/>
              <a:gd name="textAreaTop" fmla="*/ 6120 h 241200"/>
              <a:gd name="textAreaBottom" fmla="*/ 2350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59440" y="50022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Signaling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43640" y="4697280"/>
            <a:ext cx="380880" cy="304920"/>
          </a:xfrm>
          <a:custGeom>
            <a:avLst/>
            <a:gdLst>
              <a:gd name="textAreaLeft" fmla="*/ 0 w 380880"/>
              <a:gd name="textAreaRight" fmla="*/ 137520 w 3808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4160" y="46497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One radio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666880"/>
            <a:ext cx="8077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w Complexity Re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cheap can we make path-selective oper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1440" y="60199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Performance impact seem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0520" y="304920"/>
            <a:ext cx="61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 Complexity MPTCP Host: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Princip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878040"/>
            <a:ext cx="84582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only one flow- &amp; conges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Betwe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th-reselection windows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uring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th-reselection wind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amless since multiple subflows ar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gine needs to adapt to new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transmissions on old path or cross f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formanc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me as for: Mobile IP family, 3GPP, HIP, SHIM6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ull-fledged MPTCP host: Needs to adapt to new channe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3200400"/>
            <a:ext cx="304776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Internal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733920"/>
            <a:ext cx="1523880" cy="7617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5920" y="6019920"/>
            <a:ext cx="90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PTCP Module: Flexible realization in- or outsid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7480" y="304920"/>
            <a:ext cx="54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Host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toco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86000"/>
            <a:ext cx="304776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onnection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286000"/>
            <a:ext cx="297180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Conventional TC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onnection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4480" y="12952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MPTCP full-fled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(multi eng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93600" y="1295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MPTCP low-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(single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733920"/>
            <a:ext cx="1447560" cy="7617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733920"/>
            <a:ext cx="2971800" cy="761760"/>
          </a:xfrm>
          <a:custGeom>
            <a:avLst/>
            <a:gdLst/>
            <a:ahLst/>
            <a:rect l="l" t="t" r="r" b="b"/>
            <a:pathLst>
              <a:path w="1872" h="480">
                <a:moveTo>
                  <a:pt x="0" y="480"/>
                </a:moveTo>
                <a:lnTo>
                  <a:pt x="0" y="0"/>
                </a:lnTo>
                <a:lnTo>
                  <a:pt x="1872" y="0"/>
                </a:lnTo>
                <a:lnTo>
                  <a:pt x="1872" y="480"/>
                </a:lnTo>
                <a:lnTo>
                  <a:pt x="960" y="480"/>
                </a:lnTo>
                <a:lnTo>
                  <a:pt x="960" y="240"/>
                </a:lnTo>
                <a:lnTo>
                  <a:pt x="912" y="240"/>
                </a:lnTo>
                <a:lnTo>
                  <a:pt x="912" y="480"/>
                </a:lnTo>
                <a:lnTo>
                  <a:pt x="0" y="480"/>
                </a:lnTo>
                <a:close/>
              </a:path>
            </a:pathLst>
          </a:custGeom>
          <a:solidFill>
            <a:srgbClr val="99ff99"/>
          </a:solidFill>
          <a:ln w="2556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8098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Map/Sg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8098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Map/Sg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733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724280"/>
            <a:ext cx="2895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onventional TCP seg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352680"/>
            <a:ext cx="2971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onventional TCP seg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724280"/>
            <a:ext cx="2895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onventional TCP seg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9051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tream 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tream 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4680" y="15228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Host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ignaling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7160" y="838080"/>
            <a:ext cx="828360" cy="5806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rebuchet MS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560" y="838080"/>
            <a:ext cx="893880" cy="580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00"/>
                </a:solidFill>
                <a:latin typeface="Trebuchet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17524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523880" y="2133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505320" y="2133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58640" y="14479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39840" y="1447920"/>
            <a:ext cx="15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MP_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10600" y="18288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30120" y="182880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/ACK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MP_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514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5146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9360" y="22096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4600" y="22096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CK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MP_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092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505320" y="3473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42720" y="27874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SYN + MP_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03120" y="31687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SYN/ACK + MP_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3854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43800" y="35496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ACK + MP_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33720" y="3124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124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5607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56070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0600" y="5302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15360" y="5302080"/>
            <a:ext cx="22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FIN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+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ata FIN on 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105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13920" y="4844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4600" y="411480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Packet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+ DS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33720" y="46479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46483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4419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13200" y="41148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676520"/>
            <a:ext cx="18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Establishment of connection &amp; 1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sub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20040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Establishment of add sub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11480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MPTCP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ign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48290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ermination of  add sub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541008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ermination of 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6765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297180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120" y="6172200"/>
            <a:ext cx="68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Signaling compliant with MPTCP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4419720"/>
            <a:ext cx="3047760" cy="304560"/>
          </a:xfrm>
          <a:custGeom>
            <a:avLst/>
            <a:gdLst/>
            <a:ahLst/>
            <a:rect l="l" t="t" r="r" b="b"/>
            <a:pathLst>
              <a:path w="1872" h="96">
                <a:moveTo>
                  <a:pt x="0" y="0"/>
                </a:moveTo>
                <a:lnTo>
                  <a:pt x="288" y="96"/>
                </a:lnTo>
                <a:lnTo>
                  <a:pt x="1872" y="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15240" y="44197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8380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825480"/>
            <a:ext cx="7239240" cy="5257800"/>
          </a:xfrm>
          <a:custGeom>
            <a:avLst/>
            <a:gdLst/>
            <a:ahLst/>
            <a:rect l="l" t="t" r="r" b="b"/>
            <a:pathLst>
              <a:path w="4560" h="3312">
                <a:moveTo>
                  <a:pt x="0" y="3312"/>
                </a:moveTo>
                <a:lnTo>
                  <a:pt x="27" y="459"/>
                </a:lnTo>
                <a:lnTo>
                  <a:pt x="1968" y="456"/>
                </a:lnTo>
                <a:lnTo>
                  <a:pt x="1968" y="0"/>
                </a:lnTo>
                <a:lnTo>
                  <a:pt x="4560" y="8"/>
                </a:lnTo>
                <a:lnTo>
                  <a:pt x="4553" y="577"/>
                </a:lnTo>
                <a:lnTo>
                  <a:pt x="4553" y="3288"/>
                </a:lnTo>
                <a:lnTo>
                  <a:pt x="0" y="3312"/>
                </a:lnTo>
                <a:close/>
              </a:path>
            </a:pathLst>
          </a:custGeom>
          <a:noFill/>
          <a:ln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7680" y="212760"/>
            <a:ext cx="53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Sender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838080"/>
            <a:ext cx="28764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39080" y="1886040"/>
            <a:ext cx="208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write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N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src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loc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dst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rem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34400" y="3257640"/>
            <a:ext cx="217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write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N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N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last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A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src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loc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rem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rem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32960" y="4705200"/>
            <a:ext cx="2137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Create 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SN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last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SN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N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AN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IPsrc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IPloc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IPdst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IPrem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5120" y="196200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1440" y="327672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91"/>
                </a:lnTo>
                <a:cubicBezTo>
                  <a:pt x="10800" y="9591"/>
                  <a:pt x="5400" y="10491"/>
                  <a:pt x="0" y="10491"/>
                </a:cubicBezTo>
                <a:cubicBezTo>
                  <a:pt x="5400" y="10491"/>
                  <a:pt x="10800" y="11391"/>
                  <a:pt x="10800" y="122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38080"/>
            <a:ext cx="396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loc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600" spc="-1" strike="noStrike">
                <a:solidFill>
                  <a:srgbClr val="ff0000"/>
                </a:solidFill>
                <a:latin typeface="Trebuchet MS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re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600" spc="-1" strike="noStrike">
                <a:solidFill>
                  <a:srgbClr val="ff0000"/>
                </a:solidFill>
                <a:latin typeface="Trebuchet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31" idx="1"/>
            <a:endCxn id="227" idx="1"/>
          </p:cNvCxnSpPr>
          <p:nvPr/>
        </p:nvCxnSpPr>
        <p:spPr>
          <a:xfrm rot="5400000">
            <a:off x="4808520" y="1665720"/>
            <a:ext cx="972360" cy="840600"/>
          </a:xfrm>
          <a:prstGeom prst="bentConnector4">
            <a:avLst>
              <a:gd name="adj1" fmla="val 18629"/>
              <a:gd name="adj2" fmla="val 1723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3" idx="3"/>
            <a:endCxn id="229" idx="1"/>
          </p:cNvCxnSpPr>
          <p:nvPr/>
        </p:nvCxnSpPr>
        <p:spPr>
          <a:xfrm>
            <a:off x="3575160" y="11426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 flipH="1">
            <a:off x="7237440" y="1962000"/>
            <a:ext cx="380880" cy="1219320"/>
          </a:xfrm>
          <a:custGeom>
            <a:avLst/>
            <a:gdLst>
              <a:gd name="textAreaLeft" fmla="*/ 243720 w 380880"/>
              <a:gd name="textAreaRight" fmla="*/ 38160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237440" y="3257640"/>
            <a:ext cx="380880" cy="1218960"/>
          </a:xfrm>
          <a:custGeom>
            <a:avLst/>
            <a:gdLst>
              <a:gd name="textAreaLeft" fmla="*/ 243720 w 380880"/>
              <a:gd name="textAreaRight" fmla="*/ 381600 w 3808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5"/>
                </a:lnTo>
                <a:cubicBezTo>
                  <a:pt x="10800" y="10125"/>
                  <a:pt x="5400" y="11025"/>
                  <a:pt x="0" y="11025"/>
                </a:cubicBezTo>
                <a:cubicBezTo>
                  <a:pt x="5400" y="11025"/>
                  <a:pt x="10800" y="11925"/>
                  <a:pt x="10800" y="128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237440" y="4705200"/>
            <a:ext cx="380880" cy="1219320"/>
          </a:xfrm>
          <a:custGeom>
            <a:avLst/>
            <a:gdLst>
              <a:gd name="textAreaLeft" fmla="*/ 243720 w 380880"/>
              <a:gd name="textAreaRight" fmla="*/ 38160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75"/>
                </a:lnTo>
                <a:cubicBezTo>
                  <a:pt x="10800" y="8775"/>
                  <a:pt x="5400" y="9675"/>
                  <a:pt x="0" y="9675"/>
                </a:cubicBezTo>
                <a:cubicBezTo>
                  <a:pt x="5400" y="9675"/>
                  <a:pt x="10800" y="10575"/>
                  <a:pt x="10800" y="114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75520" y="2374920"/>
            <a:ext cx="69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91360" y="3657600"/>
            <a:ext cx="82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91360" y="5029200"/>
            <a:ext cx="824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8120" y="9144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TCP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7520" y="56386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MPTC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5600520" y="118044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6248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Processing high if both senders active and not in s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676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enders are in 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th use the same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124080"/>
            <a:ext cx="3808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!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enders are not in 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uring path re-selection 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if remote sender does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acket Splitting !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65640" y="2590920"/>
            <a:ext cx="685800" cy="198108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0" y="0"/>
                </a:moveTo>
                <a:lnTo>
                  <a:pt x="0" y="1296"/>
                </a:lnTo>
                <a:lnTo>
                  <a:pt x="432" y="1296"/>
                </a:lnTo>
              </a:path>
            </a:pathLst>
          </a:custGeom>
          <a:noFill/>
          <a:ln w="2232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18320" y="52578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18320" y="38862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8320" y="2603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895480"/>
            <a:ext cx="411480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72200" y="927000"/>
            <a:ext cx="274320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914400"/>
            <a:ext cx="8458200" cy="2666880"/>
          </a:xfrm>
          <a:custGeom>
            <a:avLst/>
            <a:gdLst/>
            <a:ahLst/>
            <a:rect l="l" t="t" r="r" b="b"/>
            <a:pathLst>
              <a:path w="5328" h="1912">
                <a:moveTo>
                  <a:pt x="5320" y="1912"/>
                </a:moveTo>
                <a:lnTo>
                  <a:pt x="5328" y="758"/>
                </a:lnTo>
                <a:lnTo>
                  <a:pt x="3528" y="760"/>
                </a:lnTo>
                <a:lnTo>
                  <a:pt x="3528" y="0"/>
                </a:lnTo>
                <a:lnTo>
                  <a:pt x="0" y="0"/>
                </a:lnTo>
                <a:lnTo>
                  <a:pt x="16" y="656"/>
                </a:lnTo>
                <a:lnTo>
                  <a:pt x="16" y="1912"/>
                </a:lnTo>
                <a:lnTo>
                  <a:pt x="5320" y="1912"/>
                </a:lnTo>
                <a:close/>
              </a:path>
            </a:pathLst>
          </a:custGeom>
          <a:noFill/>
          <a:ln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720" y="22860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eceiver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130824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tcp    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c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tcp    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g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360" y="1003320"/>
            <a:ext cx="381240" cy="1219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219320"/>
              <a:gd name="textAreaBottom" fmla="*/ 117972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5"/>
                  <a:pt x="10800" y="2250"/>
                </a:cubicBezTo>
                <a:lnTo>
                  <a:pt x="10800" y="8550"/>
                </a:lnTo>
                <a:cubicBezTo>
                  <a:pt x="10800" y="9675"/>
                  <a:pt x="5400" y="10800"/>
                  <a:pt x="0" y="10800"/>
                </a:cubicBezTo>
                <a:cubicBezTo>
                  <a:pt x="5400" y="10800"/>
                  <a:pt x="10800" y="11925"/>
                  <a:pt x="10800" y="13050"/>
                </a:cubicBezTo>
                <a:lnTo>
                  <a:pt x="10800" y="19350"/>
                </a:lnTo>
                <a:cubicBezTo>
                  <a:pt x="10800" y="204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36880" y="9414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TCP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2600" y="9144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rebuchet MS"/>
              </a:rPr>
              <a:t>MPTC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1720" y="927000"/>
            <a:ext cx="208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write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N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src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loc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dst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rem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100332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3" idx="1"/>
            <a:endCxn id="252" idx="1"/>
          </p:cNvCxnSpPr>
          <p:nvPr/>
        </p:nvCxnSpPr>
        <p:spPr>
          <a:xfrm>
            <a:off x="5790960" y="161244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621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Psrc, PRT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Pdst, PRT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895480"/>
            <a:ext cx="495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 SN_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rem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tc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 AN_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loc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5840" y="29862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FL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33720" y="2971800"/>
            <a:ext cx="304560" cy="457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97180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00080" y="297180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4" idx="1"/>
            <a:endCxn id="257" idx="1"/>
          </p:cNvCxnSpPr>
          <p:nvPr/>
        </p:nvCxnSpPr>
        <p:spPr>
          <a:xfrm flipH="1" flipV="1">
            <a:off x="3123360" y="1612440"/>
            <a:ext cx="3582360" cy="1588320"/>
          </a:xfrm>
          <a:prstGeom prst="bentConnector5">
            <a:avLst>
              <a:gd name="adj1" fmla="val -6381"/>
              <a:gd name="adj2" fmla="val 37995"/>
              <a:gd name="adj3" fmla="val 1063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457200" y="3809880"/>
            <a:ext cx="8534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nection-level buffering + reordering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one by TCP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ultipat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compl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rge buffer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f remote sender does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flow-level buffering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Only if mapping unknow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dds unnecessary complexity! To be avoi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/>
          <p:nvPr/>
        </p:nvCxnSpPr>
        <p:spPr>
          <a:xfrm>
            <a:off x="228600" y="3212640"/>
            <a:ext cx="381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7200" y="609588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Availability of mapping crucial for low-complexity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546160" y="3549600"/>
            <a:ext cx="18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UL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ath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12880" y="362592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amp; </a:t>
            </a: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ath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71160" y="97488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Full-f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995400"/>
            <a:ext cx="2438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Full-f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49600" y="5378400"/>
            <a:ext cx="4010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rebuchet MS"/>
              </a:rPr>
              <a:t>Low-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ccommodat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requent packe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ccommodat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large TCP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2240" y="5369040"/>
            <a:ext cx="3228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rebuchet MS"/>
              </a:rPr>
              <a:t>Low-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sser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eer does path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sser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ame path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1800" y="228600"/>
            <a:ext cx="73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teroperability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Full-Fledged Hos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Low-Complex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4960" y="4510080"/>
            <a:ext cx="762120" cy="768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272280" y="1397160"/>
            <a:ext cx="673200" cy="736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43480" y="2057400"/>
            <a:ext cx="1152720" cy="285768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57880" y="182880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495480" y="2057400"/>
            <a:ext cx="1152360" cy="285768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dash"/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500880" y="182880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057400" y="4540320"/>
            <a:ext cx="762120" cy="768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2224080" y="1427040"/>
            <a:ext cx="673200" cy="736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95280" y="2087640"/>
            <a:ext cx="1152720" cy="285732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09680" y="185904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447280" y="2087640"/>
            <a:ext cx="1152360" cy="285732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dash"/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452680" y="185904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2286000"/>
            <a:ext cx="78487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0640" y="304920"/>
            <a:ext cx="87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inux 2.26.38 – Ubuntu 11.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1600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1600200"/>
            <a:ext cx="3505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PTC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2743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27432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27432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80988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t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48006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962520"/>
            <a:ext cx="10670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200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2057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733920" y="32000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33920" y="205704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3392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114800"/>
            <a:ext cx="2590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924680" y="320004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3200400"/>
            <a:ext cx="2852640" cy="773280"/>
          </a:xfrm>
          <a:custGeom>
            <a:avLst/>
            <a:gdLst/>
            <a:ahLst/>
            <a:rect l="l" t="t" r="r" b="b"/>
            <a:pathLst>
              <a:path w="1560" h="484">
                <a:moveTo>
                  <a:pt x="1548" y="0"/>
                </a:moveTo>
                <a:cubicBezTo>
                  <a:pt x="1545" y="39"/>
                  <a:pt x="1560" y="169"/>
                  <a:pt x="1530" y="234"/>
                </a:cubicBezTo>
                <a:cubicBezTo>
                  <a:pt x="1500" y="299"/>
                  <a:pt x="1456" y="354"/>
                  <a:pt x="1368" y="393"/>
                </a:cubicBezTo>
                <a:cubicBezTo>
                  <a:pt x="1280" y="432"/>
                  <a:pt x="1231" y="454"/>
                  <a:pt x="1003" y="469"/>
                </a:cubicBezTo>
                <a:cubicBezTo>
                  <a:pt x="775" y="484"/>
                  <a:pt x="209" y="480"/>
                  <a:pt x="0" y="4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924680" y="205704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205740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53440" y="1905120"/>
            <a:ext cx="490320" cy="152280"/>
          </a:xfrm>
          <a:custGeom>
            <a:avLst/>
            <a:gdLst/>
            <a:ahLst/>
            <a:rect l="l" t="t" r="r" b="b"/>
            <a:pathLst>
              <a:path w="309" h="192">
                <a:moveTo>
                  <a:pt x="297" y="192"/>
                </a:moveTo>
                <a:cubicBezTo>
                  <a:pt x="295" y="171"/>
                  <a:pt x="309" y="98"/>
                  <a:pt x="285" y="66"/>
                </a:cubicBezTo>
                <a:cubicBezTo>
                  <a:pt x="261" y="34"/>
                  <a:pt x="196" y="0"/>
                  <a:pt x="153" y="0"/>
                </a:cubicBezTo>
                <a:cubicBezTo>
                  <a:pt x="110" y="0"/>
                  <a:pt x="48" y="37"/>
                  <a:pt x="24" y="69"/>
                </a:cubicBezTo>
                <a:cubicBezTo>
                  <a:pt x="0" y="101"/>
                  <a:pt x="12" y="167"/>
                  <a:pt x="9" y="192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205740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3200400"/>
            <a:ext cx="2108160" cy="609480"/>
          </a:xfrm>
          <a:custGeom>
            <a:avLst/>
            <a:gdLst/>
            <a:ahLst/>
            <a:rect l="l" t="t" r="r" b="b"/>
            <a:pathLst>
              <a:path w="1291" h="384">
                <a:moveTo>
                  <a:pt x="1247" y="0"/>
                </a:moveTo>
                <a:cubicBezTo>
                  <a:pt x="1225" y="31"/>
                  <a:pt x="1291" y="150"/>
                  <a:pt x="1112" y="189"/>
                </a:cubicBezTo>
                <a:cubicBezTo>
                  <a:pt x="933" y="228"/>
                  <a:pt x="352" y="202"/>
                  <a:pt x="176" y="234"/>
                </a:cubicBezTo>
                <a:cubicBezTo>
                  <a:pt x="0" y="266"/>
                  <a:pt x="80" y="353"/>
                  <a:pt x="55" y="384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760" y="3352680"/>
            <a:ext cx="289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lter function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Pc, IPsrc, IPdst, PRTsrc, PRT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lags: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, ACK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ar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CCEPT, DROP,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74320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057400"/>
            <a:ext cx="0" cy="685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3200400"/>
            <a:ext cx="1076400" cy="609480"/>
          </a:xfrm>
          <a:custGeom>
            <a:avLst/>
            <a:gdLst/>
            <a:ahLst/>
            <a:rect l="l" t="t" r="r" b="b"/>
            <a:pathLst>
              <a:path w="678" h="384">
                <a:moveTo>
                  <a:pt x="649" y="0"/>
                </a:moveTo>
                <a:cubicBezTo>
                  <a:pt x="638" y="26"/>
                  <a:pt x="678" y="120"/>
                  <a:pt x="585" y="153"/>
                </a:cubicBezTo>
                <a:cubicBezTo>
                  <a:pt x="492" y="186"/>
                  <a:pt x="186" y="156"/>
                  <a:pt x="93" y="195"/>
                </a:cubicBezTo>
                <a:cubicBezTo>
                  <a:pt x="0" y="234"/>
                  <a:pt x="42" y="345"/>
                  <a:pt x="29" y="384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3352680"/>
            <a:ext cx="381240" cy="129564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06560" y="1600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m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36576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ACCEPT/D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1219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60680" y="838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6200" y="213372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43360" y="21337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1320" y="190512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240" y="25909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30800" y="411480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iltered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5257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733920" y="5257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46880" y="47610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equenti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o buffering or reordering possible in user spa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22920" y="213372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mang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32960" y="2133720"/>
            <a:ext cx="119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nput/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58720" y="941400"/>
            <a:ext cx="845820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gna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orary Fallback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bulk-transfer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h-selection conflict resolutio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w MP_P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operability with MPTCP full-f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th hosts path-sel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Multipath p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TE/3G vs.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6000" y="469800"/>
            <a:ext cx="72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ignaling +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685800"/>
            <a:ext cx="7162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PTCP + Wireless 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Low-complexity MPTCP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Signaling &amp; polic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4. Transparent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.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2666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face Availability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to tell the serv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at my interface is d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914400"/>
            <a:ext cx="762012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bile cli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centra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ent must inform server about its interfa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with (old) MP_P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th- rather than interface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ion must be sent on path it ref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ay to signal “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interface is dow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”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explicit interface-availabilit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L discussion: Add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ADDR-I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MP_P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0040" y="6095880"/>
            <a:ext cx="88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Issue addressed in draft-ietf-mptcp-multiaddressed-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9920" y="304920"/>
            <a:ext cx="83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New Signaling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Client Announces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Interface Availabilit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939080" y="3352320"/>
            <a:ext cx="1004040" cy="645480"/>
            <a:chOff x="7939080" y="3352320"/>
            <a:chExt cx="1004040" cy="645480"/>
          </a:xfrm>
        </p:grpSpPr>
        <p:sp>
          <p:nvSpPr>
            <p:cNvPr id="339" name=""/>
            <p:cNvSpPr/>
            <p:nvPr/>
          </p:nvSpPr>
          <p:spPr>
            <a:xfrm flipV="1">
              <a:off x="8466120" y="336528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683560" y="347256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8761320" y="360540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457120" y="370116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275320" y="377244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040240" y="369432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939080" y="363816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965360" y="343872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135280" y="335196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993080" y="3425760"/>
            <a:ext cx="911160" cy="52092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82720" y="35053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867280" y="3428640"/>
            <a:ext cx="1004400" cy="645480"/>
            <a:chOff x="5867280" y="3428640"/>
            <a:chExt cx="1004400" cy="645480"/>
          </a:xfrm>
        </p:grpSpPr>
        <p:sp>
          <p:nvSpPr>
            <p:cNvPr id="351" name=""/>
            <p:cNvSpPr/>
            <p:nvPr/>
          </p:nvSpPr>
          <p:spPr>
            <a:xfrm flipV="1">
              <a:off x="6394680" y="344160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611760" y="354888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689880" y="368172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385320" y="377748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03520" y="384876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8440" y="377064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867280" y="371448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93560" y="351504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063480" y="342828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21280" y="3502080"/>
            <a:ext cx="911160" cy="5205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21360" y="35812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3G/4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148520" y="4800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flipH="1" flipV="1">
            <a:off x="7634160" y="2743200"/>
            <a:ext cx="719280" cy="64296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86560" y="1954080"/>
            <a:ext cx="4680" cy="503280"/>
          </a:xfrm>
          <a:custGeom>
            <a:avLst/>
            <a:gdLst/>
            <a:ahLst/>
            <a:rect l="l" t="t" r="r" b="b"/>
            <a:pathLst>
              <a:path w="3" h="317">
                <a:moveTo>
                  <a:pt x="0" y="317"/>
                </a:moveTo>
                <a:lnTo>
                  <a:pt x="3" y="0"/>
                </a:lnTo>
              </a:path>
            </a:pathLst>
          </a:cu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567480" y="2742840"/>
            <a:ext cx="725400" cy="7002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165800" y="2273400"/>
            <a:ext cx="592200" cy="596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7238880" y="1219320"/>
            <a:ext cx="787680" cy="787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rot="18791400">
            <a:off x="6757560" y="3938040"/>
            <a:ext cx="200160" cy="106704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75640" y="5149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72120" y="11430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62560" y="1685880"/>
            <a:ext cx="1225800" cy="341964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2808600">
            <a:off x="7962840" y="3938400"/>
            <a:ext cx="200160" cy="106704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494480" y="1685880"/>
            <a:ext cx="1206720" cy="341964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4495680"/>
            <a:ext cx="2286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319960" y="4419720"/>
            <a:ext cx="7632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2666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th-Selection Conflic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want paths 1 &amp; 2, you want 3 &amp; 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87280" y="304920"/>
            <a:ext cx="70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Policy Required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Conflict Resolution for Path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9800" y="838080"/>
            <a:ext cx="70866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Question: Why set up a path in backup 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son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Enjoy resilienc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void pat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d polic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fferentiate between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 Path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Local Interfac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s the main “cost”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)  Peers mutually respect local interfac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 confli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st tries to accommodate peer’s path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no path left, pick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157320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475840" y="1573200"/>
            <a:ext cx="152280" cy="1522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40480" y="2730600"/>
            <a:ext cx="152280" cy="15228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75840" y="2730600"/>
            <a:ext cx="152280" cy="1522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9" idx="6"/>
            <a:endCxn id="380" idx="2"/>
          </p:cNvCxnSpPr>
          <p:nvPr/>
        </p:nvCxnSpPr>
        <p:spPr>
          <a:xfrm>
            <a:off x="6705360" y="1649160"/>
            <a:ext cx="175788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9" idx="5"/>
            <a:endCxn id="382" idx="1"/>
          </p:cNvCxnSpPr>
          <p:nvPr/>
        </p:nvCxnSpPr>
        <p:spPr>
          <a:xfrm>
            <a:off x="6670440" y="1716120"/>
            <a:ext cx="1827720" cy="1024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81" idx="6"/>
            <a:endCxn id="382" idx="2"/>
          </p:cNvCxnSpPr>
          <p:nvPr/>
        </p:nvCxnSpPr>
        <p:spPr>
          <a:xfrm>
            <a:off x="6705360" y="2806200"/>
            <a:ext cx="1757880" cy="1080"/>
          </a:xfrm>
          <a:prstGeom prst="straightConnector1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6064200" y="2014560"/>
            <a:ext cx="109224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6" idx="0"/>
            <a:endCxn id="379" idx="4"/>
          </p:cNvCxnSpPr>
          <p:nvPr/>
        </p:nvCxnSpPr>
        <p:spPr>
          <a:xfrm flipV="1">
            <a:off x="6610320" y="1737720"/>
            <a:ext cx="720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1" idx="0"/>
            <a:endCxn id="386" idx="4"/>
          </p:cNvCxnSpPr>
          <p:nvPr/>
        </p:nvCxnSpPr>
        <p:spPr>
          <a:xfrm flipH="1" flipV="1">
            <a:off x="6609960" y="2462040"/>
            <a:ext cx="720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90" idx="0"/>
            <a:endCxn id="380" idx="4"/>
          </p:cNvCxnSpPr>
          <p:nvPr/>
        </p:nvCxnSpPr>
        <p:spPr>
          <a:xfrm flipV="1">
            <a:off x="8545320" y="1737720"/>
            <a:ext cx="684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2" idx="0"/>
            <a:endCxn id="390" idx="4"/>
          </p:cNvCxnSpPr>
          <p:nvPr/>
        </p:nvCxnSpPr>
        <p:spPr>
          <a:xfrm flipH="1" flipV="1">
            <a:off x="8544960" y="2462040"/>
            <a:ext cx="684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7999560" y="2014560"/>
            <a:ext cx="109188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1" idx="7"/>
            <a:endCxn id="380" idx="3"/>
          </p:cNvCxnSpPr>
          <p:nvPr/>
        </p:nvCxnSpPr>
        <p:spPr>
          <a:xfrm flipV="1">
            <a:off x="6670440" y="1715760"/>
            <a:ext cx="1827720" cy="1024560"/>
          </a:xfrm>
          <a:prstGeom prst="straightConnector1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6137640" y="126828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A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 wants only these </a:t>
            </a: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paths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6200" y="2868480"/>
            <a:ext cx="27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9900"/>
                </a:solidFill>
                <a:latin typeface="Trebuchet MS"/>
              </a:rPr>
              <a:t> wants only these </a:t>
            </a:r>
            <a:r>
              <a:rPr b="1" i="1" lang="en-US" sz="1800" spc="-1" strike="noStrike">
                <a:solidFill>
                  <a:srgbClr val="009900"/>
                </a:solidFill>
                <a:latin typeface="Trebuchet MS"/>
              </a:rPr>
              <a:t>paths</a:t>
            </a:r>
            <a:r>
              <a:rPr b="0" i="1" lang="en-US" sz="1800" spc="-1" strike="noStrike">
                <a:solidFill>
                  <a:srgbClr val="0099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86600" y="533520"/>
            <a:ext cx="457200" cy="63792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0"/>
                </a:moveTo>
                <a:lnTo>
                  <a:pt x="288" y="0"/>
                </a:lnTo>
                <a:lnTo>
                  <a:pt x="288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0360" y="609588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Serves multipath- and path-selectiv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93040" y="4100400"/>
            <a:ext cx="152280" cy="15264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28040" y="4100400"/>
            <a:ext cx="152280" cy="15264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93040" y="5257800"/>
            <a:ext cx="152280" cy="15228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528040" y="5257800"/>
            <a:ext cx="152280" cy="1522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7" idx="6"/>
            <a:endCxn id="398" idx="2"/>
          </p:cNvCxnSpPr>
          <p:nvPr/>
        </p:nvCxnSpPr>
        <p:spPr>
          <a:xfrm>
            <a:off x="6757920" y="4176360"/>
            <a:ext cx="17582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7" idx="5"/>
            <a:endCxn id="400" idx="1"/>
          </p:cNvCxnSpPr>
          <p:nvPr/>
        </p:nvCxnSpPr>
        <p:spPr>
          <a:xfrm>
            <a:off x="6723000" y="4243320"/>
            <a:ext cx="1828080" cy="1024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403" name=""/>
          <p:cNvCxnSpPr>
            <a:stCxn id="399" idx="6"/>
            <a:endCxn id="400" idx="2"/>
          </p:cNvCxnSpPr>
          <p:nvPr/>
        </p:nvCxnSpPr>
        <p:spPr>
          <a:xfrm>
            <a:off x="6757920" y="5333760"/>
            <a:ext cx="1758240" cy="1080"/>
          </a:xfrm>
          <a:prstGeom prst="straightConnector1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116760" y="4541760"/>
            <a:ext cx="109224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404" idx="0"/>
            <a:endCxn id="397" idx="4"/>
          </p:cNvCxnSpPr>
          <p:nvPr/>
        </p:nvCxnSpPr>
        <p:spPr>
          <a:xfrm flipV="1">
            <a:off x="6662520" y="4264920"/>
            <a:ext cx="684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9" idx="0"/>
            <a:endCxn id="404" idx="4"/>
          </p:cNvCxnSpPr>
          <p:nvPr/>
        </p:nvCxnSpPr>
        <p:spPr>
          <a:xfrm flipH="1" flipV="1">
            <a:off x="6662160" y="4989600"/>
            <a:ext cx="684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408" idx="0"/>
            <a:endCxn id="398" idx="4"/>
          </p:cNvCxnSpPr>
          <p:nvPr/>
        </p:nvCxnSpPr>
        <p:spPr>
          <a:xfrm flipV="1">
            <a:off x="8597880" y="4264920"/>
            <a:ext cx="720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400" idx="0"/>
            <a:endCxn id="408" idx="4"/>
          </p:cNvCxnSpPr>
          <p:nvPr/>
        </p:nvCxnSpPr>
        <p:spPr>
          <a:xfrm flipH="1" flipV="1">
            <a:off x="8597520" y="4989600"/>
            <a:ext cx="720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8051760" y="4541760"/>
            <a:ext cx="109224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399" idx="7"/>
            <a:endCxn id="398" idx="3"/>
          </p:cNvCxnSpPr>
          <p:nvPr/>
        </p:nvCxnSpPr>
        <p:spPr>
          <a:xfrm flipV="1">
            <a:off x="6723000" y="4242960"/>
            <a:ext cx="1828080" cy="1024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11" name=""/>
          <p:cNvSpPr/>
          <p:nvPr/>
        </p:nvSpPr>
        <p:spPr>
          <a:xfrm>
            <a:off x="6189120" y="3795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A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 wants only this </a:t>
            </a: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path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89120" y="53960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9900"/>
                </a:solidFill>
                <a:latin typeface="Trebuchet MS"/>
              </a:rPr>
              <a:t> wants only this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2666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S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to avoid unnecessary co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304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Signaling Proposal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Bulk Transfer “Optimization”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914400"/>
            <a:ext cx="868680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SS “optimization” on bulk transfers is a trad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uces number of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quires additional queuing on subf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ds delay on send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ke feature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dd “Bulk Transfer Optimization”-Flag to MP_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4440" y="609588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Flag is vital for low-complex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57200" y="304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Feature requirement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“Temporary Fallback”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833400"/>
            <a:ext cx="868680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case: Mobile sees only one (dominant)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SS: Adds overhead, no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“Temporary Fallb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only one path active, MPTCP becomes as low-cost as TCP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No D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me multipath operation when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How to do the signa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How to deal with payload modifying middle box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osal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4840" y="610884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Necessary for wireless MP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2040" y="30492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blem with Present Fallback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838080"/>
            <a:ext cx="8381880" cy="15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raft-ietf-mptcp-multiaddressed-04.txt: Section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“…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When a connection is in fallback mode, </a:t>
            </a:r>
            <a:r>
              <a:rPr b="0" i="1" lang="en-US" sz="1800" spc="-1" strike="noStrike">
                <a:solidFill>
                  <a:srgbClr val="ff0000"/>
                </a:solidFill>
                <a:latin typeface="Trebuchet MS"/>
              </a:rPr>
              <a:t>only one subflow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can send data at a time. …However, subflows can be opened and closed as necessary, as  long as a single one is active at any poin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281952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L discussions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is does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seem to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1960" y="204840"/>
            <a:ext cx="75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osal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emporary Fallback + Return  --- NO CHECK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00400" y="11430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11430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98440" y="7621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1447920"/>
            <a:ext cx="19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61800" y="1295280"/>
            <a:ext cx="18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53120" y="1143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_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32960" y="12952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Z,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DSN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0320" y="167652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1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2209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00400" y="3657600"/>
            <a:ext cx="19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75520" y="3460680"/>
            <a:ext cx="22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+400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18920" y="34606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B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DSN=X+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4960" y="3352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4952880"/>
            <a:ext cx="8686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orary Fallback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DSS + infin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turn to Multipath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DSS on an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ce no payload rewriting, DSN is always absolut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7280" y="297180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3308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3308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3994200"/>
            <a:ext cx="19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54960" y="36892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8240" y="2057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2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8240" y="24066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3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61680" y="164448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1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61680" y="202572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2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4000" y="240660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3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2152800" y="3739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5734080" y="3815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13000" y="2603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307320" y="3181320"/>
            <a:ext cx="21042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rebuchet MS"/>
              </a:rPr>
              <a:t>Retroactive 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N= X+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SSN =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Rang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Checksum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C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034480" y="1428840"/>
            <a:ext cx="685800" cy="160020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5240" y="1454040"/>
            <a:ext cx="685800" cy="160020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0080" y="1352520"/>
            <a:ext cx="0" cy="25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1352520"/>
            <a:ext cx="0" cy="25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87280" y="838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1657440"/>
            <a:ext cx="1981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40320" y="135252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_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2038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2419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28004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4120" y="356220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352680" y="3486240"/>
            <a:ext cx="1981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61560" y="3181320"/>
            <a:ext cx="351684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if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S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f match   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return to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(via D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therwise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terminal 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(via MP_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00" y="228600"/>
            <a:ext cx="78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osal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emporary Fallback + Return –-- WITH CHECK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280" y="145404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6280" y="183528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6280" y="221616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6280" y="259704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46440" y="14428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93080" y="182412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93080" y="220500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993080" y="258588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5105520"/>
            <a:ext cx="8686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tches payload re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turn to MP must occur on present sub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cedure must be done “reliably” and in both flow directions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9360" y="1428840"/>
            <a:ext cx="18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7520" y="188604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1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75440" y="226692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2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5440" y="261612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3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63280" y="142884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Z,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DSN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000" y="185436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1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000" y="223524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2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13960" y="261612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3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75520" y="3301920"/>
            <a:ext cx="22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+400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31800" y="27637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PTCP + Wireless Acc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 we gain when using MPTCP in wireless access networ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0880" y="2666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nsparent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57200" y="762120"/>
            <a:ext cx="5791320" cy="58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rpose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ncremental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Generic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proxy: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reside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eds signaling to authenticat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eds signaling on how to route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proxy: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ides on central router of initia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mplicitly authenticated via network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rives route from packet 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vant use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nsparent proxy on macro-cellula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5960" y="3049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nsparent MPTCP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762120"/>
            <a:ext cx="8686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337000" y="1143000"/>
            <a:ext cx="3589920" cy="5381280"/>
            <a:chOff x="5337000" y="1143000"/>
            <a:chExt cx="3589920" cy="5381280"/>
          </a:xfrm>
        </p:grpSpPr>
        <p:grpSp>
          <p:nvGrpSpPr>
            <p:cNvPr id="490" name=""/>
            <p:cNvGrpSpPr/>
            <p:nvPr/>
          </p:nvGrpSpPr>
          <p:grpSpPr>
            <a:xfrm>
              <a:off x="5941800" y="3809520"/>
              <a:ext cx="1004040" cy="645480"/>
              <a:chOff x="5941800" y="3809520"/>
              <a:chExt cx="1004040" cy="64548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5941800" y="3809520"/>
                <a:ext cx="1004040" cy="645480"/>
                <a:chOff x="5941800" y="3809520"/>
                <a:chExt cx="1004040" cy="645480"/>
              </a:xfrm>
            </p:grpSpPr>
            <p:sp>
              <p:nvSpPr>
                <p:cNvPr id="492" name=""/>
                <p:cNvSpPr/>
                <p:nvPr/>
              </p:nvSpPr>
              <p:spPr>
                <a:xfrm flipV="1">
                  <a:off x="6468840" y="3822480"/>
                  <a:ext cx="33444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8" y="9740"/>
                      </a:moveTo>
                      <a:arcTo wR="10800" hR="10800" stAng="-337874" swAng="9701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8" y="9740"/>
                      </a:moveTo>
                      <a:arcTo wR="10800" hR="10800" stAng="-337874" swAng="9701532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6686280" y="3929760"/>
                  <a:ext cx="239400" cy="17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463" y="2300"/>
                      </a:moveTo>
                      <a:arcTo wR="10800" hR="10800" stAng="-3114380" swAng="84686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463" y="2300"/>
                      </a:moveTo>
                      <a:arcTo wR="10800" hR="10800" stAng="-3114380" swAng="8468602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6764040" y="4062600"/>
                  <a:ext cx="181800" cy="20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750" y="788"/>
                      </a:moveTo>
                      <a:arcTo wR="10800" hR="10800" stAng="-6721510" swAng="105124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750" y="788"/>
                      </a:moveTo>
                      <a:arcTo wR="10800" hR="10800" stAng="-6721510" swAng="10512415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59840" y="4158360"/>
                  <a:ext cx="381600" cy="261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7"/>
                      </a:moveTo>
                      <a:arcTo wR="10800" hR="10800" stAng="-7824661" swAng="83913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7"/>
                      </a:moveTo>
                      <a:arcTo wR="10800" hR="10800" stAng="-7824661" swAng="8391382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278040" y="4229640"/>
                  <a:ext cx="290520" cy="22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56" y="8049"/>
                      </a:moveTo>
                      <a:arcTo wR="10800" hR="10800" stAng="-9914506" swAng="7996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56" y="8049"/>
                      </a:moveTo>
                      <a:arcTo wR="10800" hR="10800" stAng="-9914506" swAng="7996013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6042960" y="4151520"/>
                  <a:ext cx="300960" cy="258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2" y="13025"/>
                      </a:moveTo>
                      <a:arcTo wR="10800" hR="10800" stAng="10086616" swAng="83886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2" y="13025"/>
                      </a:moveTo>
                      <a:arcTo wR="10800" hR="10800" stAng="10086616" swAng="8388619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41800" y="4095360"/>
                  <a:ext cx="19800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082" y="20940"/>
                      </a:moveTo>
                      <a:arcTo wR="10800" hR="10800" stAng="6608358" swAng="97060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082" y="20940"/>
                      </a:moveTo>
                      <a:arcTo wR="10800" hR="10800" stAng="6608358" swAng="9706008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5968080" y="3895920"/>
                  <a:ext cx="350640" cy="29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75" y="21418"/>
                      </a:moveTo>
                      <a:arcTo wR="10800" hR="10800" stAng="4767822" swAng="76789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75" y="21418"/>
                      </a:moveTo>
                      <a:arcTo wR="10800" hR="10800" stAng="4767822" swAng="7678931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6138000" y="3809160"/>
                  <a:ext cx="367560" cy="26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065" y="14158"/>
                      </a:moveTo>
                      <a:arcTo wR="10800" hR="10800" stAng="1087011" swAng="82766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065" y="14158"/>
                      </a:moveTo>
                      <a:arcTo wR="10800" hR="10800" stAng="1087011" swAng="8276646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5995800" y="3882960"/>
                <a:ext cx="911160" cy="520560"/>
              </a:xfrm>
              <a:custGeom>
                <a:avLst/>
                <a:gdLst/>
                <a:ahLst/>
                <a:rect l="l" t="t" r="r" b="b"/>
                <a:pathLst>
                  <a:path w="574" h="328">
                    <a:moveTo>
                      <a:pt x="128" y="4"/>
                    </a:moveTo>
                    <a:lnTo>
                      <a:pt x="310" y="0"/>
                    </a:lnTo>
                    <a:lnTo>
                      <a:pt x="508" y="30"/>
                    </a:lnTo>
                    <a:lnTo>
                      <a:pt x="564" y="122"/>
                    </a:lnTo>
                    <a:lnTo>
                      <a:pt x="574" y="174"/>
                    </a:lnTo>
                    <a:lnTo>
                      <a:pt x="530" y="244"/>
                    </a:lnTo>
                    <a:lnTo>
                      <a:pt x="444" y="310"/>
                    </a:lnTo>
                    <a:lnTo>
                      <a:pt x="334" y="328"/>
                    </a:lnTo>
                    <a:lnTo>
                      <a:pt x="216" y="326"/>
                    </a:lnTo>
                    <a:lnTo>
                      <a:pt x="158" y="312"/>
                    </a:lnTo>
                    <a:lnTo>
                      <a:pt x="66" y="268"/>
                    </a:lnTo>
                    <a:lnTo>
                      <a:pt x="6" y="222"/>
                    </a:lnTo>
                    <a:lnTo>
                      <a:pt x="0" y="158"/>
                    </a:lnTo>
                    <a:lnTo>
                      <a:pt x="2" y="106"/>
                    </a:lnTo>
                    <a:lnTo>
                      <a:pt x="68" y="50"/>
                    </a:lnTo>
                    <a:lnTo>
                      <a:pt x="128" y="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17840" y="403848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L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923240" y="3800160"/>
              <a:ext cx="1003680" cy="645480"/>
              <a:chOff x="7923240" y="3800160"/>
              <a:chExt cx="1003680" cy="645480"/>
            </a:xfrm>
          </p:grpSpPr>
          <p:sp>
            <p:nvSpPr>
              <p:cNvPr id="504" name=""/>
              <p:cNvSpPr/>
              <p:nvPr/>
            </p:nvSpPr>
            <p:spPr>
              <a:xfrm flipV="1">
                <a:off x="8450280" y="3813120"/>
                <a:ext cx="33444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8" y="9740"/>
                    </a:moveTo>
                    <a:arcTo wR="10800" hR="10800" stAng="-337874" swAng="9701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8" y="9740"/>
                    </a:moveTo>
                    <a:arcTo wR="10800" hR="10800" stAng="-337874" swAng="9701532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667720" y="3920400"/>
                <a:ext cx="238680" cy="17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63" y="2300"/>
                    </a:moveTo>
                    <a:arcTo wR="10800" hR="10800" stAng="-3114380" swAng="84686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63" y="2300"/>
                    </a:moveTo>
                    <a:arcTo wR="10800" hR="10800" stAng="-3114380" swAng="8468602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8745120" y="4053240"/>
                <a:ext cx="181800" cy="20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50" y="788"/>
                    </a:moveTo>
                    <a:arcTo wR="10800" hR="10800" stAng="-6721510" swAng="105124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50" y="788"/>
                    </a:moveTo>
                    <a:arcTo wR="10800" hR="10800" stAng="-6721510" swAng="10512415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8440920" y="4149000"/>
                <a:ext cx="381240" cy="26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7"/>
                    </a:moveTo>
                    <a:arcTo wR="10800" hR="10800" stAng="-7824661" swAng="8391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7"/>
                    </a:moveTo>
                    <a:arcTo wR="10800" hR="10800" stAng="-7824661" swAng="8391382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8259120" y="4220280"/>
                <a:ext cx="2905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6" y="8049"/>
                    </a:moveTo>
                    <a:arcTo wR="10800" hR="10800" stAng="-9914506" swAng="7996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6" y="8049"/>
                    </a:moveTo>
                    <a:arcTo wR="10800" hR="10800" stAng="-9914506" swAng="7996013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8024040" y="4142160"/>
                <a:ext cx="300960" cy="25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32" y="13025"/>
                    </a:moveTo>
                    <a:arcTo wR="10800" hR="10800" stAng="10086616" swAng="83886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32" y="13025"/>
                    </a:moveTo>
                    <a:arcTo wR="10800" hR="10800" stAng="10086616" swAng="8388619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7923240" y="4086000"/>
                <a:ext cx="198000" cy="17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082" y="20940"/>
                    </a:moveTo>
                    <a:arcTo wR="10800" hR="10800" stAng="6608358" swAng="9706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082" y="20940"/>
                    </a:moveTo>
                    <a:arcTo wR="10800" hR="10800" stAng="6608358" swAng="9706008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7949520" y="3886560"/>
                <a:ext cx="350640" cy="29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75" y="21418"/>
                    </a:moveTo>
                    <a:arcTo wR="10800" hR="10800" stAng="4767822" swAng="76789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75" y="21418"/>
                    </a:moveTo>
                    <a:arcTo wR="10800" hR="10800" stAng="4767822" swAng="7678931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8119080" y="3799800"/>
                <a:ext cx="36720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65" y="14158"/>
                    </a:moveTo>
                    <a:arcTo wR="10800" hR="10800" stAng="1087011" swAng="82766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65" y="14158"/>
                    </a:moveTo>
                    <a:arcTo wR="10800" hR="10800" stAng="1087011" swAng="8276646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7977240" y="3873600"/>
              <a:ext cx="910800" cy="520560"/>
            </a:xfrm>
            <a:custGeom>
              <a:avLst/>
              <a:gdLst/>
              <a:ahLst/>
              <a:rect l="l" t="t" r="r" b="b"/>
              <a:pathLst>
                <a:path w="574" h="328">
                  <a:moveTo>
                    <a:pt x="128" y="4"/>
                  </a:moveTo>
                  <a:lnTo>
                    <a:pt x="310" y="0"/>
                  </a:lnTo>
                  <a:lnTo>
                    <a:pt x="508" y="30"/>
                  </a:lnTo>
                  <a:lnTo>
                    <a:pt x="564" y="122"/>
                  </a:lnTo>
                  <a:lnTo>
                    <a:pt x="574" y="174"/>
                  </a:lnTo>
                  <a:lnTo>
                    <a:pt x="530" y="244"/>
                  </a:lnTo>
                  <a:lnTo>
                    <a:pt x="444" y="310"/>
                  </a:lnTo>
                  <a:lnTo>
                    <a:pt x="334" y="328"/>
                  </a:lnTo>
                  <a:lnTo>
                    <a:pt x="216" y="326"/>
                  </a:lnTo>
                  <a:lnTo>
                    <a:pt x="158" y="312"/>
                  </a:lnTo>
                  <a:lnTo>
                    <a:pt x="66" y="268"/>
                  </a:lnTo>
                  <a:lnTo>
                    <a:pt x="6" y="222"/>
                  </a:lnTo>
                  <a:lnTo>
                    <a:pt x="0" y="158"/>
                  </a:lnTo>
                  <a:lnTo>
                    <a:pt x="2" y="106"/>
                  </a:lnTo>
                  <a:lnTo>
                    <a:pt x="68" y="50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6520" y="396252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W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7132680" y="5248440"/>
              <a:ext cx="6854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 flipH="1" flipV="1">
              <a:off x="7617960" y="3190680"/>
              <a:ext cx="718920" cy="642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0720" y="2401920"/>
              <a:ext cx="4320" cy="503280"/>
            </a:xfrm>
            <a:custGeom>
              <a:avLst/>
              <a:gdLst/>
              <a:ahLst/>
              <a:rect l="l" t="t" r="r" b="b"/>
              <a:pathLst>
                <a:path w="3" h="317">
                  <a:moveTo>
                    <a:pt x="0" y="317"/>
                  </a:moveTo>
                  <a:lnTo>
                    <a:pt x="3" y="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551640" y="3191040"/>
              <a:ext cx="725040" cy="69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2"/>
            <a:stretch/>
          </p:blipFill>
          <p:spPr>
            <a:xfrm>
              <a:off x="7149960" y="2720880"/>
              <a:ext cx="59184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3">
              <a:lum contrast="4000"/>
            </a:blip>
            <a:stretch/>
          </p:blipFill>
          <p:spPr>
            <a:xfrm>
              <a:off x="7237440" y="1523880"/>
              <a:ext cx="78696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 rot="18791400">
              <a:off x="6741720" y="4386240"/>
              <a:ext cx="200160" cy="106632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0" y="0"/>
                  </a:moveTo>
                  <a:lnTo>
                    <a:pt x="0" y="126"/>
                  </a:lnTo>
                  <a:lnTo>
                    <a:pt x="42" y="114"/>
                  </a:lnTo>
                  <a:lnTo>
                    <a:pt x="12" y="24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12080" y="594360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T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5880" y="114300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6720" y="2133720"/>
              <a:ext cx="1225080" cy="3419280"/>
            </a:xfrm>
            <a:custGeom>
              <a:avLst/>
              <a:gdLst/>
              <a:ahLst/>
              <a:rect l="l" t="t" r="r" b="b"/>
              <a:pathLst>
                <a:path w="838" h="2154">
                  <a:moveTo>
                    <a:pt x="785" y="2154"/>
                  </a:moveTo>
                  <a:cubicBezTo>
                    <a:pt x="686" y="2092"/>
                    <a:pt x="319" y="1903"/>
                    <a:pt x="193" y="1780"/>
                  </a:cubicBezTo>
                  <a:cubicBezTo>
                    <a:pt x="67" y="1657"/>
                    <a:pt x="0" y="1555"/>
                    <a:pt x="26" y="1415"/>
                  </a:cubicBezTo>
                  <a:cubicBezTo>
                    <a:pt x="52" y="1275"/>
                    <a:pt x="245" y="1080"/>
                    <a:pt x="349" y="940"/>
                  </a:cubicBezTo>
                  <a:cubicBezTo>
                    <a:pt x="453" y="800"/>
                    <a:pt x="579" y="670"/>
                    <a:pt x="651" y="572"/>
                  </a:cubicBezTo>
                  <a:cubicBezTo>
                    <a:pt x="723" y="474"/>
                    <a:pt x="748" y="448"/>
                    <a:pt x="779" y="353"/>
                  </a:cubicBezTo>
                  <a:cubicBezTo>
                    <a:pt x="810" y="258"/>
                    <a:pt x="826" y="74"/>
                    <a:pt x="838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headEnd len="sm" type="oval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2808600">
              <a:off x="7946640" y="4386960"/>
              <a:ext cx="200160" cy="106596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0" y="0"/>
                  </a:moveTo>
                  <a:lnTo>
                    <a:pt x="0" y="126"/>
                  </a:lnTo>
                  <a:lnTo>
                    <a:pt x="42" y="114"/>
                  </a:lnTo>
                  <a:lnTo>
                    <a:pt x="12" y="24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8640" y="2133720"/>
              <a:ext cx="1193400" cy="3419280"/>
            </a:xfrm>
            <a:custGeom>
              <a:avLst/>
              <a:gdLst/>
              <a:ahLst/>
              <a:rect l="l" t="t" r="r" b="b"/>
              <a:pathLst>
                <a:path w="752" h="2154">
                  <a:moveTo>
                    <a:pt x="48" y="2154"/>
                  </a:moveTo>
                  <a:cubicBezTo>
                    <a:pt x="138" y="2092"/>
                    <a:pt x="471" y="1903"/>
                    <a:pt x="585" y="1780"/>
                  </a:cubicBezTo>
                  <a:cubicBezTo>
                    <a:pt x="699" y="1657"/>
                    <a:pt x="752" y="1557"/>
                    <a:pt x="736" y="1415"/>
                  </a:cubicBezTo>
                  <a:cubicBezTo>
                    <a:pt x="720" y="1273"/>
                    <a:pt x="582" y="1068"/>
                    <a:pt x="488" y="928"/>
                  </a:cubicBezTo>
                  <a:cubicBezTo>
                    <a:pt x="394" y="788"/>
                    <a:pt x="242" y="668"/>
                    <a:pt x="170" y="572"/>
                  </a:cubicBezTo>
                  <a:cubicBezTo>
                    <a:pt x="98" y="476"/>
                    <a:pt x="82" y="448"/>
                    <a:pt x="54" y="353"/>
                  </a:cubicBezTo>
                  <a:cubicBezTo>
                    <a:pt x="25" y="258"/>
                    <a:pt x="11" y="74"/>
                    <a:pt x="0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  <a:headEnd len="sm" type="oval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3265560"/>
              <a:ext cx="1855440" cy="2287440"/>
            </a:xfrm>
            <a:custGeom>
              <a:avLst/>
              <a:gdLst/>
              <a:ahLst/>
              <a:rect l="l" t="t" r="r" b="b"/>
              <a:pathLst>
                <a:path w="1169" h="1441">
                  <a:moveTo>
                    <a:pt x="555" y="1441"/>
                  </a:moveTo>
                  <a:cubicBezTo>
                    <a:pt x="650" y="1335"/>
                    <a:pt x="1087" y="1017"/>
                    <a:pt x="1128" y="807"/>
                  </a:cubicBezTo>
                  <a:cubicBezTo>
                    <a:pt x="1169" y="597"/>
                    <a:pt x="920" y="312"/>
                    <a:pt x="800" y="183"/>
                  </a:cubicBezTo>
                  <a:cubicBezTo>
                    <a:pt x="680" y="54"/>
                    <a:pt x="541" y="0"/>
                    <a:pt x="408" y="31"/>
                  </a:cubicBezTo>
                  <a:cubicBezTo>
                    <a:pt x="275" y="62"/>
                    <a:pt x="85" y="297"/>
                    <a:pt x="0" y="36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  <a:headEnd len="sm" type="oval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" descr=""/>
            <p:cNvPicPr/>
            <p:nvPr/>
          </p:nvPicPr>
          <p:blipFill>
            <a:blip r:embed="rId4"/>
            <a:stretch/>
          </p:blipFill>
          <p:spPr>
            <a:xfrm>
              <a:off x="6323040" y="3657600"/>
              <a:ext cx="45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337000" y="2971800"/>
              <a:ext cx="135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PT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Transpa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724280" y="1523880"/>
            <a:ext cx="426744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2280" y="1600200"/>
            <a:ext cx="426744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7880" y="15228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Proposal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“JOIN” Flag + “NEW_TARGET” Flag on ADD_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41320" y="236232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8000" y="236232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7504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4172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413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800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974680" y="30481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432240" y="2971440"/>
            <a:ext cx="152280" cy="152640"/>
            <a:chOff x="3432240" y="2971440"/>
            <a:chExt cx="152280" cy="152640"/>
          </a:xfrm>
        </p:grpSpPr>
        <p:sp>
          <p:nvSpPr>
            <p:cNvPr id="541" name=""/>
            <p:cNvSpPr/>
            <p:nvPr/>
          </p:nvSpPr>
          <p:spPr>
            <a:xfrm flipV="1">
              <a:off x="3432240" y="297144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32240" y="297180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H="1">
            <a:off x="84096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3809880"/>
            <a:ext cx="3240" cy="266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0440" y="3962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6008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044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0440" y="5683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8000" y="5683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98720" y="5943600"/>
            <a:ext cx="15228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895400" y="6019920"/>
            <a:ext cx="21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65880" y="25146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11040" y="2514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5440" y="29113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D_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(IP pro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03600" y="36576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9880" y="44355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MOVE_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(IP 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60080" y="4892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06640" y="4952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7280" y="53784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53784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03920" y="26668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27600" y="57150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9440" y="19810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L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39800" y="1981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80480" y="19810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55480" y="198108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236232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61048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477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543440" y="30481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8001000" y="2971440"/>
            <a:ext cx="152280" cy="152640"/>
            <a:chOff x="8001000" y="2971440"/>
            <a:chExt cx="152280" cy="152640"/>
          </a:xfrm>
        </p:grpSpPr>
        <p:sp>
          <p:nvSpPr>
            <p:cNvPr id="576" name=""/>
            <p:cNvSpPr/>
            <p:nvPr/>
          </p:nvSpPr>
          <p:spPr>
            <a:xfrm flipV="1">
              <a:off x="8001000" y="297144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01000" y="297180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H="1">
            <a:off x="5410080" y="3429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67480" y="5943600"/>
            <a:ext cx="1526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464160" y="6019920"/>
            <a:ext cx="21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35000" y="25146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79800" y="2514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44200" y="2911320"/>
            <a:ext cx="11638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D_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(IP pro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New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72680" y="26668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96720" y="57150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19240" y="19810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L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025480" y="198108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49600" y="19810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24240" y="198108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28195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1674720" y="167472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502920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838188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>
            <a:lum contrast="4000"/>
          </a:blip>
          <a:stretch/>
        </p:blipFill>
        <p:spPr>
          <a:xfrm>
            <a:off x="746748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6323040" y="167472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304920" y="53352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ADD_ADDR is overloaded: Add Address + Joi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w NEW_TARGET flag: “Use this address for future subflo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80880" y="2666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43360" y="304920"/>
            <a:ext cx="633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ummary: Proposed Signaling, Policies,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1640" y="749160"/>
            <a:ext cx="85345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Path-selection conflict resolutio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Make bulk-transfer “optimization”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dd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ULK_TRANSFER_OPTIM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lag to MP_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Feature for temporary fallback &amp; return to 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yload rewriting middl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Withou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yload rewriting middl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clarification of subflow re-selection in Fallback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Support for transparent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JOIN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ag to ADD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EW_TARGE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ag to ADD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6480" y="30492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Goals &amp; Constraints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RFC 618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560" y="722160"/>
            <a:ext cx="601992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requisi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vailability of multipl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mprove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resource pooling (“not worse than best path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ncrease resil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segments can be (re-) send over every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 compatibility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TCP-like,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wk compatibility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middle-box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atibility with other users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62920" y="2971440"/>
            <a:ext cx="1004040" cy="645480"/>
            <a:chOff x="8062920" y="2971440"/>
            <a:chExt cx="1004040" cy="645480"/>
          </a:xfrm>
        </p:grpSpPr>
        <p:sp>
          <p:nvSpPr>
            <p:cNvPr id="47" name=""/>
            <p:cNvSpPr/>
            <p:nvPr/>
          </p:nvSpPr>
          <p:spPr>
            <a:xfrm flipV="1">
              <a:off x="8589960" y="298440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807400" y="309168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8885160" y="322452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8580960" y="332028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399160" y="339156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164080" y="331344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062920" y="325728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089200" y="305784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259120" y="297108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16920" y="3044880"/>
            <a:ext cx="911160" cy="5205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06560" y="312408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900760" y="2971440"/>
            <a:ext cx="1004040" cy="645480"/>
            <a:chOff x="5900760" y="2971440"/>
            <a:chExt cx="1004040" cy="645480"/>
          </a:xfrm>
        </p:grpSpPr>
        <p:sp>
          <p:nvSpPr>
            <p:cNvPr id="59" name=""/>
            <p:cNvSpPr/>
            <p:nvPr/>
          </p:nvSpPr>
          <p:spPr>
            <a:xfrm flipV="1">
              <a:off x="6427800" y="298440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645240" y="309168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723000" y="322452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418800" y="332028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237000" y="339156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001920" y="331344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900760" y="325728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27040" y="305784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096960" y="297108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954760" y="3044880"/>
            <a:ext cx="911160" cy="5205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54840" y="3124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3G/4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4120" y="4419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7619760" y="2362320"/>
            <a:ext cx="718920" cy="64296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72520" y="1573200"/>
            <a:ext cx="4680" cy="503280"/>
          </a:xfrm>
          <a:custGeom>
            <a:avLst/>
            <a:gdLst/>
            <a:ahLst/>
            <a:rect l="l" t="t" r="r" b="b"/>
            <a:pathLst>
              <a:path w="3" h="317">
                <a:moveTo>
                  <a:pt x="0" y="317"/>
                </a:moveTo>
                <a:lnTo>
                  <a:pt x="3" y="0"/>
                </a:lnTo>
              </a:path>
            </a:pathLst>
          </a:cu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637320" y="2285640"/>
            <a:ext cx="725400" cy="7002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51760" y="1892160"/>
            <a:ext cx="592200" cy="59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7238880" y="838080"/>
            <a:ext cx="787680" cy="78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8791400">
            <a:off x="6805440" y="3557520"/>
            <a:ext cx="200160" cy="106668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7360" y="51055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87040" y="533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43760" y="1305000"/>
            <a:ext cx="1330200" cy="341928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2808600">
            <a:off x="7948080" y="3558240"/>
            <a:ext cx="200160" cy="106668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479720" y="1305000"/>
            <a:ext cx="1330200" cy="341928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080" y="6105600"/>
            <a:ext cx="60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How well does this go with wire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06600" y="4471920"/>
            <a:ext cx="7551720" cy="1676520"/>
            <a:chOff x="606600" y="4471920"/>
            <a:chExt cx="7551720" cy="1676520"/>
          </a:xfrm>
        </p:grpSpPr>
        <p:sp>
          <p:nvSpPr>
            <p:cNvPr id="84" name=""/>
            <p:cNvSpPr/>
            <p:nvPr/>
          </p:nvSpPr>
          <p:spPr>
            <a:xfrm>
              <a:off x="2519280" y="4929120"/>
              <a:ext cx="76212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7920" y="4929120"/>
              <a:ext cx="76176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4520" y="61484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7000" y="4471920"/>
              <a:ext cx="1066680" cy="4572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5280" y="4471920"/>
              <a:ext cx="1067040" cy="4572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6600" y="4762440"/>
              <a:ext cx="0" cy="137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07720" y="233280"/>
            <a:ext cx="73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+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ypic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1200" y="4979880"/>
            <a:ext cx="6400800" cy="1160640"/>
          </a:xfrm>
          <a:custGeom>
            <a:avLst/>
            <a:gdLst/>
            <a:ahLst/>
            <a:rect l="l" t="t" r="r" b="b"/>
            <a:pathLst>
              <a:path w="4032" h="731">
                <a:moveTo>
                  <a:pt x="0" y="731"/>
                </a:moveTo>
                <a:lnTo>
                  <a:pt x="841" y="722"/>
                </a:lnTo>
                <a:lnTo>
                  <a:pt x="1079" y="686"/>
                </a:lnTo>
                <a:lnTo>
                  <a:pt x="1088" y="110"/>
                </a:lnTo>
                <a:lnTo>
                  <a:pt x="1216" y="27"/>
                </a:lnTo>
                <a:lnTo>
                  <a:pt x="1353" y="0"/>
                </a:lnTo>
                <a:lnTo>
                  <a:pt x="1509" y="37"/>
                </a:lnTo>
                <a:lnTo>
                  <a:pt x="1573" y="73"/>
                </a:lnTo>
                <a:lnTo>
                  <a:pt x="1573" y="686"/>
                </a:lnTo>
                <a:lnTo>
                  <a:pt x="1820" y="722"/>
                </a:lnTo>
                <a:lnTo>
                  <a:pt x="2487" y="731"/>
                </a:lnTo>
                <a:lnTo>
                  <a:pt x="2633" y="695"/>
                </a:lnTo>
                <a:lnTo>
                  <a:pt x="2624" y="110"/>
                </a:lnTo>
                <a:lnTo>
                  <a:pt x="2761" y="46"/>
                </a:lnTo>
                <a:lnTo>
                  <a:pt x="2889" y="18"/>
                </a:lnTo>
                <a:lnTo>
                  <a:pt x="3008" y="46"/>
                </a:lnTo>
                <a:lnTo>
                  <a:pt x="3100" y="82"/>
                </a:lnTo>
                <a:lnTo>
                  <a:pt x="3109" y="677"/>
                </a:lnTo>
                <a:lnTo>
                  <a:pt x="3310" y="722"/>
                </a:lnTo>
                <a:lnTo>
                  <a:pt x="4032" y="731"/>
                </a:lnTo>
              </a:path>
            </a:pathLst>
          </a:custGeom>
          <a:noFill/>
          <a:ln w="255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9640" y="5662440"/>
            <a:ext cx="6111720" cy="392400"/>
          </a:xfrm>
          <a:custGeom>
            <a:avLst/>
            <a:gdLst/>
            <a:ahLst/>
            <a:rect l="l" t="t" r="r" b="b"/>
            <a:pathLst>
              <a:path w="3850" h="247">
                <a:moveTo>
                  <a:pt x="0" y="27"/>
                </a:moveTo>
                <a:lnTo>
                  <a:pt x="366" y="27"/>
                </a:lnTo>
                <a:lnTo>
                  <a:pt x="567" y="55"/>
                </a:lnTo>
                <a:lnTo>
                  <a:pt x="759" y="9"/>
                </a:lnTo>
                <a:lnTo>
                  <a:pt x="869" y="27"/>
                </a:lnTo>
                <a:lnTo>
                  <a:pt x="1061" y="64"/>
                </a:lnTo>
                <a:lnTo>
                  <a:pt x="1088" y="210"/>
                </a:lnTo>
                <a:lnTo>
                  <a:pt x="1317" y="237"/>
                </a:lnTo>
                <a:lnTo>
                  <a:pt x="1491" y="219"/>
                </a:lnTo>
                <a:lnTo>
                  <a:pt x="1564" y="201"/>
                </a:lnTo>
                <a:lnTo>
                  <a:pt x="1564" y="82"/>
                </a:lnTo>
                <a:lnTo>
                  <a:pt x="1811" y="0"/>
                </a:lnTo>
                <a:lnTo>
                  <a:pt x="2094" y="0"/>
                </a:lnTo>
                <a:lnTo>
                  <a:pt x="2250" y="45"/>
                </a:lnTo>
                <a:lnTo>
                  <a:pt x="2606" y="18"/>
                </a:lnTo>
                <a:lnTo>
                  <a:pt x="2624" y="228"/>
                </a:lnTo>
                <a:lnTo>
                  <a:pt x="2798" y="247"/>
                </a:lnTo>
                <a:lnTo>
                  <a:pt x="2963" y="237"/>
                </a:lnTo>
                <a:lnTo>
                  <a:pt x="3082" y="219"/>
                </a:lnTo>
                <a:lnTo>
                  <a:pt x="3091" y="18"/>
                </a:lnTo>
                <a:lnTo>
                  <a:pt x="3283" y="27"/>
                </a:lnTo>
                <a:lnTo>
                  <a:pt x="3584" y="64"/>
                </a:lnTo>
                <a:lnTo>
                  <a:pt x="3795" y="9"/>
                </a:lnTo>
                <a:lnTo>
                  <a:pt x="3850" y="9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2680" y="43340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Dat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3840" y="52862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8520" y="507204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Trebuchet MS"/>
              </a:rPr>
              <a:t>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34880" y="722160"/>
            <a:ext cx="8534520" cy="3465720"/>
            <a:chOff x="434880" y="722160"/>
            <a:chExt cx="8534520" cy="3465720"/>
          </a:xfrm>
        </p:grpSpPr>
        <p:sp>
          <p:nvSpPr>
            <p:cNvPr id="97" name=""/>
            <p:cNvSpPr/>
            <p:nvPr/>
          </p:nvSpPr>
          <p:spPr>
            <a:xfrm>
              <a:off x="434880" y="722160"/>
              <a:ext cx="8534520" cy="33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2.5G/3G/4G - Macrocellular – Outdoor deplo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Out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Optimized for co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In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Wall penetra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low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rebuchet MS"/>
                </a:rPr>
                <a:t>Acces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</a:t>
              </a: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stly single-subscri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iFi - Hotspot, in home/company – Indoor deplo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rebuchet MS"/>
                </a:rPr>
                <a:t>In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Optimized for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rebuchet MS"/>
                </a:rPr>
                <a:t>Out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Wall penetra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effectively </a:t>
              </a:r>
              <a:r>
                <a:rPr b="0" lang="en-US" sz="1800" spc="-1" strike="noStrike">
                  <a:solidFill>
                    <a:srgbClr val="009900"/>
                  </a:solidFill>
                  <a:latin typeface="Trebuchet MS"/>
                </a:rPr>
                <a:t>no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co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rebuchet MS"/>
                </a:rPr>
                <a:t>Access</a:t>
              </a:r>
              <a:r>
                <a:rPr b="0" lang="en-US" sz="1800" spc="-1" strike="noStrike">
                  <a:solidFill>
                    <a:srgbClr val="0000ff"/>
                  </a:solidFill>
                  <a:latin typeface="Trebuchet MS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Closed user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240" y="771480"/>
              <a:ext cx="522360" cy="1509840"/>
            </a:xfrm>
            <a:custGeom>
              <a:avLst/>
              <a:gdLst>
                <a:gd name="textAreaLeft" fmla="*/ 0 w 522360"/>
                <a:gd name="textAreaRight" fmla="*/ 188640 w 522360"/>
                <a:gd name="textAreaTop" fmla="*/ 39240 h 1509840"/>
                <a:gd name="textAreaBottom" fmla="*/ 1470600 h 15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1280" y="1004760"/>
              <a:ext cx="1271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rebuchet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rebuchet MS"/>
                </a:rPr>
                <a:t>outdoor</a:t>
              </a:r>
              <a:r>
                <a:rPr b="0" lang="en-US" sz="20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rebuchet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6720" y="2678040"/>
              <a:ext cx="522000" cy="1509840"/>
            </a:xfrm>
            <a:custGeom>
              <a:avLst/>
              <a:gdLst>
                <a:gd name="textAreaLeft" fmla="*/ 0 w 522000"/>
                <a:gd name="textAreaRight" fmla="*/ 188280 w 522000"/>
                <a:gd name="textAreaTop" fmla="*/ 39240 h 1509840"/>
                <a:gd name="textAreaBottom" fmla="*/ 1470600 h 15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9720" y="2896920"/>
              <a:ext cx="116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Trebuchet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Trebuchet MS"/>
                </a:rPr>
                <a:t>indoor</a:t>
              </a:r>
              <a:r>
                <a:rPr b="0" lang="en-US" sz="2000" spc="-1" strike="noStrike">
                  <a:solidFill>
                    <a:srgbClr val="00cc66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Trebuchet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00960" y="631188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Little gain from resource 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8600" y="504684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Trebuchet MS"/>
              </a:rPr>
              <a:t>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520" y="189000"/>
            <a:ext cx="77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Applied to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P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4429080" cy="2885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72160" y="1486080"/>
            <a:ext cx="4371840" cy="293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787320"/>
            <a:ext cx="6378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pportunistic Mobility with Multipath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stin Raiciu, Dragos Niculescu,  Marcelo Bagnulo, Mark Hand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6240" y="2171880"/>
            <a:ext cx="3305160" cy="637920"/>
          </a:xfrm>
          <a:custGeom>
            <a:avLst/>
            <a:gdLst/>
            <a:ahLst/>
            <a:rect l="l" t="t" r="r" b="b"/>
            <a:pathLst>
              <a:path w="2082" h="402">
                <a:moveTo>
                  <a:pt x="0" y="402"/>
                </a:moveTo>
                <a:lnTo>
                  <a:pt x="213" y="342"/>
                </a:lnTo>
                <a:lnTo>
                  <a:pt x="423" y="318"/>
                </a:lnTo>
                <a:lnTo>
                  <a:pt x="627" y="267"/>
                </a:lnTo>
                <a:lnTo>
                  <a:pt x="840" y="231"/>
                </a:lnTo>
                <a:lnTo>
                  <a:pt x="1044" y="204"/>
                </a:lnTo>
                <a:lnTo>
                  <a:pt x="1251" y="150"/>
                </a:lnTo>
                <a:lnTo>
                  <a:pt x="1458" y="84"/>
                </a:lnTo>
                <a:lnTo>
                  <a:pt x="1665" y="51"/>
                </a:lnTo>
                <a:lnTo>
                  <a:pt x="1869" y="33"/>
                </a:lnTo>
                <a:lnTo>
                  <a:pt x="20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6240" y="2409840"/>
            <a:ext cx="3300480" cy="409680"/>
          </a:xfrm>
          <a:custGeom>
            <a:avLst/>
            <a:gdLst/>
            <a:ahLst/>
            <a:rect l="l" t="t" r="r" b="b"/>
            <a:pathLst>
              <a:path w="2079" h="258">
                <a:moveTo>
                  <a:pt x="0" y="258"/>
                </a:moveTo>
                <a:lnTo>
                  <a:pt x="216" y="213"/>
                </a:lnTo>
                <a:lnTo>
                  <a:pt x="423" y="195"/>
                </a:lnTo>
                <a:lnTo>
                  <a:pt x="630" y="171"/>
                </a:lnTo>
                <a:lnTo>
                  <a:pt x="837" y="144"/>
                </a:lnTo>
                <a:lnTo>
                  <a:pt x="1044" y="123"/>
                </a:lnTo>
                <a:lnTo>
                  <a:pt x="1266" y="93"/>
                </a:lnTo>
                <a:lnTo>
                  <a:pt x="1464" y="42"/>
                </a:lnTo>
                <a:lnTo>
                  <a:pt x="1668" y="36"/>
                </a:lnTo>
                <a:lnTo>
                  <a:pt x="1875" y="27"/>
                </a:lnTo>
                <a:lnTo>
                  <a:pt x="20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9320" y="2133720"/>
            <a:ext cx="3314520" cy="438120"/>
          </a:xfrm>
          <a:custGeom>
            <a:avLst/>
            <a:gdLst/>
            <a:ahLst/>
            <a:rect l="l" t="t" r="r" b="b"/>
            <a:pathLst>
              <a:path w="2088" h="276">
                <a:moveTo>
                  <a:pt x="0" y="276"/>
                </a:moveTo>
                <a:lnTo>
                  <a:pt x="651" y="189"/>
                </a:lnTo>
                <a:lnTo>
                  <a:pt x="1071" y="129"/>
                </a:lnTo>
                <a:lnTo>
                  <a:pt x="20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2333520"/>
            <a:ext cx="3295800" cy="228600"/>
          </a:xfrm>
          <a:custGeom>
            <a:avLst/>
            <a:gdLst/>
            <a:ahLst/>
            <a:rect l="l" t="t" r="r" b="b"/>
            <a:pathLst>
              <a:path w="2076" h="144">
                <a:moveTo>
                  <a:pt x="0" y="144"/>
                </a:moveTo>
                <a:lnTo>
                  <a:pt x="1665" y="21"/>
                </a:lnTo>
                <a:lnTo>
                  <a:pt x="207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4379760"/>
            <a:ext cx="672192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P Gain: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Multipat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ver 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Path-selec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 – 15%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00% Wifi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en us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989760" y="731880"/>
            <a:ext cx="1860120" cy="703800"/>
            <a:chOff x="6989760" y="731880"/>
            <a:chExt cx="1860120" cy="703800"/>
          </a:xfrm>
        </p:grpSpPr>
        <p:sp>
          <p:nvSpPr>
            <p:cNvPr id="114" name=""/>
            <p:cNvSpPr/>
            <p:nvPr/>
          </p:nvSpPr>
          <p:spPr>
            <a:xfrm>
              <a:off x="7248960" y="731880"/>
              <a:ext cx="160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rebuchet MS"/>
                </a:rPr>
                <a:t>Multip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rebuchet MS"/>
                </a:rPr>
                <a:t>Path-se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96240" y="957240"/>
              <a:ext cx="274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89760" y="1255680"/>
              <a:ext cx="274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7520" y="616896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Small gains even under optimistic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2960" y="304920"/>
            <a:ext cx="84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Applied to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6350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pportunistic Mobility with Multipath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stin Raiciu, Dragos Niculescu,  Marcelo Bagnulo, MarkHand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5320" y="5506920"/>
            <a:ext cx="795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95800" y="1736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rebuchet MS"/>
              </a:rPr>
              <a:t>WIFI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 5.8 Mb/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3720" y="1714680"/>
            <a:ext cx="5646960" cy="313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351080" y="1920600"/>
            <a:ext cx="4592520" cy="11160"/>
          </a:xfrm>
          <a:prstGeom prst="line">
            <a:avLst/>
          </a:prstGeom>
          <a:ln w="507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44600" y="3204720"/>
            <a:ext cx="4592520" cy="111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41880" y="299412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G</a:t>
            </a:r>
            <a:r>
              <a:rPr b="1" lang="en-US" sz="20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 0.8 Mb/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960" y="6168960"/>
            <a:ext cx="85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Outdoors: 3G only option. Indoors: 3G to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n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5120" y="947880"/>
            <a:ext cx="867888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mall gai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from resource p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ncrease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ways maximum delay given by slowest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ad of line blocking due to periodic outage on weak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High resourc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rge receiver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cessing &amp; air-interface overhead due to DS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igher battery &amp; spectrum usage due to multiple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No 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for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remental deploymen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Transparent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70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+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18480" y="1044720"/>
            <a:ext cx="663480" cy="3483000"/>
          </a:xfrm>
          <a:custGeom>
            <a:avLst/>
            <a:gdLst>
              <a:gd name="textAreaLeft" fmla="*/ 0 w 663480"/>
              <a:gd name="textAreaRight" fmla="*/ 239400 w 663480"/>
              <a:gd name="textAreaTop" fmla="*/ 90720 h 3483000"/>
              <a:gd name="textAreaBottom" fmla="*/ 3392280 h 34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69360" y="1927080"/>
            <a:ext cx="106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Just pick the best   path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1920" y="607212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Throughput aggregation: High cost – littl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50800" y="1012680"/>
            <a:ext cx="822960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wirele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orst link (throughput, fluct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t expensive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on on local wirele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asurements: SINR, signal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st per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this information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lect your ow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municate to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4520" y="31104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ath Selective Operation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How to Pick the Best Pa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080" y="6095880"/>
            <a:ext cx="80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Local link information promises to find be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21:53:17Z</dcterms:created>
  <dc:creator>ghampel</dc:creator>
  <dc:description/>
  <dc:language>en-US</dc:language>
  <cp:lastModifiedBy>ghampel</cp:lastModifiedBy>
  <dcterms:modified xsi:type="dcterms:W3CDTF">2011-07-26T23:40:40Z</dcterms:modified>
  <cp:revision>3702</cp:revision>
  <dc:subject/>
  <dc:title>MPTCP Enhancements to Improve Applicability to Wireless Access Networks</dc:title>
</cp:coreProperties>
</file>