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E96-DA3A-4D44-89E1-6B93C8D9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2FA-D077-4420-A0C3-B9FFCA76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41E-C2F8-40DA-BCD9-037690E6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4F2-79CA-4DFD-80BD-B158424B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BB2-63BB-4CEC-8A50-C240FB5F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073-949B-4C6C-B6DA-0E4AC0BD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2B1-8935-42BC-AD5E-884354A2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CE7-F532-46E3-A878-FE2F5DBD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DA2-FC6D-4C13-93A1-1BBCFABE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301-5D3B-43AB-A939-232AE71F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F5A-549C-4AFD-AB48-B1AAE81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EAA-AC6F-49C5-B3ED-BAA91380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B173-960B-410E-8C62-1D93BE0E34C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TCP Enhancements to Improve Applicability to Wireless Access Networks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draft_hampel_mptcp_applicability_wireless_networks_00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rg Hampel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erry Klein – Bell Labs</a:t>
            </a:r>
            <a:br>
              <a:rPr sz="2000"/>
            </a:b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ussions on ML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95360" y="774720"/>
            <a:ext cx="842004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lue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Seamles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session migration across access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roughput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“Not worse than best pa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silience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ame as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oad balancing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ame as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pplication-, middlebox-, fairness-, security compliance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ame as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s the goals &amp; constraints of RFC 61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st: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Lower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maller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uffer spac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conventional TC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Reduced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ir-interface/battery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Reduce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rocessing/air-interface overh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9800" y="6058080"/>
            <a:ext cx="90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MPTCP: Enabler rather than performance differen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8200" y="289080"/>
            <a:ext cx="86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ath-Selective Operation = “Just-pick-the-best-path”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alue &amp;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3640" y="3909960"/>
            <a:ext cx="380880" cy="711360"/>
          </a:xfrm>
          <a:custGeom>
            <a:avLst/>
            <a:gdLst>
              <a:gd name="textAreaLeft" fmla="*/ 0 w 380880"/>
              <a:gd name="textAreaRight" fmla="*/ 137520 w 380880"/>
              <a:gd name="textAreaTop" fmla="*/ 18360 h 711360"/>
              <a:gd name="textAreaBottom" fmla="*/ 693000 h 7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42240" y="403704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Low complex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43640" y="5078520"/>
            <a:ext cx="380880" cy="241200"/>
          </a:xfrm>
          <a:custGeom>
            <a:avLst/>
            <a:gdLst>
              <a:gd name="textAreaLeft" fmla="*/ 0 w 380880"/>
              <a:gd name="textAreaRight" fmla="*/ 137520 w 380880"/>
              <a:gd name="textAreaTop" fmla="*/ 6120 h 241200"/>
              <a:gd name="textAreaBottom" fmla="*/ 23508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59440" y="50022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Signaling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43640" y="4697280"/>
            <a:ext cx="380880" cy="304920"/>
          </a:xfrm>
          <a:custGeom>
            <a:avLst/>
            <a:gdLst>
              <a:gd name="textAreaLeft" fmla="*/ 0 w 380880"/>
              <a:gd name="textAreaRight" fmla="*/ 137520 w 3808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4160" y="464976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One radio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2666880"/>
            <a:ext cx="8077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w Complexity Re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cheap can we make path-selective oper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71440" y="60199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Performance impact seems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0520" y="304920"/>
            <a:ext cx="61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 Complexity MPTCP Host: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Principal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878040"/>
            <a:ext cx="84582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 only one flow- &amp; congestion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Betwee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ath-reselection windows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uring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ath-reselection wind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amless since multiple subflows ar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gine needs to adapt to new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transmissions on old path or cross fl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formanc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ame as for: Mobile IP family, 3GPP, HIP, SHIM6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ull-fledged MPTCP host: Needs to adapt to new channe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2120" y="3200400"/>
            <a:ext cx="304776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Internal 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733920"/>
            <a:ext cx="1523880" cy="7617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FL Flow/C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5920" y="6019920"/>
            <a:ext cx="90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MPTCP Module: Flexible realization in- or outside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7480" y="304920"/>
            <a:ext cx="54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-Complex MPTCP Host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rotocol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286000"/>
            <a:ext cx="3047760" cy="9144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onnection Flow/C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286000"/>
            <a:ext cx="2971800" cy="91440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Conventional TC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onnection Flow/C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24480" y="129528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MPTCP full-fled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(multi engi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93600" y="129528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MPTCP low-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(single eng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3733920"/>
            <a:ext cx="1447560" cy="7617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FL Flow/C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3733920"/>
            <a:ext cx="2971800" cy="761760"/>
          </a:xfrm>
          <a:custGeom>
            <a:avLst/>
            <a:gdLst/>
            <a:ahLst/>
            <a:rect l="l" t="t" r="r" b="b"/>
            <a:pathLst>
              <a:path w="1872" h="480">
                <a:moveTo>
                  <a:pt x="0" y="480"/>
                </a:moveTo>
                <a:lnTo>
                  <a:pt x="0" y="0"/>
                </a:lnTo>
                <a:lnTo>
                  <a:pt x="1872" y="0"/>
                </a:lnTo>
                <a:lnTo>
                  <a:pt x="1872" y="480"/>
                </a:lnTo>
                <a:lnTo>
                  <a:pt x="960" y="480"/>
                </a:lnTo>
                <a:lnTo>
                  <a:pt x="960" y="240"/>
                </a:lnTo>
                <a:lnTo>
                  <a:pt x="912" y="240"/>
                </a:lnTo>
                <a:lnTo>
                  <a:pt x="912" y="480"/>
                </a:lnTo>
                <a:lnTo>
                  <a:pt x="0" y="480"/>
                </a:lnTo>
                <a:close/>
              </a:path>
            </a:pathLst>
          </a:custGeom>
          <a:solidFill>
            <a:srgbClr val="99ff99"/>
          </a:solidFill>
          <a:ln w="25560">
            <a:solidFill>
              <a:srgbClr val="99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809880"/>
            <a:ext cx="1447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FL Map/Sg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3809880"/>
            <a:ext cx="1447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FL Map/Sg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733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MPTC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724280"/>
            <a:ext cx="2895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Conventional TCP segment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3352680"/>
            <a:ext cx="2971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Conventional TCP segment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724280"/>
            <a:ext cx="2895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Conventional TCP segment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19051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tream so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tream so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74680" y="152280"/>
            <a:ext cx="55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-Complex MPTCP Host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ignaling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27160" y="838080"/>
            <a:ext cx="828360" cy="5806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rebuchet MS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rebuchet MS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560" y="838080"/>
            <a:ext cx="893880" cy="5806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00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00"/>
                </a:solidFill>
                <a:latin typeface="Trebuchet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17524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523880" y="2133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505320" y="2133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58640" y="144792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Y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39840" y="1447920"/>
            <a:ext cx="15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YN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+ MP_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10600" y="18288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YN/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30120" y="182880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YN/ACK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+ MP_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2514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25146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59360" y="22096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4600" y="220968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ACK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+ MP_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3092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505320" y="3473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42720" y="27874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SYN + MP_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03120" y="31687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SYN/ACK + MP_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38545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43800" y="3549600"/>
            <a:ext cx="16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ACK + MP_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33720" y="31240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1240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5607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56070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0600" y="53020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15360" y="5302080"/>
            <a:ext cx="22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FIN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 +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Data FIN on 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51055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13920" y="4844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4419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4600" y="411480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Packet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 + DS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33720" y="46479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46483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4419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13200" y="411480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676520"/>
            <a:ext cx="18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Establishment of connection &amp; 1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rebuchet MS"/>
              </a:rPr>
              <a:t>st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 sub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320040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Establishment of add sub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411480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MPTCP-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ign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48290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Termination of  add sub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541008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Termination of 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167652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297180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0120" y="6172200"/>
            <a:ext cx="68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Signaling compliant with MPTCP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4419720"/>
            <a:ext cx="3047760" cy="304560"/>
          </a:xfrm>
          <a:custGeom>
            <a:avLst/>
            <a:gdLst/>
            <a:ahLst/>
            <a:rect l="l" t="t" r="r" b="b"/>
            <a:pathLst>
              <a:path w="1872" h="96">
                <a:moveTo>
                  <a:pt x="0" y="0"/>
                </a:moveTo>
                <a:lnTo>
                  <a:pt x="288" y="96"/>
                </a:lnTo>
                <a:lnTo>
                  <a:pt x="1872" y="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15240" y="441972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+ 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838080"/>
            <a:ext cx="2895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825480"/>
            <a:ext cx="7239240" cy="5257800"/>
          </a:xfrm>
          <a:custGeom>
            <a:avLst/>
            <a:gdLst/>
            <a:ahLst/>
            <a:rect l="l" t="t" r="r" b="b"/>
            <a:pathLst>
              <a:path w="4560" h="3312">
                <a:moveTo>
                  <a:pt x="0" y="3312"/>
                </a:moveTo>
                <a:lnTo>
                  <a:pt x="27" y="459"/>
                </a:lnTo>
                <a:lnTo>
                  <a:pt x="1968" y="456"/>
                </a:lnTo>
                <a:lnTo>
                  <a:pt x="1968" y="0"/>
                </a:lnTo>
                <a:lnTo>
                  <a:pt x="4560" y="8"/>
                </a:lnTo>
                <a:lnTo>
                  <a:pt x="4553" y="577"/>
                </a:lnTo>
                <a:lnTo>
                  <a:pt x="4553" y="3288"/>
                </a:lnTo>
                <a:lnTo>
                  <a:pt x="0" y="3312"/>
                </a:lnTo>
                <a:close/>
              </a:path>
            </a:pathLst>
          </a:custGeom>
          <a:noFill/>
          <a:ln w="255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7680" y="212760"/>
            <a:ext cx="53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-Complex MPTCP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Sender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-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ata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838080"/>
            <a:ext cx="2876400" cy="609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N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N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39080" y="1886040"/>
            <a:ext cx="2081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write seg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N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N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N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AN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Psrc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IPloc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Pdst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IPrem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34400" y="3257640"/>
            <a:ext cx="2172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write seg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N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N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AN_tcp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last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AN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Psrc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IPloc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Prem_t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IPrem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32960" y="4705200"/>
            <a:ext cx="2137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Create 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SN_tcp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last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SN_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AN_tcp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AN_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IPsrc_tcp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IPloc_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IPdst_tcp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 IPrem_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5120" y="196200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1440" y="327672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91"/>
                </a:lnTo>
                <a:cubicBezTo>
                  <a:pt x="10800" y="9591"/>
                  <a:pt x="5400" y="10491"/>
                  <a:pt x="0" y="10491"/>
                </a:cubicBezTo>
                <a:cubicBezTo>
                  <a:pt x="5400" y="10491"/>
                  <a:pt x="10800" y="11391"/>
                  <a:pt x="10800" y="1229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838080"/>
            <a:ext cx="396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_loc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SFL </a:t>
            </a:r>
            <a:r>
              <a:rPr b="1" i="1" lang="en-US" sz="1600" spc="-1" strike="noStrike">
                <a:solidFill>
                  <a:srgbClr val="ff0000"/>
                </a:solidFill>
                <a:latin typeface="Trebuchet MS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FL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N_i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_re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SFL </a:t>
            </a:r>
            <a:r>
              <a:rPr b="1" i="1" lang="en-US" sz="1600" spc="-1" strike="noStrike">
                <a:solidFill>
                  <a:srgbClr val="ff0000"/>
                </a:solidFill>
                <a:latin typeface="Trebuchet MS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FL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N_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31" idx="1"/>
            <a:endCxn id="227" idx="1"/>
          </p:cNvCxnSpPr>
          <p:nvPr/>
        </p:nvCxnSpPr>
        <p:spPr>
          <a:xfrm rot="5400000">
            <a:off x="4808520" y="1665720"/>
            <a:ext cx="972360" cy="840600"/>
          </a:xfrm>
          <a:prstGeom prst="bentConnector4">
            <a:avLst>
              <a:gd name="adj1" fmla="val 18629"/>
              <a:gd name="adj2" fmla="val 1723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3" idx="3"/>
            <a:endCxn id="229" idx="1"/>
          </p:cNvCxnSpPr>
          <p:nvPr/>
        </p:nvCxnSpPr>
        <p:spPr>
          <a:xfrm>
            <a:off x="3575160" y="11426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 flipH="1">
            <a:off x="7237440" y="1962000"/>
            <a:ext cx="380880" cy="1219320"/>
          </a:xfrm>
          <a:custGeom>
            <a:avLst/>
            <a:gdLst>
              <a:gd name="textAreaLeft" fmla="*/ 243720 w 380880"/>
              <a:gd name="textAreaRight" fmla="*/ 38160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5400" y="11250"/>
                  <a:pt x="0" y="11250"/>
                </a:cubicBezTo>
                <a:cubicBezTo>
                  <a:pt x="54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237440" y="3257640"/>
            <a:ext cx="380880" cy="1218960"/>
          </a:xfrm>
          <a:custGeom>
            <a:avLst/>
            <a:gdLst>
              <a:gd name="textAreaLeft" fmla="*/ 243720 w 380880"/>
              <a:gd name="textAreaRight" fmla="*/ 381600 w 3808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25"/>
                </a:lnTo>
                <a:cubicBezTo>
                  <a:pt x="10800" y="10125"/>
                  <a:pt x="5400" y="11025"/>
                  <a:pt x="0" y="11025"/>
                </a:cubicBezTo>
                <a:cubicBezTo>
                  <a:pt x="5400" y="11025"/>
                  <a:pt x="10800" y="11925"/>
                  <a:pt x="10800" y="128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237440" y="4705200"/>
            <a:ext cx="380880" cy="1219320"/>
          </a:xfrm>
          <a:custGeom>
            <a:avLst/>
            <a:gdLst>
              <a:gd name="textAreaLeft" fmla="*/ 243720 w 380880"/>
              <a:gd name="textAreaRight" fmla="*/ 38160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875"/>
                </a:lnTo>
                <a:cubicBezTo>
                  <a:pt x="10800" y="8775"/>
                  <a:pt x="5400" y="9675"/>
                  <a:pt x="0" y="9675"/>
                </a:cubicBezTo>
                <a:cubicBezTo>
                  <a:pt x="5400" y="9675"/>
                  <a:pt x="10800" y="10575"/>
                  <a:pt x="10800" y="114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75520" y="2374920"/>
            <a:ext cx="698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FL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091360" y="3657600"/>
            <a:ext cx="82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FL </a:t>
            </a: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91360" y="5029200"/>
            <a:ext cx="824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FL </a:t>
            </a: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8120" y="91440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rebuchet MS"/>
              </a:rPr>
              <a:t>TCP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7520" y="56386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rebuchet MS"/>
              </a:rPr>
              <a:t>MPTCP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5600520" y="1180440"/>
            <a:ext cx="228600" cy="609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62485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Processing high if both senders active and not in sy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676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=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enders are in 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oth use the same pa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124080"/>
            <a:ext cx="3808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!=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enders are not in 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uring path re-selection 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if remote sender does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acket Splitting !</a:t>
            </a: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65640" y="2590920"/>
            <a:ext cx="685800" cy="1981080"/>
          </a:xfrm>
          <a:custGeom>
            <a:avLst/>
            <a:gdLst/>
            <a:ahLst/>
            <a:rect l="l" t="t" r="r" b="b"/>
            <a:pathLst>
              <a:path w="432" h="1296">
                <a:moveTo>
                  <a:pt x="0" y="0"/>
                </a:moveTo>
                <a:lnTo>
                  <a:pt x="0" y="1296"/>
                </a:lnTo>
                <a:lnTo>
                  <a:pt x="432" y="1296"/>
                </a:lnTo>
              </a:path>
            </a:pathLst>
          </a:custGeom>
          <a:noFill/>
          <a:ln w="2232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18320" y="52578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18320" y="38862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18320" y="2603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2895480"/>
            <a:ext cx="411480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172200" y="927000"/>
            <a:ext cx="274320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914400"/>
            <a:ext cx="8458200" cy="2666880"/>
          </a:xfrm>
          <a:custGeom>
            <a:avLst/>
            <a:gdLst/>
            <a:ahLst/>
            <a:rect l="l" t="t" r="r" b="b"/>
            <a:pathLst>
              <a:path w="5328" h="1912">
                <a:moveTo>
                  <a:pt x="5320" y="1912"/>
                </a:moveTo>
                <a:lnTo>
                  <a:pt x="5328" y="758"/>
                </a:lnTo>
                <a:lnTo>
                  <a:pt x="3528" y="760"/>
                </a:lnTo>
                <a:lnTo>
                  <a:pt x="3528" y="0"/>
                </a:lnTo>
                <a:lnTo>
                  <a:pt x="0" y="0"/>
                </a:lnTo>
                <a:lnTo>
                  <a:pt x="16" y="656"/>
                </a:lnTo>
                <a:lnTo>
                  <a:pt x="16" y="1912"/>
                </a:lnTo>
                <a:lnTo>
                  <a:pt x="5320" y="1912"/>
                </a:lnTo>
                <a:close/>
              </a:path>
            </a:pathLst>
          </a:custGeom>
          <a:noFill/>
          <a:ln w="255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5720" y="228600"/>
            <a:ext cx="55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-Complex MPTCP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eceiver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-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ata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130824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N_tcp      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nco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N_tcp      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g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360" y="1003320"/>
            <a:ext cx="381240" cy="1219320"/>
          </a:xfrm>
          <a:custGeom>
            <a:avLst/>
            <a:gdLst>
              <a:gd name="textAreaLeft" fmla="*/ 243720 w 381240"/>
              <a:gd name="textAreaRight" fmla="*/ 381600 w 381240"/>
              <a:gd name="textAreaTop" fmla="*/ 39600 h 1219320"/>
              <a:gd name="textAreaBottom" fmla="*/ 117972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5"/>
                  <a:pt x="10800" y="2250"/>
                </a:cubicBezTo>
                <a:lnTo>
                  <a:pt x="10800" y="8550"/>
                </a:lnTo>
                <a:cubicBezTo>
                  <a:pt x="10800" y="9675"/>
                  <a:pt x="5400" y="10800"/>
                  <a:pt x="0" y="10800"/>
                </a:cubicBezTo>
                <a:cubicBezTo>
                  <a:pt x="5400" y="10800"/>
                  <a:pt x="10800" y="11925"/>
                  <a:pt x="10800" y="13050"/>
                </a:cubicBezTo>
                <a:lnTo>
                  <a:pt x="10800" y="19350"/>
                </a:lnTo>
                <a:cubicBezTo>
                  <a:pt x="10800" y="204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36880" y="94140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rebuchet MS"/>
              </a:rPr>
              <a:t>TCP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2600" y="9144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rebuchet MS"/>
              </a:rPr>
              <a:t>MPTCP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11720" y="927000"/>
            <a:ext cx="2081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write seg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N_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SN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N_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AN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Psrc_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IPloc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Pdst_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IPrem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100332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3" idx="1"/>
            <a:endCxn id="252" idx="1"/>
          </p:cNvCxnSpPr>
          <p:nvPr/>
        </p:nvCxnSpPr>
        <p:spPr>
          <a:xfrm>
            <a:off x="5790960" y="161244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62120" y="28954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Psrc, PRT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Pdst, PRT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895480"/>
            <a:ext cx="4953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FL SN_i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_rem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N_tc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FL AN_i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_loc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N_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45840" y="29862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FL</a:t>
            </a:r>
            <a:r>
              <a:rPr b="1" i="1" lang="en-US" sz="1800" spc="-1" strike="noStrike">
                <a:solidFill>
                  <a:srgbClr val="ff0000"/>
                </a:solidFill>
                <a:latin typeface="Trebuchet MS"/>
              </a:rPr>
              <a:t>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33720" y="2971800"/>
            <a:ext cx="304560" cy="457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2971800"/>
            <a:ext cx="228600" cy="457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00080" y="297180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64" idx="1"/>
            <a:endCxn id="257" idx="1"/>
          </p:cNvCxnSpPr>
          <p:nvPr/>
        </p:nvCxnSpPr>
        <p:spPr>
          <a:xfrm flipH="1" flipV="1">
            <a:off x="3123360" y="1612440"/>
            <a:ext cx="3582360" cy="1588320"/>
          </a:xfrm>
          <a:prstGeom prst="bentConnector5">
            <a:avLst>
              <a:gd name="adj1" fmla="val -6381"/>
              <a:gd name="adj2" fmla="val 37995"/>
              <a:gd name="adj3" fmla="val 1063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457200" y="3809880"/>
            <a:ext cx="85345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nection-level buffering + reordering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one by TCP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ultipath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compl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Large buffer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if remote sender does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bflow-level buffering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Only if mapping unknow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dds unnecessary complexity! To be avoi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/>
          <p:nvPr/>
        </p:nvCxnSpPr>
        <p:spPr>
          <a:xfrm>
            <a:off x="228600" y="3212640"/>
            <a:ext cx="3816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7200" y="609588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Availability of mapping crucial for low-complexity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546160" y="3549600"/>
            <a:ext cx="18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DL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rebuchet MS"/>
              </a:rPr>
              <a:t>UL 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ath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12880" y="362592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DL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amp; </a:t>
            </a:r>
            <a:r>
              <a:rPr b="1" lang="en-US" sz="1800" spc="-1" strike="noStrike">
                <a:solidFill>
                  <a:srgbClr val="0000ff"/>
                </a:solidFill>
                <a:latin typeface="Trebuchet MS"/>
              </a:rPr>
              <a:t>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ath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71160" y="97488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Full-fled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995400"/>
            <a:ext cx="2438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Full-fled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49600" y="5378400"/>
            <a:ext cx="40104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rebuchet MS"/>
              </a:rPr>
              <a:t>Low-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Accommodat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frequent packet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Accommodat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large TCP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2240" y="5369040"/>
            <a:ext cx="32288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rebuchet MS"/>
              </a:rPr>
              <a:t>Low-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Asser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eer does path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Asser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ame path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1800" y="228600"/>
            <a:ext cx="73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teroperability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Full-Fledged Hos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Low-Complex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4960" y="4510080"/>
            <a:ext cx="762120" cy="7682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272280" y="1397160"/>
            <a:ext cx="673200" cy="736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43480" y="2057400"/>
            <a:ext cx="1152720" cy="2857680"/>
          </a:xfrm>
          <a:custGeom>
            <a:avLst/>
            <a:gdLst/>
            <a:ahLst/>
            <a:rect l="l" t="t" r="r" b="b"/>
            <a:pathLst>
              <a:path w="726" h="1800">
                <a:moveTo>
                  <a:pt x="619" y="1800"/>
                </a:moveTo>
                <a:cubicBezTo>
                  <a:pt x="543" y="1751"/>
                  <a:pt x="271" y="1605"/>
                  <a:pt x="173" y="1505"/>
                </a:cubicBezTo>
                <a:cubicBezTo>
                  <a:pt x="75" y="1405"/>
                  <a:pt x="0" y="1320"/>
                  <a:pt x="30" y="1196"/>
                </a:cubicBezTo>
                <a:cubicBezTo>
                  <a:pt x="60" y="1072"/>
                  <a:pt x="266" y="879"/>
                  <a:pt x="355" y="760"/>
                </a:cubicBezTo>
                <a:cubicBezTo>
                  <a:pt x="444" y="641"/>
                  <a:pt x="509" y="573"/>
                  <a:pt x="566" y="484"/>
                </a:cubicBezTo>
                <a:cubicBezTo>
                  <a:pt x="623" y="395"/>
                  <a:pt x="672" y="305"/>
                  <a:pt x="699" y="224"/>
                </a:cubicBezTo>
                <a:cubicBezTo>
                  <a:pt x="726" y="143"/>
                  <a:pt x="721" y="47"/>
                  <a:pt x="726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headEnd len="med" type="oval" w="med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57880" y="1828800"/>
            <a:ext cx="1138320" cy="2933640"/>
          </a:xfrm>
          <a:custGeom>
            <a:avLst/>
            <a:gdLst/>
            <a:ahLst/>
            <a:rect l="l" t="t" r="r" b="b"/>
            <a:pathLst>
              <a:path w="717" h="1848">
                <a:moveTo>
                  <a:pt x="581" y="1848"/>
                </a:moveTo>
                <a:cubicBezTo>
                  <a:pt x="513" y="1797"/>
                  <a:pt x="266" y="1647"/>
                  <a:pt x="173" y="1544"/>
                </a:cubicBezTo>
                <a:cubicBezTo>
                  <a:pt x="80" y="1441"/>
                  <a:pt x="0" y="1349"/>
                  <a:pt x="21" y="1228"/>
                </a:cubicBezTo>
                <a:cubicBezTo>
                  <a:pt x="42" y="1107"/>
                  <a:pt x="205" y="951"/>
                  <a:pt x="298" y="816"/>
                </a:cubicBezTo>
                <a:cubicBezTo>
                  <a:pt x="391" y="681"/>
                  <a:pt x="511" y="552"/>
                  <a:pt x="581" y="416"/>
                </a:cubicBezTo>
                <a:cubicBezTo>
                  <a:pt x="651" y="280"/>
                  <a:pt x="689" y="87"/>
                  <a:pt x="717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lg" type="arrow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495480" y="2057400"/>
            <a:ext cx="1152360" cy="2857680"/>
          </a:xfrm>
          <a:custGeom>
            <a:avLst/>
            <a:gdLst/>
            <a:ahLst/>
            <a:rect l="l" t="t" r="r" b="b"/>
            <a:pathLst>
              <a:path w="726" h="1800">
                <a:moveTo>
                  <a:pt x="619" y="1800"/>
                </a:moveTo>
                <a:cubicBezTo>
                  <a:pt x="543" y="1751"/>
                  <a:pt x="271" y="1605"/>
                  <a:pt x="173" y="1505"/>
                </a:cubicBezTo>
                <a:cubicBezTo>
                  <a:pt x="75" y="1405"/>
                  <a:pt x="0" y="1320"/>
                  <a:pt x="30" y="1196"/>
                </a:cubicBezTo>
                <a:cubicBezTo>
                  <a:pt x="60" y="1072"/>
                  <a:pt x="266" y="879"/>
                  <a:pt x="355" y="760"/>
                </a:cubicBezTo>
                <a:cubicBezTo>
                  <a:pt x="444" y="641"/>
                  <a:pt x="509" y="573"/>
                  <a:pt x="566" y="484"/>
                </a:cubicBezTo>
                <a:cubicBezTo>
                  <a:pt x="623" y="395"/>
                  <a:pt x="672" y="305"/>
                  <a:pt x="699" y="224"/>
                </a:cubicBezTo>
                <a:cubicBezTo>
                  <a:pt x="726" y="143"/>
                  <a:pt x="721" y="47"/>
                  <a:pt x="726" y="0"/>
                </a:cubicBezTo>
              </a:path>
            </a:pathLst>
          </a:custGeom>
          <a:noFill/>
          <a:ln w="31680">
            <a:solidFill>
              <a:srgbClr val="0000ff"/>
            </a:solidFill>
            <a:prstDash val="dash"/>
            <a:round/>
            <a:headEnd len="med" type="oval" w="med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500880" y="1828800"/>
            <a:ext cx="1138320" cy="2933640"/>
          </a:xfrm>
          <a:custGeom>
            <a:avLst/>
            <a:gdLst/>
            <a:ahLst/>
            <a:rect l="l" t="t" r="r" b="b"/>
            <a:pathLst>
              <a:path w="717" h="1848">
                <a:moveTo>
                  <a:pt x="581" y="1848"/>
                </a:moveTo>
                <a:cubicBezTo>
                  <a:pt x="513" y="1797"/>
                  <a:pt x="266" y="1647"/>
                  <a:pt x="173" y="1544"/>
                </a:cubicBezTo>
                <a:cubicBezTo>
                  <a:pt x="80" y="1441"/>
                  <a:pt x="0" y="1349"/>
                  <a:pt x="21" y="1228"/>
                </a:cubicBezTo>
                <a:cubicBezTo>
                  <a:pt x="42" y="1107"/>
                  <a:pt x="205" y="951"/>
                  <a:pt x="298" y="816"/>
                </a:cubicBezTo>
                <a:cubicBezTo>
                  <a:pt x="391" y="681"/>
                  <a:pt x="511" y="552"/>
                  <a:pt x="581" y="416"/>
                </a:cubicBezTo>
                <a:cubicBezTo>
                  <a:pt x="651" y="280"/>
                  <a:pt x="689" y="87"/>
                  <a:pt x="717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lg" type="arrow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057400" y="4540320"/>
            <a:ext cx="762120" cy="7682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2224080" y="1427040"/>
            <a:ext cx="673200" cy="736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295280" y="2087640"/>
            <a:ext cx="1152720" cy="2857320"/>
          </a:xfrm>
          <a:custGeom>
            <a:avLst/>
            <a:gdLst/>
            <a:ahLst/>
            <a:rect l="l" t="t" r="r" b="b"/>
            <a:pathLst>
              <a:path w="726" h="1800">
                <a:moveTo>
                  <a:pt x="619" y="1800"/>
                </a:moveTo>
                <a:cubicBezTo>
                  <a:pt x="543" y="1751"/>
                  <a:pt x="271" y="1605"/>
                  <a:pt x="173" y="1505"/>
                </a:cubicBezTo>
                <a:cubicBezTo>
                  <a:pt x="75" y="1405"/>
                  <a:pt x="0" y="1320"/>
                  <a:pt x="30" y="1196"/>
                </a:cubicBezTo>
                <a:cubicBezTo>
                  <a:pt x="60" y="1072"/>
                  <a:pt x="266" y="879"/>
                  <a:pt x="355" y="760"/>
                </a:cubicBezTo>
                <a:cubicBezTo>
                  <a:pt x="444" y="641"/>
                  <a:pt x="509" y="573"/>
                  <a:pt x="566" y="484"/>
                </a:cubicBezTo>
                <a:cubicBezTo>
                  <a:pt x="623" y="395"/>
                  <a:pt x="672" y="305"/>
                  <a:pt x="699" y="224"/>
                </a:cubicBezTo>
                <a:cubicBezTo>
                  <a:pt x="726" y="143"/>
                  <a:pt x="721" y="47"/>
                  <a:pt x="726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headEnd len="med" type="oval" w="med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09680" y="1859040"/>
            <a:ext cx="1138320" cy="2933640"/>
          </a:xfrm>
          <a:custGeom>
            <a:avLst/>
            <a:gdLst/>
            <a:ahLst/>
            <a:rect l="l" t="t" r="r" b="b"/>
            <a:pathLst>
              <a:path w="717" h="1848">
                <a:moveTo>
                  <a:pt x="581" y="1848"/>
                </a:moveTo>
                <a:cubicBezTo>
                  <a:pt x="513" y="1797"/>
                  <a:pt x="266" y="1647"/>
                  <a:pt x="173" y="1544"/>
                </a:cubicBezTo>
                <a:cubicBezTo>
                  <a:pt x="80" y="1441"/>
                  <a:pt x="0" y="1349"/>
                  <a:pt x="21" y="1228"/>
                </a:cubicBezTo>
                <a:cubicBezTo>
                  <a:pt x="42" y="1107"/>
                  <a:pt x="205" y="951"/>
                  <a:pt x="298" y="816"/>
                </a:cubicBezTo>
                <a:cubicBezTo>
                  <a:pt x="391" y="681"/>
                  <a:pt x="511" y="552"/>
                  <a:pt x="581" y="416"/>
                </a:cubicBezTo>
                <a:cubicBezTo>
                  <a:pt x="651" y="280"/>
                  <a:pt x="689" y="87"/>
                  <a:pt x="717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lg" type="arrow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447280" y="2087640"/>
            <a:ext cx="1152360" cy="2857320"/>
          </a:xfrm>
          <a:custGeom>
            <a:avLst/>
            <a:gdLst/>
            <a:ahLst/>
            <a:rect l="l" t="t" r="r" b="b"/>
            <a:pathLst>
              <a:path w="726" h="1800">
                <a:moveTo>
                  <a:pt x="619" y="1800"/>
                </a:moveTo>
                <a:cubicBezTo>
                  <a:pt x="543" y="1751"/>
                  <a:pt x="271" y="1605"/>
                  <a:pt x="173" y="1505"/>
                </a:cubicBezTo>
                <a:cubicBezTo>
                  <a:pt x="75" y="1405"/>
                  <a:pt x="0" y="1320"/>
                  <a:pt x="30" y="1196"/>
                </a:cubicBezTo>
                <a:cubicBezTo>
                  <a:pt x="60" y="1072"/>
                  <a:pt x="266" y="879"/>
                  <a:pt x="355" y="760"/>
                </a:cubicBezTo>
                <a:cubicBezTo>
                  <a:pt x="444" y="641"/>
                  <a:pt x="509" y="573"/>
                  <a:pt x="566" y="484"/>
                </a:cubicBezTo>
                <a:cubicBezTo>
                  <a:pt x="623" y="395"/>
                  <a:pt x="672" y="305"/>
                  <a:pt x="699" y="224"/>
                </a:cubicBezTo>
                <a:cubicBezTo>
                  <a:pt x="726" y="143"/>
                  <a:pt x="721" y="47"/>
                  <a:pt x="726" y="0"/>
                </a:cubicBezTo>
              </a:path>
            </a:pathLst>
          </a:custGeom>
          <a:noFill/>
          <a:ln w="31680">
            <a:solidFill>
              <a:srgbClr val="0000ff"/>
            </a:solidFill>
            <a:prstDash val="dash"/>
            <a:round/>
            <a:headEnd len="med" type="oval" w="med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452680" y="1859040"/>
            <a:ext cx="1138320" cy="2933640"/>
          </a:xfrm>
          <a:custGeom>
            <a:avLst/>
            <a:gdLst/>
            <a:ahLst/>
            <a:rect l="l" t="t" r="r" b="b"/>
            <a:pathLst>
              <a:path w="717" h="1848">
                <a:moveTo>
                  <a:pt x="581" y="1848"/>
                </a:moveTo>
                <a:cubicBezTo>
                  <a:pt x="513" y="1797"/>
                  <a:pt x="266" y="1647"/>
                  <a:pt x="173" y="1544"/>
                </a:cubicBezTo>
                <a:cubicBezTo>
                  <a:pt x="80" y="1441"/>
                  <a:pt x="0" y="1349"/>
                  <a:pt x="21" y="1228"/>
                </a:cubicBezTo>
                <a:cubicBezTo>
                  <a:pt x="42" y="1107"/>
                  <a:pt x="205" y="951"/>
                  <a:pt x="298" y="816"/>
                </a:cubicBezTo>
                <a:cubicBezTo>
                  <a:pt x="391" y="681"/>
                  <a:pt x="511" y="552"/>
                  <a:pt x="581" y="416"/>
                </a:cubicBezTo>
                <a:cubicBezTo>
                  <a:pt x="651" y="280"/>
                  <a:pt x="689" y="87"/>
                  <a:pt x="717" y="0"/>
                </a:cubicBezTo>
              </a:path>
            </a:pathLst>
          </a:custGeom>
          <a:noFill/>
          <a:ln w="31680">
            <a:solidFill>
              <a:srgbClr val="ff0000"/>
            </a:solidFill>
            <a:prstDash val="dash"/>
            <a:round/>
            <a:headEnd len="lg" type="arrow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2286000"/>
            <a:ext cx="784872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0640" y="304920"/>
            <a:ext cx="87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-Complex MPTCP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Implementation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inux 2.26.38 – Ubuntu 11.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16002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1600200"/>
            <a:ext cx="3505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PTCP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27432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19920" y="274320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274320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et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80988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et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48006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38880" y="3962520"/>
            <a:ext cx="10670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3200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4267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20574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733920" y="32000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733920" y="205704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33920" y="4267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4114800"/>
            <a:ext cx="2590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924680" y="3200040"/>
            <a:ext cx="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3200400"/>
            <a:ext cx="2852640" cy="773280"/>
          </a:xfrm>
          <a:custGeom>
            <a:avLst/>
            <a:gdLst/>
            <a:ahLst/>
            <a:rect l="l" t="t" r="r" b="b"/>
            <a:pathLst>
              <a:path w="1560" h="484">
                <a:moveTo>
                  <a:pt x="1548" y="0"/>
                </a:moveTo>
                <a:cubicBezTo>
                  <a:pt x="1545" y="39"/>
                  <a:pt x="1560" y="169"/>
                  <a:pt x="1530" y="234"/>
                </a:cubicBezTo>
                <a:cubicBezTo>
                  <a:pt x="1500" y="299"/>
                  <a:pt x="1456" y="354"/>
                  <a:pt x="1368" y="393"/>
                </a:cubicBezTo>
                <a:cubicBezTo>
                  <a:pt x="1280" y="432"/>
                  <a:pt x="1231" y="454"/>
                  <a:pt x="1003" y="469"/>
                </a:cubicBezTo>
                <a:cubicBezTo>
                  <a:pt x="775" y="484"/>
                  <a:pt x="209" y="480"/>
                  <a:pt x="0" y="48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924680" y="205704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205740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53440" y="1905120"/>
            <a:ext cx="490320" cy="152280"/>
          </a:xfrm>
          <a:custGeom>
            <a:avLst/>
            <a:gdLst/>
            <a:ahLst/>
            <a:rect l="l" t="t" r="r" b="b"/>
            <a:pathLst>
              <a:path w="309" h="192">
                <a:moveTo>
                  <a:pt x="297" y="192"/>
                </a:moveTo>
                <a:cubicBezTo>
                  <a:pt x="295" y="171"/>
                  <a:pt x="309" y="98"/>
                  <a:pt x="285" y="66"/>
                </a:cubicBezTo>
                <a:cubicBezTo>
                  <a:pt x="261" y="34"/>
                  <a:pt x="196" y="0"/>
                  <a:pt x="153" y="0"/>
                </a:cubicBezTo>
                <a:cubicBezTo>
                  <a:pt x="110" y="0"/>
                  <a:pt x="48" y="37"/>
                  <a:pt x="24" y="69"/>
                </a:cubicBezTo>
                <a:cubicBezTo>
                  <a:pt x="0" y="101"/>
                  <a:pt x="12" y="167"/>
                  <a:pt x="9" y="192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00800" y="2057400"/>
            <a:ext cx="0" cy="685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3200400"/>
            <a:ext cx="2108160" cy="609480"/>
          </a:xfrm>
          <a:custGeom>
            <a:avLst/>
            <a:gdLst/>
            <a:ahLst/>
            <a:rect l="l" t="t" r="r" b="b"/>
            <a:pathLst>
              <a:path w="1291" h="384">
                <a:moveTo>
                  <a:pt x="1247" y="0"/>
                </a:moveTo>
                <a:cubicBezTo>
                  <a:pt x="1225" y="31"/>
                  <a:pt x="1291" y="150"/>
                  <a:pt x="1112" y="189"/>
                </a:cubicBezTo>
                <a:cubicBezTo>
                  <a:pt x="933" y="228"/>
                  <a:pt x="352" y="202"/>
                  <a:pt x="176" y="234"/>
                </a:cubicBezTo>
                <a:cubicBezTo>
                  <a:pt x="0" y="266"/>
                  <a:pt x="80" y="353"/>
                  <a:pt x="55" y="384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6760" y="3352680"/>
            <a:ext cx="2891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lter functions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Pc, IPsrc, IPdst, PRTsrc, PRT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lags: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YN, ACK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arg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ACCEPT, DROP,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52880" y="274320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P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057400"/>
            <a:ext cx="0" cy="685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3200400"/>
            <a:ext cx="1076400" cy="609480"/>
          </a:xfrm>
          <a:custGeom>
            <a:avLst/>
            <a:gdLst/>
            <a:ahLst/>
            <a:rect l="l" t="t" r="r" b="b"/>
            <a:pathLst>
              <a:path w="678" h="384">
                <a:moveTo>
                  <a:pt x="649" y="0"/>
                </a:moveTo>
                <a:cubicBezTo>
                  <a:pt x="638" y="26"/>
                  <a:pt x="678" y="120"/>
                  <a:pt x="585" y="153"/>
                </a:cubicBezTo>
                <a:cubicBezTo>
                  <a:pt x="492" y="186"/>
                  <a:pt x="186" y="156"/>
                  <a:pt x="93" y="195"/>
                </a:cubicBezTo>
                <a:cubicBezTo>
                  <a:pt x="0" y="234"/>
                  <a:pt x="42" y="345"/>
                  <a:pt x="29" y="384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95480" y="3352680"/>
            <a:ext cx="381240" cy="1295640"/>
          </a:xfrm>
          <a:custGeom>
            <a:avLst/>
            <a:gdLst>
              <a:gd name="textAreaLeft" fmla="*/ 0 w 381240"/>
              <a:gd name="textAreaRight" fmla="*/ 137520 w 3812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06560" y="16002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m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75440" y="365760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ACCEPT/D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53080" y="1219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60680" y="838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26200" y="213372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43360" y="213372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1320" y="190512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240" y="259092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Kernel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30800" y="411480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filtered 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5257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733920" y="5257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46880" y="476100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equenti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o buffering or reordering possible in user spa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22920" y="2133720"/>
            <a:ext cx="8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mang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32960" y="2133720"/>
            <a:ext cx="119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input/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58720" y="941400"/>
            <a:ext cx="845820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gnal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orary Fallback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 bulk-transfer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h-selection conflict resolution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w MP_P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i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roperability with MPTCP full-fled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Both hosts path-sel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Multipath pe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TE/3G vs.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6000" y="469800"/>
            <a:ext cx="72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-Complex MPTCP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Implementation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ignaling +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685800"/>
            <a:ext cx="716292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PTCP + Wireless Access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. Low-complexity MPTCP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. Signaling &amp; policy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4. Transparent 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5.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2666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terface Availability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to tell the server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at my interface is dow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57200" y="914400"/>
            <a:ext cx="762012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bile clie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centra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ent must inform server about its interface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 with (old) MP_P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th- rather than interface-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ion must be sent on path it ref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way to signal “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interface is dow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”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explicit interface-availability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sign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L discussion: Add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ADDR-ID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MP_P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0040" y="6095880"/>
            <a:ext cx="88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Issue addressed in draft-ietf-mptcp-multiaddressed-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9920" y="304920"/>
            <a:ext cx="83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New Signaling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: Client Announces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Interface Availability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939080" y="3352320"/>
            <a:ext cx="1004040" cy="645480"/>
            <a:chOff x="7939080" y="3352320"/>
            <a:chExt cx="1004040" cy="645480"/>
          </a:xfrm>
        </p:grpSpPr>
        <p:sp>
          <p:nvSpPr>
            <p:cNvPr id="339" name=""/>
            <p:cNvSpPr/>
            <p:nvPr/>
          </p:nvSpPr>
          <p:spPr>
            <a:xfrm flipV="1">
              <a:off x="8466120" y="3365280"/>
              <a:ext cx="334440" cy="23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8" y="9740"/>
                  </a:moveTo>
                  <a:arcTo wR="10800" hR="10800" stAng="-337874" swAng="9701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8" y="9740"/>
                  </a:moveTo>
                  <a:arcTo wR="10800" hR="10800" stAng="-337874" swAng="970153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8683560" y="3472560"/>
              <a:ext cx="239400" cy="1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63" y="2300"/>
                  </a:moveTo>
                  <a:arcTo wR="10800" hR="10800" stAng="-3114380" swAng="84686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63" y="2300"/>
                  </a:moveTo>
                  <a:arcTo wR="10800" hR="10800" stAng="-3114380" swAng="846860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8761320" y="3605400"/>
              <a:ext cx="181800" cy="20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50" y="788"/>
                  </a:moveTo>
                  <a:arcTo wR="10800" hR="10800" stAng="-6721510" swAng="10512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6750" y="788"/>
                  </a:moveTo>
                  <a:arcTo wR="10800" hR="10800" stAng="-6721510" swAng="10512415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8457120" y="3701160"/>
              <a:ext cx="381600" cy="2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7"/>
                  </a:moveTo>
                  <a:arcTo wR="10800" hR="10800" stAng="-7824661" swAng="839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7"/>
                  </a:moveTo>
                  <a:arcTo wR="10800" hR="10800" stAng="-7824661" swAng="839138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8275320" y="3772440"/>
              <a:ext cx="290520" cy="2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6" y="8049"/>
                  </a:moveTo>
                  <a:arcTo wR="10800" hR="10800" stAng="-9914506" swAng="7996013"/>
                  <a:lnTo>
                    <a:pt x="10800" y="10800"/>
                  </a:lnTo>
                  <a:close/>
                </a:path>
                <a:path fill="none" w="21600" h="21600">
                  <a:moveTo>
                    <a:pt x="356" y="8049"/>
                  </a:moveTo>
                  <a:arcTo wR="10800" hR="10800" stAng="-9914506" swAng="7996013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040240" y="3694320"/>
              <a:ext cx="300960" cy="25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2" y="13025"/>
                  </a:moveTo>
                  <a:arcTo wR="10800" hR="10800" stAng="10086616" swAng="8388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32" y="13025"/>
                  </a:moveTo>
                  <a:arcTo wR="10800" hR="10800" stAng="10086616" swAng="8388619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7939080" y="3638160"/>
              <a:ext cx="198000" cy="17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82" y="20940"/>
                  </a:moveTo>
                  <a:arcTo wR="10800" hR="10800" stAng="6608358" swAng="9706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082" y="20940"/>
                  </a:moveTo>
                  <a:arcTo wR="10800" hR="10800" stAng="6608358" swAng="9706008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965360" y="3438720"/>
              <a:ext cx="35064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75" y="21418"/>
                  </a:moveTo>
                  <a:arcTo wR="10800" hR="10800" stAng="4767822" swAng="7678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75" y="21418"/>
                  </a:moveTo>
                  <a:arcTo wR="10800" hR="10800" stAng="4767822" swAng="7678931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135280" y="3351960"/>
              <a:ext cx="367560" cy="2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65" y="14158"/>
                  </a:moveTo>
                  <a:arcTo wR="10800" hR="10800" stAng="1087011" swAng="82766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65" y="14158"/>
                  </a:moveTo>
                  <a:arcTo wR="10800" hR="10800" stAng="1087011" swAng="8276646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993080" y="3425760"/>
            <a:ext cx="911160" cy="52092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128" y="4"/>
                </a:moveTo>
                <a:lnTo>
                  <a:pt x="310" y="0"/>
                </a:lnTo>
                <a:lnTo>
                  <a:pt x="508" y="30"/>
                </a:lnTo>
                <a:lnTo>
                  <a:pt x="564" y="122"/>
                </a:lnTo>
                <a:lnTo>
                  <a:pt x="574" y="174"/>
                </a:lnTo>
                <a:lnTo>
                  <a:pt x="530" y="244"/>
                </a:lnTo>
                <a:lnTo>
                  <a:pt x="444" y="310"/>
                </a:lnTo>
                <a:lnTo>
                  <a:pt x="334" y="328"/>
                </a:lnTo>
                <a:lnTo>
                  <a:pt x="216" y="326"/>
                </a:lnTo>
                <a:lnTo>
                  <a:pt x="158" y="312"/>
                </a:lnTo>
                <a:lnTo>
                  <a:pt x="66" y="268"/>
                </a:lnTo>
                <a:lnTo>
                  <a:pt x="6" y="222"/>
                </a:lnTo>
                <a:lnTo>
                  <a:pt x="0" y="158"/>
                </a:lnTo>
                <a:lnTo>
                  <a:pt x="2" y="106"/>
                </a:lnTo>
                <a:lnTo>
                  <a:pt x="68" y="50"/>
                </a:lnTo>
                <a:lnTo>
                  <a:pt x="128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082720" y="350532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867280" y="3428640"/>
            <a:ext cx="1004400" cy="645480"/>
            <a:chOff x="5867280" y="3428640"/>
            <a:chExt cx="1004400" cy="645480"/>
          </a:xfrm>
        </p:grpSpPr>
        <p:sp>
          <p:nvSpPr>
            <p:cNvPr id="351" name=""/>
            <p:cNvSpPr/>
            <p:nvPr/>
          </p:nvSpPr>
          <p:spPr>
            <a:xfrm flipV="1">
              <a:off x="6394680" y="3441600"/>
              <a:ext cx="334440" cy="23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8" y="9740"/>
                  </a:moveTo>
                  <a:arcTo wR="10800" hR="10800" stAng="-337874" swAng="9701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8" y="9740"/>
                  </a:moveTo>
                  <a:arcTo wR="10800" hR="10800" stAng="-337874" swAng="970153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611760" y="3548880"/>
              <a:ext cx="239400" cy="1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63" y="2300"/>
                  </a:moveTo>
                  <a:arcTo wR="10800" hR="10800" stAng="-3114380" swAng="84686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63" y="2300"/>
                  </a:moveTo>
                  <a:arcTo wR="10800" hR="10800" stAng="-3114380" swAng="846860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689880" y="3681720"/>
              <a:ext cx="181800" cy="20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50" y="788"/>
                  </a:moveTo>
                  <a:arcTo wR="10800" hR="10800" stAng="-6721510" swAng="10512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6750" y="788"/>
                  </a:moveTo>
                  <a:arcTo wR="10800" hR="10800" stAng="-6721510" swAng="10512415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385320" y="3777480"/>
              <a:ext cx="381600" cy="2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7"/>
                  </a:moveTo>
                  <a:arcTo wR="10800" hR="10800" stAng="-7824661" swAng="839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7"/>
                  </a:moveTo>
                  <a:arcTo wR="10800" hR="10800" stAng="-7824661" swAng="839138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03520" y="3848760"/>
              <a:ext cx="290520" cy="2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6" y="8049"/>
                  </a:moveTo>
                  <a:arcTo wR="10800" hR="10800" stAng="-9914506" swAng="7996013"/>
                  <a:lnTo>
                    <a:pt x="10800" y="10800"/>
                  </a:lnTo>
                  <a:close/>
                </a:path>
                <a:path fill="none" w="21600" h="21600">
                  <a:moveTo>
                    <a:pt x="356" y="8049"/>
                  </a:moveTo>
                  <a:arcTo wR="10800" hR="10800" stAng="-9914506" swAng="7996013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68440" y="3770640"/>
              <a:ext cx="300960" cy="25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2" y="13025"/>
                  </a:moveTo>
                  <a:arcTo wR="10800" hR="10800" stAng="10086616" swAng="8388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32" y="13025"/>
                  </a:moveTo>
                  <a:arcTo wR="10800" hR="10800" stAng="10086616" swAng="8388619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867280" y="3714480"/>
              <a:ext cx="198000" cy="17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82" y="20940"/>
                  </a:moveTo>
                  <a:arcTo wR="10800" hR="10800" stAng="6608358" swAng="9706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082" y="20940"/>
                  </a:moveTo>
                  <a:arcTo wR="10800" hR="10800" stAng="6608358" swAng="9706008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893560" y="3515040"/>
              <a:ext cx="35064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75" y="21418"/>
                  </a:moveTo>
                  <a:arcTo wR="10800" hR="10800" stAng="4767822" swAng="7678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75" y="21418"/>
                  </a:moveTo>
                  <a:arcTo wR="10800" hR="10800" stAng="4767822" swAng="7678931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063480" y="3428280"/>
              <a:ext cx="367560" cy="2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65" y="14158"/>
                  </a:moveTo>
                  <a:arcTo wR="10800" hR="10800" stAng="1087011" swAng="82766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65" y="14158"/>
                  </a:moveTo>
                  <a:arcTo wR="10800" hR="10800" stAng="1087011" swAng="8276646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921280" y="3502080"/>
            <a:ext cx="911160" cy="5205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128" y="4"/>
                </a:moveTo>
                <a:lnTo>
                  <a:pt x="310" y="0"/>
                </a:lnTo>
                <a:lnTo>
                  <a:pt x="508" y="30"/>
                </a:lnTo>
                <a:lnTo>
                  <a:pt x="564" y="122"/>
                </a:lnTo>
                <a:lnTo>
                  <a:pt x="574" y="174"/>
                </a:lnTo>
                <a:lnTo>
                  <a:pt x="530" y="244"/>
                </a:lnTo>
                <a:lnTo>
                  <a:pt x="444" y="310"/>
                </a:lnTo>
                <a:lnTo>
                  <a:pt x="334" y="328"/>
                </a:lnTo>
                <a:lnTo>
                  <a:pt x="216" y="326"/>
                </a:lnTo>
                <a:lnTo>
                  <a:pt x="158" y="312"/>
                </a:lnTo>
                <a:lnTo>
                  <a:pt x="66" y="268"/>
                </a:lnTo>
                <a:lnTo>
                  <a:pt x="6" y="222"/>
                </a:lnTo>
                <a:lnTo>
                  <a:pt x="0" y="158"/>
                </a:lnTo>
                <a:lnTo>
                  <a:pt x="2" y="106"/>
                </a:lnTo>
                <a:lnTo>
                  <a:pt x="68" y="50"/>
                </a:lnTo>
                <a:lnTo>
                  <a:pt x="128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21360" y="35812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3G/4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148520" y="4800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 flipH="1" flipV="1">
            <a:off x="7634160" y="2743200"/>
            <a:ext cx="719280" cy="64296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86560" y="1954080"/>
            <a:ext cx="4680" cy="503280"/>
          </a:xfrm>
          <a:custGeom>
            <a:avLst/>
            <a:gdLst/>
            <a:ahLst/>
            <a:rect l="l" t="t" r="r" b="b"/>
            <a:pathLst>
              <a:path w="3" h="317">
                <a:moveTo>
                  <a:pt x="0" y="317"/>
                </a:moveTo>
                <a:lnTo>
                  <a:pt x="3" y="0"/>
                </a:lnTo>
              </a:path>
            </a:pathLst>
          </a:custGeom>
          <a:noFill/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567480" y="2742840"/>
            <a:ext cx="725400" cy="7002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7165800" y="2273400"/>
            <a:ext cx="592200" cy="5968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>
            <a:lum contrast="4000"/>
          </a:blip>
          <a:stretch/>
        </p:blipFill>
        <p:spPr>
          <a:xfrm>
            <a:off x="7238880" y="1219320"/>
            <a:ext cx="787680" cy="787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 rot="18791400">
            <a:off x="6757560" y="3938040"/>
            <a:ext cx="200160" cy="1067040"/>
          </a:xfrm>
          <a:custGeom>
            <a:avLst/>
            <a:gdLst/>
            <a:ahLst/>
            <a:rect l="l" t="t" r="r" b="b"/>
            <a:pathLst>
              <a:path w="42" h="246">
                <a:moveTo>
                  <a:pt x="30" y="0"/>
                </a:moveTo>
                <a:lnTo>
                  <a:pt x="0" y="126"/>
                </a:lnTo>
                <a:lnTo>
                  <a:pt x="42" y="114"/>
                </a:lnTo>
                <a:lnTo>
                  <a:pt x="12" y="246"/>
                </a:lnTo>
              </a:path>
            </a:pathLst>
          </a:custGeom>
          <a:noFill/>
          <a:ln w="25560">
            <a:solidFill>
              <a:srgbClr val="80808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75640" y="51498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72120" y="11430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62560" y="1685880"/>
            <a:ext cx="1225800" cy="3419640"/>
          </a:xfrm>
          <a:custGeom>
            <a:avLst/>
            <a:gdLst/>
            <a:ahLst/>
            <a:rect l="l" t="t" r="r" b="b"/>
            <a:pathLst>
              <a:path w="838" h="2154">
                <a:moveTo>
                  <a:pt x="785" y="2154"/>
                </a:moveTo>
                <a:cubicBezTo>
                  <a:pt x="686" y="2092"/>
                  <a:pt x="319" y="1903"/>
                  <a:pt x="193" y="1780"/>
                </a:cubicBezTo>
                <a:cubicBezTo>
                  <a:pt x="67" y="1657"/>
                  <a:pt x="0" y="1555"/>
                  <a:pt x="26" y="1415"/>
                </a:cubicBezTo>
                <a:cubicBezTo>
                  <a:pt x="52" y="1275"/>
                  <a:pt x="245" y="1080"/>
                  <a:pt x="349" y="940"/>
                </a:cubicBezTo>
                <a:cubicBezTo>
                  <a:pt x="453" y="800"/>
                  <a:pt x="579" y="670"/>
                  <a:pt x="651" y="572"/>
                </a:cubicBezTo>
                <a:cubicBezTo>
                  <a:pt x="723" y="474"/>
                  <a:pt x="748" y="448"/>
                  <a:pt x="779" y="353"/>
                </a:cubicBezTo>
                <a:cubicBezTo>
                  <a:pt x="810" y="258"/>
                  <a:pt x="826" y="74"/>
                  <a:pt x="838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2808600">
            <a:off x="7962840" y="3938400"/>
            <a:ext cx="200160" cy="1067040"/>
          </a:xfrm>
          <a:custGeom>
            <a:avLst/>
            <a:gdLst/>
            <a:ahLst/>
            <a:rect l="l" t="t" r="r" b="b"/>
            <a:pathLst>
              <a:path w="42" h="246">
                <a:moveTo>
                  <a:pt x="30" y="0"/>
                </a:moveTo>
                <a:lnTo>
                  <a:pt x="0" y="126"/>
                </a:lnTo>
                <a:lnTo>
                  <a:pt x="42" y="114"/>
                </a:lnTo>
                <a:lnTo>
                  <a:pt x="12" y="246"/>
                </a:lnTo>
              </a:path>
            </a:pathLst>
          </a:custGeom>
          <a:noFill/>
          <a:ln w="25560">
            <a:solidFill>
              <a:srgbClr val="80808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494480" y="1685880"/>
            <a:ext cx="1206720" cy="3419640"/>
          </a:xfrm>
          <a:custGeom>
            <a:avLst/>
            <a:gdLst/>
            <a:ahLst/>
            <a:rect l="l" t="t" r="r" b="b"/>
            <a:pathLst>
              <a:path w="838" h="2154">
                <a:moveTo>
                  <a:pt x="785" y="2154"/>
                </a:moveTo>
                <a:cubicBezTo>
                  <a:pt x="686" y="2092"/>
                  <a:pt x="319" y="1903"/>
                  <a:pt x="193" y="1780"/>
                </a:cubicBezTo>
                <a:cubicBezTo>
                  <a:pt x="67" y="1657"/>
                  <a:pt x="0" y="1555"/>
                  <a:pt x="26" y="1415"/>
                </a:cubicBezTo>
                <a:cubicBezTo>
                  <a:pt x="52" y="1275"/>
                  <a:pt x="245" y="1080"/>
                  <a:pt x="349" y="940"/>
                </a:cubicBezTo>
                <a:cubicBezTo>
                  <a:pt x="453" y="800"/>
                  <a:pt x="579" y="670"/>
                  <a:pt x="651" y="572"/>
                </a:cubicBezTo>
                <a:cubicBezTo>
                  <a:pt x="723" y="474"/>
                  <a:pt x="748" y="448"/>
                  <a:pt x="779" y="353"/>
                </a:cubicBezTo>
                <a:cubicBezTo>
                  <a:pt x="810" y="258"/>
                  <a:pt x="826" y="74"/>
                  <a:pt x="838" y="0"/>
                </a:cubicBezTo>
              </a:path>
            </a:pathLst>
          </a:custGeom>
          <a:noFill/>
          <a:ln w="31680">
            <a:solidFill>
              <a:srgbClr val="ff0000"/>
            </a:solidFill>
            <a:prstDash val="dash"/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44000" y="4495680"/>
            <a:ext cx="22860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8319960" y="4419720"/>
            <a:ext cx="7632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0880" y="2666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th-Selection Conflic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 want paths 1 &amp; 2, you want 3 &amp; 4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87280" y="304920"/>
            <a:ext cx="701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Policy Required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: Conflict Resolution for Path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9800" y="838080"/>
            <a:ext cx="70866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Question: Why set up a path in backup 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ason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Enjoy resilienc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Avoid path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ed polic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fferentiate between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 Path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Local Interfac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is the main “cost”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)  Peers mutually respect local interfac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 confli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rebuchet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st tries to accommodate peer’s path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f no path left, pick 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157320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475840" y="1573200"/>
            <a:ext cx="152280" cy="15228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40480" y="2730600"/>
            <a:ext cx="152280" cy="152280"/>
          </a:xfrm>
          <a:prstGeom prst="ellipse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75840" y="2730600"/>
            <a:ext cx="152280" cy="15228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"/>
          <p:cNvCxnSpPr>
            <a:stCxn id="379" idx="6"/>
            <a:endCxn id="380" idx="2"/>
          </p:cNvCxnSpPr>
          <p:nvPr/>
        </p:nvCxnSpPr>
        <p:spPr>
          <a:xfrm>
            <a:off x="6705360" y="1649160"/>
            <a:ext cx="175788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9" idx="5"/>
            <a:endCxn id="382" idx="1"/>
          </p:cNvCxnSpPr>
          <p:nvPr/>
        </p:nvCxnSpPr>
        <p:spPr>
          <a:xfrm>
            <a:off x="6670440" y="1716120"/>
            <a:ext cx="1827720" cy="10245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81" idx="6"/>
            <a:endCxn id="382" idx="2"/>
          </p:cNvCxnSpPr>
          <p:nvPr/>
        </p:nvCxnSpPr>
        <p:spPr>
          <a:xfrm>
            <a:off x="6705360" y="2806200"/>
            <a:ext cx="1757880" cy="1080"/>
          </a:xfrm>
          <a:prstGeom prst="straightConnector1">
            <a:avLst/>
          </a:prstGeom>
          <a:ln w="38160">
            <a:solidFill>
              <a:srgbClr val="009900"/>
            </a:solidFill>
            <a:miter/>
            <a:head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6064200" y="2014560"/>
            <a:ext cx="1092240" cy="47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86" idx="0"/>
            <a:endCxn id="379" idx="4"/>
          </p:cNvCxnSpPr>
          <p:nvPr/>
        </p:nvCxnSpPr>
        <p:spPr>
          <a:xfrm flipV="1">
            <a:off x="6610320" y="1737720"/>
            <a:ext cx="7200" cy="276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1" idx="0"/>
            <a:endCxn id="386" idx="4"/>
          </p:cNvCxnSpPr>
          <p:nvPr/>
        </p:nvCxnSpPr>
        <p:spPr>
          <a:xfrm flipH="1" flipV="1">
            <a:off x="6609960" y="2462040"/>
            <a:ext cx="7200" cy="255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90" idx="0"/>
            <a:endCxn id="380" idx="4"/>
          </p:cNvCxnSpPr>
          <p:nvPr/>
        </p:nvCxnSpPr>
        <p:spPr>
          <a:xfrm flipV="1">
            <a:off x="8545320" y="1737720"/>
            <a:ext cx="6840" cy="276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2" idx="0"/>
            <a:endCxn id="390" idx="4"/>
          </p:cNvCxnSpPr>
          <p:nvPr/>
        </p:nvCxnSpPr>
        <p:spPr>
          <a:xfrm flipH="1" flipV="1">
            <a:off x="8544960" y="2462040"/>
            <a:ext cx="6840" cy="255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7999560" y="2014560"/>
            <a:ext cx="1091880" cy="47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81" idx="7"/>
            <a:endCxn id="380" idx="3"/>
          </p:cNvCxnSpPr>
          <p:nvPr/>
        </p:nvCxnSpPr>
        <p:spPr>
          <a:xfrm flipV="1">
            <a:off x="6670440" y="1715760"/>
            <a:ext cx="1827720" cy="1024560"/>
          </a:xfrm>
          <a:prstGeom prst="straightConnector1">
            <a:avLst/>
          </a:prstGeom>
          <a:ln w="38160">
            <a:solidFill>
              <a:srgbClr val="009900"/>
            </a:solidFill>
            <a:miter/>
            <a:head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6137640" y="126828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rebuchet MS"/>
              </a:rPr>
              <a:t>A</a:t>
            </a:r>
            <a:r>
              <a:rPr b="0" i="1" lang="en-US" sz="1800" spc="-1" strike="noStrike">
                <a:solidFill>
                  <a:srgbClr val="0000ff"/>
                </a:solidFill>
                <a:latin typeface="Trebuchet MS"/>
              </a:rPr>
              <a:t> wants only these </a:t>
            </a:r>
            <a:r>
              <a:rPr b="1" i="1" lang="en-US" sz="1800" spc="-1" strike="noStrike">
                <a:solidFill>
                  <a:srgbClr val="0000ff"/>
                </a:solidFill>
                <a:latin typeface="Trebuchet MS"/>
              </a:rPr>
              <a:t>paths</a:t>
            </a:r>
            <a:r>
              <a:rPr b="0" i="1" lang="en-US" sz="1800" spc="-1" strike="noStrike">
                <a:solidFill>
                  <a:srgbClr val="0000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6200" y="2868480"/>
            <a:ext cx="27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Trebuchet MS"/>
              </a:rPr>
              <a:t>B</a:t>
            </a:r>
            <a:r>
              <a:rPr b="0" i="1" lang="en-US" sz="1800" spc="-1" strike="noStrike">
                <a:solidFill>
                  <a:srgbClr val="009900"/>
                </a:solidFill>
                <a:latin typeface="Trebuchet MS"/>
              </a:rPr>
              <a:t> wants only these </a:t>
            </a:r>
            <a:r>
              <a:rPr b="1" i="1" lang="en-US" sz="1800" spc="-1" strike="noStrike">
                <a:solidFill>
                  <a:srgbClr val="009900"/>
                </a:solidFill>
                <a:latin typeface="Trebuchet MS"/>
              </a:rPr>
              <a:t>paths</a:t>
            </a:r>
            <a:r>
              <a:rPr b="0" i="1" lang="en-US" sz="1800" spc="-1" strike="noStrike">
                <a:solidFill>
                  <a:srgbClr val="0099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86600" y="533520"/>
            <a:ext cx="457200" cy="637920"/>
          </a:xfrm>
          <a:custGeom>
            <a:avLst/>
            <a:gdLst/>
            <a:ahLst/>
            <a:rect l="l" t="t" r="r" b="b"/>
            <a:pathLst>
              <a:path w="288" h="576">
                <a:moveTo>
                  <a:pt x="0" y="0"/>
                </a:moveTo>
                <a:lnTo>
                  <a:pt x="288" y="0"/>
                </a:lnTo>
                <a:lnTo>
                  <a:pt x="288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0360" y="609588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Serves multipath- and path-selectiv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93040" y="4100400"/>
            <a:ext cx="152280" cy="15264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528040" y="4100400"/>
            <a:ext cx="152280" cy="152640"/>
          </a:xfrm>
          <a:prstGeom prst="ellipse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93040" y="5257800"/>
            <a:ext cx="152280" cy="152280"/>
          </a:xfrm>
          <a:prstGeom prst="ellipse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528040" y="5257800"/>
            <a:ext cx="152280" cy="15228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397" idx="6"/>
            <a:endCxn id="398" idx="2"/>
          </p:cNvCxnSpPr>
          <p:nvPr/>
        </p:nvCxnSpPr>
        <p:spPr>
          <a:xfrm>
            <a:off x="6757920" y="4176360"/>
            <a:ext cx="175824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7" idx="5"/>
            <a:endCxn id="400" idx="1"/>
          </p:cNvCxnSpPr>
          <p:nvPr/>
        </p:nvCxnSpPr>
        <p:spPr>
          <a:xfrm>
            <a:off x="6723000" y="4243320"/>
            <a:ext cx="1828080" cy="10245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403" name=""/>
          <p:cNvCxnSpPr>
            <a:stCxn id="399" idx="6"/>
            <a:endCxn id="400" idx="2"/>
          </p:cNvCxnSpPr>
          <p:nvPr/>
        </p:nvCxnSpPr>
        <p:spPr>
          <a:xfrm>
            <a:off x="6757920" y="5333760"/>
            <a:ext cx="1758240" cy="1080"/>
          </a:xfrm>
          <a:prstGeom prst="straightConnector1">
            <a:avLst/>
          </a:prstGeom>
          <a:ln w="38160">
            <a:solidFill>
              <a:srgbClr val="009900"/>
            </a:solidFill>
            <a:miter/>
            <a:head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116760" y="4541760"/>
            <a:ext cx="1092240" cy="47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>
            <a:stCxn id="404" idx="0"/>
            <a:endCxn id="397" idx="4"/>
          </p:cNvCxnSpPr>
          <p:nvPr/>
        </p:nvCxnSpPr>
        <p:spPr>
          <a:xfrm flipV="1">
            <a:off x="6662520" y="4264920"/>
            <a:ext cx="6840" cy="276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406" name=""/>
          <p:cNvCxnSpPr>
            <a:stCxn id="399" idx="0"/>
            <a:endCxn id="404" idx="4"/>
          </p:cNvCxnSpPr>
          <p:nvPr/>
        </p:nvCxnSpPr>
        <p:spPr>
          <a:xfrm flipH="1" flipV="1">
            <a:off x="6662160" y="4989600"/>
            <a:ext cx="6840" cy="255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407" name=""/>
          <p:cNvCxnSpPr>
            <a:stCxn id="408" idx="0"/>
            <a:endCxn id="398" idx="4"/>
          </p:cNvCxnSpPr>
          <p:nvPr/>
        </p:nvCxnSpPr>
        <p:spPr>
          <a:xfrm flipV="1">
            <a:off x="8597880" y="4264920"/>
            <a:ext cx="7200" cy="276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409" name=""/>
          <p:cNvCxnSpPr>
            <a:stCxn id="400" idx="0"/>
            <a:endCxn id="408" idx="4"/>
          </p:cNvCxnSpPr>
          <p:nvPr/>
        </p:nvCxnSpPr>
        <p:spPr>
          <a:xfrm flipH="1" flipV="1">
            <a:off x="8597520" y="4989600"/>
            <a:ext cx="7200" cy="255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8051760" y="4541760"/>
            <a:ext cx="1092240" cy="47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rebuchet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"/>
          <p:cNvCxnSpPr>
            <a:stCxn id="399" idx="7"/>
            <a:endCxn id="398" idx="3"/>
          </p:cNvCxnSpPr>
          <p:nvPr/>
        </p:nvCxnSpPr>
        <p:spPr>
          <a:xfrm flipV="1">
            <a:off x="6723000" y="4242960"/>
            <a:ext cx="1828080" cy="1024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11" name=""/>
          <p:cNvSpPr/>
          <p:nvPr/>
        </p:nvSpPr>
        <p:spPr>
          <a:xfrm>
            <a:off x="6189120" y="379584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rebuchet MS"/>
              </a:rPr>
              <a:t>A</a:t>
            </a:r>
            <a:r>
              <a:rPr b="0" i="1" lang="en-US" sz="1800" spc="-1" strike="noStrike">
                <a:solidFill>
                  <a:srgbClr val="0000ff"/>
                </a:solidFill>
                <a:latin typeface="Trebuchet MS"/>
              </a:rPr>
              <a:t> wants only this </a:t>
            </a:r>
            <a:r>
              <a:rPr b="1" i="1" lang="en-US" sz="1800" spc="-1" strike="noStrike">
                <a:solidFill>
                  <a:srgbClr val="0000ff"/>
                </a:solidFill>
                <a:latin typeface="Trebuchet MS"/>
              </a:rPr>
              <a:t>path</a:t>
            </a:r>
            <a:r>
              <a:rPr b="0" i="1" lang="en-US" sz="1800" spc="-1" strike="noStrike">
                <a:solidFill>
                  <a:srgbClr val="0000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89120" y="539604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Trebuchet MS"/>
              </a:rPr>
              <a:t>B</a:t>
            </a:r>
            <a:r>
              <a:rPr b="0" i="1" lang="en-US" sz="1800" spc="-1" strike="noStrike">
                <a:solidFill>
                  <a:srgbClr val="009900"/>
                </a:solidFill>
                <a:latin typeface="Trebuchet MS"/>
              </a:rPr>
              <a:t> wants only this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0880" y="2666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S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to avoid unnecessary co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57200" y="304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Signaling Proposal: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Bulk Transfer “Optimization”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914400"/>
            <a:ext cx="868680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SS “optimization” on bulk transfers is a trade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uces number of D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quires additional queuing on subflo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dds delay on sender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ke feature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Add “Bulk Transfer Optimization”-Flag to MP_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4440" y="6095880"/>
            <a:ext cx="65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Flag is vital for low-complex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457200" y="304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Feature requirement: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“Temporary Fallback”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833400"/>
            <a:ext cx="8686800" cy="54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 case: Mobile sees only one (dominant)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SS: Adds overhead, no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e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“Temporary Fallb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f only one path active, MPTCP becomes as low-cost as TCP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No D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me multipath operation when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How to do the signal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How to deal with payload modifying middle box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posals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94840" y="610884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Necessary for wireless MP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02040" y="30492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blem with Present Fallback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838080"/>
            <a:ext cx="8381880" cy="159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draft-ietf-mptcp-multiaddressed-04.txt: Section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“…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When a connection is in fallback mode, </a:t>
            </a:r>
            <a:r>
              <a:rPr b="0" i="1" lang="en-US" sz="1800" spc="-1" strike="noStrike">
                <a:solidFill>
                  <a:srgbClr val="ff0000"/>
                </a:solidFill>
                <a:latin typeface="Trebuchet MS"/>
              </a:rPr>
              <a:t>only one subflow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 can send data at a time. …However, subflows can be opened and closed as necessary, as  long as a single one is active at any poin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281952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L discussions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his does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seem to 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1960" y="204840"/>
            <a:ext cx="75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posal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Temporary Fallback + Return  --- NO CHECK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00400" y="11430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11430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98440" y="76212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F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0400" y="1447920"/>
            <a:ext cx="19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61800" y="1295280"/>
            <a:ext cx="180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 = X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53120" y="11430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DSS_infi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32960" y="12952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Z,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DSN =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00400" y="1828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0320" y="167652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SN = X+100,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Y+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00400" y="2209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00400" y="3657600"/>
            <a:ext cx="19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75520" y="3460680"/>
            <a:ext cx="22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 = X+400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18920" y="346068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B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DSN=X+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54960" y="3352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4952880"/>
            <a:ext cx="8686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orary Fallback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DSS + infinity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turn to Multipath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DSS on any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ce no payload rewriting, DSN is always absolut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7280" y="297180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F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00400" y="33084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33084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3994200"/>
            <a:ext cx="19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54960" y="36892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8240" y="2057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SN = X+200,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Y+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8240" y="24066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SN = X+300,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Y+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61680" y="164448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Z+100,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DSN = X+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61680" y="202572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Z+200,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DSN = X+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84000" y="240660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Z+300,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DSN = X+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2152800" y="37393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5734080" y="381564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13000" y="2603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307320" y="3181320"/>
            <a:ext cx="21042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rebuchet MS"/>
              </a:rPr>
              <a:t>Retroactive 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DSN= X+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SSN = 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Rang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Checksum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C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034480" y="1428840"/>
            <a:ext cx="685800" cy="1600200"/>
          </a:xfrm>
          <a:prstGeom prst="rect">
            <a:avLst/>
          </a:prstGeom>
          <a:solidFill>
            <a:srgbClr val="ffe5ff"/>
          </a:solidFill>
          <a:ln w="9360">
            <a:solidFill>
              <a:srgbClr val="f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5240" y="1454040"/>
            <a:ext cx="685800" cy="1600200"/>
          </a:xfrm>
          <a:prstGeom prst="rect">
            <a:avLst/>
          </a:prstGeom>
          <a:solidFill>
            <a:srgbClr val="ffe5ff"/>
          </a:solidFill>
          <a:ln w="9360">
            <a:solidFill>
              <a:srgbClr val="f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40080" y="1352520"/>
            <a:ext cx="0" cy="25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1352520"/>
            <a:ext cx="0" cy="25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87280" y="838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F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1657440"/>
            <a:ext cx="1981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40320" y="135252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DSS_infi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2038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352680" y="2419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352680" y="280044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334120" y="356220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352680" y="3486240"/>
            <a:ext cx="1981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61560" y="3181320"/>
            <a:ext cx="3516840" cy="19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erify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S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If match   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 return to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(via D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therwise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 terminal 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(via MP_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00" y="228600"/>
            <a:ext cx="78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posal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Temporary Fallback + Return –-- WITH CHECK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9280" y="1454040"/>
            <a:ext cx="52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CS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6280" y="1835280"/>
            <a:ext cx="71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+ CS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6280" y="2216160"/>
            <a:ext cx="71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+ CS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6280" y="2597040"/>
            <a:ext cx="71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+ CS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146440" y="144288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CS’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993080" y="1824120"/>
            <a:ext cx="7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+ CS’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993080" y="2205000"/>
            <a:ext cx="7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+ CS’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993080" y="2585880"/>
            <a:ext cx="7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+ CS’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5105520"/>
            <a:ext cx="8686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tches payload re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turn to MP must occur on present sub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cedure must be done “reliably” and in both flow directions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9360" y="1428840"/>
            <a:ext cx="180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 = X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7520" y="188604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SN = X+100,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Y+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75440" y="226692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SN = X+200,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Y+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75440" y="261612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SN = X+300,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Y+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63280" y="142884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Z,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DSN =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92000" y="185436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Z+100,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DSN = X+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92000" y="223524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Z+200,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DSN = X+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13960" y="261612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SSN = Z+300,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DSN = X+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75520" y="3301920"/>
            <a:ext cx="22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SN = X+400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SSN =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31800" y="2763720"/>
            <a:ext cx="8077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PTCP + Wireless Acc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do we gain when using MPTCP in wireless access networ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80880" y="2666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ansparent 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457200" y="762120"/>
            <a:ext cx="5791320" cy="58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urpose: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ncremental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Generic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proxy: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 reside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eeds signaling to authenticate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eeds signaling on how to route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proxy: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sides on central router of initial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mplicitly authenticated via network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rives route from packet insp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evant use c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ransparent proxy on macro-cellula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5960" y="30492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ransparent MPTCP 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" y="762120"/>
            <a:ext cx="8686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337000" y="1143000"/>
            <a:ext cx="3589920" cy="5381280"/>
            <a:chOff x="5337000" y="1143000"/>
            <a:chExt cx="3589920" cy="5381280"/>
          </a:xfrm>
        </p:grpSpPr>
        <p:grpSp>
          <p:nvGrpSpPr>
            <p:cNvPr id="490" name=""/>
            <p:cNvGrpSpPr/>
            <p:nvPr/>
          </p:nvGrpSpPr>
          <p:grpSpPr>
            <a:xfrm>
              <a:off x="5941800" y="3809520"/>
              <a:ext cx="1004040" cy="645480"/>
              <a:chOff x="5941800" y="3809520"/>
              <a:chExt cx="1004040" cy="64548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5941800" y="3809520"/>
                <a:ext cx="1004040" cy="645480"/>
                <a:chOff x="5941800" y="3809520"/>
                <a:chExt cx="1004040" cy="645480"/>
              </a:xfrm>
            </p:grpSpPr>
            <p:sp>
              <p:nvSpPr>
                <p:cNvPr id="492" name=""/>
                <p:cNvSpPr/>
                <p:nvPr/>
              </p:nvSpPr>
              <p:spPr>
                <a:xfrm flipV="1">
                  <a:off x="6468840" y="3822480"/>
                  <a:ext cx="334440" cy="23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8" y="9740"/>
                      </a:moveTo>
                      <a:arcTo wR="10800" hR="10800" stAng="-337874" swAng="9701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8" y="9740"/>
                      </a:moveTo>
                      <a:arcTo wR="10800" hR="10800" stAng="-337874" swAng="9701532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6686280" y="3929760"/>
                  <a:ext cx="239400" cy="17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463" y="2300"/>
                      </a:moveTo>
                      <a:arcTo wR="10800" hR="10800" stAng="-3114380" swAng="84686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463" y="2300"/>
                      </a:moveTo>
                      <a:arcTo wR="10800" hR="10800" stAng="-3114380" swAng="8468602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6764040" y="4062600"/>
                  <a:ext cx="181800" cy="20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750" y="788"/>
                      </a:moveTo>
                      <a:arcTo wR="10800" hR="10800" stAng="-6721510" swAng="105124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750" y="788"/>
                      </a:moveTo>
                      <a:arcTo wR="10800" hR="10800" stAng="-6721510" swAng="10512415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6459840" y="4158360"/>
                  <a:ext cx="381600" cy="261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7"/>
                      </a:moveTo>
                      <a:arcTo wR="10800" hR="10800" stAng="-7824661" swAng="83913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7"/>
                      </a:moveTo>
                      <a:arcTo wR="10800" hR="10800" stAng="-7824661" swAng="8391382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6278040" y="4229640"/>
                  <a:ext cx="290520" cy="225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56" y="8049"/>
                      </a:moveTo>
                      <a:arcTo wR="10800" hR="10800" stAng="-9914506" swAng="79960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56" y="8049"/>
                      </a:moveTo>
                      <a:arcTo wR="10800" hR="10800" stAng="-9914506" swAng="7996013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6042960" y="4151520"/>
                  <a:ext cx="300960" cy="258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2" y="13025"/>
                      </a:moveTo>
                      <a:arcTo wR="10800" hR="10800" stAng="10086616" swAng="83886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2" y="13025"/>
                      </a:moveTo>
                      <a:arcTo wR="10800" hR="10800" stAng="10086616" swAng="8388619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941800" y="4095360"/>
                  <a:ext cx="198000" cy="177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082" y="20940"/>
                      </a:moveTo>
                      <a:arcTo wR="10800" hR="10800" stAng="6608358" swAng="97060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082" y="20940"/>
                      </a:moveTo>
                      <a:arcTo wR="10800" hR="10800" stAng="6608358" swAng="9706008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5968080" y="3895920"/>
                  <a:ext cx="350640" cy="29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775" y="21418"/>
                      </a:moveTo>
                      <a:arcTo wR="10800" hR="10800" stAng="4767822" swAng="76789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775" y="21418"/>
                      </a:moveTo>
                      <a:arcTo wR="10800" hR="10800" stAng="4767822" swAng="7678931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6138000" y="3809160"/>
                  <a:ext cx="367560" cy="26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065" y="14158"/>
                      </a:moveTo>
                      <a:arcTo wR="10800" hR="10800" stAng="1087011" swAng="82766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065" y="14158"/>
                      </a:moveTo>
                      <a:arcTo wR="10800" hR="10800" stAng="1087011" swAng="8276646"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5995800" y="3882960"/>
                <a:ext cx="911160" cy="520560"/>
              </a:xfrm>
              <a:custGeom>
                <a:avLst/>
                <a:gdLst/>
                <a:ahLst/>
                <a:rect l="l" t="t" r="r" b="b"/>
                <a:pathLst>
                  <a:path w="574" h="328">
                    <a:moveTo>
                      <a:pt x="128" y="4"/>
                    </a:moveTo>
                    <a:lnTo>
                      <a:pt x="310" y="0"/>
                    </a:lnTo>
                    <a:lnTo>
                      <a:pt x="508" y="30"/>
                    </a:lnTo>
                    <a:lnTo>
                      <a:pt x="564" y="122"/>
                    </a:lnTo>
                    <a:lnTo>
                      <a:pt x="574" y="174"/>
                    </a:lnTo>
                    <a:lnTo>
                      <a:pt x="530" y="244"/>
                    </a:lnTo>
                    <a:lnTo>
                      <a:pt x="444" y="310"/>
                    </a:lnTo>
                    <a:lnTo>
                      <a:pt x="334" y="328"/>
                    </a:lnTo>
                    <a:lnTo>
                      <a:pt x="216" y="326"/>
                    </a:lnTo>
                    <a:lnTo>
                      <a:pt x="158" y="312"/>
                    </a:lnTo>
                    <a:lnTo>
                      <a:pt x="66" y="268"/>
                    </a:lnTo>
                    <a:lnTo>
                      <a:pt x="6" y="222"/>
                    </a:lnTo>
                    <a:lnTo>
                      <a:pt x="0" y="158"/>
                    </a:lnTo>
                    <a:lnTo>
                      <a:pt x="2" y="106"/>
                    </a:lnTo>
                    <a:lnTo>
                      <a:pt x="68" y="50"/>
                    </a:lnTo>
                    <a:lnTo>
                      <a:pt x="128" y="4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17840" y="403848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Arial"/>
                  </a:rPr>
                  <a:t>L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7923240" y="3800160"/>
              <a:ext cx="1003680" cy="645480"/>
              <a:chOff x="7923240" y="3800160"/>
              <a:chExt cx="1003680" cy="645480"/>
            </a:xfrm>
          </p:grpSpPr>
          <p:sp>
            <p:nvSpPr>
              <p:cNvPr id="504" name=""/>
              <p:cNvSpPr/>
              <p:nvPr/>
            </p:nvSpPr>
            <p:spPr>
              <a:xfrm flipV="1">
                <a:off x="8450280" y="3813120"/>
                <a:ext cx="334440" cy="23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48" y="9740"/>
                    </a:moveTo>
                    <a:arcTo wR="10800" hR="10800" stAng="-337874" swAng="9701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48" y="9740"/>
                    </a:moveTo>
                    <a:arcTo wR="10800" hR="10800" stAng="-337874" swAng="9701532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667720" y="3920400"/>
                <a:ext cx="238680" cy="17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63" y="2300"/>
                    </a:moveTo>
                    <a:arcTo wR="10800" hR="10800" stAng="-3114380" swAng="84686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63" y="2300"/>
                    </a:moveTo>
                    <a:arcTo wR="10800" hR="10800" stAng="-3114380" swAng="8468602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8745120" y="4053240"/>
                <a:ext cx="181800" cy="20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50" y="788"/>
                    </a:moveTo>
                    <a:arcTo wR="10800" hR="10800" stAng="-6721510" swAng="105124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50" y="788"/>
                    </a:moveTo>
                    <a:arcTo wR="10800" hR="10800" stAng="-6721510" swAng="10512415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8440920" y="4149000"/>
                <a:ext cx="381240" cy="26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7"/>
                    </a:moveTo>
                    <a:arcTo wR="10800" hR="10800" stAng="-7824661" swAng="83913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7"/>
                    </a:moveTo>
                    <a:arcTo wR="10800" hR="10800" stAng="-7824661" swAng="8391382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8259120" y="4220280"/>
                <a:ext cx="2905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6" y="8049"/>
                    </a:moveTo>
                    <a:arcTo wR="10800" hR="10800" stAng="-9914506" swAng="79960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6" y="8049"/>
                    </a:moveTo>
                    <a:arcTo wR="10800" hR="10800" stAng="-9914506" swAng="7996013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8024040" y="4142160"/>
                <a:ext cx="300960" cy="25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32" y="13025"/>
                    </a:moveTo>
                    <a:arcTo wR="10800" hR="10800" stAng="10086616" swAng="83886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32" y="13025"/>
                    </a:moveTo>
                    <a:arcTo wR="10800" hR="10800" stAng="10086616" swAng="8388619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7923240" y="4086000"/>
                <a:ext cx="198000" cy="17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082" y="20940"/>
                    </a:moveTo>
                    <a:arcTo wR="10800" hR="10800" stAng="6608358" swAng="97060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082" y="20940"/>
                    </a:moveTo>
                    <a:arcTo wR="10800" hR="10800" stAng="6608358" swAng="9706008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7949520" y="3886560"/>
                <a:ext cx="350640" cy="29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75" y="21418"/>
                    </a:moveTo>
                    <a:arcTo wR="10800" hR="10800" stAng="4767822" swAng="76789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75" y="21418"/>
                    </a:moveTo>
                    <a:arcTo wR="10800" hR="10800" stAng="4767822" swAng="7678931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8119080" y="3799800"/>
                <a:ext cx="36720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65" y="14158"/>
                    </a:moveTo>
                    <a:arcTo wR="10800" hR="10800" stAng="1087011" swAng="82766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65" y="14158"/>
                    </a:moveTo>
                    <a:arcTo wR="10800" hR="10800" stAng="1087011" swAng="8276646"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7977240" y="3873600"/>
              <a:ext cx="910800" cy="520560"/>
            </a:xfrm>
            <a:custGeom>
              <a:avLst/>
              <a:gdLst/>
              <a:ahLst/>
              <a:rect l="l" t="t" r="r" b="b"/>
              <a:pathLst>
                <a:path w="574" h="328">
                  <a:moveTo>
                    <a:pt x="128" y="4"/>
                  </a:moveTo>
                  <a:lnTo>
                    <a:pt x="310" y="0"/>
                  </a:lnTo>
                  <a:lnTo>
                    <a:pt x="508" y="30"/>
                  </a:lnTo>
                  <a:lnTo>
                    <a:pt x="564" y="122"/>
                  </a:lnTo>
                  <a:lnTo>
                    <a:pt x="574" y="174"/>
                  </a:lnTo>
                  <a:lnTo>
                    <a:pt x="530" y="244"/>
                  </a:lnTo>
                  <a:lnTo>
                    <a:pt x="444" y="310"/>
                  </a:lnTo>
                  <a:lnTo>
                    <a:pt x="334" y="328"/>
                  </a:lnTo>
                  <a:lnTo>
                    <a:pt x="216" y="326"/>
                  </a:lnTo>
                  <a:lnTo>
                    <a:pt x="158" y="312"/>
                  </a:lnTo>
                  <a:lnTo>
                    <a:pt x="66" y="268"/>
                  </a:lnTo>
                  <a:lnTo>
                    <a:pt x="6" y="222"/>
                  </a:lnTo>
                  <a:lnTo>
                    <a:pt x="0" y="158"/>
                  </a:lnTo>
                  <a:lnTo>
                    <a:pt x="2" y="106"/>
                  </a:lnTo>
                  <a:lnTo>
                    <a:pt x="68" y="50"/>
                  </a:lnTo>
                  <a:lnTo>
                    <a:pt x="128" y="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66520" y="3962520"/>
              <a:ext cx="7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W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7132680" y="5248440"/>
              <a:ext cx="68544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 flipH="1" flipV="1">
              <a:off x="7617960" y="3190680"/>
              <a:ext cx="718920" cy="642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70720" y="2401920"/>
              <a:ext cx="4320" cy="503280"/>
            </a:xfrm>
            <a:custGeom>
              <a:avLst/>
              <a:gdLst/>
              <a:ahLst/>
              <a:rect l="l" t="t" r="r" b="b"/>
              <a:pathLst>
                <a:path w="3" h="317">
                  <a:moveTo>
                    <a:pt x="0" y="317"/>
                  </a:moveTo>
                  <a:lnTo>
                    <a:pt x="3" y="0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551640" y="3191040"/>
              <a:ext cx="725040" cy="69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2"/>
            <a:stretch/>
          </p:blipFill>
          <p:spPr>
            <a:xfrm>
              <a:off x="7149960" y="2720880"/>
              <a:ext cx="59184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3">
              <a:lum contrast="4000"/>
            </a:blip>
            <a:stretch/>
          </p:blipFill>
          <p:spPr>
            <a:xfrm>
              <a:off x="7237440" y="1523880"/>
              <a:ext cx="78696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 rot="18791400">
              <a:off x="6741720" y="4386240"/>
              <a:ext cx="200160" cy="1066320"/>
            </a:xfrm>
            <a:custGeom>
              <a:avLst/>
              <a:gdLst/>
              <a:ahLst/>
              <a:rect l="l" t="t" r="r" b="b"/>
              <a:pathLst>
                <a:path w="42" h="246">
                  <a:moveTo>
                    <a:pt x="30" y="0"/>
                  </a:moveTo>
                  <a:lnTo>
                    <a:pt x="0" y="126"/>
                  </a:lnTo>
                  <a:lnTo>
                    <a:pt x="42" y="114"/>
                  </a:lnTo>
                  <a:lnTo>
                    <a:pt x="12" y="246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12080" y="5943600"/>
              <a:ext cx="102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TC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85880" y="114300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46720" y="2133720"/>
              <a:ext cx="1225080" cy="3419280"/>
            </a:xfrm>
            <a:custGeom>
              <a:avLst/>
              <a:gdLst/>
              <a:ahLst/>
              <a:rect l="l" t="t" r="r" b="b"/>
              <a:pathLst>
                <a:path w="838" h="2154">
                  <a:moveTo>
                    <a:pt x="785" y="2154"/>
                  </a:moveTo>
                  <a:cubicBezTo>
                    <a:pt x="686" y="2092"/>
                    <a:pt x="319" y="1903"/>
                    <a:pt x="193" y="1780"/>
                  </a:cubicBezTo>
                  <a:cubicBezTo>
                    <a:pt x="67" y="1657"/>
                    <a:pt x="0" y="1555"/>
                    <a:pt x="26" y="1415"/>
                  </a:cubicBezTo>
                  <a:cubicBezTo>
                    <a:pt x="52" y="1275"/>
                    <a:pt x="245" y="1080"/>
                    <a:pt x="349" y="940"/>
                  </a:cubicBezTo>
                  <a:cubicBezTo>
                    <a:pt x="453" y="800"/>
                    <a:pt x="579" y="670"/>
                    <a:pt x="651" y="572"/>
                  </a:cubicBezTo>
                  <a:cubicBezTo>
                    <a:pt x="723" y="474"/>
                    <a:pt x="748" y="448"/>
                    <a:pt x="779" y="353"/>
                  </a:cubicBezTo>
                  <a:cubicBezTo>
                    <a:pt x="810" y="258"/>
                    <a:pt x="826" y="74"/>
                    <a:pt x="838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headEnd len="sm" type="oval" w="sm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rot="2808600">
              <a:off x="7946640" y="4386960"/>
              <a:ext cx="200160" cy="1065960"/>
            </a:xfrm>
            <a:custGeom>
              <a:avLst/>
              <a:gdLst/>
              <a:ahLst/>
              <a:rect l="l" t="t" r="r" b="b"/>
              <a:pathLst>
                <a:path w="42" h="246">
                  <a:moveTo>
                    <a:pt x="30" y="0"/>
                  </a:moveTo>
                  <a:lnTo>
                    <a:pt x="0" y="126"/>
                  </a:lnTo>
                  <a:lnTo>
                    <a:pt x="42" y="114"/>
                  </a:lnTo>
                  <a:lnTo>
                    <a:pt x="12" y="246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78640" y="2133720"/>
              <a:ext cx="1193400" cy="3419280"/>
            </a:xfrm>
            <a:custGeom>
              <a:avLst/>
              <a:gdLst/>
              <a:ahLst/>
              <a:rect l="l" t="t" r="r" b="b"/>
              <a:pathLst>
                <a:path w="752" h="2154">
                  <a:moveTo>
                    <a:pt x="48" y="2154"/>
                  </a:moveTo>
                  <a:cubicBezTo>
                    <a:pt x="138" y="2092"/>
                    <a:pt x="471" y="1903"/>
                    <a:pt x="585" y="1780"/>
                  </a:cubicBezTo>
                  <a:cubicBezTo>
                    <a:pt x="699" y="1657"/>
                    <a:pt x="752" y="1557"/>
                    <a:pt x="736" y="1415"/>
                  </a:cubicBezTo>
                  <a:cubicBezTo>
                    <a:pt x="720" y="1273"/>
                    <a:pt x="582" y="1068"/>
                    <a:pt x="488" y="928"/>
                  </a:cubicBezTo>
                  <a:cubicBezTo>
                    <a:pt x="394" y="788"/>
                    <a:pt x="242" y="668"/>
                    <a:pt x="170" y="572"/>
                  </a:cubicBezTo>
                  <a:cubicBezTo>
                    <a:pt x="98" y="476"/>
                    <a:pt x="82" y="448"/>
                    <a:pt x="54" y="353"/>
                  </a:cubicBezTo>
                  <a:cubicBezTo>
                    <a:pt x="25" y="258"/>
                    <a:pt x="11" y="74"/>
                    <a:pt x="0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dash"/>
              <a:round/>
              <a:headEnd len="sm" type="oval" w="sm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65760" y="3265560"/>
              <a:ext cx="1855440" cy="2287440"/>
            </a:xfrm>
            <a:custGeom>
              <a:avLst/>
              <a:gdLst/>
              <a:ahLst/>
              <a:rect l="l" t="t" r="r" b="b"/>
              <a:pathLst>
                <a:path w="1169" h="1441">
                  <a:moveTo>
                    <a:pt x="555" y="1441"/>
                  </a:moveTo>
                  <a:cubicBezTo>
                    <a:pt x="650" y="1335"/>
                    <a:pt x="1087" y="1017"/>
                    <a:pt x="1128" y="807"/>
                  </a:cubicBezTo>
                  <a:cubicBezTo>
                    <a:pt x="1169" y="597"/>
                    <a:pt x="920" y="312"/>
                    <a:pt x="800" y="183"/>
                  </a:cubicBezTo>
                  <a:cubicBezTo>
                    <a:pt x="680" y="54"/>
                    <a:pt x="541" y="0"/>
                    <a:pt x="408" y="31"/>
                  </a:cubicBezTo>
                  <a:cubicBezTo>
                    <a:pt x="275" y="62"/>
                    <a:pt x="85" y="297"/>
                    <a:pt x="0" y="367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dash"/>
              <a:round/>
              <a:headEnd len="sm" type="oval" w="sm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8" name="" descr=""/>
            <p:cNvPicPr/>
            <p:nvPr/>
          </p:nvPicPr>
          <p:blipFill>
            <a:blip r:embed="rId4"/>
            <a:stretch/>
          </p:blipFill>
          <p:spPr>
            <a:xfrm>
              <a:off x="6323040" y="3657600"/>
              <a:ext cx="456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337000" y="2971800"/>
              <a:ext cx="135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PTC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Transpar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724280" y="1523880"/>
            <a:ext cx="4267440" cy="5029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52280" y="1600200"/>
            <a:ext cx="4267440" cy="5029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7880" y="152280"/>
            <a:ext cx="74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Proposal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“JOIN” Flag + “NEW_TARGET” Flag on ADD_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41320" y="2362320"/>
            <a:ext cx="0" cy="289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8000" y="2362320"/>
            <a:ext cx="0" cy="4114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75040" y="236232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041720" y="236232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413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08000" y="2819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974680" y="304812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432240" y="2971440"/>
            <a:ext cx="152280" cy="152640"/>
            <a:chOff x="3432240" y="2971440"/>
            <a:chExt cx="152280" cy="152640"/>
          </a:xfrm>
        </p:grpSpPr>
        <p:sp>
          <p:nvSpPr>
            <p:cNvPr id="541" name=""/>
            <p:cNvSpPr/>
            <p:nvPr/>
          </p:nvSpPr>
          <p:spPr>
            <a:xfrm flipV="1">
              <a:off x="3432240" y="2971440"/>
              <a:ext cx="15228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32240" y="2971800"/>
              <a:ext cx="15228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 flipH="1">
            <a:off x="84096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3809880"/>
            <a:ext cx="3240" cy="266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0440" y="39625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6008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4132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044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0440" y="56833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8000" y="5683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98720" y="5943600"/>
            <a:ext cx="15228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895400" y="6019920"/>
            <a:ext cx="21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65880" y="251460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11040" y="251460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5440" y="291132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DD_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(IP prox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03600" y="365760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P_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9880" y="443556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REMOVE_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(IP 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60080" y="48927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106640" y="4952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7280" y="537840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537840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03920" y="26668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MP_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027600" y="571500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P_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9440" y="198108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N-L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39800" y="1981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N-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580480" y="19810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455480" y="1981080"/>
            <a:ext cx="7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10080" y="236232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77120" y="2362320"/>
            <a:ext cx="0" cy="4114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43800" y="236232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610480" y="236232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10080" y="2819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477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543440" y="304812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8001000" y="2971440"/>
            <a:ext cx="152280" cy="152640"/>
            <a:chOff x="8001000" y="2971440"/>
            <a:chExt cx="152280" cy="152640"/>
          </a:xfrm>
        </p:grpSpPr>
        <p:sp>
          <p:nvSpPr>
            <p:cNvPr id="576" name=""/>
            <p:cNvSpPr/>
            <p:nvPr/>
          </p:nvSpPr>
          <p:spPr>
            <a:xfrm flipV="1">
              <a:off x="8001000" y="2971440"/>
              <a:ext cx="15228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01000" y="2971800"/>
              <a:ext cx="15228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H="1">
            <a:off x="5410080" y="3429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467480" y="5943600"/>
            <a:ext cx="1526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464160" y="6019920"/>
            <a:ext cx="21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35000" y="251460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679800" y="251460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44200" y="2911320"/>
            <a:ext cx="11638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DD_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(IP prox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New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72680" y="26668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MP_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596720" y="571500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P_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19240" y="198108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N-L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025480" y="198108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N-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149600" y="19810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24240" y="1981080"/>
            <a:ext cx="7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>
            <a:lum contrast="4000"/>
          </a:blip>
          <a:stretch/>
        </p:blipFill>
        <p:spPr>
          <a:xfrm>
            <a:off x="28195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1674720" y="1674720"/>
            <a:ext cx="382680" cy="3826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502920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838188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>
            <a:lum contrast="4000"/>
          </a:blip>
          <a:stretch/>
        </p:blipFill>
        <p:spPr>
          <a:xfrm>
            <a:off x="746748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6323040" y="1674720"/>
            <a:ext cx="382680" cy="3826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304920" y="533520"/>
            <a:ext cx="80769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: ADD_ADDR is overloaded: Add Address + Joi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w NEW_TARGET flag: “Use this address for future subflow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380880" y="2666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43360" y="304920"/>
            <a:ext cx="633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ummary: Proposed Signaling, Policies,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1640" y="749160"/>
            <a:ext cx="85345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e: Path-selection conflict resolution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e: Make bulk-transfer “optimization”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Add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BULK_TRANSFER_OPTIMIZ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flag to MP_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e: Feature for temporary fallback &amp; return to 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yload rewriting middl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Without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yload rewriting middl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ed clarification of subflow re-selection in Fallback m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pose: Support for transparent 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JOIN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lag to ADD_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EW_TARGET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lag to ADD_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6480" y="30492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PTCP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Goals &amp; Constraints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(RFC 618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7560" y="722160"/>
            <a:ext cx="6019920" cy="52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erequisi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vailability of multiple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Improve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resource pooling (“not worse than best path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Increase resil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segments can be (re-) send over every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tra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pp compatibility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TCP-like, 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wk compatibility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middle-box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mpatibility with other users: </a:t>
            </a: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62920" y="2971440"/>
            <a:ext cx="1004040" cy="645480"/>
            <a:chOff x="8062920" y="2971440"/>
            <a:chExt cx="1004040" cy="645480"/>
          </a:xfrm>
        </p:grpSpPr>
        <p:sp>
          <p:nvSpPr>
            <p:cNvPr id="47" name=""/>
            <p:cNvSpPr/>
            <p:nvPr/>
          </p:nvSpPr>
          <p:spPr>
            <a:xfrm flipV="1">
              <a:off x="8589960" y="2984400"/>
              <a:ext cx="334440" cy="23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8" y="9740"/>
                  </a:moveTo>
                  <a:arcTo wR="10800" hR="10800" stAng="-337874" swAng="9701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8" y="9740"/>
                  </a:moveTo>
                  <a:arcTo wR="10800" hR="10800" stAng="-337874" swAng="970153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807400" y="3091680"/>
              <a:ext cx="239400" cy="1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63" y="2300"/>
                  </a:moveTo>
                  <a:arcTo wR="10800" hR="10800" stAng="-3114380" swAng="84686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63" y="2300"/>
                  </a:moveTo>
                  <a:arcTo wR="10800" hR="10800" stAng="-3114380" swAng="846860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8885160" y="3224520"/>
              <a:ext cx="181800" cy="20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50" y="788"/>
                  </a:moveTo>
                  <a:arcTo wR="10800" hR="10800" stAng="-6721510" swAng="10512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6750" y="788"/>
                  </a:moveTo>
                  <a:arcTo wR="10800" hR="10800" stAng="-6721510" swAng="10512415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8580960" y="3320280"/>
              <a:ext cx="381600" cy="2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7"/>
                  </a:moveTo>
                  <a:arcTo wR="10800" hR="10800" stAng="-7824661" swAng="839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7"/>
                  </a:moveTo>
                  <a:arcTo wR="10800" hR="10800" stAng="-7824661" swAng="839138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8399160" y="3391560"/>
              <a:ext cx="290520" cy="2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6" y="8049"/>
                  </a:moveTo>
                  <a:arcTo wR="10800" hR="10800" stAng="-9914506" swAng="7996013"/>
                  <a:lnTo>
                    <a:pt x="10800" y="10800"/>
                  </a:lnTo>
                  <a:close/>
                </a:path>
                <a:path fill="none" w="21600" h="21600">
                  <a:moveTo>
                    <a:pt x="356" y="8049"/>
                  </a:moveTo>
                  <a:arcTo wR="10800" hR="10800" stAng="-9914506" swAng="7996013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164080" y="3313440"/>
              <a:ext cx="300960" cy="25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2" y="13025"/>
                  </a:moveTo>
                  <a:arcTo wR="10800" hR="10800" stAng="10086616" swAng="8388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32" y="13025"/>
                  </a:moveTo>
                  <a:arcTo wR="10800" hR="10800" stAng="10086616" swAng="8388619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062920" y="3257280"/>
              <a:ext cx="198000" cy="17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82" y="20940"/>
                  </a:moveTo>
                  <a:arcTo wR="10800" hR="10800" stAng="6608358" swAng="9706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082" y="20940"/>
                  </a:moveTo>
                  <a:arcTo wR="10800" hR="10800" stAng="6608358" swAng="9706008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089200" y="3057840"/>
              <a:ext cx="35064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75" y="21418"/>
                  </a:moveTo>
                  <a:arcTo wR="10800" hR="10800" stAng="4767822" swAng="7678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75" y="21418"/>
                  </a:moveTo>
                  <a:arcTo wR="10800" hR="10800" stAng="4767822" swAng="7678931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259120" y="2971080"/>
              <a:ext cx="367560" cy="2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65" y="14158"/>
                  </a:moveTo>
                  <a:arcTo wR="10800" hR="10800" stAng="1087011" swAng="82766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65" y="14158"/>
                  </a:moveTo>
                  <a:arcTo wR="10800" hR="10800" stAng="1087011" swAng="8276646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116920" y="3044880"/>
            <a:ext cx="911160" cy="5205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128" y="4"/>
                </a:moveTo>
                <a:lnTo>
                  <a:pt x="310" y="0"/>
                </a:lnTo>
                <a:lnTo>
                  <a:pt x="508" y="30"/>
                </a:lnTo>
                <a:lnTo>
                  <a:pt x="564" y="122"/>
                </a:lnTo>
                <a:lnTo>
                  <a:pt x="574" y="174"/>
                </a:lnTo>
                <a:lnTo>
                  <a:pt x="530" y="244"/>
                </a:lnTo>
                <a:lnTo>
                  <a:pt x="444" y="310"/>
                </a:lnTo>
                <a:lnTo>
                  <a:pt x="334" y="328"/>
                </a:lnTo>
                <a:lnTo>
                  <a:pt x="216" y="326"/>
                </a:lnTo>
                <a:lnTo>
                  <a:pt x="158" y="312"/>
                </a:lnTo>
                <a:lnTo>
                  <a:pt x="66" y="268"/>
                </a:lnTo>
                <a:lnTo>
                  <a:pt x="6" y="222"/>
                </a:lnTo>
                <a:lnTo>
                  <a:pt x="0" y="158"/>
                </a:lnTo>
                <a:lnTo>
                  <a:pt x="2" y="106"/>
                </a:lnTo>
                <a:lnTo>
                  <a:pt x="68" y="50"/>
                </a:lnTo>
                <a:lnTo>
                  <a:pt x="128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06560" y="312408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900760" y="2971440"/>
            <a:ext cx="1004040" cy="645480"/>
            <a:chOff x="5900760" y="2971440"/>
            <a:chExt cx="1004040" cy="645480"/>
          </a:xfrm>
        </p:grpSpPr>
        <p:sp>
          <p:nvSpPr>
            <p:cNvPr id="59" name=""/>
            <p:cNvSpPr/>
            <p:nvPr/>
          </p:nvSpPr>
          <p:spPr>
            <a:xfrm flipV="1">
              <a:off x="6427800" y="2984400"/>
              <a:ext cx="334440" cy="23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8" y="9740"/>
                  </a:moveTo>
                  <a:arcTo wR="10800" hR="10800" stAng="-337874" swAng="9701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8" y="9740"/>
                  </a:moveTo>
                  <a:arcTo wR="10800" hR="10800" stAng="-337874" swAng="970153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645240" y="3091680"/>
              <a:ext cx="239400" cy="1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63" y="2300"/>
                  </a:moveTo>
                  <a:arcTo wR="10800" hR="10800" stAng="-3114380" swAng="84686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63" y="2300"/>
                  </a:moveTo>
                  <a:arcTo wR="10800" hR="10800" stAng="-3114380" swAng="846860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723000" y="3224520"/>
              <a:ext cx="181800" cy="20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50" y="788"/>
                  </a:moveTo>
                  <a:arcTo wR="10800" hR="10800" stAng="-6721510" swAng="10512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6750" y="788"/>
                  </a:moveTo>
                  <a:arcTo wR="10800" hR="10800" stAng="-6721510" swAng="10512415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418800" y="3320280"/>
              <a:ext cx="381600" cy="2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99" y="2577"/>
                  </a:moveTo>
                  <a:arcTo wR="10800" hR="10800" stAng="-7824661" swAng="839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99" y="2577"/>
                  </a:moveTo>
                  <a:arcTo wR="10800" hR="10800" stAng="-7824661" swAng="8391382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237000" y="3391560"/>
              <a:ext cx="290520" cy="2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6" y="8049"/>
                  </a:moveTo>
                  <a:arcTo wR="10800" hR="10800" stAng="-9914506" swAng="7996013"/>
                  <a:lnTo>
                    <a:pt x="10800" y="10800"/>
                  </a:lnTo>
                  <a:close/>
                </a:path>
                <a:path fill="none" w="21600" h="21600">
                  <a:moveTo>
                    <a:pt x="356" y="8049"/>
                  </a:moveTo>
                  <a:arcTo wR="10800" hR="10800" stAng="-9914506" swAng="7996013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001920" y="3313440"/>
              <a:ext cx="300960" cy="25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2" y="13025"/>
                  </a:moveTo>
                  <a:arcTo wR="10800" hR="10800" stAng="10086616" swAng="8388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32" y="13025"/>
                  </a:moveTo>
                  <a:arcTo wR="10800" hR="10800" stAng="10086616" swAng="8388619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900760" y="3257280"/>
              <a:ext cx="198000" cy="17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82" y="20940"/>
                  </a:moveTo>
                  <a:arcTo wR="10800" hR="10800" stAng="6608358" swAng="9706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082" y="20940"/>
                  </a:moveTo>
                  <a:arcTo wR="10800" hR="10800" stAng="6608358" swAng="9706008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27040" y="3057840"/>
              <a:ext cx="35064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75" y="21418"/>
                  </a:moveTo>
                  <a:arcTo wR="10800" hR="10800" stAng="4767822" swAng="7678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75" y="21418"/>
                  </a:moveTo>
                  <a:arcTo wR="10800" hR="10800" stAng="4767822" swAng="7678931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096960" y="2971080"/>
              <a:ext cx="367560" cy="2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65" y="14158"/>
                  </a:moveTo>
                  <a:arcTo wR="10800" hR="10800" stAng="1087011" swAng="82766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65" y="14158"/>
                  </a:moveTo>
                  <a:arcTo wR="10800" hR="10800" stAng="1087011" swAng="8276646"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954760" y="3044880"/>
            <a:ext cx="911160" cy="5205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128" y="4"/>
                </a:moveTo>
                <a:lnTo>
                  <a:pt x="310" y="0"/>
                </a:lnTo>
                <a:lnTo>
                  <a:pt x="508" y="30"/>
                </a:lnTo>
                <a:lnTo>
                  <a:pt x="564" y="122"/>
                </a:lnTo>
                <a:lnTo>
                  <a:pt x="574" y="174"/>
                </a:lnTo>
                <a:lnTo>
                  <a:pt x="530" y="244"/>
                </a:lnTo>
                <a:lnTo>
                  <a:pt x="444" y="310"/>
                </a:lnTo>
                <a:lnTo>
                  <a:pt x="334" y="328"/>
                </a:lnTo>
                <a:lnTo>
                  <a:pt x="216" y="326"/>
                </a:lnTo>
                <a:lnTo>
                  <a:pt x="158" y="312"/>
                </a:lnTo>
                <a:lnTo>
                  <a:pt x="66" y="268"/>
                </a:lnTo>
                <a:lnTo>
                  <a:pt x="6" y="222"/>
                </a:lnTo>
                <a:lnTo>
                  <a:pt x="0" y="158"/>
                </a:lnTo>
                <a:lnTo>
                  <a:pt x="2" y="106"/>
                </a:lnTo>
                <a:lnTo>
                  <a:pt x="68" y="50"/>
                </a:lnTo>
                <a:lnTo>
                  <a:pt x="128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54840" y="3124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3G/4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34120" y="44197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7619760" y="2362320"/>
            <a:ext cx="718920" cy="64296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72520" y="1573200"/>
            <a:ext cx="4680" cy="503280"/>
          </a:xfrm>
          <a:custGeom>
            <a:avLst/>
            <a:gdLst/>
            <a:ahLst/>
            <a:rect l="l" t="t" r="r" b="b"/>
            <a:pathLst>
              <a:path w="3" h="317">
                <a:moveTo>
                  <a:pt x="0" y="317"/>
                </a:moveTo>
                <a:lnTo>
                  <a:pt x="3" y="0"/>
                </a:lnTo>
              </a:path>
            </a:pathLst>
          </a:custGeom>
          <a:noFill/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637320" y="2285640"/>
            <a:ext cx="725400" cy="7002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151760" y="1892160"/>
            <a:ext cx="592200" cy="59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>
            <a:lum contrast="4000"/>
          </a:blip>
          <a:stretch/>
        </p:blipFill>
        <p:spPr>
          <a:xfrm>
            <a:off x="7238880" y="838080"/>
            <a:ext cx="787680" cy="787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18791400">
            <a:off x="6805440" y="3557520"/>
            <a:ext cx="200160" cy="1066680"/>
          </a:xfrm>
          <a:custGeom>
            <a:avLst/>
            <a:gdLst/>
            <a:ahLst/>
            <a:rect l="l" t="t" r="r" b="b"/>
            <a:pathLst>
              <a:path w="42" h="246">
                <a:moveTo>
                  <a:pt x="30" y="0"/>
                </a:moveTo>
                <a:lnTo>
                  <a:pt x="0" y="126"/>
                </a:lnTo>
                <a:lnTo>
                  <a:pt x="42" y="114"/>
                </a:lnTo>
                <a:lnTo>
                  <a:pt x="12" y="246"/>
                </a:lnTo>
              </a:path>
            </a:pathLst>
          </a:custGeom>
          <a:noFill/>
          <a:ln w="25560">
            <a:solidFill>
              <a:srgbClr val="80808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7360" y="510552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Mo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87040" y="5335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43760" y="1305000"/>
            <a:ext cx="1330200" cy="3419280"/>
          </a:xfrm>
          <a:custGeom>
            <a:avLst/>
            <a:gdLst/>
            <a:ahLst/>
            <a:rect l="l" t="t" r="r" b="b"/>
            <a:pathLst>
              <a:path w="838" h="2154">
                <a:moveTo>
                  <a:pt x="785" y="2154"/>
                </a:moveTo>
                <a:cubicBezTo>
                  <a:pt x="686" y="2092"/>
                  <a:pt x="319" y="1903"/>
                  <a:pt x="193" y="1780"/>
                </a:cubicBezTo>
                <a:cubicBezTo>
                  <a:pt x="67" y="1657"/>
                  <a:pt x="0" y="1555"/>
                  <a:pt x="26" y="1415"/>
                </a:cubicBezTo>
                <a:cubicBezTo>
                  <a:pt x="52" y="1275"/>
                  <a:pt x="245" y="1080"/>
                  <a:pt x="349" y="940"/>
                </a:cubicBezTo>
                <a:cubicBezTo>
                  <a:pt x="453" y="800"/>
                  <a:pt x="579" y="670"/>
                  <a:pt x="651" y="572"/>
                </a:cubicBezTo>
                <a:cubicBezTo>
                  <a:pt x="723" y="474"/>
                  <a:pt x="748" y="448"/>
                  <a:pt x="779" y="353"/>
                </a:cubicBezTo>
                <a:cubicBezTo>
                  <a:pt x="810" y="258"/>
                  <a:pt x="826" y="74"/>
                  <a:pt x="838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rot="2808600">
            <a:off x="7948080" y="3558240"/>
            <a:ext cx="200160" cy="1066680"/>
          </a:xfrm>
          <a:custGeom>
            <a:avLst/>
            <a:gdLst/>
            <a:ahLst/>
            <a:rect l="l" t="t" r="r" b="b"/>
            <a:pathLst>
              <a:path w="42" h="246">
                <a:moveTo>
                  <a:pt x="30" y="0"/>
                </a:moveTo>
                <a:lnTo>
                  <a:pt x="0" y="126"/>
                </a:lnTo>
                <a:lnTo>
                  <a:pt x="42" y="114"/>
                </a:lnTo>
                <a:lnTo>
                  <a:pt x="12" y="246"/>
                </a:lnTo>
              </a:path>
            </a:pathLst>
          </a:custGeom>
          <a:noFill/>
          <a:ln w="25560">
            <a:solidFill>
              <a:srgbClr val="80808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479720" y="1305000"/>
            <a:ext cx="1330200" cy="3419280"/>
          </a:xfrm>
          <a:custGeom>
            <a:avLst/>
            <a:gdLst/>
            <a:ahLst/>
            <a:rect l="l" t="t" r="r" b="b"/>
            <a:pathLst>
              <a:path w="838" h="2154">
                <a:moveTo>
                  <a:pt x="785" y="2154"/>
                </a:moveTo>
                <a:cubicBezTo>
                  <a:pt x="686" y="2092"/>
                  <a:pt x="319" y="1903"/>
                  <a:pt x="193" y="1780"/>
                </a:cubicBezTo>
                <a:cubicBezTo>
                  <a:pt x="67" y="1657"/>
                  <a:pt x="0" y="1555"/>
                  <a:pt x="26" y="1415"/>
                </a:cubicBezTo>
                <a:cubicBezTo>
                  <a:pt x="52" y="1275"/>
                  <a:pt x="245" y="1080"/>
                  <a:pt x="349" y="940"/>
                </a:cubicBezTo>
                <a:cubicBezTo>
                  <a:pt x="453" y="800"/>
                  <a:pt x="579" y="670"/>
                  <a:pt x="651" y="572"/>
                </a:cubicBezTo>
                <a:cubicBezTo>
                  <a:pt x="723" y="474"/>
                  <a:pt x="748" y="448"/>
                  <a:pt x="779" y="353"/>
                </a:cubicBezTo>
                <a:cubicBezTo>
                  <a:pt x="810" y="258"/>
                  <a:pt x="826" y="74"/>
                  <a:pt x="838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080" y="6105600"/>
            <a:ext cx="60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How well does this go with wirel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606600" y="4471920"/>
            <a:ext cx="7551720" cy="1676520"/>
            <a:chOff x="606600" y="4471920"/>
            <a:chExt cx="7551720" cy="1676520"/>
          </a:xfrm>
        </p:grpSpPr>
        <p:sp>
          <p:nvSpPr>
            <p:cNvPr id="84" name=""/>
            <p:cNvSpPr/>
            <p:nvPr/>
          </p:nvSpPr>
          <p:spPr>
            <a:xfrm>
              <a:off x="2519280" y="4929120"/>
              <a:ext cx="76212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57920" y="4929120"/>
              <a:ext cx="76176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4520" y="6148440"/>
              <a:ext cx="754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67000" y="4471920"/>
              <a:ext cx="1066680" cy="4572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05280" y="4471920"/>
              <a:ext cx="1067040" cy="4572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06600" y="4762440"/>
              <a:ext cx="0" cy="137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07720" y="233280"/>
            <a:ext cx="736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PTCP + Wireless Access Networks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Typic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1200" y="4979880"/>
            <a:ext cx="6400800" cy="1160640"/>
          </a:xfrm>
          <a:custGeom>
            <a:avLst/>
            <a:gdLst/>
            <a:ahLst/>
            <a:rect l="l" t="t" r="r" b="b"/>
            <a:pathLst>
              <a:path w="4032" h="731">
                <a:moveTo>
                  <a:pt x="0" y="731"/>
                </a:moveTo>
                <a:lnTo>
                  <a:pt x="841" y="722"/>
                </a:lnTo>
                <a:lnTo>
                  <a:pt x="1079" y="686"/>
                </a:lnTo>
                <a:lnTo>
                  <a:pt x="1088" y="110"/>
                </a:lnTo>
                <a:lnTo>
                  <a:pt x="1216" y="27"/>
                </a:lnTo>
                <a:lnTo>
                  <a:pt x="1353" y="0"/>
                </a:lnTo>
                <a:lnTo>
                  <a:pt x="1509" y="37"/>
                </a:lnTo>
                <a:lnTo>
                  <a:pt x="1573" y="73"/>
                </a:lnTo>
                <a:lnTo>
                  <a:pt x="1573" y="686"/>
                </a:lnTo>
                <a:lnTo>
                  <a:pt x="1820" y="722"/>
                </a:lnTo>
                <a:lnTo>
                  <a:pt x="2487" y="731"/>
                </a:lnTo>
                <a:lnTo>
                  <a:pt x="2633" y="695"/>
                </a:lnTo>
                <a:lnTo>
                  <a:pt x="2624" y="110"/>
                </a:lnTo>
                <a:lnTo>
                  <a:pt x="2761" y="46"/>
                </a:lnTo>
                <a:lnTo>
                  <a:pt x="2889" y="18"/>
                </a:lnTo>
                <a:lnTo>
                  <a:pt x="3008" y="46"/>
                </a:lnTo>
                <a:lnTo>
                  <a:pt x="3100" y="82"/>
                </a:lnTo>
                <a:lnTo>
                  <a:pt x="3109" y="677"/>
                </a:lnTo>
                <a:lnTo>
                  <a:pt x="3310" y="722"/>
                </a:lnTo>
                <a:lnTo>
                  <a:pt x="4032" y="731"/>
                </a:lnTo>
              </a:path>
            </a:pathLst>
          </a:custGeom>
          <a:noFill/>
          <a:ln w="255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9640" y="5662440"/>
            <a:ext cx="6111720" cy="392400"/>
          </a:xfrm>
          <a:custGeom>
            <a:avLst/>
            <a:gdLst/>
            <a:ahLst/>
            <a:rect l="l" t="t" r="r" b="b"/>
            <a:pathLst>
              <a:path w="3850" h="247">
                <a:moveTo>
                  <a:pt x="0" y="27"/>
                </a:moveTo>
                <a:lnTo>
                  <a:pt x="366" y="27"/>
                </a:lnTo>
                <a:lnTo>
                  <a:pt x="567" y="55"/>
                </a:lnTo>
                <a:lnTo>
                  <a:pt x="759" y="9"/>
                </a:lnTo>
                <a:lnTo>
                  <a:pt x="869" y="27"/>
                </a:lnTo>
                <a:lnTo>
                  <a:pt x="1061" y="64"/>
                </a:lnTo>
                <a:lnTo>
                  <a:pt x="1088" y="210"/>
                </a:lnTo>
                <a:lnTo>
                  <a:pt x="1317" y="237"/>
                </a:lnTo>
                <a:lnTo>
                  <a:pt x="1491" y="219"/>
                </a:lnTo>
                <a:lnTo>
                  <a:pt x="1564" y="201"/>
                </a:lnTo>
                <a:lnTo>
                  <a:pt x="1564" y="82"/>
                </a:lnTo>
                <a:lnTo>
                  <a:pt x="1811" y="0"/>
                </a:lnTo>
                <a:lnTo>
                  <a:pt x="2094" y="0"/>
                </a:lnTo>
                <a:lnTo>
                  <a:pt x="2250" y="45"/>
                </a:lnTo>
                <a:lnTo>
                  <a:pt x="2606" y="18"/>
                </a:lnTo>
                <a:lnTo>
                  <a:pt x="2624" y="228"/>
                </a:lnTo>
                <a:lnTo>
                  <a:pt x="2798" y="247"/>
                </a:lnTo>
                <a:lnTo>
                  <a:pt x="2963" y="237"/>
                </a:lnTo>
                <a:lnTo>
                  <a:pt x="3082" y="219"/>
                </a:lnTo>
                <a:lnTo>
                  <a:pt x="3091" y="18"/>
                </a:lnTo>
                <a:lnTo>
                  <a:pt x="3283" y="27"/>
                </a:lnTo>
                <a:lnTo>
                  <a:pt x="3584" y="64"/>
                </a:lnTo>
                <a:lnTo>
                  <a:pt x="3795" y="9"/>
                </a:lnTo>
                <a:lnTo>
                  <a:pt x="3850" y="9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2680" y="43340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Data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3840" y="52862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8520" y="507204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Trebuchet MS"/>
              </a:rPr>
              <a:t>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34880" y="722160"/>
            <a:ext cx="8534520" cy="3465720"/>
            <a:chOff x="434880" y="722160"/>
            <a:chExt cx="8534520" cy="3465720"/>
          </a:xfrm>
        </p:grpSpPr>
        <p:sp>
          <p:nvSpPr>
            <p:cNvPr id="97" name=""/>
            <p:cNvSpPr/>
            <p:nvPr/>
          </p:nvSpPr>
          <p:spPr>
            <a:xfrm>
              <a:off x="434880" y="722160"/>
              <a:ext cx="8534520" cy="33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2.5G/3G/4G - Macrocellular – Outdoor deploy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rebuchet MS"/>
                </a:rPr>
                <a:t>Outdoors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: Optimized for co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rebuchet MS"/>
                </a:rPr>
                <a:t>Indoors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: Wall penetra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Trebuchet MS"/>
                </a:rPr>
                <a:t>low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 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rebuchet MS"/>
                </a:rPr>
                <a:t>Access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:</a:t>
              </a:r>
              <a:r>
                <a:rPr b="0" lang="en-US" sz="1800" spc="-1" strike="noStrike">
                  <a:solidFill>
                    <a:srgbClr val="ff0000"/>
                  </a:solidFill>
                  <a:latin typeface="Trebuchet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Mostly single-subscri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WiFi - Hotspot, in home/company – Indoor deploy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rebuchet MS"/>
                </a:rPr>
                <a:t>Indoors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: Optimized for 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rebuchet MS"/>
                </a:rPr>
                <a:t>Outdoors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: Wall penetra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effectively </a:t>
              </a:r>
              <a:r>
                <a:rPr b="0" lang="en-US" sz="1800" spc="-1" strike="noStrike">
                  <a:solidFill>
                    <a:srgbClr val="009900"/>
                  </a:solidFill>
                  <a:latin typeface="Trebuchet MS"/>
                </a:rPr>
                <a:t>no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 co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rebuchet MS"/>
                </a:rPr>
                <a:t>Access</a:t>
              </a:r>
              <a:r>
                <a:rPr b="0" lang="en-US" sz="1800" spc="-1" strike="noStrike">
                  <a:solidFill>
                    <a:srgbClr val="0000ff"/>
                  </a:solidFill>
                  <a:latin typeface="Trebuchet MS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 Closed user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2240" y="771480"/>
              <a:ext cx="522360" cy="1509840"/>
            </a:xfrm>
            <a:custGeom>
              <a:avLst/>
              <a:gdLst>
                <a:gd name="textAreaLeft" fmla="*/ 0 w 522360"/>
                <a:gd name="textAreaRight" fmla="*/ 188640 w 522360"/>
                <a:gd name="textAreaTop" fmla="*/ 39240 h 1509840"/>
                <a:gd name="textAreaBottom" fmla="*/ 1470600 h 15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1280" y="1004760"/>
              <a:ext cx="1271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rebuchet MS"/>
                </a:rPr>
                <a:t>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rebuchet MS"/>
                </a:rPr>
                <a:t>outdoor</a:t>
              </a:r>
              <a:r>
                <a:rPr b="0" lang="en-US" sz="2000" spc="-1" strike="noStrike">
                  <a:solidFill>
                    <a:srgbClr val="ff0000"/>
                  </a:solidFill>
                  <a:latin typeface="Trebuchet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rebuchet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6720" y="2678040"/>
              <a:ext cx="522000" cy="1509840"/>
            </a:xfrm>
            <a:custGeom>
              <a:avLst/>
              <a:gdLst>
                <a:gd name="textAreaLeft" fmla="*/ 0 w 522000"/>
                <a:gd name="textAreaRight" fmla="*/ 188280 w 522000"/>
                <a:gd name="textAreaTop" fmla="*/ 39240 h 1509840"/>
                <a:gd name="textAreaBottom" fmla="*/ 1470600 h 15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89720" y="2896920"/>
              <a:ext cx="1166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Trebuchet MS"/>
                </a:rPr>
                <a:t>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Trebuchet MS"/>
                </a:rPr>
                <a:t>indoor</a:t>
              </a:r>
              <a:r>
                <a:rPr b="0" lang="en-US" sz="2000" spc="-1" strike="noStrike">
                  <a:solidFill>
                    <a:srgbClr val="00cc66"/>
                  </a:solidFill>
                  <a:latin typeface="Trebuchet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Trebuchet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00960" y="631188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Little gain from resource p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8600" y="504684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Trebuchet MS"/>
              </a:rPr>
              <a:t>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2520" y="189000"/>
            <a:ext cx="77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PTCP Applied to Wireless Access Networks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TP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486080"/>
            <a:ext cx="4429080" cy="2885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72160" y="1486080"/>
            <a:ext cx="4371840" cy="293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787320"/>
            <a:ext cx="6378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pportunistic Mobility with Multipath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stin Raiciu, Dragos Niculescu,  Marcelo Bagnulo, Mark Hand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76240" y="2171880"/>
            <a:ext cx="3305160" cy="637920"/>
          </a:xfrm>
          <a:custGeom>
            <a:avLst/>
            <a:gdLst/>
            <a:ahLst/>
            <a:rect l="l" t="t" r="r" b="b"/>
            <a:pathLst>
              <a:path w="2082" h="402">
                <a:moveTo>
                  <a:pt x="0" y="402"/>
                </a:moveTo>
                <a:lnTo>
                  <a:pt x="213" y="342"/>
                </a:lnTo>
                <a:lnTo>
                  <a:pt x="423" y="318"/>
                </a:lnTo>
                <a:lnTo>
                  <a:pt x="627" y="267"/>
                </a:lnTo>
                <a:lnTo>
                  <a:pt x="840" y="231"/>
                </a:lnTo>
                <a:lnTo>
                  <a:pt x="1044" y="204"/>
                </a:lnTo>
                <a:lnTo>
                  <a:pt x="1251" y="150"/>
                </a:lnTo>
                <a:lnTo>
                  <a:pt x="1458" y="84"/>
                </a:lnTo>
                <a:lnTo>
                  <a:pt x="1665" y="51"/>
                </a:lnTo>
                <a:lnTo>
                  <a:pt x="1869" y="33"/>
                </a:lnTo>
                <a:lnTo>
                  <a:pt x="208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6240" y="2409840"/>
            <a:ext cx="3300480" cy="409680"/>
          </a:xfrm>
          <a:custGeom>
            <a:avLst/>
            <a:gdLst/>
            <a:ahLst/>
            <a:rect l="l" t="t" r="r" b="b"/>
            <a:pathLst>
              <a:path w="2079" h="258">
                <a:moveTo>
                  <a:pt x="0" y="258"/>
                </a:moveTo>
                <a:lnTo>
                  <a:pt x="216" y="213"/>
                </a:lnTo>
                <a:lnTo>
                  <a:pt x="423" y="195"/>
                </a:lnTo>
                <a:lnTo>
                  <a:pt x="630" y="171"/>
                </a:lnTo>
                <a:lnTo>
                  <a:pt x="837" y="144"/>
                </a:lnTo>
                <a:lnTo>
                  <a:pt x="1044" y="123"/>
                </a:lnTo>
                <a:lnTo>
                  <a:pt x="1266" y="93"/>
                </a:lnTo>
                <a:lnTo>
                  <a:pt x="1464" y="42"/>
                </a:lnTo>
                <a:lnTo>
                  <a:pt x="1668" y="36"/>
                </a:lnTo>
                <a:lnTo>
                  <a:pt x="1875" y="27"/>
                </a:lnTo>
                <a:lnTo>
                  <a:pt x="20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29320" y="2133720"/>
            <a:ext cx="3314520" cy="438120"/>
          </a:xfrm>
          <a:custGeom>
            <a:avLst/>
            <a:gdLst/>
            <a:ahLst/>
            <a:rect l="l" t="t" r="r" b="b"/>
            <a:pathLst>
              <a:path w="2088" h="276">
                <a:moveTo>
                  <a:pt x="0" y="276"/>
                </a:moveTo>
                <a:lnTo>
                  <a:pt x="651" y="189"/>
                </a:lnTo>
                <a:lnTo>
                  <a:pt x="1071" y="129"/>
                </a:lnTo>
                <a:lnTo>
                  <a:pt x="208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3080" y="2333520"/>
            <a:ext cx="3295800" cy="228600"/>
          </a:xfrm>
          <a:custGeom>
            <a:avLst/>
            <a:gdLst/>
            <a:ahLst/>
            <a:rect l="l" t="t" r="r" b="b"/>
            <a:pathLst>
              <a:path w="2076" h="144">
                <a:moveTo>
                  <a:pt x="0" y="144"/>
                </a:moveTo>
                <a:lnTo>
                  <a:pt x="1665" y="21"/>
                </a:lnTo>
                <a:lnTo>
                  <a:pt x="207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9360" y="4379760"/>
            <a:ext cx="6721920" cy="16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P Gain: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Multipath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ver </a:t>
            </a: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Path-selec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0 – 15%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00% Wifi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en us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989760" y="731880"/>
            <a:ext cx="1860120" cy="703800"/>
            <a:chOff x="6989760" y="731880"/>
            <a:chExt cx="1860120" cy="703800"/>
          </a:xfrm>
        </p:grpSpPr>
        <p:sp>
          <p:nvSpPr>
            <p:cNvPr id="114" name=""/>
            <p:cNvSpPr/>
            <p:nvPr/>
          </p:nvSpPr>
          <p:spPr>
            <a:xfrm>
              <a:off x="7248960" y="731880"/>
              <a:ext cx="160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rebuchet MS"/>
                </a:rPr>
                <a:t>Multipa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rebuchet MS"/>
                </a:rPr>
                <a:t>Path-sel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96240" y="957240"/>
              <a:ext cx="274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89760" y="1255680"/>
              <a:ext cx="2746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27520" y="6168960"/>
            <a:ext cx="77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Small gains even under optimistic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2960" y="304920"/>
            <a:ext cx="84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PTCP Applied to Wireless Access Networks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838080"/>
            <a:ext cx="6350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pportunistic Mobility with Multipath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stin Raiciu, Dragos Niculescu,  Marcelo Bagnulo, MarkHand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5320" y="5506920"/>
            <a:ext cx="795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95800" y="17366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rebuchet MS"/>
              </a:rPr>
              <a:t>WIFI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= 5.8 Mb/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3720" y="1714680"/>
            <a:ext cx="5646960" cy="313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1351080" y="1920600"/>
            <a:ext cx="4592520" cy="11160"/>
          </a:xfrm>
          <a:prstGeom prst="line">
            <a:avLst/>
          </a:prstGeom>
          <a:ln w="507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344600" y="3204720"/>
            <a:ext cx="4592520" cy="111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41880" y="299412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G</a:t>
            </a:r>
            <a:r>
              <a:rPr b="1" lang="en-US" sz="20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= 0.8 Mb/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960" y="6168960"/>
            <a:ext cx="85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Outdoors: 3G only option. Indoors: 3G to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in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5120" y="947880"/>
            <a:ext cx="8678880" cy="45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Small gai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from resource p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ncreased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lways maximum delay given by slowest pa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ead of line blocking due to periodic outage on weak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High resource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rge receiver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cessing &amp; air-interface overhead due to DS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igher battery &amp; spectrum usage due to multiple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No solu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for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remental deployment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Transparent 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920"/>
            <a:ext cx="70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PTCP + Wireless Access Networks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18480" y="1044720"/>
            <a:ext cx="663480" cy="3483000"/>
          </a:xfrm>
          <a:custGeom>
            <a:avLst/>
            <a:gdLst>
              <a:gd name="textAreaLeft" fmla="*/ 0 w 663480"/>
              <a:gd name="textAreaRight" fmla="*/ 239400 w 663480"/>
              <a:gd name="textAreaTop" fmla="*/ 90720 h 3483000"/>
              <a:gd name="textAreaBottom" fmla="*/ 3392280 h 348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69360" y="1927080"/>
            <a:ext cx="1066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Just pick the best   path!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1920" y="6072120"/>
            <a:ext cx="77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Throughput aggregation: High cost – littl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50800" y="1012680"/>
            <a:ext cx="822960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wirele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orst link (throughput, fluct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st expensive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formation on local wirele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easurements: SINR, signal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st per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 this information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lect your ow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mmunicate to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4520" y="311040"/>
            <a:ext cx="68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ath Selective Operation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How to Pick the Best Pa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5080" y="6095880"/>
            <a:ext cx="80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Local link information promises to find bes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21:53:17Z</dcterms:created>
  <dc:creator>ghampel</dc:creator>
  <dc:description/>
  <dc:language>en-US</dc:language>
  <cp:lastModifiedBy>ghampel</cp:lastModifiedBy>
  <dcterms:modified xsi:type="dcterms:W3CDTF">2011-07-26T23:40:40Z</dcterms:modified>
  <cp:revision>3702</cp:revision>
  <dc:subject/>
  <dc:title>MPTCP Enhancements to Improve Applicability to Wireless Access Networks</dc:title>
</cp:coreProperties>
</file>