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648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37360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5BE-C3EC-48F2-916C-64D905D1EE32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-IPv6 Multic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oucadair, C. Jacquenet X.D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cases and detailed scenarios according to different locations of the “multicast translator” (mXlate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v4 Source --&gt; IPv6 Receiver, e.g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v6 Source --&gt; IPv4 Rece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 17"/>
          <p:cNvSpPr/>
          <p:nvPr/>
        </p:nvSpPr>
        <p:spPr>
          <a:xfrm>
            <a:off x="1219320" y="3838680"/>
            <a:ext cx="1720800" cy="111420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371600" y="44481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438280" y="3705120"/>
            <a:ext cx="506520" cy="401760"/>
            <a:chOff x="2438280" y="3705120"/>
            <a:chExt cx="506520" cy="401760"/>
          </a:xfrm>
        </p:grpSpPr>
        <p:sp>
          <p:nvSpPr>
            <p:cNvPr id="115" name="Oval 21"/>
            <p:cNvSpPr/>
            <p:nvPr/>
          </p:nvSpPr>
          <p:spPr>
            <a:xfrm>
              <a:off x="2438280" y="3705120"/>
              <a:ext cx="506520" cy="401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2501280" y="375516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Straight Connector 26"/>
          <p:cNvSpPr/>
          <p:nvPr/>
        </p:nvSpPr>
        <p:spPr>
          <a:xfrm>
            <a:off x="2944800" y="3903840"/>
            <a:ext cx="228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8"/>
          <p:cNvSpPr/>
          <p:nvPr/>
        </p:nvSpPr>
        <p:spPr>
          <a:xfrm flipH="1">
            <a:off x="3188880" y="3610080"/>
            <a:ext cx="180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14800" y="357840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628640" y="4591080"/>
            <a:ext cx="3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470240" y="408780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6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 35"/>
          <p:cNvSpPr/>
          <p:nvPr/>
        </p:nvSpPr>
        <p:spPr>
          <a:xfrm>
            <a:off x="4059360" y="3762360"/>
            <a:ext cx="1720800" cy="1114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048200" y="49896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3963960" y="4429080"/>
            <a:ext cx="506520" cy="401760"/>
            <a:chOff x="3963960" y="4429080"/>
            <a:chExt cx="506520" cy="401760"/>
          </a:xfrm>
        </p:grpSpPr>
        <p:sp>
          <p:nvSpPr>
            <p:cNvPr id="125" name="Oval 38"/>
            <p:cNvSpPr/>
            <p:nvPr/>
          </p:nvSpPr>
          <p:spPr>
            <a:xfrm>
              <a:off x="3963960" y="4429080"/>
              <a:ext cx="506520" cy="401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4017600" y="447912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40"/>
          <p:cNvSpPr/>
          <p:nvPr/>
        </p:nvSpPr>
        <p:spPr>
          <a:xfrm flipH="1">
            <a:off x="4200120" y="4800600"/>
            <a:ext cx="180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213520" y="3790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4320720" y="40384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4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 54"/>
          <p:cNvSpPr/>
          <p:nvPr/>
        </p:nvSpPr>
        <p:spPr>
          <a:xfrm>
            <a:off x="6459480" y="4448160"/>
            <a:ext cx="1720800" cy="111456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6688440" y="474804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6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 56"/>
          <p:cNvSpPr/>
          <p:nvPr/>
        </p:nvSpPr>
        <p:spPr>
          <a:xfrm>
            <a:off x="6535800" y="3305160"/>
            <a:ext cx="1720800" cy="1114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7"/>
          <p:cNvSpPr/>
          <p:nvPr/>
        </p:nvSpPr>
        <p:spPr>
          <a:xfrm>
            <a:off x="6768720" y="368136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Pv4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7029360" y="4191120"/>
            <a:ext cx="506520" cy="403200"/>
            <a:chOff x="7029360" y="4191120"/>
            <a:chExt cx="506520" cy="403200"/>
          </a:xfrm>
        </p:grpSpPr>
        <p:sp>
          <p:nvSpPr>
            <p:cNvPr id="135" name="Oval 59"/>
            <p:cNvSpPr/>
            <p:nvPr/>
          </p:nvSpPr>
          <p:spPr>
            <a:xfrm>
              <a:off x="7029360" y="4191120"/>
              <a:ext cx="506520" cy="403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7073640" y="424152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6630840" y="50846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88240" y="522756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7689960" y="336240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666800" y="31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4419720" y="31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692136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cenario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vers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 and possible forward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IPv4 contents to IPv4 receiver over IPv6 network (4-6-4, e.g., DS-Lite 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4-6 sce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eality of global IPv4 address depletion challenges the delivery of multicast-based services e.g.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infrastructures that assume a service-agnostic, publicly-addressed single PVC to convey all kinds of traffic includ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cast service-related unicast traffic (e.g. EPG consult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ed unicast traffic (e.g. Internet Gaming, Surfing, through TV Set box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IPv4 formatted contents that is multicast to customers who are not provisioned with a dedicated global IPv4 address anymore (e.g. user management, traffic engineer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gration towards IPv6 cannot be done overn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ts val="22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true for multicast-base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St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d to be the most straightforward deployment model whe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multicast networks and sources (for a given content) are dual-s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s can then select the contents depending on their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dual stack sources are NOT always avail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s on the content provider’s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compatible with unicast transition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DS-Lite deployment mode, NAT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haracteristics of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1752480"/>
          <a:ext cx="7010640" cy="3533760"/>
        </p:xfrm>
        <a:graphic>
          <a:graphicData uri="http://schemas.openxmlformats.org/drawingml/2006/table">
            <a:tbl>
              <a:tblPr/>
              <a:tblGrid>
                <a:gridCol w="1447920"/>
                <a:gridCol w="5562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5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X (e.g., bandwidth c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coordination between the content and the network provi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mpatible with unicast transition cases, e.g. despite DS-formatted content, extensions are still required to deliver the content to IPv4-only receivers when DS-Lite is de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1219320" y="54435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* There will be a mix of “receivers”, “sources”, “networks” running in different address families and probably a mismatch of the address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-Stac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delivery infrastructure is NOT wholly dual-stack enabled w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s reachable only with one single address family 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ivery network is IPv4-only enabled, IPv6-only enabled, or a hybrid of partially IPv4-enabled and partially IPv6-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of “Mono-Stac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9160" y="1479600"/>
          <a:ext cx="6413400" cy="3400200"/>
        </p:xfrm>
        <a:graphic>
          <a:graphicData uri="http://schemas.openxmlformats.org/drawingml/2006/table">
            <a:tbl>
              <a:tblPr/>
              <a:tblGrid>
                <a:gridCol w="844560"/>
                <a:gridCol w="1444680"/>
                <a:gridCol w="1431720"/>
                <a:gridCol w="1432080"/>
                <a:gridCol w="1260360"/>
              </a:tblGrid>
              <a:tr h="606240">
                <a:tc>
                  <a:txBody>
                    <a:bodyPr lIns="86040" rIns="86040"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Network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86040" rIns="86040" tIns="42840" bIns="4284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3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040" rIns="86040" tIns="42840" bIns="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v4, 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4"/>
          <p:cNvSpPr/>
          <p:nvPr/>
        </p:nvSpPr>
        <p:spPr>
          <a:xfrm>
            <a:off x="1305000" y="5057640"/>
            <a:ext cx="58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* There are 3 variables, hold one (network) so as to simplify the 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95280" y="5562720"/>
            <a:ext cx="678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* The “native” portion is not taken into account since there is no extra function needed,  e.g. “DS Source + IPv6 Network + DS Receiver” is simplified as “IPv4 Source + IPv6 Network + IPv4 Receiver” (Use Case #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6"/>
          <p:cNvSpPr/>
          <p:nvPr/>
        </p:nvSpPr>
        <p:spPr>
          <a:xfrm>
            <a:off x="2971800" y="2209680"/>
            <a:ext cx="2895480" cy="1981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4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018040" y="2392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470400" y="25146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5410080" y="2865600"/>
            <a:ext cx="609840" cy="522000"/>
            <a:chOff x="5410080" y="2865600"/>
            <a:chExt cx="609840" cy="522000"/>
          </a:xfrm>
        </p:grpSpPr>
        <p:sp>
          <p:nvSpPr>
            <p:cNvPr id="61" name="Oval 8"/>
            <p:cNvSpPr/>
            <p:nvPr/>
          </p:nvSpPr>
          <p:spPr>
            <a:xfrm>
              <a:off x="5410080" y="2865600"/>
              <a:ext cx="609840" cy="522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86040" y="2930760"/>
              <a:ext cx="53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3006720" y="3317760"/>
            <a:ext cx="609480" cy="524160"/>
            <a:chOff x="3006720" y="3317760"/>
            <a:chExt cx="609480" cy="524160"/>
          </a:xfrm>
        </p:grpSpPr>
        <p:sp>
          <p:nvSpPr>
            <p:cNvPr id="64" name="Oval 14"/>
            <p:cNvSpPr/>
            <p:nvPr/>
          </p:nvSpPr>
          <p:spPr>
            <a:xfrm>
              <a:off x="3006720" y="3317760"/>
              <a:ext cx="609480" cy="5241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3082680" y="3383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Straight Connector 24"/>
          <p:cNvSpPr/>
          <p:nvPr/>
        </p:nvSpPr>
        <p:spPr>
          <a:xfrm>
            <a:off x="6019920" y="3124080"/>
            <a:ext cx="274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5"/>
          <p:cNvSpPr/>
          <p:nvPr/>
        </p:nvSpPr>
        <p:spPr>
          <a:xfrm>
            <a:off x="2720880" y="3589200"/>
            <a:ext cx="273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27"/>
          <p:cNvSpPr/>
          <p:nvPr/>
        </p:nvSpPr>
        <p:spPr>
          <a:xfrm flipH="1">
            <a:off x="6312960" y="2803680"/>
            <a:ext cx="1800" cy="100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6378480" y="33876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2324160" y="34099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5410080" y="4495680"/>
            <a:ext cx="266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 = Designate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 = IGMP/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1018800" y="16002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se cases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6"/>
          <p:cNvSpPr/>
          <p:nvPr/>
        </p:nvSpPr>
        <p:spPr>
          <a:xfrm>
            <a:off x="2971800" y="2209680"/>
            <a:ext cx="2895480" cy="198144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6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018040" y="2392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470400" y="25146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5410080" y="2865600"/>
            <a:ext cx="609840" cy="522000"/>
            <a:chOff x="5410080" y="2865600"/>
            <a:chExt cx="609840" cy="522000"/>
          </a:xfrm>
        </p:grpSpPr>
        <p:sp>
          <p:nvSpPr>
            <p:cNvPr id="78" name="Oval 9"/>
            <p:cNvSpPr/>
            <p:nvPr/>
          </p:nvSpPr>
          <p:spPr>
            <a:xfrm>
              <a:off x="5410080" y="2865600"/>
              <a:ext cx="609840" cy="522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5486040" y="2930760"/>
              <a:ext cx="53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3006720" y="3317760"/>
            <a:ext cx="609480" cy="524160"/>
            <a:chOff x="3006720" y="3317760"/>
            <a:chExt cx="609480" cy="524160"/>
          </a:xfrm>
        </p:grpSpPr>
        <p:sp>
          <p:nvSpPr>
            <p:cNvPr id="81" name="Oval 13"/>
            <p:cNvSpPr/>
            <p:nvPr/>
          </p:nvSpPr>
          <p:spPr>
            <a:xfrm>
              <a:off x="3006720" y="3317760"/>
              <a:ext cx="609480" cy="5241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>
              <a:off x="3082680" y="3383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Straight Connector 15"/>
          <p:cNvSpPr/>
          <p:nvPr/>
        </p:nvSpPr>
        <p:spPr>
          <a:xfrm>
            <a:off x="6019920" y="3124080"/>
            <a:ext cx="274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2720880" y="3589200"/>
            <a:ext cx="273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 flipH="1">
            <a:off x="6312960" y="2803680"/>
            <a:ext cx="1800" cy="100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378480" y="33876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2324160" y="34099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5410080" y="4495680"/>
            <a:ext cx="266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 = Designate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 = IGMP/MLD Que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1018800" y="16002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se cases 4, 5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 Delivery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loud 6"/>
          <p:cNvSpPr/>
          <p:nvPr/>
        </p:nvSpPr>
        <p:spPr>
          <a:xfrm>
            <a:off x="2057400" y="2398680"/>
            <a:ext cx="2316240" cy="1585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4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 7"/>
          <p:cNvSpPr/>
          <p:nvPr/>
        </p:nvSpPr>
        <p:spPr>
          <a:xfrm>
            <a:off x="4618080" y="2328840"/>
            <a:ext cx="2316240" cy="1585800"/>
          </a:xfrm>
          <a:prstGeom prst="pie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IPv6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51120" y="2544840"/>
            <a:ext cx="4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414520" y="264312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4243320" y="2954160"/>
            <a:ext cx="487440" cy="417600"/>
            <a:chOff x="4243320" y="2954160"/>
            <a:chExt cx="487440" cy="417600"/>
          </a:xfrm>
        </p:grpSpPr>
        <p:sp>
          <p:nvSpPr>
            <p:cNvPr id="96" name="Oval 12"/>
            <p:cNvSpPr/>
            <p:nvPr/>
          </p:nvSpPr>
          <p:spPr>
            <a:xfrm>
              <a:off x="4243320" y="2954160"/>
              <a:ext cx="487440" cy="417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4286160" y="303444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4"/>
          <p:cNvSpPr/>
          <p:nvPr/>
        </p:nvSpPr>
        <p:spPr>
          <a:xfrm>
            <a:off x="6230880" y="24606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4992840" y="2557440"/>
            <a:ext cx="4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2057400" y="4495680"/>
            <a:ext cx="556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6 = v6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6 = v6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4 = v4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R4 = v4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MR = Multicast Router, could b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border rout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connecting 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d IPv6 network, 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D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connecting the source, 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onnecting the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1017720" y="1600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Hybrid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6648480" y="2924280"/>
            <a:ext cx="487440" cy="417240"/>
            <a:chOff x="6648480" y="2924280"/>
            <a:chExt cx="487440" cy="417240"/>
          </a:xfrm>
        </p:grpSpPr>
        <p:sp>
          <p:nvSpPr>
            <p:cNvPr id="103" name="Oval 15"/>
            <p:cNvSpPr/>
            <p:nvPr/>
          </p:nvSpPr>
          <p:spPr>
            <a:xfrm>
              <a:off x="6648480" y="2924280"/>
              <a:ext cx="487440" cy="417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6691320" y="300456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1752480" y="2971800"/>
            <a:ext cx="487440" cy="417600"/>
            <a:chOff x="1752480" y="2971800"/>
            <a:chExt cx="487440" cy="417600"/>
          </a:xfrm>
        </p:grpSpPr>
        <p:sp>
          <p:nvSpPr>
            <p:cNvPr id="106" name="Oval 18"/>
            <p:cNvSpPr/>
            <p:nvPr/>
          </p:nvSpPr>
          <p:spPr>
            <a:xfrm>
              <a:off x="1752480" y="2971800"/>
              <a:ext cx="487440" cy="417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1795320" y="3052080"/>
              <a:ext cx="4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M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7240680" y="2905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1330560" y="2962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07-22T21:59:3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NewReviewCycle">
    <vt:lpwstr/>
  </property>
</Properties>
</file>